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4802-5D26-41B7-B19B-B7E11991A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D874-1BD1-4D59-816D-CB87FC286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6821-2B13-42D8-8F74-4F605821A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0FC-8D92-485B-B7AA-569CE49A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A69B-8624-4149-8B65-A7DB8F63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34EC-8872-4764-9C3F-233DBACF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8CA4-5C4D-4338-B84A-2B3B71DA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6EA9-7256-464F-BA80-25F74AB0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9C49-029C-4946-8FB9-BEADCBD8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41AA-3CD1-41D3-A559-B46AEEAA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1429-CC4E-4C1D-BE63-811EE138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6973-1B20-4B29-9A84-A12057CC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BBFE-57BF-41DE-8CA2-DB77D92C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3BFA-FB5B-4E1A-B533-A1CE5E0A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C585-BA7B-4807-8D00-1659B3F3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DE4D-B16D-40A9-87B0-F063C4B99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5440" cy="68598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219320" y="22096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914400" y="2158920"/>
            <a:ext cx="683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48000"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LSE London Seminar in Honour of Alan Holm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The Wider Role: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lan’s Contributions to Housing Statistics and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Steve Wilcox, University of York and Peter Williams, University of Cam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0" y="5940360"/>
            <a:ext cx="9145440" cy="917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very quick ‘Cook’s Tour’ of his work on Statistics and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states his contributions within and outside of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an was consulted by many and did his ‘figuring’ for 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ways willing and ever help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policy work covered government, Shelter, TCPA, CML, PPIW and many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play statistical and policy work;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policy insights within primarily statistical works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policy work utilising original statistical analy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0" y="5940360"/>
            <a:ext cx="9145440" cy="917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tatistic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an’s contributions inclu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77 Housing Policy Green Paper – Technical Volum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cial Tr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Dwelling and Housing Surv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ur Force Survey Housing Trai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vey of English Housing/English Housing Surv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torical Statistics of Housing in Brit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Giovanni-Book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1f20"/>
                </a:solidFill>
                <a:latin typeface="Giovanni-BookItalic"/>
              </a:rPr>
              <a:t>History of Household Proj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0" y="5940360"/>
            <a:ext cx="9145440" cy="917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ontributions to the 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UK Housing Review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an’s contributions often drew on more substantial work, but also included short ‘one off’ analys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5/96 -  Household requiring homes &amp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-  North – South divide in house pr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6/97 -  Meeting housing needs in the private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9/00 -  British housing in the 2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6/07 -  History of rising house pr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work was also a constant source of both material and inspiration to the editor and othe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vie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uth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0" y="5940360"/>
            <a:ext cx="9145440" cy="917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-19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Giovanni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1f20"/>
                </a:solidFill>
                <a:latin typeface="Giovanni-Book"/>
              </a:rPr>
              <a:t>Housing Policy Review for England and Wales; the consultative document </a:t>
            </a:r>
            <a:r>
              <a:rPr b="0" i="1" lang="en-GB" sz="2000" spc="-1" strike="noStrike">
                <a:solidFill>
                  <a:srgbClr val="231f20"/>
                </a:solidFill>
                <a:latin typeface="Giovanni-BookItalic"/>
              </a:rPr>
              <a:t>Housing Policy</a:t>
            </a:r>
            <a:r>
              <a:rPr b="0" lang="en-GB" sz="2000" spc="-1" strike="noStrike">
                <a:solidFill>
                  <a:srgbClr val="231f20"/>
                </a:solidFill>
                <a:latin typeface="Giovanni-Book"/>
              </a:rPr>
              <a:t>. Alan wrote much of 3 volu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Giovanni-Book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31f20"/>
                </a:solidFill>
                <a:latin typeface="Giovanni-BookItalic"/>
              </a:rPr>
              <a:t>Housing Policy in Britain: a History </a:t>
            </a:r>
            <a:r>
              <a:rPr b="0" lang="en-GB" sz="2000" spc="-1" strike="noStrike">
                <a:solidFill>
                  <a:srgbClr val="231f20"/>
                </a:solidFill>
                <a:latin typeface="Giovanni-Book"/>
              </a:rPr>
              <a:t>which discussed in considerable detail the evolution of housing policy from 1945 to 1979 (including the pre-history back to 184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Giovanni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1f20"/>
                </a:solidFill>
                <a:latin typeface="Giovanni-Book"/>
              </a:rPr>
              <a:t>Alan wrote a series of monographs within the government (on </a:t>
            </a:r>
            <a:r>
              <a:rPr b="0" i="1" lang="en-GB" sz="2000" spc="-1" strike="noStrike">
                <a:solidFill>
                  <a:srgbClr val="231f20"/>
                </a:solidFill>
                <a:latin typeface="Giovanni-Book"/>
              </a:rPr>
              <a:t>house prices </a:t>
            </a:r>
            <a:r>
              <a:rPr b="0" lang="en-GB" sz="2000" spc="-1" strike="noStrike">
                <a:solidFill>
                  <a:srgbClr val="231f20"/>
                </a:solidFill>
                <a:latin typeface="Giovanni-Book"/>
              </a:rPr>
              <a:t>(1990), </a:t>
            </a:r>
            <a:r>
              <a:rPr b="0" i="1" lang="en-GB" sz="2000" spc="-1" strike="noStrike">
                <a:solidFill>
                  <a:srgbClr val="231f20"/>
                </a:solidFill>
                <a:latin typeface="Giovanni-Book"/>
              </a:rPr>
              <a:t>the employment circumstances of council tenants</a:t>
            </a:r>
            <a:r>
              <a:rPr b="0" lang="en-GB" sz="2000" spc="-1" strike="noStrike">
                <a:solidFill>
                  <a:srgbClr val="231f20"/>
                </a:solidFill>
                <a:latin typeface="Giovanni-Book"/>
              </a:rPr>
              <a:t> (1993), </a:t>
            </a:r>
            <a:r>
              <a:rPr b="0" i="1" lang="en-GB" sz="2000" spc="-1" strike="noStrike">
                <a:solidFill>
                  <a:srgbClr val="231f20"/>
                </a:solidFill>
                <a:latin typeface="Giovanni-Book"/>
              </a:rPr>
              <a:t>house property and inheritance </a:t>
            </a:r>
            <a:r>
              <a:rPr b="0" lang="en-GB" sz="2000" spc="-1" strike="noStrike">
                <a:solidFill>
                  <a:srgbClr val="231f20"/>
                </a:solidFill>
                <a:latin typeface="Giovanni-Book"/>
              </a:rPr>
              <a:t>(199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31f20"/>
              </a:buClr>
              <a:buFont typeface="Giovanni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1f20"/>
                </a:solidFill>
                <a:latin typeface="Giovanni-Book"/>
              </a:rPr>
              <a:t>The much under-referenced and ODPM-funded </a:t>
            </a:r>
            <a:r>
              <a:rPr b="0" i="1" lang="en-GB" sz="2000" spc="-1" strike="noStrike">
                <a:solidFill>
                  <a:srgbClr val="231f20"/>
                </a:solidFill>
                <a:latin typeface="Giovanni-Book"/>
              </a:rPr>
              <a:t>Evaluation of English Housing Policy</a:t>
            </a:r>
            <a:r>
              <a:rPr b="0" lang="en-GB" sz="2000" spc="-1" strike="noStrike">
                <a:solidFill>
                  <a:srgbClr val="231f20"/>
                </a:solidFill>
                <a:latin typeface="Giovanni-Book"/>
              </a:rPr>
              <a:t> from 1975-2000</a:t>
            </a:r>
            <a:r>
              <a:rPr b="0" lang="en-GB" sz="800" spc="-1" strike="noStrike">
                <a:solidFill>
                  <a:srgbClr val="231f20"/>
                </a:solidFill>
                <a:latin typeface="Giovanni-Book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Giovanni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1f20"/>
                </a:solidFill>
                <a:latin typeface="Giovanni-Book"/>
              </a:rPr>
              <a:t>Housing requirements in the TCPA’s 1996 </a:t>
            </a:r>
            <a:r>
              <a:rPr b="0" i="1" lang="en-GB" sz="2000" spc="-1" strike="noStrike">
                <a:solidFill>
                  <a:srgbClr val="231f20"/>
                </a:solidFill>
                <a:latin typeface="Giovanni-BookItalic"/>
              </a:rPr>
              <a:t>The People – Where will they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0" y="5940360"/>
            <a:ext cx="9145440" cy="917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920" y="1440"/>
            <a:ext cx="77724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77724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Divorce, Remarriage and Hous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(DETR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An examination of the housing needs and supply for an ageing societ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(RICS, 20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House prices, land prices, the housing market and house purchase debt in Britain and other countri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(DoE, 199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Estimates of Housing Equity Withdrawal by Owner Occupiers in the United Kingdo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1970-1990 (Do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Estimates of Housing Demand and Need (JRF, Shelter and TCPA plus Wales and Northern Irelan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Home Ownership, House Purchases and Mortgages: International Comparison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(CML,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Giovanni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31f20"/>
                </a:solidFill>
                <a:latin typeface="Giovanni-Book"/>
              </a:rPr>
              <a:t>Housing in London: Future Perspectives </a:t>
            </a:r>
            <a:r>
              <a:rPr b="0" lang="en-GB" sz="2000" spc="-1" strike="noStrike">
                <a:solidFill>
                  <a:srgbClr val="231f20"/>
                </a:solidFill>
                <a:latin typeface="Giovanni-Book"/>
              </a:rPr>
              <a:t>(LSE,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olicy options to promote affordable hous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(CCHPR,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31f20"/>
                </a:solidFill>
                <a:latin typeface="Arial"/>
                <a:ea typeface="Arial"/>
              </a:rPr>
              <a:t>Recent trends in numbers of first-time buyers: A review of recent evidence </a:t>
            </a:r>
            <a:r>
              <a:rPr b="0" lang="en-GB" sz="2000" spc="-1" strike="noStrike">
                <a:solidFill>
                  <a:srgbClr val="231f20"/>
                </a:solidFill>
                <a:latin typeface="Arial"/>
                <a:ea typeface="Arial"/>
              </a:rPr>
              <a:t>(CML, 200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0" y="5940360"/>
            <a:ext cx="9145440" cy="917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ther Pub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231f20"/>
              </a:buClr>
              <a:buFont typeface="Giovanni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Holmans, A (1961) </a:t>
            </a:r>
            <a:r>
              <a:rPr b="0" i="1" lang="en-GB" sz="1600" spc="-1" strike="noStrike">
                <a:solidFill>
                  <a:srgbClr val="231f20"/>
                </a:solidFill>
                <a:latin typeface="Giovanni-Book"/>
              </a:rPr>
              <a:t>United States Fiscal Policy 1945-59, its contribution to economic stability</a:t>
            </a: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, 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231f20"/>
              </a:buClr>
              <a:buFont typeface="Giovanni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Holmans, A. (1970) </a:t>
            </a:r>
            <a:r>
              <a:rPr b="0" i="1" lang="en-GB" sz="1600" spc="-1" strike="noStrike">
                <a:solidFill>
                  <a:srgbClr val="231f20"/>
                </a:solidFill>
                <a:latin typeface="Giovanni-BookItalic"/>
              </a:rPr>
              <a:t>A forecast of effective demand for housing in Great Britain in the 1970s</a:t>
            </a: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. Social Trends, volume 1. London: HM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231f20"/>
              </a:buClr>
              <a:buFont typeface="Giovanni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Holmans, A. (1987) </a:t>
            </a:r>
            <a:r>
              <a:rPr b="0" i="1" lang="en-GB" sz="1600" spc="-1" strike="noStrike">
                <a:solidFill>
                  <a:srgbClr val="231f20"/>
                </a:solidFill>
                <a:latin typeface="Giovanni-BookItalic"/>
              </a:rPr>
              <a:t>Housing Policy in Britain: a History</a:t>
            </a: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. London: Croom Hel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231f20"/>
              </a:buClr>
              <a:buFont typeface="Giovanni-Book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231f20"/>
                </a:solidFill>
                <a:latin typeface="Giovanni-BookItalic"/>
              </a:rPr>
              <a:t>Housing Equity Withdrawal </a:t>
            </a: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(DoE, 1996), </a:t>
            </a:r>
            <a:r>
              <a:rPr b="0" i="1" lang="en-GB" sz="1600" spc="-1" strike="noStrike">
                <a:solidFill>
                  <a:srgbClr val="231f20"/>
                </a:solidFill>
                <a:latin typeface="Giovanni-BookItalic"/>
              </a:rPr>
              <a:t>Negative Equity </a:t>
            </a: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(DoE, 1997), </a:t>
            </a:r>
            <a:r>
              <a:rPr b="0" i="1" lang="en-GB" sz="1600" spc="-1" strike="noStrike">
                <a:solidFill>
                  <a:srgbClr val="231f20"/>
                </a:solidFill>
                <a:latin typeface="Giovanni-BookItalic"/>
              </a:rPr>
              <a:t>Divorce, Remarriage and Housing </a:t>
            </a: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for DETR (200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231f20"/>
              </a:buClr>
              <a:buFont typeface="Giovanni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Holmans, A. (1991) ‘The 1977 National Housing Policy Review in Retrospect’ </a:t>
            </a:r>
            <a:r>
              <a:rPr b="0" i="1" lang="en-GB" sz="1600" spc="-1" strike="noStrike">
                <a:solidFill>
                  <a:srgbClr val="231f20"/>
                </a:solidFill>
                <a:latin typeface="Giovanni-BookItalic"/>
              </a:rPr>
              <a:t>Housing Studies</a:t>
            </a: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, 6(3) pp.206-2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231f20"/>
              </a:buClr>
              <a:buFont typeface="Giovanni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Holmans, A. (1997) ‘UK housing finance; past changes, the present predicament and future sustainability’ in Williams, P. ed. </a:t>
            </a:r>
            <a:r>
              <a:rPr b="0" i="1" lang="en-GB" sz="1600" spc="-1" strike="noStrike">
                <a:solidFill>
                  <a:srgbClr val="231f20"/>
                </a:solidFill>
                <a:latin typeface="Giovanni-BookItalic"/>
              </a:rPr>
              <a:t>Directions in Housing Policy</a:t>
            </a: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. London: Paul Chapm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231f20"/>
              </a:buClr>
              <a:buFont typeface="Giovanni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Halsey, A.H. (1972 and subsequent editions) </a:t>
            </a:r>
            <a:r>
              <a:rPr b="0" i="1" lang="en-GB" sz="1600" spc="-1" strike="noStrike">
                <a:solidFill>
                  <a:srgbClr val="231f20"/>
                </a:solidFill>
                <a:latin typeface="Giovanni-BookItalic"/>
              </a:rPr>
              <a:t>Trends in British Society since 1900: A Guide to the Changing Social Structure of Britain</a:t>
            </a: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. London: Macmill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231f20"/>
              </a:buClr>
              <a:buFont typeface="Giovanni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Holmans, A. (2005) </a:t>
            </a:r>
            <a:r>
              <a:rPr b="0" i="1" lang="en-GB" sz="1600" spc="-1" strike="noStrike">
                <a:solidFill>
                  <a:srgbClr val="231f20"/>
                </a:solidFill>
                <a:latin typeface="Giovanni-BookItalic"/>
              </a:rPr>
              <a:t>Housing and Housing Policy in England 1975-2002: Chronology and Commentary and The Context for Housing Policy Since 1975: Statistical Time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231f20"/>
              </a:buClr>
              <a:buFont typeface="Giovanni-Book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231f20"/>
                </a:solidFill>
                <a:latin typeface="Giovanni-BookItalic"/>
              </a:rPr>
              <a:t>Plus numerous contributions to a wide range of CCHPR re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5:28:42Z</dcterms:created>
  <dc:creator>Tim Elcock</dc:creator>
  <dc:description/>
  <dc:language>en-US</dc:language>
  <cp:lastModifiedBy>Administrator</cp:lastModifiedBy>
  <dcterms:modified xsi:type="dcterms:W3CDTF">2015-12-10T12:51:37Z</dcterms:modified>
  <cp:revision>40</cp:revision>
  <dc:subject/>
  <dc:title>PowerPoint Presentation</dc:title>
</cp:coreProperties>
</file>