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A14C-F519-4972-98EC-CC60F9C84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9C37-9F8A-437C-8079-C63D2A3A8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947-C5EB-40A6-A978-3056A73E2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6D0-0F3A-41A2-92DF-8B5F1771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B3F-522E-4CBF-901F-093947F7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B50-1D30-413C-AF77-D122F021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3C3-66E6-4E95-9AD0-221012BD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56C-2CA7-43BF-8160-BFB2AC6B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1A5-D44C-447E-8683-B6DF546B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C73-E566-4D71-9C0C-DADB0993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293-B99C-4D3E-8064-596A235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05E-A49C-4869-B2E1-6224F397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2BD-DA4F-49CA-89E5-B01E368D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F2E-D280-41E8-A3FF-AC57167C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4F2-DDED-4BE5-AC72-D0CC70A3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3C80-346C-4183-B372-C032FD65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5440" cy="6859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219320" y="22096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14400" y="2158920"/>
            <a:ext cx="683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8000"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SE London Seminar in Honour of Alan Hol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Wider Role: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lan’s Contributions to Housing Statistics and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Steve Wilcox, University of York and Peter Williams, University of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ery quick ‘Cook’s Tour’ of his work on Statistics and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tes his contributions within and outside of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an was consulted by many and did his ‘figuring’ for 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ways willing and ever help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policy work covered government, Shelter, TCPA, CML, PPIW and many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play statistical and policy work;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cy insights within primarily statistical works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cy work utilising original statistical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an’s contributions inclu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77 Housing Policy Green Paper – Technical Volum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Tr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Dwelling and Housing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Force Survey Housing Trai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vey of English Housing/English Housing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Statistics of Housing in Bri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Italic"/>
              </a:rPr>
              <a:t>History of Household 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tributions to the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UK Housing Revie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an’s contributions often drew on more substantial work, but also included short ‘one off’ analys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5/96 -  Household requiring homes &amp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-  North – South divide in house p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6/97 -  Meeting housing needs in the privat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9/00 -  British housing in the 2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6/07 -  History of rising house p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ork was also a constant source of both material and inspiration to the editor and oth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-19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Housing Policy Review for England and Wales; the consultative document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Italic"/>
              </a:rPr>
              <a:t>Housing Policy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. Alan wrote much of 3 vol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31f20"/>
                </a:solidFill>
                <a:latin typeface="Giovanni-BookItalic"/>
              </a:rPr>
              <a:t>Housing Policy in Britain: a History 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which discussed in considerable detail the evolution of housing policy from 1945 to 1979 (including the pre-history back to 18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Alan wrote a series of monographs within the government (on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house prices 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(1990),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the employment circumstances of council tenants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 (1993),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house property and inheritance 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(199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The much under-referenced and ODPM-funded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Evaluation of English Housing Policy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 from 1975-2000</a:t>
            </a:r>
            <a:r>
              <a:rPr b="0" lang="en-GB" sz="800" spc="-1" strike="noStrike">
                <a:solidFill>
                  <a:srgbClr val="231f20"/>
                </a:solidFill>
                <a:latin typeface="Giovanni-Boo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Housing requirements in the TCPA’s 1996 </a:t>
            </a:r>
            <a:r>
              <a:rPr b="0" i="1" lang="en-GB" sz="2000" spc="-1" strike="noStrike">
                <a:solidFill>
                  <a:srgbClr val="231f20"/>
                </a:solidFill>
                <a:latin typeface="Giovanni-BookItalic"/>
              </a:rPr>
              <a:t>The People – Where will they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144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77724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Divorce, Remarriage and Hous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(DETR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An examination of the housing needs and supply for an ageing socie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(RICS,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House prices, land prices, the housing market and house purchase debt in Britain and other countri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(DoE, 199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Estimates of Housing Equity Withdrawal by Owner Occupiers in the United Kingd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1970-1990 (Do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Estimates of Housing Demand and Need (JRF, Shelter and TCPA plus Wales and Northern Irelan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Home Ownership, House Purchases and Mortgages: International Comparis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(CML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31f20"/>
                </a:solidFill>
                <a:latin typeface="Giovanni-Book"/>
              </a:rPr>
              <a:t>Housing in London: Future Perspectives </a:t>
            </a:r>
            <a:r>
              <a:rPr b="0" lang="en-GB" sz="2000" spc="-1" strike="noStrike">
                <a:solidFill>
                  <a:srgbClr val="231f20"/>
                </a:solidFill>
                <a:latin typeface="Giovanni-Book"/>
              </a:rPr>
              <a:t>(LSE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licy options to promote affordable ho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(CCHPR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31f20"/>
                </a:solidFill>
                <a:latin typeface="Arial"/>
                <a:ea typeface="Arial"/>
              </a:rPr>
              <a:t>Recent trends in numbers of first-time buyers: A review of recent evidence </a:t>
            </a:r>
            <a:r>
              <a:rPr b="0" lang="en-GB" sz="2000" spc="-1" strike="noStrike">
                <a:solidFill>
                  <a:srgbClr val="231f20"/>
                </a:solidFill>
                <a:latin typeface="Arial"/>
                <a:ea typeface="Arial"/>
              </a:rPr>
              <a:t>(CML, 200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0" y="5940360"/>
            <a:ext cx="9145440" cy="91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ther Pub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 (1961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"/>
              </a:rPr>
              <a:t>United States Fiscal Policy 1945-59, its contribution to economic stability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, 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1970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A forecast of effective demand for housing in Great Britain in the 1970s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. Social Trends, volume 1. London: HM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1987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Housing Policy in Britain: a History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. London: Croom Hel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Housing Equity Withdrawal 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(DoE, 1996),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Negative Equity 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(DoE, 1997),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Divorce, Remarriage and Housing 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for DETR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1991) ‘The 1977 National Housing Policy Review in Retrospect’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Housing Studies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, 6(3) pp.206-2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1997) ‘UK housing finance; past changes, the present predicament and future sustainability’ in Williams, P. ed.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Directions in Housing Policy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. London: Paul Chap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alsey, A.H. (1972 and subsequent editions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Trends in British Society since 1900: A Guide to the Changing Social Structure of Britain</a:t>
            </a: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. London: Macmil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31f20"/>
                </a:solidFill>
                <a:latin typeface="Giovanni-Book"/>
              </a:rPr>
              <a:t>Holmans, A. (2005) </a:t>
            </a: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Housing and Housing Policy in England 1975-2002: Chronology and Commentary and The Context for Housing Policy Since 1975: Statistical Time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231f20"/>
              </a:buClr>
              <a:buFont typeface="Giovanni-Book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231f20"/>
                </a:solidFill>
                <a:latin typeface="Giovanni-BookItalic"/>
              </a:rPr>
              <a:t>Plus numerous contributions to a wide range of CCHPR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28:42Z</dcterms:created>
  <dc:creator>Tim Elcock</dc:creator>
  <dc:description/>
  <dc:language>en-US</dc:language>
  <cp:lastModifiedBy>Administrator</cp:lastModifiedBy>
  <dcterms:modified xsi:type="dcterms:W3CDTF">2015-12-10T12:51:37Z</dcterms:modified>
  <cp:revision>40</cp:revision>
  <dc:subject/>
  <dc:title>PowerPoint Presentation</dc:title>
</cp:coreProperties>
</file>