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9EC-A9D8-486D-883A-52DB7633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DE6-E8E2-449F-94E9-A850E56D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6EB-D1A6-434D-879C-A2E5BBAC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F9BE-5181-4D48-A94A-0A8C94B5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877-5B61-46A5-9776-380B6382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CC7-83DB-459F-A2CC-ACE5F82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458-68BF-4D6C-AEDE-D10B309A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E4E9-2328-4CA8-9FCC-3A7C3928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C64-A29E-4164-9EC4-2946198C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6D3-E221-4639-A235-74B84A60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86F-F3F7-4FC7-8CB7-003D858A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F130-D1A6-439D-93C1-C643BF7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4FE3-36B1-491C-B069-F0F4D147C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435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Sharad Char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TERNAL CAPITAL</a:t>
            </a:r>
            <a:br>
              <a:rPr sz="40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search Project on agrarian transition and industry in Tiruppur, India 1993-200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ght: Commuters to India’s most dynamic garment town,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ry views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7080" cy="617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5445000"/>
            <a:ext cx="82803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bow Chickens’, nicknamed after South African chicken farms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mes at the refinery w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conic Contrasts: Political photography of Cedric Nunn, Wentworth, 1980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5084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emembered Commons:  The lost lanes of Wentworth (amateur photography, 1980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97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28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alatial garment company, Tiruppur,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olluted Noyil River, Tiruppur, 19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345420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roving ‘Singer Tailor’ with a machine on wheels, Tiruppur,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52960" y="0"/>
            <a:ext cx="499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828000" cy="7074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410000"/>
            <a:ext cx="8532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cho Colouring’: one of hundreds of small accessory firms for Tiruppur knitwear, 19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360" y="549360"/>
            <a:ext cx="428472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Hidden Abode of Production: Gender and labour control on the shop floor, Tiruppur, 19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836640"/>
            <a:ext cx="885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ARTHEID REMAI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Project on the material remains of racism and opposition in Durban, South Africa, 2002-pres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ry view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0225080" cy="685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lausible life in Wentworth,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1029816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inery view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3:05:12Z</dcterms:created>
  <dc:creator>ITServices</dc:creator>
  <dc:description/>
  <dc:language>en-US</dc:language>
  <cp:lastModifiedBy>hallas</cp:lastModifiedBy>
  <dcterms:modified xsi:type="dcterms:W3CDTF">2009-11-23T12:38:24Z</dcterms:modified>
  <cp:revision>10</cp:revision>
  <dc:subject/>
  <dc:title>Remnants of Apartheid:  Race, Corporate Waste, and other Material Deposits</dc:title>
</cp:coreProperties>
</file>