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BDE-C189-4AA9-9BE9-B0B1E97A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38F-0A55-4560-B3FC-BDF41F91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DF2-2FED-44AE-9B0A-93AE2723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85F-E0B4-4398-BF5A-6912696A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EE5-B715-47BC-8C34-BD88A781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9E2-EF95-4E6E-A994-6AC4A4C6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58B-3092-4778-815C-6DEF7E88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F75-BD2C-4A0A-BC0F-7542DEA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287-2303-49A9-9006-7A5D9749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CFE-DEEA-4F49-B363-A340602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66B-E440-445D-94A1-51653F66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625-F233-45E3-AFD7-4412C3E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6CF6-6787-445E-9F1D-D4DAB6C6E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435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arad Cha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TERNAL CAPITAL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earch Project on agrarian transition and industry in Tiruppur, India 1993-200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ght: Commuters to India’s most dynamic garment town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ry view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17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5445000"/>
            <a:ext cx="8280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bow Chickens’, nicknamed after South African chicken farm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s at the refinery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onic Contrasts: Political photography of Cedric Nunn, Wentworth, 198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084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emembered Commons:  The lost lanes of Wentworth (amateur photography, 1980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97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28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latial garment company, Tiruppur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lluted Noyil River, Tiruppur,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34542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oving ‘Singer Tailor’ with a machine on wheels, Tiruppur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0"/>
            <a:ext cx="499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828000" cy="7074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410000"/>
            <a:ext cx="8532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ho Colouring’: one of hundreds of small accessory firms for Tiruppur knitwear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360" y="549360"/>
            <a:ext cx="428472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idden Abode of Production: Gender and labour control on the shop floor, Tiruppur, 19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836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ARTHEID REMA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Project on the material remains of racism and opposition in Durban, South Africa, 2002-pres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ry view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22508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lausible life in Wentworth,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29816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ry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3:05:12Z</dcterms:created>
  <dc:creator>ITServices</dc:creator>
  <dc:description/>
  <dc:language>en-US</dc:language>
  <cp:lastModifiedBy>hallas</cp:lastModifiedBy>
  <dcterms:modified xsi:type="dcterms:W3CDTF">2009-11-23T12:38:24Z</dcterms:modified>
  <cp:revision>10</cp:revision>
  <dc:subject/>
  <dc:title>Remnants of Apartheid:  Race, Corporate Waste, and other Material Deposits</dc:title>
</cp:coreProperties>
</file>