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D63-F66F-4263-B30A-29CA7AF1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E9C6-C96B-41A1-9E17-28E56AF1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53D-C040-40DF-AA83-5425DD23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711A-D2B1-431B-8C9B-3331AEC5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B59C-1CE2-43BF-A96B-37369FAF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40FC-B13A-4202-92B8-01BDCB3A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4C5-B707-43D7-A1A0-AEAC6DC6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F789-1A18-482D-9C9C-5836F0DE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00A0-5AB6-44F3-8948-A9337970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381B-C763-449A-A264-889863DE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8560-7CFA-4762-BE59-803BF654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30C1-5C6F-494B-954A-6D9A19DF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3551DC-CE8C-46B8-ABF9-673CE54DC4CB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EBDFA9-F7B5-4B67-85B9-CFFBAB36B9D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5757840"/>
            <a:ext cx="84693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 Claire Mercer works on the African diaspora and civil society in Africa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bove: Bali Cultural and Development Association UK cultural gala, Hackney, Sept 2006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Content Placeholder 3" descr="L1030945.JPG"/>
          <p:cNvPicPr/>
          <p:nvPr/>
        </p:nvPicPr>
        <p:blipFill>
          <a:blip r:embed="rId1"/>
          <a:stretch/>
        </p:blipFill>
        <p:spPr>
          <a:xfrm>
            <a:off x="579600" y="0"/>
            <a:ext cx="814212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3" descr="P10100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360" y="6345360"/>
            <a:ext cx="91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ing skyline, Dar es Salaam, Tanzani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3" descr="IMG_1854.JPG"/>
          <p:cNvPicPr/>
          <p:nvPr/>
        </p:nvPicPr>
        <p:blipFill>
          <a:blip r:embed="rId1"/>
          <a:srcRect l="-71219" t="0" r="-71219" b="0"/>
          <a:stretch/>
        </p:blipFill>
        <p:spPr>
          <a:xfrm>
            <a:off x="1119240" y="603360"/>
            <a:ext cx="10247400" cy="5635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1273320"/>
            <a:ext cx="331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GOs: the voice of the voiceless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r es Salaam, Tanzani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3" descr="IMG_2000.JPG"/>
          <p:cNvPicPr/>
          <p:nvPr/>
        </p:nvPicPr>
        <p:blipFill>
          <a:blip r:embed="rId1"/>
          <a:srcRect l="-71219" t="0" r="-71219" b="0"/>
          <a:stretch/>
        </p:blipFill>
        <p:spPr>
          <a:xfrm>
            <a:off x="1111320" y="839880"/>
            <a:ext cx="10264680" cy="5645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60240" y="1417680"/>
            <a:ext cx="320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et traders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riakoo, Dar es Salaa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3" descr="IMG_1176.JPG"/>
          <p:cNvPicPr/>
          <p:nvPr/>
        </p:nvPicPr>
        <p:blipFill>
          <a:blip r:embed="rId1"/>
          <a:srcRect l="-18186" t="0" r="-18186" b="0"/>
          <a:stretch/>
        </p:blipFill>
        <p:spPr>
          <a:xfrm>
            <a:off x="-361800" y="604800"/>
            <a:ext cx="9778680" cy="5378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4600" y="624996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menda market, Camero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2720" y="5891040"/>
            <a:ext cx="75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ercial Avenue, Bamenda, Camero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Content Placeholder 3" descr="IMG_1088.JPG"/>
          <p:cNvPicPr/>
          <p:nvPr/>
        </p:nvPicPr>
        <p:blipFill>
          <a:blip r:embed="rId1"/>
          <a:srcRect l="-18186" t="0" r="-18186" b="0"/>
          <a:stretch/>
        </p:blipFill>
        <p:spPr>
          <a:xfrm>
            <a:off x="-268200" y="330120"/>
            <a:ext cx="947412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21:38:36Z</dcterms:created>
  <dc:creator>Claire Mercer</dc:creator>
  <dc:description/>
  <dc:language>en-US</dc:language>
  <cp:lastModifiedBy>hallas</cp:lastModifiedBy>
  <dcterms:modified xsi:type="dcterms:W3CDTF">2009-11-24T11:53:43Z</dcterms:modified>
  <cp:revision>4</cp:revision>
  <dc:subject/>
  <dc:title>Slide 1</dc:title>
</cp:coreProperties>
</file>