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538-73F5-4B99-8EFB-5689420F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2DB-CF27-484A-8314-E4A12602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08FD-0760-4534-B719-90B6483B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110-5A47-48C4-A795-1B970C8E5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C79-524C-48F0-AD0D-E5E4FE15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0DA-D81D-4B5D-9C57-CBFCFF7E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A3A-C11F-48AB-8AD8-C498081D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556-BDC6-4555-AFA5-100E746B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649-BEE2-4B8C-8401-04A8414D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D355-576C-4B80-B975-67AC6D96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15A-AA9B-4FF4-8394-AA40AC91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A71-72DC-41F4-BB1F-C7644946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38E5C-2583-466A-84AE-B9255F90D76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1C7A13-F0A1-422B-9399-930E5E7884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5757840"/>
            <a:ext cx="8469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 Claire Mercer works on the African diaspora and civil society in Africa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ove: Bali Cultural and Development Association UK cultural gala, Hackney, Sept 2006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Content Placeholder 3" descr="L1030945.JPG"/>
          <p:cNvPicPr/>
          <p:nvPr/>
        </p:nvPicPr>
        <p:blipFill>
          <a:blip r:embed="rId1"/>
          <a:stretch/>
        </p:blipFill>
        <p:spPr>
          <a:xfrm>
            <a:off x="579600" y="0"/>
            <a:ext cx="8142120" cy="61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P10100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360" y="6345360"/>
            <a:ext cx="91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ing skyline, Dar es Salaam, Tanzani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IMG_1854.JPG"/>
          <p:cNvPicPr/>
          <p:nvPr/>
        </p:nvPicPr>
        <p:blipFill>
          <a:blip r:embed="rId1"/>
          <a:srcRect l="-71219" t="0" r="-71219" b="0"/>
          <a:stretch/>
        </p:blipFill>
        <p:spPr>
          <a:xfrm>
            <a:off x="1119240" y="603360"/>
            <a:ext cx="10247400" cy="563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27332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GOs: the voice of the voiceless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 es Salaam, Tanzani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IMG_2000.JPG"/>
          <p:cNvPicPr/>
          <p:nvPr/>
        </p:nvPicPr>
        <p:blipFill>
          <a:blip r:embed="rId1"/>
          <a:srcRect l="-71219" t="0" r="-71219" b="0"/>
          <a:stretch/>
        </p:blipFill>
        <p:spPr>
          <a:xfrm>
            <a:off x="1111320" y="839880"/>
            <a:ext cx="10264680" cy="5645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60240" y="1417680"/>
            <a:ext cx="3205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 traders,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iakoo, Dar es Sala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IMG_1176.JP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-361800" y="604800"/>
            <a:ext cx="9778680" cy="5378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4600" y="6249960"/>
            <a:ext cx="87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menda market, Camero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2720" y="5891040"/>
            <a:ext cx="75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rcial Avenue, Bamenda, Camero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Content Placeholder 3" descr="IMG_1088.JPG"/>
          <p:cNvPicPr/>
          <p:nvPr/>
        </p:nvPicPr>
        <p:blipFill>
          <a:blip r:embed="rId1"/>
          <a:srcRect l="-18186" t="0" r="-18186" b="0"/>
          <a:stretch/>
        </p:blipFill>
        <p:spPr>
          <a:xfrm>
            <a:off x="-268200" y="330120"/>
            <a:ext cx="947412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21:38:36Z</dcterms:created>
  <dc:creator>Claire Mercer</dc:creator>
  <dc:description/>
  <dc:language>en-US</dc:language>
  <cp:lastModifiedBy>hallas</cp:lastModifiedBy>
  <dcterms:modified xsi:type="dcterms:W3CDTF">2009-11-24T11:53:43Z</dcterms:modified>
  <cp:revision>4</cp:revision>
  <dc:subject/>
  <dc:title>Slide 1</dc:title>
</cp:coreProperties>
</file>