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6D85C-1597-419A-A16D-01CB3DFAB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6452A-4CCC-4434-81FD-051EF86AD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55FAD-388C-470B-BCA5-5DE7BF668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2C511-D3E8-475C-A3D9-8CFB7A2C2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61EC0-228F-40FE-9684-D38757153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593EC-6606-46F8-92B2-FC66D9CCA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D3DF6-B485-4C57-8964-0B147DA2A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07861-443E-4C51-AAA3-CA92365DB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D2FA4-EC6A-4312-9A2B-17F18BD53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4270D-D467-452D-A0E0-EBBA6EE48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3082F-65E7-4D36-AA1D-37CF13109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60668-A5C5-402E-8D17-4642E14BF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4B50-7EB4-4F16-B174-5DDE35721B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395280" y="333360"/>
            <a:ext cx="835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 Hyun Bang Shin – Urbanisation and Development</a:t>
            </a:r>
            <a:r>
              <a:rPr b="0" lang="en-US" sz="1800" spc="-1" strike="noStrike">
                <a:solidFill>
                  <a:srgbClr val="ffffff"/>
                </a:solidFill>
                <a:latin typeface="Arial"/>
              </a:rPr>
              <a:t> </a:t>
            </a:r>
            <a:r>
              <a:rPr b="1" lang="en-US" sz="1800" spc="-1" strike="noStrike">
                <a:solidFill>
                  <a:srgbClr val="ffffff"/>
                </a:solidFill>
                <a:latin typeface="Arial"/>
              </a:rPr>
              <a:t>Fieldwork</a:t>
            </a:r>
            <a:endParaRPr b="0" lang="en-US" sz="1800" spc="-1" strike="noStrike">
              <a:solidFill>
                <a:srgbClr val="000000"/>
              </a:solidFill>
              <a:latin typeface="Arial"/>
            </a:endParaRPr>
          </a:p>
        </p:txBody>
      </p:sp>
      <p:pic>
        <p:nvPicPr>
          <p:cNvPr id="42" name="" descr=""/>
          <p:cNvPicPr/>
          <p:nvPr/>
        </p:nvPicPr>
        <p:blipFill>
          <a:blip r:embed="rId1"/>
          <a:stretch/>
        </p:blipFill>
        <p:spPr>
          <a:xfrm>
            <a:off x="4572000" y="907920"/>
            <a:ext cx="3846600" cy="5562720"/>
          </a:xfrm>
          <a:prstGeom prst="rect">
            <a:avLst/>
          </a:prstGeom>
          <a:ln w="0">
            <a:noFill/>
          </a:ln>
        </p:spPr>
      </p:pic>
      <p:sp>
        <p:nvSpPr>
          <p:cNvPr id="43" name=""/>
          <p:cNvSpPr/>
          <p:nvPr/>
        </p:nvSpPr>
        <p:spPr>
          <a:xfrm>
            <a:off x="324000" y="1413000"/>
            <a:ext cx="41036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yun has worked mostly on East Asia, carrying out field research in cities like Beijing, Tianjin and Xining in China and Seoul in South Korea.  To follow are some photos that document his trips.  Enjo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84360" y="404640"/>
            <a:ext cx="7850160" cy="588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24000" y="836640"/>
            <a:ext cx="8548560" cy="482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9640" y="476280"/>
            <a:ext cx="8066160" cy="604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68360" y="333360"/>
            <a:ext cx="8332920" cy="624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39640" y="404640"/>
            <a:ext cx="8064720" cy="6050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87280" y="620640"/>
            <a:ext cx="4375080" cy="5830920"/>
          </a:xfrm>
          <a:prstGeom prst="rect">
            <a:avLst/>
          </a:prstGeom>
          <a:ln w="0">
            <a:noFill/>
          </a:ln>
        </p:spPr>
      </p:pic>
      <p:pic>
        <p:nvPicPr>
          <p:cNvPr id="47" name="" descr=""/>
          <p:cNvPicPr/>
          <p:nvPr/>
        </p:nvPicPr>
        <p:blipFill>
          <a:blip r:embed="rId2"/>
          <a:stretch/>
        </p:blipFill>
        <p:spPr>
          <a:xfrm>
            <a:off x="5003640" y="620640"/>
            <a:ext cx="3913200" cy="586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24000" y="487440"/>
            <a:ext cx="8280360" cy="573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68360" y="476280"/>
            <a:ext cx="8209080" cy="592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24000" y="260280"/>
            <a:ext cx="8532720" cy="621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84360" y="765000"/>
            <a:ext cx="7972200" cy="531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95280" y="404640"/>
            <a:ext cx="8172360" cy="612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9T11:51:37Z</dcterms:created>
  <dc:creator>LSE</dc:creator>
  <dc:description/>
  <dc:language>en-US</dc:language>
  <cp:lastModifiedBy>LSE</cp:lastModifiedBy>
  <dcterms:modified xsi:type="dcterms:W3CDTF">2009-03-19T11:58:26Z</dcterms:modified>
  <cp:revision>3</cp:revision>
  <dc:subject/>
  <dc:title>Slide 1</dc:title>
</cp:coreProperties>
</file>