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5ED8E-A678-47FE-9B34-85CCCB3B0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1B713-3EA7-4420-B9E5-DE6C75673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C22D0-6B35-40DD-B499-C064DF329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98E05-7DAA-4E30-A331-116A00BFE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AFF2A-9F21-4027-AF58-C852C488F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42605-49BD-4F12-A722-A15AEA780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A0F73-A6EB-45FB-BFE5-C8CCCC488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50D42-F796-431B-8413-50884D83F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71021-5867-40AD-84D8-3A648C4B6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3083C-DA90-4BD8-9BD1-BAE89DCAF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05A33-7A13-4046-97F8-86BA5FE88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3B627-AC26-490B-B13F-1AF369AA2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B986-7F99-4BE5-A59E-CB6D0CB798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95280" y="33336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 Hyun Bang Shin – Urbanisation and Development</a:t>
            </a:r>
            <a:r>
              <a:rPr b="0" lang="en-US" sz="1800" spc="-1" strike="noStrike">
                <a:solidFill>
                  <a:srgbClr val="ffffff"/>
                </a:solidFill>
                <a:latin typeface="Arial"/>
              </a:rPr>
              <a:t> </a:t>
            </a:r>
            <a:r>
              <a:rPr b="1" lang="en-US" sz="1800" spc="-1" strike="noStrike">
                <a:solidFill>
                  <a:srgbClr val="ffffff"/>
                </a:solidFill>
                <a:latin typeface="Arial"/>
              </a:rPr>
              <a:t>Fieldwork</a:t>
            </a:r>
            <a:endParaRPr b="0" lang="en-US" sz="1800" spc="-1" strike="noStrike">
              <a:solidFill>
                <a:srgbClr val="000000"/>
              </a:solidFill>
              <a:latin typeface="Arial"/>
            </a:endParaRPr>
          </a:p>
        </p:txBody>
      </p:sp>
      <p:pic>
        <p:nvPicPr>
          <p:cNvPr id="42" name="" descr=""/>
          <p:cNvPicPr/>
          <p:nvPr/>
        </p:nvPicPr>
        <p:blipFill>
          <a:blip r:embed="rId1"/>
          <a:stretch/>
        </p:blipFill>
        <p:spPr>
          <a:xfrm>
            <a:off x="4572000" y="907920"/>
            <a:ext cx="3846600" cy="5562720"/>
          </a:xfrm>
          <a:prstGeom prst="rect">
            <a:avLst/>
          </a:prstGeom>
          <a:ln w="0">
            <a:noFill/>
          </a:ln>
        </p:spPr>
      </p:pic>
      <p:sp>
        <p:nvSpPr>
          <p:cNvPr id="43" name=""/>
          <p:cNvSpPr/>
          <p:nvPr/>
        </p:nvSpPr>
        <p:spPr>
          <a:xfrm>
            <a:off x="324000" y="1413000"/>
            <a:ext cx="4103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yun has worked mostly on East Asia, carrying out field research in cities like Beijing, Tianjin and Xining in China and Seoul in South Korea.  To follow are some photos that document his trips.  Enjo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684360" y="404640"/>
            <a:ext cx="7850160" cy="588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24000" y="836640"/>
            <a:ext cx="8548560" cy="482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9640" y="476280"/>
            <a:ext cx="8066160" cy="604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468360" y="333360"/>
            <a:ext cx="8332920" cy="624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539640" y="404640"/>
            <a:ext cx="8064720" cy="605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87280" y="620640"/>
            <a:ext cx="4375080" cy="5830920"/>
          </a:xfrm>
          <a:prstGeom prst="rect">
            <a:avLst/>
          </a:prstGeom>
          <a:ln w="0">
            <a:noFill/>
          </a:ln>
        </p:spPr>
      </p:pic>
      <p:pic>
        <p:nvPicPr>
          <p:cNvPr id="47" name="" descr=""/>
          <p:cNvPicPr/>
          <p:nvPr/>
        </p:nvPicPr>
        <p:blipFill>
          <a:blip r:embed="rId2"/>
          <a:stretch/>
        </p:blipFill>
        <p:spPr>
          <a:xfrm>
            <a:off x="5003640" y="620640"/>
            <a:ext cx="3913200" cy="586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24000" y="487440"/>
            <a:ext cx="8280360" cy="573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68360" y="476280"/>
            <a:ext cx="8209080" cy="592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24000" y="260280"/>
            <a:ext cx="8532720" cy="621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684360" y="765000"/>
            <a:ext cx="7972200" cy="531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95280" y="404640"/>
            <a:ext cx="8172360" cy="612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9T11:51:37Z</dcterms:created>
  <dc:creator>LSE</dc:creator>
  <dc:description/>
  <dc:language>en-US</dc:language>
  <cp:lastModifiedBy>LSE</cp:lastModifiedBy>
  <dcterms:modified xsi:type="dcterms:W3CDTF">2009-03-19T11:58:26Z</dcterms:modified>
  <cp:revision>3</cp:revision>
  <dc:subject/>
  <dc:title>Slide 1</dc:title>
</cp:coreProperties>
</file>