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5C61-6ACF-4DB6-906A-C85BB7A5C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5BEB-E587-4E1F-8ADC-FDDFC68C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A64C-20E5-4D01-A222-36A845715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E7BB-3324-4A67-982B-062F5541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A9A1-57DD-468B-81F6-B15634EB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5249-463F-47DB-A871-8EE47925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C9AB-43A5-497C-B11C-69DE089F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C1D1-038D-4596-9443-AB9730B6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1322-7D01-4015-9B0C-6D0271FF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10C7-2F38-4307-96F9-A3BB1E9D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0395-88AF-488F-826C-B1EA7702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D815-C951-4008-AB1E-329626F3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EC10-51FB-4294-98E8-2AC63DDE0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47640" y="1600200"/>
            <a:ext cx="6624720" cy="4968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16000" y="40464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 Gareth Jones – Urbanisation and Development Field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4360" y="351000"/>
            <a:ext cx="799128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687240"/>
            <a:ext cx="813600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9640" y="411120"/>
            <a:ext cx="806472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9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04120" cy="62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51760" cy="60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2:07:54Z</dcterms:created>
  <dc:creator>LSE</dc:creator>
  <dc:description/>
  <dc:language>en-US</dc:language>
  <cp:lastModifiedBy>LSE</cp:lastModifiedBy>
  <dcterms:modified xsi:type="dcterms:W3CDTF">2009-03-19T12:08:05Z</dcterms:modified>
  <cp:revision>1</cp:revision>
  <dc:subject/>
  <dc:title>Slide 1</dc:title>
</cp:coreProperties>
</file>