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6755-5984-4483-85C3-E775A8E9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802B-ACFD-4359-AF29-92239786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EFE7-D179-411E-8C25-A5F025AF8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3B77-AC12-4BC1-895B-7B66D37CA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1861-641A-49B4-95CB-EB32F299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DF2D-968C-4B86-81A5-43E329FA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3F52-65E7-4C7F-A9F6-DFFB6636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6994-D316-4CAA-9AEB-12961970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8939-147E-42EA-A3B1-FDA6B0B5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B067-5B01-4B76-9BC7-718A103D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306B-9D4F-499B-8214-2A71CE36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A002-EA41-4C92-812A-6F2809A3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5836-D60B-4440-9E10-4BF00E8D3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47640" y="1600200"/>
            <a:ext cx="6624720" cy="4968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16000" y="40464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 Gareth Jones – Urbanisation and Development Field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4360" y="351000"/>
            <a:ext cx="799128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687240"/>
            <a:ext cx="813600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9640" y="411120"/>
            <a:ext cx="806472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9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04120" cy="62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51760" cy="60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2:07:54Z</dcterms:created>
  <dc:creator>LSE</dc:creator>
  <dc:description/>
  <dc:language>en-US</dc:language>
  <cp:lastModifiedBy>LSE</cp:lastModifiedBy>
  <dcterms:modified xsi:type="dcterms:W3CDTF">2009-03-19T12:08:05Z</dcterms:modified>
  <cp:revision>1</cp:revision>
  <dc:subject/>
  <dc:title>Slide 1</dc:title>
</cp:coreProperties>
</file>