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9493A-E12A-43A5-A402-4AFAD4B68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DEB86-59B4-4F83-9FDC-53317763F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E109F-905D-42EA-AC60-18510370A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7BD-3D78-4638-AA87-56754827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05D-C02C-4335-BA81-6E5F5832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0C3-4EE7-4C09-B2D0-2063A59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069-F578-4466-B0D8-76DB012A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7B0-4B7F-4B1B-8025-B8AB4B95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B3C-D47C-4D02-9172-25B4D206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31D-1C97-4291-9D5D-58CDC6C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061-6575-46A0-9855-9260BEFC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431-A5E6-47CE-8B9B-BD1B8D8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C9D-F00C-44EB-AC2C-A468ED7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799-4B63-4C48-BAAD-BE3B01B2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956-09C5-415D-BE07-55FADA7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B8507-1830-4B5E-923A-AAFF7C9FA1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5E27F-B5BD-46FD-89A5-6CBB529E8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212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Security, Armed Conflict and Religion: The Role of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4840"/>
            <a:ext cx="640080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fessor Barbara Einh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der Instit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1 Octo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6019920" y="414360"/>
            <a:ext cx="2438280" cy="87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631800" y="452520"/>
            <a:ext cx="2492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yal Wedding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Kate William official-wedding-2_1884415b.jpg"/>
          <p:cNvPicPr/>
          <p:nvPr/>
        </p:nvPicPr>
        <p:blipFill>
          <a:blip r:embed="rId1"/>
          <a:stretch/>
        </p:blipFill>
        <p:spPr>
          <a:xfrm>
            <a:off x="717480" y="1600200"/>
            <a:ext cx="7553520" cy="4873680"/>
          </a:xfrm>
          <a:prstGeom prst="rect">
            <a:avLst/>
          </a:prstGeom>
          <a:ln w="0">
            <a:noFill/>
          </a:ln>
        </p:spPr>
      </p:pic>
      <p:sp>
        <p:nvSpPr>
          <p:cNvPr id="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uxembourg Crown Prince Weds Belgian Count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news.bbcimg.co.uk/media/images/63613000/jpg/_63613863_63613862.jpg"/>
          <p:cNvPicPr/>
          <p:nvPr/>
        </p:nvPicPr>
        <p:blipFill>
          <a:blip r:embed="rId2"/>
          <a:stretch/>
        </p:blipFill>
        <p:spPr>
          <a:xfrm>
            <a:off x="457200" y="1574640"/>
            <a:ext cx="8229600" cy="4629240"/>
          </a:xfrm>
          <a:prstGeom prst="rect">
            <a:avLst/>
          </a:prstGeom>
          <a:ln w="0">
            <a:noFill/>
          </a:ln>
        </p:spPr>
      </p:pic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7" descr="Sunday Star Times 21 March 2010.png"/>
          <p:cNvPicPr/>
          <p:nvPr/>
        </p:nvPicPr>
        <p:blipFill>
          <a:blip r:embed="rId1"/>
          <a:srcRect l="0" t="-5661" r="0" b="-5661"/>
          <a:stretch/>
        </p:blipFill>
        <p:spPr>
          <a:xfrm>
            <a:off x="0" y="-407880"/>
            <a:ext cx="8999640" cy="76104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willie.image.png"/>
          <p:cNvPicPr/>
          <p:nvPr/>
        </p:nvPicPr>
        <p:blipFill>
          <a:blip r:embed="rId1"/>
          <a:srcRect l="-45198" t="0" r="-45198" b="0"/>
          <a:stretch/>
        </p:blipFill>
        <p:spPr>
          <a:xfrm>
            <a:off x="-2252520" y="0"/>
            <a:ext cx="9734400" cy="673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willie text.png"/>
          <p:cNvPicPr/>
          <p:nvPr/>
        </p:nvPicPr>
        <p:blipFill>
          <a:blip r:embed="rId2"/>
          <a:stretch/>
        </p:blipFill>
        <p:spPr>
          <a:xfrm>
            <a:off x="5487840" y="1195560"/>
            <a:ext cx="3402000" cy="444960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Sex Symbol Sunday Star Times.png"/>
          <p:cNvPicPr/>
          <p:nvPr/>
        </p:nvPicPr>
        <p:blipFill>
          <a:blip r:embed="rId1"/>
          <a:srcRect l="-79426" t="0" r="-79426" b="0"/>
          <a:stretch/>
        </p:blipFill>
        <p:spPr>
          <a:xfrm>
            <a:off x="-3630600" y="193680"/>
            <a:ext cx="12115800" cy="666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ext for WAG sex symbol Sunday Star Times.png"/>
          <p:cNvPicPr/>
          <p:nvPr/>
        </p:nvPicPr>
        <p:blipFill>
          <a:blip r:embed="rId2"/>
          <a:stretch/>
        </p:blipFill>
        <p:spPr>
          <a:xfrm>
            <a:off x="4746600" y="1417680"/>
            <a:ext cx="4087800" cy="387648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Nature of Arme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92200"/>
            <a:ext cx="82296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-state to intra-state  conflict with non-state 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ction frontline/civilian space bl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ation between combatant/civilian as gendered male/female respectively conf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itarian, ‘secure’ space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derives from a process of O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ed/raced and classed national/religious identities essential to confli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eral multiculturalism sees its Other as ‘essentiali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 thereby 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(Zizek, 2008/9: 1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ghan Women in Burk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_women-with-burkas.jpg"/>
          <p:cNvPicPr/>
          <p:nvPr/>
        </p:nvPicPr>
        <p:blipFill>
          <a:blip r:embed="rId1"/>
          <a:srcRect l="-9828" t="0" r="-9828" b="0"/>
          <a:stretch/>
        </p:blipFill>
        <p:spPr>
          <a:xfrm>
            <a:off x="-109440" y="998640"/>
            <a:ext cx="9651960" cy="56592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ising/Legitimat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0144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s participants and perpet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s victims, not political ag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sovan Refug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kosovan_women_children.jpg"/>
          <p:cNvPicPr/>
          <p:nvPr/>
        </p:nvPicPr>
        <p:blipFill>
          <a:blip r:embed="rId1"/>
          <a:srcRect l="-17225" t="0" r="-17225" b="0"/>
          <a:stretch/>
        </p:blipFill>
        <p:spPr>
          <a:xfrm>
            <a:off x="-68400" y="1197000"/>
            <a:ext cx="9212400" cy="551664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 S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uman Security and Gend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der in National Ident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der and Armed Confli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Role of Relig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3 RAWA Demonstration in Islamab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RAWA demo 2003.png"/>
          <p:cNvPicPr/>
          <p:nvPr/>
        </p:nvPicPr>
        <p:blipFill>
          <a:blip r:embed="rId1"/>
          <a:srcRect l="-10357" t="0" r="-10357" b="0"/>
          <a:stretch/>
        </p:blipFill>
        <p:spPr>
          <a:xfrm>
            <a:off x="457200" y="118908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Arme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dered ‘Other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-masculinised, brutal ‘terrorists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less, oppressed female victims of vio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’ men and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(brave) boys’ as defenders of the 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’ women as supporting w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iban Figh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Taliban fighters7.jpg"/>
          <p:cNvPicPr/>
          <p:nvPr/>
        </p:nvPicPr>
        <p:blipFill>
          <a:blip r:embed="rId1"/>
          <a:srcRect l="-14771" t="0" r="-14771" b="0"/>
          <a:stretch/>
        </p:blipFill>
        <p:spPr>
          <a:xfrm>
            <a:off x="133200" y="1279440"/>
            <a:ext cx="8686800" cy="533736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oic Firefighters at Ground Z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9-11-courage.jpg"/>
          <p:cNvPicPr/>
          <p:nvPr/>
        </p:nvPicPr>
        <p:blipFill>
          <a:blip r:embed="rId1"/>
          <a:srcRect l="-55713" t="0" r="-55713" b="0"/>
          <a:stretch/>
        </p:blipFill>
        <p:spPr>
          <a:xfrm>
            <a:off x="-452520" y="1149480"/>
            <a:ext cx="10029960" cy="569088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itarise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7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ised women as anti-essentialist fig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conformist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ormist vs transgressive femin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ssica Lynch vs. Lynndie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ed’masculi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bian prisoners; male victims of torture in Abu Ghraib, prison run by woman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te Jessica Ly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3" descr="Jessica Lynch in uniform.jpg"/>
          <p:cNvPicPr/>
          <p:nvPr/>
        </p:nvPicPr>
        <p:blipFill>
          <a:blip r:embed="rId1"/>
          <a:srcRect l="-18304" t="0" r="-1830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Jessica Lynch prom dress.jpg"/>
          <p:cNvPicPr/>
          <p:nvPr/>
        </p:nvPicPr>
        <p:blipFill>
          <a:blip r:embed="rId1"/>
          <a:srcRect l="-86860" t="0" r="-86860" b="0"/>
          <a:stretch/>
        </p:blipFill>
        <p:spPr>
          <a:xfrm>
            <a:off x="231840" y="620640"/>
            <a:ext cx="9069480" cy="5164200"/>
          </a:xfrm>
          <a:prstGeom prst="rect">
            <a:avLst/>
          </a:prstGeom>
          <a:ln w="0">
            <a:noFill/>
          </a:ln>
        </p:spPr>
      </p:pic>
      <p:sp>
        <p:nvSpPr>
          <p:cNvPr id="12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ynndie England in Abu Ghraib Pri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abu-ghraib-torture-22.jpg"/>
          <p:cNvPicPr/>
          <p:nvPr/>
        </p:nvPicPr>
        <p:blipFill>
          <a:blip r:embed="rId1"/>
          <a:srcRect l="-70917" t="0" r="-70917" b="0"/>
          <a:stretch/>
        </p:blipFill>
        <p:spPr>
          <a:xfrm>
            <a:off x="284040" y="1417680"/>
            <a:ext cx="8686800" cy="504360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ntent Placeholder 3" descr="Serbian camp.jpg"/>
          <p:cNvPicPr/>
          <p:nvPr/>
        </p:nvPicPr>
        <p:blipFill>
          <a:blip r:embed="rId1"/>
          <a:srcRect l="-78839" t="0" r="-78839" b="0"/>
          <a:stretch/>
        </p:blipFill>
        <p:spPr>
          <a:xfrm>
            <a:off x="-1353960" y="185760"/>
            <a:ext cx="11698200" cy="64548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ole of 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for peace or cause of confli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religions inherently patriarch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ism/essential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theories of ‘human securit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and social ‘wellbeing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fe and secure liv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igion an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cause of conflic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-political or economic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al heri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instrumentali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projected onto actual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ces of (secular, Western) modernity ‘saving’ primitive backward (religious, read: Islamic) 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igion i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0480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risis of organised relig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and sexu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adscarf deb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as political accel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ebate really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burka w mobile phone.jpg"/>
          <p:cNvPicPr/>
          <p:nvPr/>
        </p:nvPicPr>
        <p:blipFill>
          <a:blip r:embed="rId1"/>
          <a:srcRect l="-17921" t="0" r="-17921" b="0"/>
          <a:stretch/>
        </p:blipFill>
        <p:spPr>
          <a:xfrm>
            <a:off x="-147600" y="639720"/>
            <a:ext cx="961236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rkish Students in Istanbul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Turkish_women.jpg"/>
          <p:cNvPicPr/>
          <p:nvPr/>
        </p:nvPicPr>
        <p:blipFill>
          <a:blip r:embed="rId1"/>
          <a:srcRect l="-18185" t="0" r="-18185" b="0"/>
          <a:stretch/>
        </p:blipFill>
        <p:spPr>
          <a:xfrm>
            <a:off x="-334800" y="1025640"/>
            <a:ext cx="9850320" cy="510048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188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cending narrow nationalis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with/compassion towards the ‘Other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’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verse soc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’ security parad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s to be gender-disaggreg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ist gender binaries need to be over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equitable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requisite for peaceful and socially just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ultimate weapon is no weapon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Beebe and Kaldor,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olence prev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civilians and human righ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and development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 an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ed for gender l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’ don’t always have common inte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olence as gen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ole of Gend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as a key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tical and empirical category necessary for understanding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without feminist lens in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der not about men and women, or even just masculinity and femin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sue of politics and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ucturally unequal power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a Gender Lens Helpfu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der as part of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sentialist dichotomous role 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der as part of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ing how gender integral to polit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rst step to overcoming social divisions which lead to exclusions and ultimately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in National Ident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and Militarism as twin stabilising factors in national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gendered stereotypes of (heterosexual) masculinity and femin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itarism in national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23:38:04Z</dcterms:created>
  <dc:creator>Peace</dc:creator>
  <dc:description/>
  <dc:language>en-US</dc:language>
  <cp:lastModifiedBy>Administrator</cp:lastModifiedBy>
  <cp:lastPrinted>2010-04-22T04:48:12Z</cp:lastPrinted>
  <dcterms:modified xsi:type="dcterms:W3CDTF">2012-10-31T13:46:55Z</dcterms:modified>
  <cp:revision>76</cp:revision>
  <dc:subject/>
  <dc:title>Slide 1</dc:title>
</cp:coreProperties>
</file>