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6B7-1F9C-47B5-9B72-6A46017B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0700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C812-6E59-4421-8E00-3F389DB6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8924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B2D-5082-4BA7-8D8A-1FF9FF79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680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104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680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104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02A-66DA-426A-9305-1DAC54EA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99800"/>
            <a:ext cx="769140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D2B-8697-42AC-ABEF-8D1AB1C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924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920" y="380700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8924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680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51040" y="145692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92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680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51040" y="3807000"/>
            <a:ext cx="247968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5C02-F416-4B0D-AC3F-F229F226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968-71A2-43E5-B0E6-370EA51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573F-7E42-4D27-8366-1F0DC9E0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199800"/>
            <a:ext cx="7691400" cy="25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D74-8A1F-460D-AF32-89BE038B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7D7-0ACA-4D86-AA6B-8D7B2E7D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89240" y="380700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B42-12F8-41CF-A2DC-82BC3359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9240" y="1456920"/>
            <a:ext cx="375804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07000"/>
            <a:ext cx="770112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CA7-4FA1-49DC-977C-E0D260C1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902" b="0"/>
          <a:stretch/>
        </p:blipFill>
        <p:spPr>
          <a:xfrm>
            <a:off x="0" y="6049800"/>
            <a:ext cx="9144000" cy="6321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4960" indent="-264960">
              <a:spcBef>
                <a:spcPts val="451"/>
              </a:spcBef>
              <a:buClr>
                <a:srgbClr val="00915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264960" indent="-264960">
              <a:spcBef>
                <a:spcPts val="451"/>
              </a:spcBef>
              <a:buClr>
                <a:srgbClr val="00915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64960" indent="-264960">
              <a:spcBef>
                <a:spcPts val="451"/>
              </a:spcBef>
              <a:buClr>
                <a:srgbClr val="00915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64960" indent="-264960">
              <a:spcBef>
                <a:spcPts val="451"/>
              </a:spcBef>
              <a:buClr>
                <a:srgbClr val="00915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64960" indent="-264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64960" indent="-264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709040" y="6264000"/>
            <a:ext cx="8064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910040" y="6265440"/>
            <a:ext cx="2695680" cy="1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1200" y="6264360"/>
            <a:ext cx="21924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369B-4DE9-4ED7-95DD-6B04C3BDE930}" type="slidenum">
              <a:rPr b="0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7840" y="3057480"/>
            <a:ext cx="68677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0" t="0" r="30730" b="0"/>
          <a:stretch/>
        </p:blipFill>
        <p:spPr>
          <a:xfrm>
            <a:off x="-3240" y="965160"/>
            <a:ext cx="9147240" cy="905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4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6400" algn="ctr">
              <a:spcBef>
                <a:spcPts val="400"/>
              </a:spcBef>
              <a:buClr>
                <a:srgbClr val="00915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66760" algn="ctr">
              <a:spcBef>
                <a:spcPts val="326"/>
              </a:spcBef>
              <a:buClr>
                <a:srgbClr val="00915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15a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915a"/>
              </a:solidFill>
              <a:latin typeface="Arial"/>
            </a:endParaRPr>
          </a:p>
          <a:p>
            <a:pPr lvl="4" marL="1523880" algn="ctr">
              <a:spcBef>
                <a:spcPts val="326"/>
              </a:spcBef>
              <a:buClr>
                <a:srgbClr val="00915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15a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915a"/>
              </a:solidFill>
              <a:latin typeface="Arial"/>
            </a:endParaRPr>
          </a:p>
          <a:p>
            <a:pPr lvl="5" marL="15238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15a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915a"/>
              </a:solidFill>
              <a:latin typeface="Arial"/>
            </a:endParaRPr>
          </a:p>
          <a:p>
            <a:pPr lvl="6" marL="152388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915a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91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24160" y="2608200"/>
            <a:ext cx="686736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e2c5"/>
                </a:solidFill>
                <a:latin typeface="Arial"/>
              </a:rPr>
              <a:t>“</a:t>
            </a:r>
            <a:r>
              <a:rPr b="1" lang="en-GB" sz="4000" spc="-1" strike="noStrike">
                <a:solidFill>
                  <a:srgbClr val="ffe2c5"/>
                </a:solidFill>
                <a:latin typeface="Arial"/>
              </a:rPr>
              <a:t>Too Big To Fail”: what is the issue to solve 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38200" y="5819760"/>
            <a:ext cx="6400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Christian LAJO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18/10/20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5560" y="490536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SE Financial Markets Group and Deutsche Bank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199800"/>
            <a:ext cx="842328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BTF : a biased expression of the financial system stability conce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0840" y="1092240"/>
            <a:ext cx="8526240" cy="50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ize and business mix are not the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is protective when it goes with diver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riety of activities is a diversification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rket share consideration falls under competitive reg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25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pital is not the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urrent capital requirements would have made up for the losses of the rescued ba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y surcharge would be useless, unfair and probably counterprodu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25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agion doe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601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istance to external shocks must be developed by all financial instit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67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gion must be contained and stopp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25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tail investors must be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fidence in the financial system is critical for the economic and social st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125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al hazard must be reduced to its simplest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free l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83D-9F24-459F-BFB2-C580BB95AC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91440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fficient and fair answer to the financial system stability objective, the prevention compo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5200" y="1161720"/>
            <a:ext cx="8375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spcBef>
                <a:spcPts val="499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ependent financial institution resil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l managed: Governance, Pillar II,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ll capitalized: Bas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hanced micro and macro supervision: the ES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intensive but focused and expert super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d  and coordinated empowerment of the supervisory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European supervisory framework: the ESAs (EBA, EIOPA, ESM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bust infra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SR advices on standardization, trading and reporting of OTC deriv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C proposal for regulation of OTC derivatives and EU market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7D6-F619-4603-9C6C-0B390CE4A5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6080" y="199800"/>
            <a:ext cx="805788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fficient and fair answer to the financial system stability object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remedy phase (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560" y="1258920"/>
            <a:ext cx="852804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 for a bifurcated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 to point of default, assessment of the institution’s systemic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304920">
              <a:spcBef>
                <a:spcPts val="1001"/>
              </a:spcBef>
              <a:buClr>
                <a:srgbClr val="00916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absence of ripple effect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qu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1320" indent="-304920">
              <a:spcBef>
                <a:spcPts val="1001"/>
              </a:spcBef>
              <a:buClr>
                <a:srgbClr val="00916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ncial system stability in jeopardy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stru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spcBef>
                <a:spcPts val="1125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both cases, temporary liquidity provided by Central Banks secured by a first 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derly liqu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spcBef>
                <a:spcPts val="1125"/>
              </a:spcBef>
              <a:buClr>
                <a:srgbClr val="0091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dicial process or bank’s specific liquidation regime administered by the supervisory body but in line with the bankruptcy law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spcBef>
                <a:spcPts val="1125"/>
              </a:spcBef>
              <a:buClr>
                <a:srgbClr val="0091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es and liquidation costs born by the liquidation proc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spcBef>
                <a:spcPts val="1125"/>
              </a:spcBef>
              <a:buClr>
                <a:srgbClr val="0091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eventual shortage covered by an industr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D2E-776C-4197-8382-8A0EC4A3C6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6080" y="199800"/>
            <a:ext cx="805788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efficient and fair answer to the financial system stability objectiv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remedy phase (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560" y="1258920"/>
            <a:ext cx="852804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ministrative restru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sion of the subordinated debt into Equity up to the necessary amount to comply with the Core Tier 1 solvency ratio minimum after absorption of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rant mechanism to restore the claim order in case of total turn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oval of the executive management and appointment of a “resolving bod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ructuring process in “on-going concern” mode with the view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108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timize the remaining value of the fir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1080">
              <a:lnSpc>
                <a:spcPct val="90000"/>
              </a:lnSpc>
              <a:spcBef>
                <a:spcPts val="700"/>
              </a:spcBef>
              <a:buClr>
                <a:srgbClr val="00916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d with a viable and downsized institution within a reasonable time fram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90000"/>
              </a:lnSpc>
              <a:spcBef>
                <a:spcPts val="2401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able but credibl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sses do not impair the core Tier 1 solvency ratio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olution regime restores market confid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82520">
              <a:lnSpc>
                <a:spcPct val="90000"/>
              </a:lnSpc>
              <a:spcBef>
                <a:spcPts val="788"/>
              </a:spcBef>
              <a:buClr>
                <a:srgbClr val="00916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rderly liquidation remains a possible o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FF03-25AD-4029-BBB4-AF88179684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53880"/>
            <a:ext cx="91440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sion of subordinated debt into Equity would have absorbed losses and kept the rescued banks technically solv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"/>
          <p:cNvSpPr/>
          <p:nvPr/>
        </p:nvSpPr>
        <p:spPr>
          <a:xfrm>
            <a:off x="708120" y="1252440"/>
            <a:ext cx="817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Minimum Core Tier 1 without Government Support – With and without Tier 1 and Tier 2 instruments conversion in equ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underline"/>
          <p:cNvSpPr/>
          <p:nvPr/>
        </p:nvSpPr>
        <p:spPr>
          <a:xfrm>
            <a:off x="701640" y="1438200"/>
            <a:ext cx="81788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68160" y="1406520"/>
          <a:ext cx="84758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406520"/>
                    <a:ext cx="84758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87240" y="3468600"/>
          <a:ext cx="8304480" cy="2333880"/>
        </p:xfrm>
        <a:graphic>
          <a:graphicData uri="http://schemas.openxmlformats.org/drawingml/2006/table">
            <a:tbl>
              <a:tblPr/>
              <a:tblGrid>
                <a:gridCol w="1533600"/>
                <a:gridCol w="752400"/>
                <a:gridCol w="754200"/>
                <a:gridCol w="750960"/>
                <a:gridCol w="750960"/>
                <a:gridCol w="752400"/>
                <a:gridCol w="752400"/>
                <a:gridCol w="752400"/>
                <a:gridCol w="752400"/>
                <a:gridCol w="752760"/>
              </a:tblGrid>
              <a:tr h="328680">
                <a:tc>
                  <a:txBody>
                    <a:bodyPr lIns="0" rIns="0" tIns="101520" bIns="442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e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x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loy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  <a:tc>
                  <a:txBody>
                    <a:bodyPr lIns="0" rIns="0" tIns="10152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7cb1"/>
                      </a:solidFill>
                    </a:lnB>
                    <a:solidFill>
                      <a:srgbClr val="ebf2f5"/>
                    </a:solidFill>
                  </a:tcPr>
                </a:tc>
              </a:tr>
              <a:tr h="26928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 Ratio ex. Gov Sup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in Ratio ex. Gov Support but with T1 &amp; T2 Converted in Equ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  <a:tr h="11736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Reg Initial Cap (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overnment Capital Injected (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  <a:tr h="269280">
                <a:tc>
                  <a:txBody>
                    <a:bodyPr lIns="0" rIns="0" tIns="43200" bIns="43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 /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1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  <a:tc>
                  <a:txBody>
                    <a:bodyPr lIns="0" rIns="0" tIns="43200" bIns="432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70120"/>
                          <a:tab algn="l" pos="1739880"/>
                          <a:tab algn="l" pos="2610000"/>
                          <a:tab algn="l" pos="3479760"/>
                          <a:tab algn="l" pos="4349880"/>
                          <a:tab algn="l" pos="5219640"/>
                          <a:tab algn="l" pos="6089760"/>
                          <a:tab algn="l" pos="6959520"/>
                          <a:tab algn="l" pos="7829640"/>
                          <a:tab algn="l" pos="8699400"/>
                          <a:tab algn="l" pos="9569520"/>
                          <a:tab algn="l" pos="1043928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7cb1"/>
                      </a:solidFill>
                    </a:lnT>
                    <a:lnB w="2880">
                      <a:solidFill>
                        <a:srgbClr val="007cb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1117440" y="1965240"/>
            <a:ext cx="4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GB" sz="800" spc="-1" strike="noStrike">
                <a:solidFill>
                  <a:srgbClr val="009999"/>
                </a:solidFill>
                <a:latin typeface="Arial"/>
                <a:ea typeface="Arial"/>
              </a:rPr>
              <a:t>2%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C42-8659-4008-AEF7-D977C04228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99800"/>
            <a:ext cx="7691400" cy="55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Bail-in analysis – Key take-aw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456920"/>
            <a:ext cx="7701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nancial crisis caused major losses for many financial institutions, leading to the default or drastic restructuring of several ba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vernment capital injections were necessary to shore up depleted capital positions and more importantly to restore confidence in the financial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public capital had not been inje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90000"/>
              </a:lnSpc>
              <a:spcBef>
                <a:spcPts val="799"/>
              </a:spcBef>
              <a:buClr>
                <a:srgbClr val="0091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one bank (Citi) would have had a negative Core Tier 1 ratio; AIB is a specific case that cannot be the base for regulating the financial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7320" indent="-342720">
              <a:lnSpc>
                <a:spcPct val="90000"/>
              </a:lnSpc>
              <a:spcBef>
                <a:spcPts val="799"/>
              </a:spcBef>
              <a:buClr>
                <a:srgbClr val="0091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 banks would have seen their capital position eroded to such an extent that their survival would have been at stake due to lack of market confide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916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ming that Tier 1 and Tier 2 instruments would have been used to create Core Tier 1 capital, all banks would have maintained their Core Tier 1 ratio above 4% (twice the minimum) without government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épartement / n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EE3-438B-4737-9C5C-AAF70B49F0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0/00/0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0:01:10Z</dcterms:created>
  <dc:creator>Seenk Seenk</dc:creator>
  <dc:description/>
  <dc:language>en-US</dc:language>
  <cp:lastModifiedBy>149819</cp:lastModifiedBy>
  <dcterms:modified xsi:type="dcterms:W3CDTF">2010-10-19T15:20:31Z</dcterms:modified>
  <cp:revision>30</cp:revision>
  <dc:subject/>
  <dc:title>Présentation PowerPoint</dc:title>
</cp:coreProperties>
</file>