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51663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8EA5-ED8A-4595-BAF7-8F347DBA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62485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5640" y="3878640"/>
            <a:ext cx="62485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D1E-1BF9-4246-A758-2747E6D8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5640" y="38786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840" y="38786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9980-1602-4150-A079-8AA4D9B7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8120" y="13712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0960" y="13712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5640" y="38786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8120" y="38786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0960" y="3878640"/>
            <a:ext cx="2011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B23-65BA-4AE1-80E3-9ED9D987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6EBD-E326-457C-862A-D3EA8F09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5AD-A994-4659-88EB-9666C56E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711-0182-4158-9475-02E6C671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6848-B194-44A5-BA64-E90399BF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228600"/>
            <a:ext cx="65534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BD3-17CE-4AC8-8749-7F28BBCE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5640" y="38786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CB39-F5C1-4C43-A71F-42039E7E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840" y="38786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2C6-CBC0-4496-8E04-CB1AA2CB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840" y="1371240"/>
            <a:ext cx="3049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5640" y="3878640"/>
            <a:ext cx="62485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F63-A341-45E6-AF5E-C03DF8F3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1" marL="720720" indent="-277200">
              <a:spcBef>
                <a:spcPts val="2999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2" marL="1108440" indent="-22140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3" marL="1551960" indent="-221400">
              <a:spcBef>
                <a:spcPts val="2999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4" marL="1995480" indent="-22140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5" marL="1995480" indent="-22140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6" marL="1995480" indent="-22140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3880" y="6324120"/>
            <a:ext cx="1371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324120"/>
            <a:ext cx="42670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480" y="6324120"/>
            <a:ext cx="10670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E79B-E482-4BE4-82A3-4F165F4C76A7}" type="slidenum">
              <a:rPr b="0" lang="en-US" sz="1000" spc="-1" strike="noStrike">
                <a:solidFill>
                  <a:srgbClr val="3333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1203_Rajan.ppt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1960" y="380880"/>
            <a:ext cx="56386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 Credit Crisis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6520" y="3886200"/>
            <a:ext cx="533412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Verdana"/>
              </a:rPr>
              <a:t>Raghuram Rajan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Verdana"/>
              </a:rPr>
              <a:t>Chicago Booth School of Business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en will credit markets find a bottom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When the risk of large institutions collapsing is small.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Guarantee debt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Audit institutions (the Stress Test)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Clean up bank balance sheets by isolating/selling problem assets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00"/>
                </a:solidFill>
                <a:latin typeface="Verdana"/>
              </a:rPr>
              <a:t>Good bank/bad bank</a:t>
            </a:r>
            <a:endParaRPr b="0" lang="en-US" sz="17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Recapitalize banks through a mix of private and public funds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Some actions may have to be mandated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This will allow asset prices to recover and credit to flow more freely, thus not impeding recovery.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Will require more public money: political support weak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 Lessons for financial regul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57040" y="144756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Verdana"/>
              </a:rPr>
              <a:t>Regulators and markets are subject to the same euphoria that bankers are. Over the cycle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the market becomes less risk averse, so regulatory arbitrage increases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enforcement as well as risk management get weaker. 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How do you ensure regulations have bite?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Verdana"/>
              </a:rPr>
              <a:t>Illiquidity is contagious. Problems can emerge from anywhere and hit elsewhere.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Verdana"/>
              </a:rPr>
              <a:t>Stability is a public good in the midst of a crisis, with limited private incentive to help create it. 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mplic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00"/>
                </a:solidFill>
                <a:latin typeface="Verdana"/>
              </a:rPr>
              <a:t>Heavy handed, focused, regulation will most likely to lead to arbitrage, without insulating sensitive areas.</a:t>
            </a:r>
            <a:endParaRPr b="0" lang="en-US" sz="22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Verdana"/>
              </a:rPr>
              <a:t>Bright lines? Utilities?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00"/>
                </a:solidFill>
                <a:latin typeface="Verdana"/>
              </a:rPr>
              <a:t>Lighter, across-the-board, regulation with contingent escalation of regulatory powers and actions more useful. </a:t>
            </a:r>
            <a:endParaRPr b="0" lang="en-US" sz="22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00"/>
                </a:solidFill>
                <a:latin typeface="Verdana"/>
              </a:rPr>
              <a:t>No matter what regulators do, disaster can always strike. Create private sector buffers that will not be eroded in good times. </a:t>
            </a:r>
            <a:endParaRPr b="0" lang="en-US" sz="22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probl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Verdana"/>
              </a:rPr>
              <a:t>Large complex entities!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Break them up?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Slow their growth (higher capital and supervision)?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Limit their growth?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Force them to become easier to fail. 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2819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T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The Crisis: Origins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The Impact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Resolving the crisis?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Regulatory Lessons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d Invest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75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Child of past crises</a:t>
            </a:r>
            <a:endParaRPr b="0" lang="en-US" sz="22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Emerging markets =&gt; Industrial country corporations =&gt; Industrial country household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spcBef>
                <a:spcPts val="275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Sophisticated Financial Sector</a:t>
            </a:r>
            <a:endParaRPr b="0" lang="en-US" sz="22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Effectively sold mortgages from Phoenix, Arizona to buyers around the world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33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$ 100 sub-prime mortgages generated $ 80 AAA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Originate to distribute spreads risks but 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33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Quality of originations weakened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lvl="2" marL="1143000" indent="-228600">
              <a:spcBef>
                <a:spcPts val="476"/>
              </a:spcBef>
              <a:buClr>
                <a:srgbClr val="33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Depended on house price rising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d Investments contd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Banks held on to poor quality assets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Poor governance and risk management</a:t>
            </a:r>
            <a:endParaRPr b="0" lang="en-US" sz="2200" spc="-1" strike="noStrike">
              <a:solidFill>
                <a:srgbClr val="3333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At the top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Through the organization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00"/>
              </a:buClr>
              <a:buFont typeface="Verdan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Verdana"/>
              </a:rPr>
              <a:t>Tail risk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333300"/>
              </a:buClr>
              <a:buFont typeface="Verdan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Verdana"/>
              </a:rPr>
              <a:t>Writing earthquake insurance</a:t>
            </a:r>
            <a:endParaRPr b="0" lang="en-US" sz="1800" spc="-1" strike="noStrike">
              <a:solidFill>
                <a:srgbClr val="3333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Where were the risk managers?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nanced with short term deb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Short term debt cheaper because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Lenders better protected.</a:t>
            </a:r>
            <a:endParaRPr b="0" lang="en-US" sz="22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Rolling over financing is easy in good times.</a:t>
            </a:r>
            <a:endParaRPr b="0" lang="en-US" sz="22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Market requires banks to hold little capital because losses remote.</a:t>
            </a:r>
            <a:endParaRPr b="0" lang="en-US" sz="22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Verdana"/>
              </a:rPr>
              <a:t>Aided and abetted by Fed policy</a:t>
            </a:r>
            <a:endParaRPr b="0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Greenspan “put”</a:t>
            </a:r>
            <a:endParaRPr b="0" lang="en-US" sz="22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Impact: Sequence of ev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House price stops rising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Mortgage Defaults=&gt; MBS fall in value, become more difficult to price, and price becomes more volatile 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33"/>
                </a:solidFill>
                <a:uFillTx/>
                <a:latin typeface="Verdana"/>
                <a:hlinkClick r:id="rId1"/>
              </a:rPr>
              <a:t>Market for mortgage backed assets dries up.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Illiquidity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Potential Insolvency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Verdana"/>
              </a:rPr>
              <a:t>More hits on their way</a:t>
            </a:r>
            <a:endParaRPr b="0" lang="en-US" sz="20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Credit cards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Commercial real estate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Commercial and industrial loans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suance of ABS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1219320" y="1600200"/>
          <a:ext cx="73389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73389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edit markets freez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5640" y="13712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375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Banks unwilling to sell impaired assets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375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Banks unwilling to substitute for shadow financial system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00"/>
                </a:solidFill>
                <a:latin typeface="Verdana"/>
              </a:rPr>
              <a:t>Worries about borrower credit risk.</a:t>
            </a:r>
            <a:endParaRPr b="0" lang="en-US" sz="17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00"/>
                </a:solidFill>
                <a:latin typeface="Verdana"/>
              </a:rPr>
              <a:t>Worries about own liquidity if lenders want money back.</a:t>
            </a:r>
            <a:endParaRPr b="0" lang="en-US" sz="17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00"/>
                </a:solidFill>
                <a:latin typeface="Verdana"/>
              </a:rPr>
              <a:t>Worries about likely fire sales pushing securities prices further down – common discount rate for risky assets</a:t>
            </a:r>
            <a:endParaRPr b="0" lang="en-US" sz="17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375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Banks unwilling to raise enough equity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375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Stability is not the major focus of the private sector in the midst of a crisis!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375"/>
              </a:spcBef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00"/>
                </a:solidFill>
                <a:latin typeface="Verdana"/>
              </a:rPr>
              <a:t>Institutional overhang not a major problem right now because demand for credit low. But will hamper recovery.</a:t>
            </a: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333300"/>
              </a:buClr>
              <a:buFont typeface="Verdan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clining credit asset prices pull equity prices downward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" name="Chart 4" descr=""/>
          <p:cNvPicPr/>
          <p:nvPr/>
        </p:nvPicPr>
        <p:blipFill>
          <a:blip r:embed="rId1"/>
          <a:stretch/>
        </p:blipFill>
        <p:spPr>
          <a:xfrm>
            <a:off x="1212840" y="1974960"/>
            <a:ext cx="7407360" cy="38354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1295280" y="1526040"/>
            <a:ext cx="7345440" cy="22968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  <a:effectLst>
            <a:outerShdw dist="6408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32760" bIns="32760" anchor="b">
            <a:spAutoFit/>
          </a:bodyPr>
          <a:p>
            <a:pPr>
              <a:lnSpc>
                <a:spcPct val="98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ABX.07-1 AAA versus BKX* index prices</a:t>
            </a:r>
            <a:endParaRPr b="0" lang="en-US" sz="11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20:11:24Z</dcterms:created>
  <dc:creator>Preferred Customer</dc:creator>
  <dc:description/>
  <dc:language>en-US</dc:language>
  <cp:lastModifiedBy>Preferred Customer</cp:lastModifiedBy>
  <dcterms:modified xsi:type="dcterms:W3CDTF">2009-03-17T04:11:35Z</dcterms:modified>
  <cp:revision>17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09081033</vt:lpwstr>
  </property>
</Properties>
</file>