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F62D-F97F-446E-809A-DC36F4A52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B41F-0D14-4EC6-BC95-CD21E1876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BC76-E4BC-4C4F-8F7D-AFF9D2F16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0D44-9DDA-4DFB-9696-A3250FA06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817-1695-47AE-ADB5-42B765454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9F3-58A7-4D4B-9BCA-CCBCE8FA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CFDE-7C3D-4F54-B4D3-B6ECA20E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235-4F3F-4813-A6A9-D5F30FBE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9D6-F047-4A12-8370-9DDF53B2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EB8-5DAE-4BD8-934B-557EC9BD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2D5-D49B-412F-AD79-279F226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1E8E-F821-45B3-AC8C-C8C0A20B4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CB4-83CC-4759-BDF7-CE7AE98C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64F-3FAD-4E6C-B184-57D620DE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645-95F8-421F-91C1-0EC9B2E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D74-3977-40D1-88EA-72354D83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7440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2B88-1C4E-4297-A1E0-D849C7D81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CAD1-0EB6-419D-B0EC-80B12A331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6991-96A8-4900-840B-1A761E5C3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7C25-6A1B-46D2-9038-6A4D50D2D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7BD8-F6D6-4A01-A869-0241BF4EC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8E1D-D873-45B9-8D58-49B600D47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3135-7279-45C5-B39E-17D0A4B55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74400"/>
            <a:ext cx="40158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E268-16B9-401A-995C-C8BCC770D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3" marL="1339920" indent="-316080">
              <a:spcBef>
                <a:spcPts val="6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4" marL="1681200" indent="-339840">
              <a:spcBef>
                <a:spcPts val="6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5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lvl="6" marL="1681200" indent="-339840">
              <a:spcBef>
                <a:spcPts val="64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29640" y="6194520"/>
            <a:ext cx="1314360" cy="663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34000" y="6353280"/>
            <a:ext cx="42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DIRECTION DE LA STABILITE FINANCI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63560" y="6570360"/>
            <a:ext cx="21337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D200-DE96-45C8-8667-ABD63768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370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AA9A-F73D-4B4E-B54A-90A19EFF9C60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221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1" marL="34452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1280" y="5229000"/>
            <a:ext cx="673272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ylvie Matherat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irector, Financial Stability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ank of France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01480" y="1168560"/>
            <a:ext cx="65199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LSE and Deutsche Bank Conference on 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« Reforming the Global Architecture of Financial Regulation »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0920" y="115920"/>
            <a:ext cx="2050920" cy="6264360"/>
            <a:chOff x="250920" y="115920"/>
            <a:chExt cx="2050920" cy="62643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250920" y="115920"/>
              <a:ext cx="205092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250920" y="1484280"/>
              <a:ext cx="2050920" cy="489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2160" y="6521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/03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1917720"/>
            <a:ext cx="68421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Macro-prudential and regulatory reforms : what is needed to make the global financial system less crisis pr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802-9CA9-4178-AF3B-131B522785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new macro prudential framewor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6600"/>
                </a:solidFill>
                <a:latin typeface="Arial"/>
              </a:rPr>
              <a:t>General objectives: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66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 risks of distress for the financial system as a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procyclicality of financial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vent excessive risk taking/leverage in order to avoid disconnection between financial sector and the real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hance crisis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0762-58DF-45EA-A644-5F5742EF95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687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996600"/>
                </a:solidFill>
                <a:latin typeface="Arial"/>
              </a:rPr>
              <a:t>The Actors:</a:t>
            </a:r>
            <a:endParaRPr b="0" lang="en-US" sz="2700" spc="-1" strike="noStrike">
              <a:solidFill>
                <a:srgbClr val="996600"/>
              </a:solidFill>
              <a:latin typeface="Arial"/>
            </a:endParaRPr>
          </a:p>
          <a:p>
            <a:pPr indent="0">
              <a:spcBef>
                <a:spcPts val="1375"/>
              </a:spcBef>
              <a:buNone/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for an international financial architecture ensuring level playing field</a:t>
            </a:r>
            <a:r>
              <a:rPr b="0" lang="en-GB" sz="22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996600"/>
              </a:solidFill>
              <a:latin typeface="Arial"/>
            </a:endParaRPr>
          </a:p>
          <a:p>
            <a:pPr lvl="1" marL="623880" indent="-26028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ternational Financial Institutions: IMF and FS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35100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ed to collaborate for the regular conduct of Early Warning Exercis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spcBef>
                <a:spcPts val="774"/>
              </a:spcBef>
              <a:buClr>
                <a:srgbClr val="3b812f"/>
              </a:buClr>
              <a:buSzPct val="75000"/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entral ban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98600" indent="-351000">
              <a:spcBef>
                <a:spcPts val="125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36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ing a double role in financial stability: crisis management (liquidity provision, swap agreements) and macro prudential surve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60280">
              <a:spcBef>
                <a:spcPts val="774"/>
              </a:spcBef>
              <a:buClr>
                <a:srgbClr val="3b812f"/>
              </a:buClr>
              <a:buSzPct val="75000"/>
              <a:buFont typeface="Wingdings" charset="2"/>
              <a:buChar char=""/>
              <a:tabLst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olleges of supervis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new macro prudenti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43AF-E740-4536-867C-FEB09152DE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36800"/>
            <a:ext cx="850752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spcBef>
                <a:spcPts val="799"/>
              </a:spcBef>
              <a:spcAft>
                <a:spcPts val="601"/>
              </a:spcAft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00"/>
                </a:solidFill>
                <a:latin typeface="Arial"/>
              </a:rPr>
              <a:t>The tools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798480" indent="-453960">
              <a:spcBef>
                <a:spcPts val="700"/>
              </a:spcBef>
              <a:spcAft>
                <a:spcPts val="17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sible use of microprudential too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ercyclical capital buff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ynamic provisioning and valuation reser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ratio including off-balance sheet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453960">
              <a:spcBef>
                <a:spcPts val="1576"/>
              </a:spcBef>
              <a:spcAft>
                <a:spcPts val="1749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enhance institutional capabilities for systemic risk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far, limited efficiency of early warning indicato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improve information on cross-border banks’ exposures and systemic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-371520"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to have a better grasp of interbank markets developments, and on price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8900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new macro prudenti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C45F-3978-4BBD-87D4-8AEFFB3AF1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6600"/>
                </a:solidFill>
                <a:latin typeface="Arial"/>
              </a:rPr>
              <a:t>Impossibility of preventing financial crises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6600"/>
                </a:solidFill>
                <a:latin typeface="Arial"/>
              </a:rPr>
              <a:t>But need to limit procyclicality of financial regulation and regulatory arbitrage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6600"/>
                </a:solidFill>
                <a:latin typeface="Arial"/>
              </a:rPr>
              <a:t>Key role of central banks in financial stability and macroprudential surveillance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96600"/>
                </a:solidFill>
                <a:latin typeface="Arial"/>
              </a:rPr>
              <a:t>Works in progress on effective tools for the monitoring of systemic risks</a:t>
            </a: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E013-99AA-4A0D-AEC9-92F4F95834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00"/>
                </a:solidFill>
                <a:latin typeface="Arial"/>
              </a:rPr>
              <a:t>These reforms are needed as there is no way out for the economy if the financial system is not back on track: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lvl="1" marL="888840" indent="-544320">
              <a:spcBef>
                <a:spcPts val="1925"/>
              </a:spcBef>
              <a:buClr>
                <a:srgbClr val="99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a short term basis: an urgent need to fix financial situation of credit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544320">
              <a:spcBef>
                <a:spcPts val="700"/>
              </a:spcBef>
              <a:buClr>
                <a:srgbClr val="9966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a medium /long term basis: a new regulatory/prudential oversight for a new financial syst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996F-5F11-4542-BBB0-AABE4D49A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he new framework is twofold</a:t>
            </a: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1/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a need to revisit individual regulation and prudential oversigh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2/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a need to « invent » a macro prudential framework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  <a:p>
            <a:pPr lvl="1" marL="116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1223-2C4A-4EBA-B959-78D3BB976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dividual regulation/prudential oversigh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6600"/>
                </a:solidFill>
                <a:latin typeface="Arial"/>
              </a:rPr>
              <a:t>This new micro prudential framework needs to look at:</a:t>
            </a:r>
            <a:endParaRPr b="0" lang="en-US" sz="3600" spc="-1" strike="noStrike">
              <a:solidFill>
                <a:srgbClr val="9966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6600"/>
              </a:solidFill>
              <a:latin typeface="Arial"/>
            </a:endParaRPr>
          </a:p>
          <a:p>
            <a:pPr lvl="2" marL="1022400" indent="-351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0EB4-D1AE-408A-B862-88FC579F59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6600"/>
                </a:solidFill>
                <a:latin typeface="Arial"/>
              </a:rPr>
              <a:t>Improvement of incentives: 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Arial"/>
              </a:rPr>
              <a:t>Accounting rules: reforms needed to prevent short termism (day one profit, fair value gai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Arial"/>
              </a:rPr>
              <a:t>Prudent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375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void regulatory arbitrage by increasing the capital coverage of trad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375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mit procyclicality: VAR through the cycl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6600"/>
                </a:solidFill>
                <a:latin typeface="Arial"/>
              </a:rPr>
              <a:t>Corporate governance: better implication of board of directors, remuneration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dividual regulation/prudential oversigh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B06DD-63A5-4910-B128-31FCC9BAE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6600"/>
                </a:solidFill>
                <a:latin typeface="Arial"/>
              </a:rPr>
              <a:t>Better risk coverage: 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il risk can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f balance sheet risks do not disappear (no clean break/reputation ris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/liquidity/mismatch risks: they do exist and have a 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dividual regulation/prudential oversigh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BDB4-BFF4-4C8C-BD31-3F374AEBED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996600"/>
                </a:solidFill>
                <a:latin typeface="Arial"/>
              </a:rPr>
              <a:t>Increase regulatory oversight: 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1500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s, non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500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dg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ivate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500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deposit-taking institutions but all intervention in the financial system need to be subject to some form of oversight: leads to the necessity of adopting a macro prudential approach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Individual regulation/prudential oversight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88FD-0619-457E-A6CC-1A29E55086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6600"/>
                </a:solidFill>
                <a:latin typeface="Arial"/>
              </a:rPr>
              <a:t>A new macro prudential framework: 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r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new macro prudential framewor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A5C0-B19C-4E0E-A161-45AD5E5C89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274400"/>
            <a:ext cx="822960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996600"/>
                </a:solidFill>
                <a:latin typeface="Arial"/>
              </a:rPr>
              <a:t>A new macro prudential framework, why? </a:t>
            </a:r>
            <a:endParaRPr b="0" lang="en-US" sz="3100" spc="-1" strike="noStrike">
              <a:solidFill>
                <a:srgbClr val="9966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od regulation and incentives at micro prudential level does always not make a good macro economic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1749"/>
              </a:spcBef>
              <a:buClr>
                <a:srgbClr val="cc99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monization of rules leads to mimetic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A new macro prudential framewor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2FB8-A85B-4EB6-AB33-BDB822A529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5:54:51Z</dcterms:created>
  <dc:creator>Nicolas  COUDERC</dc:creator>
  <dc:description/>
  <dc:language>en-US</dc:language>
  <cp:lastModifiedBy>Marielle GORSE</cp:lastModifiedBy>
  <dcterms:modified xsi:type="dcterms:W3CDTF">2009-03-18T09:03:13Z</dcterms:modified>
  <cp:revision>631</cp:revision>
  <dc:subject/>
  <dc:title>Diapositive 1</dc:title>
</cp:coreProperties>
</file>