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FC94-0FB5-44BE-ACA9-6C713DED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8A61-61D3-4DE6-8B8B-96FE81C4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6B86-1727-4EA9-ABE2-B57107343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A24D-6B77-4AEC-BB7C-396184513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CDF7-9ED9-4BAB-A488-EDA3C576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1867-FD24-48E5-B35D-F7F1BB4E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BA49-4EC5-46D9-937C-ABEC27BD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BAA4-BEC5-4235-A82D-AD225F25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4F29-392F-426D-8827-24421FA5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AE0D-13B1-4E04-ACE2-72F90F1A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3CC1-7A7E-45E5-A724-6E81F378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D0F4-CB82-47D0-8890-D153AA21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590F-B0D5-4EFF-8EF4-03C00E2323A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044440"/>
            <a:ext cx="8136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The Fundamental Principles of Financial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Geneva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unnermeier, Crockett, Goodhart, Persaud and Sh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2C35-7C3B-4C74-BA4C-BC0021304F0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liquidity 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for liquidity regulation based on maturity mis-match, enforced by explicit capital char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posal on ‘Mark to Funding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bility to hold to maturity depends on funding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lem: incentives to finance potentially illiquid assets on the basis of short-term debt, both in good and bad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need to counter-balance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DB13-8CD7-407D-9A9A-436D459BF9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1569240"/>
            <a:ext cx="820908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)  Remu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or should set higher capital charges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isk-promoting remuneration sc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)  Loan-to-Value Ratios in Mortg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)  Credit Rating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)  Year-end Spi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regulatory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CE68-ED75-4783-89D7-AFCBE29A87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9640" y="1049760"/>
            <a:ext cx="813600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dvocate enhancing macro-prudential regulatory requirements to support and to accompany existing Basel micro-prudential requir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wo involve a different ethos and professionalism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ro-prudent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-prudent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border, home/host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cles differ between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Principles, differing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p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S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  Democratic legitim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  G7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)  Warning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ructure of reg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61C2-67CB-4A97-915D-2860F590CD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0643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have observed a cycle of financial leverage and then deleveraging (asset price bubble and bu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argue that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egulatory framework of Basel II and IFRS amplified this cycle, producing ‘procyclicality on stilts’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occurred because Basel regulation is too focussed on micro-prudential oversight: improving the condition of the individual bank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fallacy of composition to believe that, if each individual institution behaves ‘prudently’, the system as a whole will be sa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3098-C7AA-49BB-9D4A-844E6B1627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4360" y="1736280"/>
            <a:ext cx="777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ed most systemic crises arise because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spon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banks, and other financial intermediaries, to exogenous shocks, not just from such latter shock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main such self-amplifying mechanisms are the loss spiral and the margin spi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genous ri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8B5E-722A-475C-8946-776470A325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9" descr=""/>
          <p:cNvPicPr/>
          <p:nvPr/>
        </p:nvPicPr>
        <p:blipFill>
          <a:blip r:embed="rId1"/>
          <a:stretch/>
        </p:blipFill>
        <p:spPr>
          <a:xfrm>
            <a:off x="385920" y="0"/>
            <a:ext cx="8758080" cy="6546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E597-A056-4CAC-A6DB-7B21B12626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5"/>
          <p:cNvSpPr/>
          <p:nvPr/>
        </p:nvSpPr>
        <p:spPr>
          <a:xfrm>
            <a:off x="595080" y="598176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:  IMF GF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5240" y="692280"/>
            <a:ext cx="24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 Hairc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E99E-B623-48E9-908E-87C53F3567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4360" y="987120"/>
            <a:ext cx="7848360" cy="58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r theme is that the Basel approach (Basel I and II) has focussed excessively on the risks of individual banks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cro-prudential rather than macro-pru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uable but insuffic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sures of systemic cyclical variation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)  Leverage (FDICIA; SN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)  Credit expansion (Banco de Espa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3)  Maturity Mis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We suggest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all thre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pital requirements for systemic ris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5A0D-B425-47CA-A4E1-008877B898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lying capital requirements for systemic ris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1700280"/>
            <a:ext cx="7920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ow applied :-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visions (Spa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parately to capital (FDICIA; SN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ractive with Basel II (US)  (Helps to avoid ‘gaming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which Basel rati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tails and coefficients to be estim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bsolute need for precommitment/rule, and graduated ladder of respon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F006-7B39-4C6E-8A49-196C48C4BE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1727280"/>
            <a:ext cx="8675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xonom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ividually systemic (identify in advance, if poss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‘Systemic as part of a herd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n-systemic, but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problem is (b), largely hedge funds.  Macro-prudential, but also micro-prudent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ome/host issu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 Cycles differ from country to country.  Also cross-border banks are “international in life, but national in death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whom should such capital requirements app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D2B4-8068-491F-8EF8-7A150F6DE2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9640" y="1554840"/>
            <a:ext cx="8136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risk arises from a combination of asset price volatilit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turity misma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the asset and liability structure are crucial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sis arose from excessive confidence in continued ability to fund, or roll-over, in short-term wholesale financial mark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D89A-BE0A-457B-8A2A-C2756593DD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10:34:24Z</dcterms:created>
  <dc:creator> </dc:creator>
  <dc:description> </dc:description>
  <cp:keywords/>
  <dc:language>en-US</dc:language>
  <cp:lastModifiedBy>CAEGoodhart</cp:lastModifiedBy>
  <dcterms:modified xsi:type="dcterms:W3CDTF">2009-01-28T12:02:15Z</dcterms:modified>
  <cp:revision>1</cp:revision>
  <dc:subject> </dc:subject>
  <dc:title> </dc:title>
</cp:coreProperties>
</file>