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90800" cy="4953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3560" y="746280"/>
            <a:ext cx="496116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272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32720"/>
            <a:ext cx="2890800" cy="4950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99D5B61-CABB-4374-BEAA-11BC03EB4E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lag straight to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754200" y="70344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ILS: 20 mins, Nick &lt;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58960" y="4713120"/>
            <a:ext cx="489096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duate (NOT students) should contribute to the costs of their degree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Put another way, how much subsidy shld HE rece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External benefits:  the conventional arg. is that a subsidy is justified because of the external bens from HE.  Notwithstanding well-known measurement proble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buy this argument, hence there is a continuing effic. case for taxpayer subsi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since it is unmeasurable, its size, for better or worse, is ultimately polit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Private benefits: there is, however, one strong result:  HE creates a PRIVATE benefit.  Thus theory arg. unambig. that some of the costs should be borne by the student.  This leads to the 3rd lesson fr. econ. theory -- the design of student loa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754200" y="773280"/>
            <a:ext cx="4964040" cy="37224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888480" y="4713120"/>
            <a:ext cx="4891320" cy="4469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-designed student loans have core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   For reasons of time, will simply assert the conclusions -- they are all supported by economic 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      Income-contingent repayments [EXPLAIN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. reasons: addresses capital market imperfections. Protects STUDENT from excessive risk.  and protects LENDER fr. excessive risk, since repay’ts collected alongside IT and </a:t>
            </a:r>
            <a:r>
              <a:rPr b="0" lang="en-US" sz="1200" spc="-1" strike="noStrike">
                <a:solidFill>
                  <a:srgbClr val="000000"/>
                </a:solidFill>
                <a:latin typeface="WP MathA"/>
                <a:ea typeface="WP MathA"/>
              </a:rPr>
              <a:t>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c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ty reasons: contributes to access because loans hv inbuilt insurance against inability to rep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uine loan, but w. built-in ins. against inability to rep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ke paying for HE via IT, except (i) only by those who hv been to univ, (ii) not fore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yroll ded’n, not credit card deb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  Large enough to cover all fees and all living costs =&gt; HE free at pt of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      Market interest rate – broadly gov't's cost of borrowing.  Explain why shortl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3E3D-ED24-4928-B764-86CB8BEB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9620-DD2A-4A14-BA3D-C6255047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10F3-E867-4060-AE23-9E24189A3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FE6-8523-4AA1-A7E0-19FBD1D82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AA3F-A837-45A3-A6E6-C50FA65D5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361E-C3FE-4FB5-A3D9-5602B0F9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F3FA-F5B2-491D-9E24-53AED413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825-465D-4B04-ADA3-C2898B4C4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9DF7-7914-4094-859D-998DFD9CD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29E5-8260-47D0-B427-9E047F8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ACFB-A42A-4302-B6BA-961B7083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85C-3CEC-4DE5-AA78-6E85D9D8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86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30EE-A41B-4F15-9928-D56256F856D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ng higher education: What’s right, what’s wrong, what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848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icholas Barr and Alison Johns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an Institute Lunchtime Semina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SE, 12 May 200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1: paying for universities: deferred variable f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 f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mote qu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bringing in more resources,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trengthening competition, creating incentives to use those resources e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fairer than any other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957D-C382-470C-8866-2FF6B56F5B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2: student support: free at the point of 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ans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quate, i.e. large enough to cover all fees and all living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al:  all students should be entitled to the full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res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er education is free at the point of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re no longer po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udents are not forced to rely on parental contributions, extensive paid work or expensive credit card de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E44-9482-49F6-9720-B05C90AD99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g 3: active measures to promote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dening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ising attai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ing information/raising aspi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ey meas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5A0C-4C08-425B-A36D-26A3681DBC3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2 What’s wrong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wrong interest r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ro real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interest rate equal to the inflation rate, lower than the rate at which the government bor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rate on UK student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rcial’ 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the rate on individual unsecured 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rate charged on credit cards, bank overdraft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8E56-E68E-4D80-BE8A-165AE8559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a blanket interest subsid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 zero real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normously expensive, at least £1.2 bn per year (roughly 10% of total higher education budget of £12b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es quality. Student support, being politically salient, crowds out the funding of univers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es access.  Loans are expensive, therefore rationed and therefore too smal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deeply regressive, the main beneficiaries being successful professionals in mid care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46C-F2D1-4641-8302-3E9FB437AC7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y interest subsidies are regress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interest subsidy in a conventional loan helps people with low earn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ut in the UK student loan sche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ns have income-contingent re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forgiveness after 25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se 2 features turn the conventional argument upside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D923-D774-449B-800B-A0DBB166913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Who benefits from interest subsidi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Low-earning gradu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 earning graduates with low early-career earn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 earning gradua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D621-4F37-4BAA-8A5B-7243E76319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 Fixing the probl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8CC-E345-411D-8D31-1BD720CF97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should be do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7993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lanket interest subsidy should be replaced by targeted interest subsi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default interest rate should be related to the government’s cost of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rgeted interest subsidies should prevent real debt rising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with low earn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ople with caring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t least part of the savings for policies that really widen particip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16F-EC96-4174-8E0D-F816AA99868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pecific policies to increase re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igher monthly re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ncreased duration of repay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4C3-6319-4A6E-A415-1B69EBADDF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ncing higher education: What’s right, what’s wrong, what n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10920" y="2349000"/>
            <a:ext cx="8210520" cy="37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righ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wro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00"/>
              </a:spcBef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ing th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549-6203-429D-A5CE-14FCCFE3C4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7774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pecific policies to increase repay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38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1: Higher monthly repay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rate: 10%, 11% and 1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ayment threshold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£13,000 and £10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2: Longer repayment 1: charge a real rate of interest equal to the government borrowing r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Zealand variant system: annual unpaid interest is for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3: Hybrid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%, 2% and 3% interest rate coupled with 10%, 11% and 12% repayment 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 4: Longer repayment 2: an extra n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E128-6D27-49E5-99DD-726F729C38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culation of interest subsid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n average graduate real salary path, calculated from the Institute of Fiscal Stud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ing salar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ume that the Government borrows at a 3% real interest r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graduate with SLC debt of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£25,1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ed on these assumptions, we estimate the current interest subsidy to be 28% of the loan, or £7,040 per average gradu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C395-6F40-4B3C-A572-E1D2DA32C8F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Options 1-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monthly repayments by changing the repayment formula is not highly effective (20% of the subsidy remains even under the most stringent conditions model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bining higher monthly repayments (changed repayment formula) with longer duration (charging a positive real interest rate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ore significant redu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D1D-7FAD-49C0-B26E-97E995F21A2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erest Subsidy Per Average Graduate (% of Total Loa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16000" y="1916280"/>
          <a:ext cx="6816600" cy="4297320"/>
        </p:xfrm>
        <a:graphic>
          <a:graphicData uri="http://schemas.openxmlformats.org/drawingml/2006/table">
            <a:tbl>
              <a:tblPr/>
              <a:tblGrid>
                <a:gridCol w="1981080"/>
                <a:gridCol w="1552680"/>
                <a:gridCol w="1641600"/>
                <a:gridCol w="164124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% re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e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£5,030)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7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50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7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6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3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52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45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3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% repay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4,27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2,2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£18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C30D-2785-402F-BCD8-2C0E7EFA3F7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ults: Option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essive repayment extension: individuals who repay their loan in less than 10, 15 or 20 years, have an additional 3, 2, 1 years of repayment, respectiv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political and administrative advantages not present in other op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s the interest subsidy to approximately 7% of the original loan (for the average graduate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average graduate pays an additional 3 years instead of 2, the loan subsidy is completely elimin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8894-AE18-437F-922B-857B0825D3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770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842472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dha Alakeson (2005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o Much, Too Late:  Life chances and spending on education and train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London: Social Market Foundati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as Barr (2002), ‘A way to make universities universal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22 November 2002, p. 21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able fro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ww.econ.lse.ac.uk/staff/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icholas Barr (2004),‘Variable fees are the fairer route to quality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Tim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30 March 2004, p. 21 downloadable from www.econ.lse.ac.uk/staff/n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(2004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he Economics of the Welfare St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dn, OU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(2004)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‘Higher education funding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ford Review of Economic Polic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Vol. 20, No. 2, Summer, pp. 264-28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Iain Crawford (2003), ‘Myth or magic’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uardia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2 December 2003, pp. 20-21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wnloadable from www.econ.lse.ac.uk/staff/n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Iain Crawford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Financing Higher Education: Answers from the U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Routledge, 2005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cholas Barr and Alison Johnston (2009), ‘Interest subsidies on student loans’, in pro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ECD (2008)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rtiary Education for the Knowledge Society, Volume 1:  Special Features:  Governance, Funding, Qualit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olume 2:  Special Features:  Equity, Innovation, Labour Market, Internationalis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Paris: OEC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7095-CBDB-417A-94BB-166C07AD29F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1 What’s righ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8BDA-1269-4E8F-9B1D-55440A7050A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1 Lessons from economic the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AEB1-7827-42BE-8641-E0412E93D8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Lesson 1: Competition between universities helps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557360"/>
            <a:ext cx="784692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oes competition work?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es when consumers are w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ll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onsumers well inform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udents mostly a savvy, streetwise bun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ch information is available and more can and should be mad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od information is a central source of quality assur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he student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teac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n employment out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all students well informed?  No. Information problems for students from poorer backgrounds contribute to debt a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same body of theory leads to a very different conclusion for school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18C0-1467-4171-B009-48BD7023C0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2: Graduates (not students) should share in the costs of their deg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11280" y="2636640"/>
            <a:ext cx="7921440" cy="363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igher education creates external benef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Growth, social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us right that society (aka taxpayer) should contrib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also significant private benefits in financial terms, but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lso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nonmonetary terms, e.g. job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right that beneficiaries should share some of the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UT students generally cannot afford to p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us need a way that students can get it free, but graduates repay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o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64FD-D160-4F8D-A68E-CDD37AE5DF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son 3: Well-designed loans have core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ome-contingent repayments, i.e. calculated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graduate’s earn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fficiency reasons, to reduce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quity reasons, to promote access, since loans have built-in insurance against inability to rep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genuine lo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enough to cover all fees and realistic living costs; thus higher education free at the point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nterest rate related to government’s cost of bor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2305-31B1-483B-A94C-C6082DAA5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an repayments in the UK (2006 schem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ari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Ti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J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ual earning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5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30,0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50,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me tax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61.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52.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436.19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945.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 contributions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91.2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37.1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28.7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74.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an repayments (monthly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0.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37.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112.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£262.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earners make low or no repay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ayments automatically and instantly track changes in earnings, exactly like income tax and national insurance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n repayments are generally much smaller than income tax or national insurance con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DBC-E1C0-45D2-AD6B-0F452B3E21F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2 A strategy for financing universities and stud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icholas Barr  May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5A95-46F6-40F1-A4DB-85278218A5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07T15:20:52Z</dcterms:created>
  <dc:creator>N Barr</dc:creator>
  <dc:description/>
  <dc:language>en-US</dc:language>
  <cp:lastModifiedBy>LSE</cp:lastModifiedBy>
  <cp:lastPrinted>2001-03-20T12:19:36Z</cp:lastPrinted>
  <dcterms:modified xsi:type="dcterms:W3CDTF">2009-05-07T10:59:12Z</dcterms:modified>
  <cp:revision>1250</cp:revision>
  <dc:subject/>
  <dc:title>Market forces and education</dc:title>
</cp:coreProperties>
</file>