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2720"/>
            <a:ext cx="2890800" cy="495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32720"/>
            <a:ext cx="2890800" cy="495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EEAA1B-71BB-4300-887E-8CFC169584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ag straight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54200" y="70344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LS: 20 mins, Nick &lt;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58960" y="4713120"/>
            <a:ext cx="489096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(NOT students) should contribute to the costs of their degre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Put another way, how much subsidy shld HE rece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External benefits:  the conventional arg. is that a subsidy is justified because of the external bens from HE.  Notwithstanding well-known measurement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uy this argument, hence there is a continuing effic. case for taxpayer subs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ince it is unmeasurable, its size, for better or worse, is ultimately pol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Private benefits: there is, however, one strong result:  HE creates a PRIVATE benefit.  Thus theory arg. unambig. that some of the costs should be borne by the student.  This leads to the 3rd lesson fr. econ. theory -- the design of student lo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signed student loans have cor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For reasons of time, will simply assert the conclusions -- they are all supported by economic 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 Income-contingent repayments [EXPLAI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. reasons: addresses capital market imperfections. Protects STUDENT from excessive risk.  and protects LENDER fr. excessive risk, since repay’ts collected alongside IT and </a:t>
            </a:r>
            <a:r>
              <a:rPr b="0" lang="en-US" sz="1200" spc="-1" strike="noStrike">
                <a:solidFill>
                  <a:srgbClr val="000000"/>
                </a:solidFill>
                <a:latin typeface="WP MathA"/>
                <a:ea typeface="WP MathA"/>
              </a:rPr>
              <a:t>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reasons: contributes to access because loans hv inbuilt insurance against inability to rep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uine loan, but w. built-in ins. against inability to rep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paying for HE via IT, except (i) only by those who hv been to univ, (ii) not fo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roll ded’n, not credit card de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Large enough to cover all fees and all living costs =&gt; HE free at pt of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 Market interest rate – broadly gov't's cost of borrowing.  Explain why shor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F30-A910-4017-927F-F24C26F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8BF-B2F8-41A1-93DB-04A32675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595-36B8-494C-BC09-6C8A3B89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01B-66EF-427E-9113-0140A770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56A-932A-4554-9BC0-E4E58170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8B8-E259-429B-9951-929FEA78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E73-FE12-44A3-B039-130B0850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464-F90D-41F5-89DE-36080DB5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103-0189-4FDF-A451-B5AB37E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104-EF3E-4C88-B99D-E753DD9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EB0-100D-4914-BF93-81B779EB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109-F494-4359-A8E5-515AEB7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6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AAA0-180F-419B-AE11-7AD6CA444C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ng higher education: What’s right, what’s wrong, what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cholas Barr and Alison John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an Institute Lunchtime Semin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E, 12 May 200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1: paying for universities: deferred variable f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f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bringing in more resource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trengthening competition, creating incentives to use those resources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fairer than any other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21B-04E4-4C86-A734-19B6221E6C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2: student support: free at the point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should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quate, i.e. large enough to cover all fees and all liv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al:  all students should be entitled to the full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education is free at the point of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re no longer po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re not forced to rely on parental contributions, extensive paid work or expensive credit card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22C-63B8-477E-ABEB-A7798B06C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3: active measures to promot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ning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sing at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information/raising aspi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C26-D989-4FF0-B5A4-F7DD268D89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2 What’s wro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ong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real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interest rate equal to the inflation rate, lower than the rate at which the government bo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rate on UK student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’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the rate on individual unsecured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rate charged on credit cards, bank overdraf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968-1136-4FA0-B274-815D38E6FC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a blanket interest subsid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zero real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normously expensive, at least £1.2 bn per year (roughly 10% of total higher education budget of £12b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es quality. Student support, being politically salient, crowds out the funding of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es access.  Loans are expensive, therefore rationed and therefore too sm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eply regressive, the main beneficiaries being successful professionals in mid care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2A9-AA2E-4CAF-856F-93CE9D79DA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interest subsidies are regres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nterest subsidy in a conventional loan helps people with low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the UK student loa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ns have income-contingent re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forgiveness after 2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2 features turn the conventional argument upside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6D6-6C12-4CA9-91DA-1316B51A86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o benefits from interest subsid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w-earning gradu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 earning graduates with low early-career earn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 earning gradu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401-14E9-4C51-B7D1-337F644AA3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 Fixing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EE0-93F3-4C47-A9A4-70A23E3EA6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lanket interest subsidy should be replaced by targeted interest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interest rate should be related to the government’s cost of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ed interest subsidies should prevent real debt ris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with low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with caring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t least part of the savings for policies that really wide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2D6-6E80-4CFB-8806-2E62BE6698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pecific policies to increase re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er monthly re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reased duration of re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006-3118-4F0E-9D29-169D861E1D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ng higher education: What’s right, what’s wrong, what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2349000"/>
            <a:ext cx="82105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r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ing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F24-3C1B-4C00-8546-E94FC5EE8F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pecific policies to increase re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3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1: Higher monthly re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rate: 10%, 11% and 1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threshol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£13,000 and £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2: Longer repayment 1: charge a real rate of interest equal to the government borrowing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Zealand variant system: annual unpaid interest is for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3: Hybrid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%, 2% and 3% interest rate coupled with 10%, 11% and 12% repaymen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4: Longer repayment 2: an extra n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504-6CA5-4772-AA02-5769A5CA0E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tion of interest subsi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verage graduate real salary path, calculated from the Institute of Fiscal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sala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 Government borrows at a 3% real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graduate with SLC debt 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£25,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these assumptions, we estimate the current interest subsidy to be 28% of the loan, or £7,040 per average gradu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819-4185-4104-B175-F15A8D70FA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Options 1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monthly repayments by changing the repayment formula is not highly effective (20% of the subsidy remains even under the most stringent conditions mode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ing higher monthly repayments (changed repayment formula) with longer duration (charging a positive real interest rat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ore significant re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DB0-29D7-4326-9643-4A344FD5A4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 Subsidy Per Average Graduate (% of Total Lo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16000" y="1916280"/>
          <a:ext cx="6816600" cy="4297320"/>
        </p:xfrm>
        <a:graphic>
          <a:graphicData uri="http://schemas.openxmlformats.org/drawingml/2006/table">
            <a:tbl>
              <a:tblPr/>
              <a:tblGrid>
                <a:gridCol w="1981080"/>
                <a:gridCol w="1552680"/>
                <a:gridCol w="1641600"/>
                <a:gridCol w="1641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 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 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 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£5,03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7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4,77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6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3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4,5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4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4,27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2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18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65D-8CF0-4120-A610-1D91D3B003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Op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ive repayment extension: individuals who repay their loan in less than 10, 15 or 20 years, have an additional 3, 2, 1 years of repayment,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political and administrative advantages not present in oth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the interest subsidy to approximately 7% of the original loan (for the average graduate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verage graduate pays an additional 3 years instead of 2, the loan subsidy is completely eli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B2F-E009-4667-B553-6F46319DC9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ha Alakeson (2005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o Much, Too Late:  Life chances and spending on education and 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ndon: Social Market Founda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as Barr (2002), ‘A way to make universities universal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2 November 2002, p. 2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able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ww.econ.lse.ac.uk/staff/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as Barr (2004),‘Variable fees are the fairer route to quality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0 March 2004, p. 21 downloadable from www.econ.lse.ac.uk/staff/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(2004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Economics of the Welfare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dn, 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(2004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Higher education funding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ford Review of Economic Poli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0, No. 2, Summer, pp. 264-2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and Iain Crawford (2003), ‘Myth or magic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uar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 December 2003, pp. 20-2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wnloadable from www.econ.lse.ac.uk/staff/n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and Iain Crawford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inancing Higher Education: Answers from the U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outledge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and Alison Johnston (2009), ‘Interest subsidies on student loans’,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 (2008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tiary Education for the Knowledge Society, Volume 1:  Special Features:  Governance, Funding,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olume 2:  Special Features:  Equity, Innovation, Labour Market, Internationalis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aris: OE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BDC-4EDE-4984-912A-D8D4F4309C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 What’s r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512-7D43-4AFC-983C-743D741A7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1 Lessons from economic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5F3-0E26-4D8B-AD58-63F3F4C6C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esson 1: Competition between universities helps stu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7846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competition work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when consumers are 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l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onsumers well in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s mostly a savvy, streetwise b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ch information is available and more can and should be mad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information is a central source of quality assur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he student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employment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all students well informed?  No. Information problems for students from poorer backgrounds contribute to debt a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e body of theory leads to a very different conclusion for schoo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1DA-A3E8-44F8-B56C-99BBAA3EE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2: Graduates (not students) should share in the costs of their de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79214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er education creates external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wth, social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us right that society (aka taxpayer) should con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also significant private benefits in financial terms, bu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nonmonetary terms, e.g. job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right that beneficiaries should share some of th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students generally cannot afford to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need a way that students can get it free, but graduates repa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D0E-B5AD-4C4F-AF19-03837EC9CE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3: Well-designed loans have cor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-contingent repayments, i.e. calcul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graduate’s e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fficiency reasons, to reduce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quity reasons, to promote access, since loans have built-in insurance against inability to r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enuine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enough to cover all fees and realistic living costs; thus higher education free at the point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est rate related to government’s cost of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3A4-F857-4C0C-9C22-B9FCFBF60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an repayments in the UK (2006 sche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r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T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J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earn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5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3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 tax (monthl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61.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52.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436.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945.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 contributions (monthl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91.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37.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28.7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74.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repayments (monthl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0.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37.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12.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62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earners make low or no re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ayments automatically and instantly track changes in earnings, exactly like income tax and national insurance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repayments are generally much smaller than income tax or national insurance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94D-D9D0-40CD-9C87-5C50590A7B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2 A strategy for financing universities and stu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C31-E8E6-4EA3-846C-D44EB0FE7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20:52Z</dcterms:created>
  <dc:creator>N Barr</dc:creator>
  <dc:description/>
  <dc:language>en-US</dc:language>
  <cp:lastModifiedBy>LSE</cp:lastModifiedBy>
  <cp:lastPrinted>2001-03-20T12:19:36Z</cp:lastPrinted>
  <dcterms:modified xsi:type="dcterms:W3CDTF">2009-05-07T10:59:12Z</dcterms:modified>
  <cp:revision>1250</cp:revision>
  <dc:subject/>
  <dc:title>Market forces and education</dc:title>
</cp:coreProperties>
</file>