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10158413" cy="7621588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Frutiger Linotype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utiger Linotyp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ftr" idx="2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 type="sldNum" idx="3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57CC433-BB86-4631-829A-37584AC8B4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43642C8-872C-46F3-8D40-EBED81A71121}" type="slidenum">
              <a:rPr b="0" lang="en-US" sz="1300" spc="-1" strike="noStrike">
                <a:solidFill>
                  <a:srgbClr val="000000"/>
                </a:solidFill>
                <a:latin typeface="Frutiger Linotype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Frutiger Linotype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2360" cy="3702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0760" y="4691160"/>
            <a:ext cx="54356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Frutiger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60520" y="2390760"/>
            <a:ext cx="8967600" cy="38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60520" y="3098520"/>
            <a:ext cx="84628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94760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6052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3098520"/>
            <a:ext cx="41295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42216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283440" y="194760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6052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42216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283440" y="3098520"/>
            <a:ext cx="27248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60520" y="2390760"/>
            <a:ext cx="89676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Linotyp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560520" y="19476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Frutiger Linotyp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Linotype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7.wmf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04"/>
          <p:cNvSpPr/>
          <p:nvPr/>
        </p:nvSpPr>
        <p:spPr>
          <a:xfrm>
            <a:off x="565200" y="5276880"/>
            <a:ext cx="8702640" cy="13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Frutiger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Frutiger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Frutiger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Frutiger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Frutiger Linotype"/>
            </a:endParaRPr>
          </a:p>
        </p:txBody>
      </p:sp>
      <p:pic>
        <p:nvPicPr>
          <p:cNvPr id="464" name="Picture 199" descr="165"/>
          <p:cNvPicPr/>
          <p:nvPr/>
        </p:nvPicPr>
        <p:blipFill>
          <a:blip r:embed="rId1"/>
          <a:stretch/>
        </p:blipFill>
        <p:spPr>
          <a:xfrm>
            <a:off x="454644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01" descr="166"/>
          <p:cNvPicPr/>
          <p:nvPr/>
        </p:nvPicPr>
        <p:blipFill>
          <a:blip r:embed="rId2"/>
          <a:stretch/>
        </p:blipFill>
        <p:spPr>
          <a:xfrm>
            <a:off x="3403440" y="14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02" descr="628"/>
          <p:cNvPicPr/>
          <p:nvPr/>
        </p:nvPicPr>
        <p:blipFill>
          <a:blip r:embed="rId3"/>
          <a:stretch/>
        </p:blipFill>
        <p:spPr>
          <a:xfrm>
            <a:off x="2235240" y="1440"/>
            <a:ext cx="1168200" cy="11685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98" descr="382"/>
          <p:cNvPicPr/>
          <p:nvPr/>
        </p:nvPicPr>
        <p:blipFill>
          <a:blip r:embed="rId4"/>
          <a:stretch/>
        </p:blipFill>
        <p:spPr>
          <a:xfrm>
            <a:off x="568944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96" descr="145"/>
          <p:cNvPicPr/>
          <p:nvPr/>
        </p:nvPicPr>
        <p:blipFill>
          <a:blip r:embed="rId5"/>
          <a:stretch/>
        </p:blipFill>
        <p:spPr>
          <a:xfrm>
            <a:off x="6832440" y="0"/>
            <a:ext cx="1749600" cy="1749600"/>
          </a:xfrm>
          <a:prstGeom prst="rect">
            <a:avLst/>
          </a:prstGeom>
          <a:ln w="0">
            <a:noFill/>
          </a:ln>
        </p:spPr>
      </p:pic>
      <p:sp>
        <p:nvSpPr>
          <p:cNvPr id="469" name="Freeform 197"/>
          <p:cNvSpPr/>
          <p:nvPr/>
        </p:nvSpPr>
        <p:spPr>
          <a:xfrm>
            <a:off x="7340760" y="0"/>
            <a:ext cx="1253880" cy="2511360"/>
          </a:xfrm>
          <a:custGeom>
            <a:avLst/>
            <a:gdLst/>
            <a:ahLst/>
            <a:rect l="l" t="t" r="r" b="b"/>
            <a:pathLst>
              <a:path w="2745" h="1428">
                <a:moveTo>
                  <a:pt x="0" y="1428"/>
                </a:moveTo>
                <a:cubicBezTo>
                  <a:pt x="201" y="786"/>
                  <a:pt x="882" y="474"/>
                  <a:pt x="1236" y="330"/>
                </a:cubicBezTo>
                <a:cubicBezTo>
                  <a:pt x="1590" y="186"/>
                  <a:pt x="1971" y="90"/>
                  <a:pt x="2745" y="0"/>
                </a:cubicBezTo>
                <a:cubicBezTo>
                  <a:pt x="2745" y="712"/>
                  <a:pt x="2745" y="1425"/>
                  <a:pt x="2745" y="1425"/>
                </a:cubicBezTo>
                <a:cubicBezTo>
                  <a:pt x="2745" y="1425"/>
                  <a:pt x="0" y="1428"/>
                  <a:pt x="0" y="14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Frutiger Linotype"/>
            </a:endParaRPr>
          </a:p>
        </p:txBody>
      </p:sp>
      <p:sp>
        <p:nvSpPr>
          <p:cNvPr id="470" name="Freeform 11"/>
          <p:cNvSpPr/>
          <p:nvPr/>
        </p:nvSpPr>
        <p:spPr>
          <a:xfrm>
            <a:off x="-25560" y="369720"/>
            <a:ext cx="10169640" cy="7251840"/>
          </a:xfrm>
          <a:custGeom>
            <a:avLst/>
            <a:gdLst/>
            <a:ahLst/>
            <a:rect l="l" t="t" r="r" b="b"/>
            <a:pathLst>
              <a:path w="6404" h="4270">
                <a:moveTo>
                  <a:pt x="0" y="181"/>
                </a:moveTo>
                <a:cubicBezTo>
                  <a:pt x="240" y="139"/>
                  <a:pt x="1063" y="0"/>
                  <a:pt x="2145" y="6"/>
                </a:cubicBezTo>
                <a:cubicBezTo>
                  <a:pt x="3227" y="12"/>
                  <a:pt x="4241" y="148"/>
                  <a:pt x="4668" y="231"/>
                </a:cubicBezTo>
                <a:cubicBezTo>
                  <a:pt x="4884" y="273"/>
                  <a:pt x="5784" y="444"/>
                  <a:pt x="6402" y="648"/>
                </a:cubicBezTo>
                <a:lnTo>
                  <a:pt x="6404" y="4270"/>
                </a:lnTo>
                <a:lnTo>
                  <a:pt x="4" y="4264"/>
                </a:lnTo>
                <a:lnTo>
                  <a:pt x="0" y="181"/>
                </a:lnTo>
                <a:close/>
              </a:path>
            </a:pathLst>
          </a:custGeom>
          <a:solidFill>
            <a:srgbClr val="346293"/>
          </a:solidFill>
          <a:ln w="9360">
            <a:solidFill>
              <a:srgbClr val="3757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Frutiger Linotype"/>
            </a:endParaRPr>
          </a:p>
        </p:txBody>
      </p:sp>
      <p:sp>
        <p:nvSpPr>
          <p:cNvPr id="471" name="Freeform 12"/>
          <p:cNvSpPr/>
          <p:nvPr/>
        </p:nvSpPr>
        <p:spPr>
          <a:xfrm>
            <a:off x="-25560" y="0"/>
            <a:ext cx="2735280" cy="1341360"/>
          </a:xfrm>
          <a:custGeom>
            <a:avLst/>
            <a:gdLst/>
            <a:ahLst/>
            <a:rect l="l" t="t" r="r" b="b"/>
            <a:pathLst>
              <a:path w="1584" h="990">
                <a:moveTo>
                  <a:pt x="0" y="774"/>
                </a:moveTo>
                <a:cubicBezTo>
                  <a:pt x="132" y="900"/>
                  <a:pt x="388" y="990"/>
                  <a:pt x="591" y="984"/>
                </a:cubicBezTo>
                <a:cubicBezTo>
                  <a:pt x="888" y="975"/>
                  <a:pt x="1058" y="889"/>
                  <a:pt x="1224" y="762"/>
                </a:cubicBezTo>
                <a:cubicBezTo>
                  <a:pt x="1329" y="684"/>
                  <a:pt x="1458" y="510"/>
                  <a:pt x="1512" y="381"/>
                </a:cubicBezTo>
                <a:cubicBezTo>
                  <a:pt x="1557" y="267"/>
                  <a:pt x="1572" y="186"/>
                  <a:pt x="1584" y="0"/>
                </a:cubicBezTo>
                <a:lnTo>
                  <a:pt x="0" y="0"/>
                </a:lnTo>
                <a:lnTo>
                  <a:pt x="0" y="774"/>
                </a:lnTo>
                <a:close/>
              </a:path>
            </a:pathLst>
          </a:custGeom>
          <a:solidFill>
            <a:srgbClr val="9ab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Frutiger Linotype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13920" y="1837800"/>
            <a:ext cx="9448920" cy="5934240"/>
          </a:xfrm>
          <a:prstGeom prst="rect">
            <a:avLst/>
          </a:prstGeom>
          <a:noFill/>
          <a:ln w="25560">
            <a:solidFill>
              <a:srgbClr val="ffffff">
                <a:alpha val="77000"/>
              </a:srgbClr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Candara"/>
              </a:rPr>
              <a:t>    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Candara"/>
              </a:rPr>
              <a:t>    “</a:t>
            </a:r>
            <a:r>
              <a:rPr b="1" lang="en-GB" sz="2000" spc="-1" strike="noStrike">
                <a:solidFill>
                  <a:srgbClr val="ffffff"/>
                </a:solidFill>
                <a:latin typeface="Frutiger Linotype"/>
              </a:rPr>
              <a:t>Assessing Europe’s Global Power in 2011: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Frutiger Linotype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Frutiger Linotype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Frutiger Linotype"/>
              </a:rPr>
              <a:t>The ECFR European Foreign Policy Scorecard</a:t>
            </a:r>
            <a:r>
              <a:rPr b="1" lang="en-GB" sz="1800" spc="-1" strike="noStrike">
                <a:solidFill>
                  <a:srgbClr val="ffffff"/>
                </a:solidFill>
                <a:latin typeface="Frutiger Linotype"/>
              </a:rPr>
              <a:t>”</a:t>
            </a:r>
            <a:r>
              <a:rPr b="1" lang="en-GB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Candara"/>
              </a:rPr>
              <a:t>	</a:t>
            </a:r>
            <a:br>
              <a:rPr sz="1800"/>
            </a:br>
            <a:br>
              <a:rPr sz="1800"/>
            </a:b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Panel Speakers: 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   Chair: Maurice Fraser, LSE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• Mark Leonard, ECFR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   Date: Tuesday,  7 February 2012 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• Prof Karen Smith, LSE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   Time: 18.30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• </a:t>
            </a:r>
            <a:r>
              <a:rPr b="1" i="1" lang="en-GB" sz="1600" spc="-1" strike="noStrike">
                <a:solidFill>
                  <a:srgbClr val="ffffff"/>
                </a:solidFill>
                <a:latin typeface="Candara"/>
              </a:rPr>
              <a:t>More speakers tbc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   Venue: Wolfson Theatre, LSE New 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   Academic Building (NAB)</a:t>
            </a:r>
            <a:br>
              <a:rPr sz="1600"/>
            </a:br>
            <a:r>
              <a:rPr b="1" lang="en-GB" sz="1800" spc="-1" strike="noStrike">
                <a:solidFill>
                  <a:srgbClr val="ffffff"/>
                </a:solidFill>
                <a:latin typeface="Candara"/>
              </a:rPr>
              <a:t>	</a:t>
            </a:r>
            <a:br>
              <a:rPr sz="1800"/>
            </a:br>
            <a:r>
              <a:rPr b="1" lang="en-GB" sz="1300" spc="-1" strike="noStrike">
                <a:solidFill>
                  <a:srgbClr val="ffffff"/>
                </a:solidFill>
                <a:latin typeface="Candara"/>
              </a:rPr>
              <a:t>The 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European Foreign Policy Scorecard </a:t>
            </a:r>
            <a:r>
              <a:rPr b="1" lang="en-US" sz="1300" spc="-1" strike="noStrike">
                <a:solidFill>
                  <a:srgbClr val="ffffff"/>
                </a:solidFill>
                <a:latin typeface="Candara"/>
              </a:rPr>
              <a:t>is an annual evaluation </a:t>
            </a:r>
            <a:r>
              <a:rPr b="1" lang="en-GB" sz="1300" spc="-1" strike="noStrike">
                <a:solidFill>
                  <a:srgbClr val="ffffff"/>
                </a:solidFill>
                <a:latin typeface="Candara"/>
              </a:rPr>
              <a:t>by the European Council on Foreign Relations (ECFR) </a:t>
            </a:r>
            <a:r>
              <a:rPr b="1" lang="en-US" sz="1300" spc="-1" strike="noStrike">
                <a:solidFill>
                  <a:srgbClr val="ffffff"/>
                </a:solidFill>
                <a:latin typeface="Candara"/>
              </a:rPr>
              <a:t>of Europe’s performance in pursuing its interests and promoting its values in the world. </a:t>
            </a:r>
            <a:r>
              <a:rPr b="1" lang="en-GB" sz="1300" spc="-1" strike="noStrike">
                <a:solidFill>
                  <a:srgbClr val="ffffff"/>
                </a:solidFill>
                <a:latin typeface="Candara"/>
              </a:rPr>
              <a:t>At a time when new powers are emerging and the international system is undergoing profound changes, the Scorecard is intended to raise awareness of the existence of a European foreign policy and to encourage a debate about the best policies to be pursued in defence of our values and interests. </a:t>
            </a:r>
            <a:r>
              <a:rPr b="1" lang="en-US" sz="1300" spc="-1" strike="noStrike">
                <a:solidFill>
                  <a:srgbClr val="ffffff"/>
                </a:solidFill>
                <a:latin typeface="Candara"/>
              </a:rPr>
              <a:t>Last year’s first edition of the Scorecard was described by </a:t>
            </a:r>
            <a:r>
              <a:rPr b="1" i="1" lang="en-US" sz="1300" spc="-1" strike="noStrike">
                <a:solidFill>
                  <a:srgbClr val="ffffff"/>
                </a:solidFill>
                <a:latin typeface="Candara"/>
              </a:rPr>
              <a:t>Foreign Affairs</a:t>
            </a:r>
            <a:r>
              <a:rPr b="1" lang="en-US" sz="1300" spc="-1" strike="noStrike">
                <a:solidFill>
                  <a:srgbClr val="ffffff"/>
                </a:solidFill>
                <a:latin typeface="Candara"/>
              </a:rPr>
              <a:t> as a “pioneering experiment in foreign policy analysis”.</a:t>
            </a:r>
            <a:br>
              <a:rPr sz="1300"/>
            </a:br>
            <a:br>
              <a:rPr sz="1300"/>
            </a:br>
            <a:r>
              <a:rPr b="1" lang="en-GB" sz="1300" spc="-1" strike="noStrike">
                <a:solidFill>
                  <a:srgbClr val="ffffff"/>
                </a:solidFill>
                <a:latin typeface="Candara"/>
              </a:rPr>
              <a:t>The publication of the second edition will allow for comparison and for the first time also look at European policy in the Middle East and North Africa in a pivotal year for the region. Speakers will discuss the findings of this year’s scorecard and assess the effectiveness of European foreign policy in 2011.  </a:t>
            </a:r>
            <a:br>
              <a:rPr sz="1300"/>
            </a:br>
            <a:br>
              <a:rPr sz="1300"/>
            </a:b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i="1" lang="en-GB" sz="1200" spc="-1" strike="noStrike">
                <a:solidFill>
                  <a:srgbClr val="ffffff"/>
                </a:solidFill>
                <a:latin typeface="Candara"/>
              </a:rPr>
              <a:t>This is a free and open public lecture. No ticket required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Frutiger Linotyp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65200" y="874800"/>
            <a:ext cx="9594720" cy="14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LSE European Institute – European Council on Foreign Relations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        in association with the European Foreign Policy Unit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Candara"/>
              </a:rPr>
              <a:t>                                                             and the Jean Monnet Programme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Frutiger Linotype"/>
            </a:endParaRPr>
          </a:p>
          <a:p>
            <a:pPr marL="3430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rutiger Linotype"/>
            </a:endParaRPr>
          </a:p>
        </p:txBody>
      </p:sp>
      <p:pic>
        <p:nvPicPr>
          <p:cNvPr id="474" name="Picture 195" descr="European Institute"/>
          <p:cNvPicPr/>
          <p:nvPr/>
        </p:nvPicPr>
        <p:blipFill>
          <a:blip r:embed="rId6"/>
          <a:stretch/>
        </p:blipFill>
        <p:spPr>
          <a:xfrm>
            <a:off x="870120" y="179280"/>
            <a:ext cx="1511280" cy="7128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17"/>
          <p:cNvSpPr/>
          <p:nvPr/>
        </p:nvSpPr>
        <p:spPr>
          <a:xfrm>
            <a:off x="0" y="0"/>
            <a:ext cx="1015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utiger Linotype"/>
            </a:endParaRPr>
          </a:p>
        </p:txBody>
      </p:sp>
      <p:graphicFrame>
        <p:nvGraphicFramePr>
          <p:cNvPr id="476" name="Object 2"/>
          <p:cNvGraphicFramePr/>
          <p:nvPr/>
        </p:nvGraphicFramePr>
        <p:xfrm>
          <a:off x="141120" y="119160"/>
          <a:ext cx="649440" cy="7729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77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1120" y="119160"/>
                    <a:ext cx="6494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8" name="Picture 17" descr="J:\STAFF\ADMIN\Events &amp; Seminars\2011-12\LT 2012\February\7 February_ECFR\Poster\ECFR_LOGO_LGE_RGB_BLACK_HR.jpg"/>
          <p:cNvPicPr/>
          <p:nvPr/>
        </p:nvPicPr>
        <p:blipFill>
          <a:blip r:embed="rId9"/>
          <a:stretch/>
        </p:blipFill>
        <p:spPr>
          <a:xfrm>
            <a:off x="8400960" y="68400"/>
            <a:ext cx="1594080" cy="914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1:18:56Z</dcterms:created>
  <dc:creator>Kersten Jauer</dc:creator>
  <dc:description/>
  <dc:language>en-US</dc:language>
  <cp:lastModifiedBy>Administrator</cp:lastModifiedBy>
  <cp:lastPrinted>2012-01-11T18:51:28Z</cp:lastPrinted>
  <dcterms:modified xsi:type="dcterms:W3CDTF">2012-01-27T17:00:29Z</dcterms:modified>
  <cp:revision>684</cp:revision>
  <dc:subject/>
  <dc:title>Advertisement</dc:title>
</cp:coreProperties>
</file>