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5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ftr" idx="5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 type="sldNum" idx="5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0FFF7-C4DC-4BF3-BE35-020EDB5D8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C7221-7746-4101-BAB4-8C79BC4A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096920" y="8604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03240" y="4694040"/>
            <a:ext cx="499104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C30B3-94EC-4118-999C-662A9810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3830760" y="9390240"/>
            <a:ext cx="2989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97F4CD0-DBF2-44C5-9615-7F597144F3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9080" y="4656240"/>
            <a:ext cx="498312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6B909-EE52-4C03-9156-F6106903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095480" y="86040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574560" y="4560840"/>
            <a:ext cx="564048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8F212-7206-4A21-9BE1-AC7B05DE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095480" y="86040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878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D9C5BA-7BD0-491C-ADE0-6F396E3A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095480" y="86040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878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06C71-02EF-4783-99B6-C003577CC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347400" y="4524480"/>
            <a:ext cx="555444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A2F0-87A8-45C0-B221-FF4588070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6772-457B-42A3-9E0A-0BB6A5613C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175E-E432-4C73-B888-F2F982980D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07BF-688C-4B0C-84AD-E6844B3E28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DA5F-2023-43E9-89A8-FD8CFAD2036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B5FB-938D-4EE1-B46F-1891783D82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209A1-3349-41E0-8046-F7DB0EE422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B89D-ED3B-410A-83C6-705BE6F76D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680B2-4A68-4D10-ADC4-C4903165E6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3B3F-631A-47B4-9BE2-ED8D44D566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AE213-9A0D-4404-A133-2051D46A93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F1B1D-14CB-4C97-9E82-FC47757F3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A395-40A8-40AD-B9DB-31DD167BA1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B3E72-D4FD-40ED-9270-1D07D912E6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FE6B4-F933-4F66-8DD0-E60389AA01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C0E7A-6B32-4877-9162-DF7DC989373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BE584-86AC-47E0-85C5-58318474D3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1CF75-1B68-42F7-8331-BDA8AACBCBE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154FDA-2813-4BCC-AAC2-A600D5FB8A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4CC7A4-8FDE-47E5-AED7-46D178683B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E5743-9F6B-4C89-8723-588F79A0577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04B6D-C177-4361-92CC-10E15B1D56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5F3EB-5E2A-4737-ABA2-4CB3E01B9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F8F9-5022-497B-BD9C-138FF17E413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BD6096-9AD1-460F-A5DC-10868628C2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5D02C-E689-44D9-86C0-191B3D11C6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2D54B9-76C9-4D6C-8C49-C83CD1DD2AC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AB0A53-70C2-40B7-A010-DFC9E8AC148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FD183F-B955-4BEC-AB62-2CB5937E0B3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565F5-062C-491D-8AF7-D3B66A11D6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BF4CA-5E48-4FAC-9B78-81C3EEF938B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B8D012-682D-4775-BDA5-6BA50D777BD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FCD410-76CF-47E5-9E0E-D246161E4D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E8C653-2BE8-4F4C-A968-EEFEA4265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2955-6D69-4941-92D9-6E9338263D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10729-5577-42D8-8730-F6AA3A3CE1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FD51BB-BC03-4B93-848A-32805FD1BA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1A257A-EE09-4B9B-9A36-DD18D7A448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7AAAA-2FEA-41D3-A612-4F4AEAC3CFE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652E-DE52-479D-852F-F3EA2F6A4D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C302F-AC31-4101-82B9-C1194303B65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0168-F168-468E-BF87-7BE409ACE60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8D0B-73B5-464B-841F-0A75BEE2FFA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7B84-2417-43E7-8892-3D70CEFBB75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3BBED-709A-4B06-844B-41BD7F6D83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6AE3A-7408-4B3C-81C6-2DDCD190713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BC96D-0CC7-4FE9-802D-B37F38CFBC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E1D42-12BA-4DC0-8256-62FA131F4D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75AA5-FA28-4BB0-A368-9998109E4A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26F5-1006-4CE6-8E21-A5B9E74586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55283-DEA0-492F-8185-DD67A866255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B0697-7229-4204-9A20-8C4695ABB2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E3494-3300-4232-AD8B-C4B1F9BDC0B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9859F-761B-403C-924A-60DB41928F3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B0675-1D63-415B-A912-B62F9FBC7B5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556C7-0FB2-41B9-BE15-0945D6F20B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A09C3-D4DC-418E-A224-0D631F0AD26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CA137-3E99-491E-820F-DAC9EB2268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C35A4-5C59-4DAA-902A-DDFC3479D25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EE6AA-6D7D-4F7A-994D-49119A6D92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45CEE-93F9-4525-8BD8-C214A54B8E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C4037-39F0-479F-9608-DE9F72DA699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1D483-6D6E-4D2D-A495-F10C2E6715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0B2BD-6DEB-482B-A277-3B340F8A50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1E3BC-0E11-468D-B268-5815C6D7FE8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E2501C-1042-4EB7-927A-413103DF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F1072-D8E7-40CA-8081-FF76A35CC8B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C33305-B482-4323-8A65-DFC9CD35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A49F4-5368-44E2-A2CF-F723E1E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7D5CC-C9F4-4FC8-9FC2-13EB3BA5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593BF-B55F-4D16-8A99-6B69767C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A32C7-9AE6-4661-9798-1BF4AFE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960AAE-F2A0-4B76-A3FE-9ED25A4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739E20-8962-4EC1-BACF-ABD4FC1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3BBCC-6109-49AD-BB7B-C335CD1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DBACAA-6A4F-4CF8-8C3F-C6A86D4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8D55B-B461-46E7-B924-1EDC0550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E9E3A-42FF-4EBC-918A-B3574909CAF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42CDEF-77AC-48BD-A539-BD552160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EB9899-A3D7-4665-8F2B-DB5A6F3A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63CFAB-4DDF-4D88-9764-7103F76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264BCE-7647-4B68-8DD4-3457A599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5BD140-2EAF-4821-B6FE-78E2AE19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37164A-6972-448E-B798-9B5D36B2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AC900D-E948-4385-AF51-D7ABB6A0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167AE-CDD6-4578-81FE-B2E1D69B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EFA7E1-0A73-48B2-A911-D89C9C2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814F45-FD68-475B-AA12-D4B9F41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13BAE-D475-4FDB-AA53-C63268BFA78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606EC7-2526-45B9-85FF-7BD364D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0A7BF-90FB-405B-B096-4A1B42D5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245E63-B8B2-4F90-80E7-A0C5CAF1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3CCFF-3EE3-4121-8AD5-25A42DB125E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E4E05-D09F-4CDC-A1E0-6AE5DC48AA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FAE65-31E7-48AD-8AEF-9D6572F4160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F08EE-3DBC-4149-8CD0-602B15A1AF9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638FF-666D-41EA-BB68-B7A328E8D0C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6DAB1-866D-463A-A1E8-042657CA1F7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AA058-6B87-47CC-9DE8-35AA00701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486B-860F-4BD3-A773-4FE748467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C36D6-3C0A-4189-9880-0388026D986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6AFE3-1CE6-4EED-9819-C74AABE8A2E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B91C6-F02F-42A8-A6A8-EBA680B5250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33AC2-3854-457D-BAD0-49B78FF6B25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7990E-711C-4956-9C76-F1F64641860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C709E-C816-4AD2-A03D-6FE8935CA95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5B00F0-A3D2-49D9-8E1C-83450F8C04E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BC7B02-1ED2-4519-AA32-5273744ABD5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BA6D65-B2EE-4CEF-964E-1B48A70EBB2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8E23C9-7600-42AF-A4D2-B7400E1B249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4EAF9A-7E46-43EF-8871-5203C98F7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35530-74BF-4173-A658-2E9C5E40501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CA9974-2B6D-4DF4-B9A1-83299E83F5D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A01594-C17E-4219-8577-BC0CFA4356D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933F3-6709-4761-872E-FE5CBAEC93D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50718A-2A53-4A49-B730-5226C3125A8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F909FE-621A-47F8-ABBF-AFE8B6AD065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B0AAE6-B482-4E25-9D27-620DBB90064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6252D6-B46C-4EBC-A8F5-5849DC2EE8F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CE5AD3-E004-4A70-A93A-E209D881FB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D24DAA-BAF7-4B0F-9D92-5092994FCD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79165F-4902-45E0-8662-258A901D77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9EB9D-FAB2-49A6-B0D3-A5147DA8AC8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FCF2EA-5E38-4E90-A220-F89D802C6A8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21F6EB-58ED-4447-AFA6-C7B1D7A13DA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F41F9F-442C-44DC-B034-7EF2A92C9E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24E58D-E45C-47A6-9CD1-F34FBFF559B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3BB42E-CF01-4054-B87D-7A53F90AEA7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2CB274-F520-4ED7-BB16-3EFC2FDD58B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27EEDD-013A-4F88-994A-E6E60CEB386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5E196-C73E-40B4-A81B-5BE7799A01C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35DE0-2D73-4D40-8669-52824F87B13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5D8DE-B6A9-44E2-AA90-570AD88DCF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1C17-6EE3-429A-98ED-64D3BA20932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268F8-7C8E-4C22-96D2-167E9FAA39D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9F1B7-AB6A-44E4-86F3-1712FFA7259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703C3-669C-4768-BB73-4B4BF54452E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3FF2C-355D-41B9-B5B9-D5853A2A9F8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FBDBD-0143-4685-9210-C83403289C5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2A545-E3AD-43EB-A8E7-849B2426DE0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53476-8234-4989-8776-B8AE4A14F82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0FCE7-287C-49BD-9DCF-CFF425FEE23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037CE-015C-4FC0-AD10-EDDCCB2175B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F94FB-CCB2-4075-836A-4FDE3E9C5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73C51-8172-4175-8A35-9C2C5A6FCCD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57E50-E7E3-47E6-AAB3-A70A64BE165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0990D-6983-4060-A710-E272CA7A367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29210-3EB5-4FE3-913F-5A783DC6EE8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936D8-CCDA-4E14-9F63-E04B3101EE3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E484A-3C78-454C-B86B-5AC17603A6D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81B8E-6AE0-460B-8528-8D45AC7A97F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D13D6-15E5-42C9-A2B9-2629A8B2E9E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24CC7-7270-47C4-8473-E95A59C4D6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8E264-9F6D-4675-8B4E-4C7A3E493C9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35DA5-12CC-4A4D-B31E-954401F4FB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8EDA-0493-48F6-9C04-678F9BC1C80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C6D9F-D0E6-43FA-A68B-7C7793080A1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7BD42-A6CB-4DB0-BB89-7DF28ACEF25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67E66-E93E-4F47-B5A7-645901FAE32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E8236B-9B7F-49D7-BAAA-922D821732F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DBE075-81F6-4740-BCFB-BBBF33A8987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68A631-29D7-4393-BEB2-9150EEBDF4D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5322E7-ACD8-4658-8BC4-D8A7F7F2EEB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ECB71E-EAA6-4682-AF7A-54936D06D9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D489DA-B056-4704-A2FF-032DE1C5D64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23CAC8-79DE-4206-B207-FE0444F0EA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98E-866B-4514-97AA-BFF59E9663D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2CF6EA-D978-41A7-A278-56D330080FB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829F19-F6E2-4F8D-9653-7316326027E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256EA7-CFEF-44CA-8881-76ECD2E0AE4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E53B91-CC83-4ADB-ACFB-F0F13B306D3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321486-5434-4F7A-B33E-06E48188B01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3B67-DCCE-493A-BDED-0FDA86DF961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1D618E-5A3F-4C5C-816F-E6AB34901F3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FD2308-ADC9-4F8B-A267-FC71E32981D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77EF08-DC34-4A15-94E6-D6E07E34B3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1E47-E045-4EAA-BF63-4DC1AC216ED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E2BA55-4C7B-4A0B-87F5-3739656E275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9F75BC-591C-4940-A5BB-70A9BAD8B25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4BF0F4-F8D9-40F8-A60E-BA586223A31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93C36B-220E-4D2F-AE05-D5E6A94D476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857D31-6ECF-40C0-9582-E54767E6C0E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551E1A-EA14-4BFE-90FD-EA8E2A95201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FF81F6-C041-4B91-9692-6BC2C66E90E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EE5949-4935-4C18-A532-0A21CC812CB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8CDE89-E03A-4563-82E2-1552DB7EA30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C3A7A-4198-4AAC-AFE6-929C1527EE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FA15-AC8D-4982-8F4C-3F5E752CB3E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AC86D-E820-45C4-88AE-9E2B8236315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22833-EB43-4A24-A0E3-07E51E82A38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4B278-41F8-4967-BEF6-C32BC5BA4D4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464E1-CDA2-496B-9C5D-96A661382A3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F662F-A927-4C2E-8529-6409EEC841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9E372-CFE7-4A34-83C1-53DA42EB445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B24B6-2043-4852-997E-568BC601759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ADC04-194D-45E0-887E-15119FF60A7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8259D-5349-4156-ACAA-A6ED307CCA7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B5034-E3AA-4A14-A1DF-0CF0630EA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B963-FD0D-4A27-AA15-5473ED73F3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9E37-853B-47D6-B0DB-F24F33B8572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55050-403C-42C4-9FB5-618DDC80CF3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D819-6F8A-4E79-BAF3-1D02584130F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2B28FD-9A67-4C63-99DA-8B565E99651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F2CA46-DB43-4873-A030-4ACEB8CFAD2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481C95-9306-4993-803C-DD3E60AD980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E9B386-2CFC-4DB8-AB84-AFBBC9B72CB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807C08-8EE5-4386-BDE2-01302E97D14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1D36C6-C769-4CC2-951A-EE28D9C189C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819378-AA9B-48C8-9804-4AF8125AD0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77DB-91AF-40BD-B3C7-0C919217420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8E08CA-A566-4ECE-98F9-E45502ADAF8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EC5C64-256B-4951-8C32-31022667E56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3A322D-2D2A-4E1D-BB64-6C75DAF7B93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023FE9-1117-43BB-A870-9332D82F687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EF3EDE-EA84-457A-AD37-B6CEA122B8D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1F5D-7D12-4CEF-BC10-0BB07721E0D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83E0-4525-4A5B-A325-0705B501B8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4B3-B853-4C91-89E0-5265D90788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BFF4-13F6-4EC6-BA8E-1C77B66186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95F32-6CED-4F9A-8F5F-3213EF0C5D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2DFC6-8F4D-4396-8936-9E404EC1B5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B7C6B-4045-424C-81CC-0AAB5A1AE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45B3-F325-4B3D-9744-3EC2C08927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EFBC1-4D75-4571-90F8-7EF727872D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B51E8-20EE-4DBD-8A5E-C3F4445209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51257-9F44-443D-B7CB-50408A0D89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7A734-C34E-4F10-AC99-764DEA9362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A87CF-B76E-4201-8ED9-7FEFB887AD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FFEEF-620F-43FE-B1FD-4B93C24C60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DF15C-0673-48B8-A8F5-42428829FE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0A77A-DAB2-4963-BA76-85F9F434A7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7ED14-EB4C-4531-B2F4-400B4E750EF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13A02-CC2D-4340-970D-F0672E3B0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49EA-5A14-464D-9913-DEBE291C7B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CFBFA-56BE-409C-99BA-F7AE5DC118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0E121-B822-4114-A02A-47FA062A63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D8957-8864-4C0C-903F-D1A043CA95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59F61-8AC5-4631-A2E0-D54004A744D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D95F0-A798-4AB9-823C-4343616D21F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75662-2281-4A0C-8621-80267A312F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38334-A0D8-4B9F-B26A-032836EDBB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7EA03-C6E3-4FCC-A7DB-2B28AFC70A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56443-5C23-4D68-A66E-08EC84E41A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0AB04-DE1A-47CF-8DF1-36B231EFD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72A2-BB4B-4239-87B3-8EF2D5576E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188C8-8DFB-4C10-BF59-1BF8F7E6A6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F1D6-58E2-4257-892A-58F0858B05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9360-7088-4BF4-95E0-37DFCBE6D1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9795-01A4-472D-BA9A-CDED4AEDA5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9D59-B4AD-40A1-B362-3F48713A0C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9669-3D35-4970-924D-ADDE5CE057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B5F8-F273-4C89-B2F6-2A1D4B3D07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4C4A-2BFB-4610-A766-25FA69DAE5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A569-031A-4029-8884-A17A99B822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0F7C-19AF-47A0-BD8C-2EB2751DB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A890-B7F7-46A8-BA01-DE455BAC90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D8D6-5B2C-486D-AB22-B925F9B5FA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C143-820D-48B5-9D91-F0E268421C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1171-393E-4EA3-A46C-F109083C9F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C139B-F60C-43E5-8080-069DEE7685E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E4ED3-10BF-477B-BAC0-C30885B04D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839BC-78CD-446F-BE0B-99CBB28A03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0FED0-2288-4C62-9CA3-C08BB1D7E2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6DB55-E555-4474-805B-8DC7738FA2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1B764-2AA8-4EF0-92CC-1C0F2F68B2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3CE4B-C957-49D9-B760-9C30F8AEF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7031-E321-4DEA-B0C2-9E5E347097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BE07C-A0E6-4C5C-B609-B67FCED7C0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49A72-634A-40E9-95AD-AE7D28762D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6D2AF-929E-49C5-BF53-258057D9B2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6B212-61EB-4BF9-99BA-E976C05167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B6292-3DCB-42D1-A6B3-22DCB3465C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BA88B-A882-4D51-81C2-093F30A8D8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963D47-0E95-4961-8F34-85EB82C711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027AC-2667-4856-9A4E-B70ED10099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46535-FDAD-4BFA-8FFE-12CAEADB97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56AEC-AF94-4EDF-955F-3ADA0E71E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60AB-469A-41BA-89C2-7D9F5018BC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2863F-9DC6-4E56-B53C-D5ABA0ECC2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6F5B2-66B5-4A4C-8E5F-FFA42D764C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90B2C-6AC4-405A-8944-69D357423C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820CA7-FF0D-4C27-A887-EEE93732B0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EB0E0-6F32-4771-9D64-959EC296B0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279C5A-03BD-4FED-A4A2-BE22202590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96A163-F665-493F-BEFF-18F81F687C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F81F8-50AC-4C84-AD06-6C1D4EA698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0F8D6-B37E-4833-82EF-2D3A72E5C5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F407F-6FC9-4921-BA2E-57C550571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176-B99C-4438-B1E3-D7376F308E4C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369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9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B68-018A-4AB7-9148-85A11019E55A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411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87FB-5746-4E86-94DB-58288ECB3D4D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453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D00B-C0AD-4BEF-9790-42F2BD79D303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495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25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88D8-F165-4D57-9A86-59AE27117154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6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8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9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C4A8-CAC2-4125-9361-47F58A16BAFC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DB6F-6226-49DF-969E-0320621F814B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8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660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ftr" idx="3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D98-3A42-461A-86DE-89612FED7D70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8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702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35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9526-9F58-4BCE-8D02-D5504A02F9B5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36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744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3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38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AC16-D0A8-4546-98D6-C6CF3061A4A3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BDB5-7050-4E5A-81DC-F050C735157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786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39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6FFD-1608-454F-8F90-42C98174AB6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0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Quote-box-1"/>
          <p:cNvPicPr/>
          <p:nvPr/>
        </p:nvPicPr>
        <p:blipFill>
          <a:blip r:embed="rId3"/>
          <a:stretch/>
        </p:blipFill>
        <p:spPr>
          <a:xfrm>
            <a:off x="360360" y="2898720"/>
            <a:ext cx="8434440" cy="1297080"/>
          </a:xfrm>
          <a:prstGeom prst="rect">
            <a:avLst/>
          </a:prstGeom>
          <a:ln w="0">
            <a:noFill/>
          </a:ln>
        </p:spPr>
      </p:pic>
      <p:sp>
        <p:nvSpPr>
          <p:cNvPr id="829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4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4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2E8B-303F-4C52-BFF2-DC8EE2E3CA9B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Quote-box-2"/>
          <p:cNvPicPr/>
          <p:nvPr/>
        </p:nvPicPr>
        <p:blipFill>
          <a:blip r:embed="rId3"/>
          <a:stretch/>
        </p:blipFill>
        <p:spPr>
          <a:xfrm>
            <a:off x="5040360" y="1079640"/>
            <a:ext cx="3746520" cy="2054160"/>
          </a:xfrm>
          <a:prstGeom prst="rect">
            <a:avLst/>
          </a:prstGeom>
          <a:ln w="0">
            <a:noFill/>
          </a:ln>
        </p:spPr>
      </p:pic>
      <p:sp>
        <p:nvSpPr>
          <p:cNvPr id="872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ftr" idx="4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sldNum" idx="4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0010-6AEC-4E48-8444-68071AC6144A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5" descr="Grey-quote-mark_HJ_medium"/>
          <p:cNvPicPr/>
          <p:nvPr/>
        </p:nvPicPr>
        <p:blipFill>
          <a:blip r:embed="rId3"/>
          <a:stretch/>
        </p:blipFill>
        <p:spPr>
          <a:xfrm>
            <a:off x="223920" y="189000"/>
            <a:ext cx="1468440" cy="10792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9" descr="Grey-quote-mark_HJ_medium"/>
          <p:cNvPicPr/>
          <p:nvPr/>
        </p:nvPicPr>
        <p:blipFill>
          <a:blip r:embed="rId4"/>
          <a:stretch/>
        </p:blipFill>
        <p:spPr>
          <a:xfrm>
            <a:off x="7310520" y="5114880"/>
            <a:ext cx="1468440" cy="107964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955" name="Line 16"/>
          <p:cNvSpPr/>
          <p:nvPr/>
        </p:nvSpPr>
        <p:spPr>
          <a:xfrm>
            <a:off x="538200" y="656424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ftr" idx="45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sldNum" idx="46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8B4D-0E8C-4CA2-9BAB-BE06960E299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997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5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ftr" idx="4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sldNum" idx="48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5F4-E6C0-43FB-AE07-123367CE886F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8" descr=""/>
          <p:cNvPicPr/>
          <p:nvPr/>
        </p:nvPicPr>
        <p:blipFill>
          <a:blip r:embed="rId2"/>
          <a:stretch/>
        </p:blipFill>
        <p:spPr>
          <a:xfrm>
            <a:off x="1335240" y="3070080"/>
            <a:ext cx="6460920" cy="72072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49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50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773D-CC0F-4B2C-A8D3-FDA42BEBC3EB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6" descr="NRF PowerPoint Title Slide Panel.eps"/>
          <p:cNvPicPr/>
          <p:nvPr/>
        </p:nvPicPr>
        <p:blipFill>
          <a:blip r:embed="rId3"/>
          <a:stretch/>
        </p:blipFill>
        <p:spPr>
          <a:xfrm>
            <a:off x="414360" y="0"/>
            <a:ext cx="8315280" cy="426888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52480" y="1961640"/>
            <a:ext cx="7561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1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spcAft>
                <a:spcPts val="1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73C5-8DE5-4BA9-86C7-5A317283D256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A317-06C2-4579-BD52-C2DA4B24286D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9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0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F5D6-8778-43CA-B8E1-8CF5FFDAF070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C597-8BF6-4A94-B7B7-E5CF4DE1515C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5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C17A-BDCC-4E70-B0C1-47574A0DA4FA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5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6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59AD-F55B-465B-8E32-B3A3E3B05B2F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52480" y="1961640"/>
            <a:ext cx="7561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1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spcAft>
                <a:spcPts val="1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271080" y="6531120"/>
            <a:ext cx="26820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C59E-2004-4CC5-AC7C-ACA7C4A9712A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52480" y="1961640"/>
            <a:ext cx="7561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lamic fin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52480" y="2433240"/>
            <a:ext cx="756144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rmida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ton Rose Fulbright 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8 Octo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basic differen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34640" y="1851120"/>
            <a:ext cx="1731960" cy="79200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6256440" y="1841400"/>
            <a:ext cx="1869840" cy="79236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497760" y="1054080"/>
            <a:ext cx="2184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6"/>
          <p:cNvSpPr/>
          <p:nvPr/>
        </p:nvSpPr>
        <p:spPr>
          <a:xfrm>
            <a:off x="4116240" y="3290760"/>
            <a:ext cx="97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slamic</a:t>
            </a:r>
            <a:r>
              <a:rPr b="0" lang="en-GB" sz="1800" spc="-1" strike="noStrike">
                <a:solidFill>
                  <a:srgbClr val="33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7"/>
          <p:cNvSpPr/>
          <p:nvPr/>
        </p:nvSpPr>
        <p:spPr>
          <a:xfrm>
            <a:off x="1035000" y="3862440"/>
            <a:ext cx="1731960" cy="79200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8"/>
          <p:cNvSpPr/>
          <p:nvPr/>
        </p:nvSpPr>
        <p:spPr>
          <a:xfrm>
            <a:off x="6404040" y="3862440"/>
            <a:ext cx="1731960" cy="79200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4187880" y="1670040"/>
            <a:ext cx="830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4187880" y="4870440"/>
            <a:ext cx="830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147840" y="2498760"/>
            <a:ext cx="2910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ney + money (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765600" y="3895560"/>
            <a:ext cx="1673280" cy="71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ods &amp;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4" name="AutoShape 14"/>
          <p:cNvCxnSpPr/>
          <p:nvPr/>
        </p:nvCxnSpPr>
        <p:spPr>
          <a:xfrm flipV="1">
            <a:off x="2766600" y="2118960"/>
            <a:ext cx="349020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AutoShape 15"/>
          <p:cNvCxnSpPr/>
          <p:nvPr/>
        </p:nvCxnSpPr>
        <p:spPr>
          <a:xfrm flipH="1">
            <a:off x="2766240" y="2479680"/>
            <a:ext cx="349020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6" name="AutoShape 16"/>
          <p:cNvCxnSpPr>
            <a:stCxn id="1203" idx="3"/>
            <a:endCxn id="1199" idx="1"/>
          </p:cNvCxnSpPr>
          <p:nvPr/>
        </p:nvCxnSpPr>
        <p:spPr>
          <a:xfrm>
            <a:off x="5438520" y="4257720"/>
            <a:ext cx="96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7" name="AutoShape 17"/>
          <p:cNvCxnSpPr>
            <a:stCxn id="1198" idx="3"/>
            <a:endCxn id="1203" idx="1"/>
          </p:cNvCxnSpPr>
          <p:nvPr/>
        </p:nvCxnSpPr>
        <p:spPr>
          <a:xfrm flipV="1">
            <a:off x="2766960" y="4257360"/>
            <a:ext cx="999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8" name="AutoShape 18"/>
          <p:cNvCxnSpPr>
            <a:stCxn id="1199" idx="2"/>
            <a:endCxn id="1198" idx="2"/>
          </p:cNvCxnSpPr>
          <p:nvPr/>
        </p:nvCxnSpPr>
        <p:spPr>
          <a:xfrm rot="5400000">
            <a:off x="4760280" y="1865160"/>
            <a:ext cx="2520" cy="5580720"/>
          </a:xfrm>
          <a:prstGeom prst="bentConnector3">
            <a:avLst>
              <a:gd name="adj1" fmla="val 42800000"/>
            </a:avLst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</p:cxn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77756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Use of funds by Islamic financial institu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7680" y="1157040"/>
            <a:ext cx="805500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681120" y="1846440"/>
            <a:ext cx="1873080" cy="63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BT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6297480" y="1846440"/>
            <a:ext cx="2087640" cy="63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QUIT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2913120" y="1413000"/>
            <a:ext cx="2952720" cy="127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main contracts used in Islamic fina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681120" y="2638440"/>
            <a:ext cx="1871640" cy="105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rabaha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awarru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693720" y="3862440"/>
            <a:ext cx="187344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stisna’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0"/>
          <p:cNvSpPr/>
          <p:nvPr/>
        </p:nvSpPr>
        <p:spPr>
          <a:xfrm>
            <a:off x="6369120" y="350208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dar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1"/>
          <p:cNvSpPr/>
          <p:nvPr/>
        </p:nvSpPr>
        <p:spPr>
          <a:xfrm>
            <a:off x="6369120" y="263844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shar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2"/>
          <p:cNvSpPr/>
          <p:nvPr/>
        </p:nvSpPr>
        <p:spPr>
          <a:xfrm>
            <a:off x="681120" y="465444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jar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3"/>
          <p:cNvSpPr/>
          <p:nvPr/>
        </p:nvSpPr>
        <p:spPr>
          <a:xfrm>
            <a:off x="681120" y="544680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a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4"/>
          <p:cNvSpPr/>
          <p:nvPr/>
        </p:nvSpPr>
        <p:spPr>
          <a:xfrm>
            <a:off x="6369120" y="429408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ak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67920" y="394920"/>
            <a:ext cx="63262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Murabah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2" name="Text Box 3"/>
          <p:cNvSpPr/>
          <p:nvPr/>
        </p:nvSpPr>
        <p:spPr>
          <a:xfrm>
            <a:off x="944640" y="394020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"/>
          <p:cNvSpPr/>
          <p:nvPr/>
        </p:nvSpPr>
        <p:spPr>
          <a:xfrm>
            <a:off x="1808280" y="2787480"/>
            <a:ext cx="0" cy="1151280"/>
          </a:xfrm>
          <a:prstGeom prst="line">
            <a:avLst/>
          </a:prstGeom>
          <a:ln w="12600">
            <a:solidFill>
              <a:srgbClr val="d52b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44640" y="1995480"/>
            <a:ext cx="208764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inanc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6"/>
          <p:cNvSpPr/>
          <p:nvPr/>
        </p:nvSpPr>
        <p:spPr>
          <a:xfrm>
            <a:off x="2023920" y="2787480"/>
            <a:ext cx="0" cy="115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7"/>
          <p:cNvSpPr/>
          <p:nvPr/>
        </p:nvSpPr>
        <p:spPr>
          <a:xfrm>
            <a:off x="5624640" y="1995480"/>
            <a:ext cx="2087280" cy="76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party (Borr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8"/>
          <p:cNvSpPr/>
          <p:nvPr/>
        </p:nvSpPr>
        <p:spPr>
          <a:xfrm>
            <a:off x="3032280" y="228276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"/>
          <p:cNvSpPr/>
          <p:nvPr/>
        </p:nvSpPr>
        <p:spPr>
          <a:xfrm>
            <a:off x="3032280" y="2498760"/>
            <a:ext cx="2592360" cy="0"/>
          </a:xfrm>
          <a:prstGeom prst="line">
            <a:avLst/>
          </a:prstGeom>
          <a:ln w="12600">
            <a:solidFill>
              <a:srgbClr val="d52b1e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0"/>
          <p:cNvSpPr/>
          <p:nvPr/>
        </p:nvSpPr>
        <p:spPr>
          <a:xfrm>
            <a:off x="5697360" y="394020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1"/>
          <p:cNvSpPr/>
          <p:nvPr/>
        </p:nvSpPr>
        <p:spPr>
          <a:xfrm>
            <a:off x="1015920" y="3003480"/>
            <a:ext cx="72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2"/>
          <p:cNvSpPr/>
          <p:nvPr/>
        </p:nvSpPr>
        <p:spPr>
          <a:xfrm>
            <a:off x="2097000" y="3003480"/>
            <a:ext cx="10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3"/>
          <p:cNvSpPr/>
          <p:nvPr/>
        </p:nvSpPr>
        <p:spPr>
          <a:xfrm>
            <a:off x="3753000" y="1995480"/>
            <a:ext cx="122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4"/>
          <p:cNvSpPr/>
          <p:nvPr/>
        </p:nvSpPr>
        <p:spPr>
          <a:xfrm>
            <a:off x="3608280" y="2643120"/>
            <a:ext cx="151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$110 Sale Price (deferred pay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5"/>
          <p:cNvSpPr/>
          <p:nvPr/>
        </p:nvSpPr>
        <p:spPr>
          <a:xfrm>
            <a:off x="6777000" y="2787480"/>
            <a:ext cx="0" cy="1151280"/>
          </a:xfrm>
          <a:prstGeom prst="line">
            <a:avLst/>
          </a:prstGeom>
          <a:ln w="12600">
            <a:solidFill>
              <a:srgbClr val="d52b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6"/>
          <p:cNvSpPr/>
          <p:nvPr/>
        </p:nvSpPr>
        <p:spPr>
          <a:xfrm>
            <a:off x="6561000" y="2787480"/>
            <a:ext cx="0" cy="115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7"/>
          <p:cNvSpPr/>
          <p:nvPr/>
        </p:nvSpPr>
        <p:spPr>
          <a:xfrm>
            <a:off x="5769000" y="310824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18"/>
          <p:cNvSpPr/>
          <p:nvPr/>
        </p:nvSpPr>
        <p:spPr>
          <a:xfrm>
            <a:off x="6850080" y="3075120"/>
            <a:ext cx="719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67840" y="290520"/>
            <a:ext cx="785196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Murabaha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360360" y="1050480"/>
            <a:ext cx="842328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st-plus financing: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s are fixed from the outset of the agreement (in particular quantum of pay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event of early termination, no discount applied for early sett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bate on the deferred sale price permitted, but at the discretion of the financ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34720" y="336240"/>
            <a:ext cx="70894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Wa’a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1" name="Text Box 3"/>
          <p:cNvSpPr/>
          <p:nvPr/>
        </p:nvSpPr>
        <p:spPr>
          <a:xfrm>
            <a:off x="798480" y="388944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"/>
          <p:cNvSpPr/>
          <p:nvPr/>
        </p:nvSpPr>
        <p:spPr>
          <a:xfrm>
            <a:off x="1662120" y="2736720"/>
            <a:ext cx="0" cy="1150920"/>
          </a:xfrm>
          <a:prstGeom prst="line">
            <a:avLst/>
          </a:prstGeom>
          <a:ln w="12600">
            <a:solidFill>
              <a:srgbClr val="d52b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5"/>
          <p:cNvSpPr/>
          <p:nvPr/>
        </p:nvSpPr>
        <p:spPr>
          <a:xfrm>
            <a:off x="798480" y="1944720"/>
            <a:ext cx="208764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inanc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6"/>
          <p:cNvSpPr/>
          <p:nvPr/>
        </p:nvSpPr>
        <p:spPr>
          <a:xfrm>
            <a:off x="1878120" y="2736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5478480" y="1944720"/>
            <a:ext cx="2087640" cy="76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party (Borr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8"/>
          <p:cNvSpPr/>
          <p:nvPr/>
        </p:nvSpPr>
        <p:spPr>
          <a:xfrm>
            <a:off x="2886120" y="244944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9"/>
          <p:cNvSpPr/>
          <p:nvPr/>
        </p:nvSpPr>
        <p:spPr>
          <a:xfrm>
            <a:off x="2886120" y="2592360"/>
            <a:ext cx="2592360" cy="0"/>
          </a:xfrm>
          <a:prstGeom prst="line">
            <a:avLst/>
          </a:prstGeom>
          <a:ln w="12600">
            <a:solidFill>
              <a:srgbClr val="d52b1e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0"/>
          <p:cNvSpPr/>
          <p:nvPr/>
        </p:nvSpPr>
        <p:spPr>
          <a:xfrm>
            <a:off x="5551560" y="388944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1"/>
          <p:cNvSpPr/>
          <p:nvPr/>
        </p:nvSpPr>
        <p:spPr>
          <a:xfrm>
            <a:off x="870120" y="3125880"/>
            <a:ext cx="72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12"/>
          <p:cNvSpPr/>
          <p:nvPr/>
        </p:nvSpPr>
        <p:spPr>
          <a:xfrm>
            <a:off x="1951200" y="3164040"/>
            <a:ext cx="10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13"/>
          <p:cNvSpPr/>
          <p:nvPr/>
        </p:nvSpPr>
        <p:spPr>
          <a:xfrm>
            <a:off x="3606840" y="2233440"/>
            <a:ext cx="122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4"/>
          <p:cNvSpPr/>
          <p:nvPr/>
        </p:nvSpPr>
        <p:spPr>
          <a:xfrm>
            <a:off x="3103560" y="2665440"/>
            <a:ext cx="2232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Sale Price calculated pursuant to formula (deferred pay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5"/>
          <p:cNvSpPr/>
          <p:nvPr/>
        </p:nvSpPr>
        <p:spPr>
          <a:xfrm>
            <a:off x="6630840" y="2736720"/>
            <a:ext cx="0" cy="1150920"/>
          </a:xfrm>
          <a:prstGeom prst="line">
            <a:avLst/>
          </a:prstGeom>
          <a:ln w="12600">
            <a:solidFill>
              <a:srgbClr val="d52b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6"/>
          <p:cNvSpPr/>
          <p:nvPr/>
        </p:nvSpPr>
        <p:spPr>
          <a:xfrm>
            <a:off x="6415200" y="2736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17"/>
          <p:cNvSpPr/>
          <p:nvPr/>
        </p:nvSpPr>
        <p:spPr>
          <a:xfrm>
            <a:off x="5622840" y="316404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18"/>
          <p:cNvSpPr/>
          <p:nvPr/>
        </p:nvSpPr>
        <p:spPr>
          <a:xfrm>
            <a:off x="6703920" y="3125880"/>
            <a:ext cx="719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>
            <a:off x="2886120" y="2089080"/>
            <a:ext cx="259236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0"/>
          <p:cNvSpPr/>
          <p:nvPr/>
        </p:nvSpPr>
        <p:spPr>
          <a:xfrm>
            <a:off x="2814480" y="1512720"/>
            <a:ext cx="2881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Undertaking to purchase Assets in the future for a Sale Price calculated pursuant to a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75760" y="239400"/>
            <a:ext cx="70297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Wa’ad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58920" y="876240"/>
            <a:ext cx="73771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Wa’ad (unilateral promise):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ws for flexibility in future cash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e to the unilateral nature of the promise, only the issuer of the undertaking is bound to per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ation from the recipient of the promise is generally not permit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75760" y="336240"/>
            <a:ext cx="682164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Ijar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1173240" y="3787920"/>
            <a:ext cx="230508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orr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4"/>
          <p:cNvSpPr/>
          <p:nvPr/>
        </p:nvSpPr>
        <p:spPr>
          <a:xfrm>
            <a:off x="1460520" y="2635200"/>
            <a:ext cx="0" cy="1150920"/>
          </a:xfrm>
          <a:prstGeom prst="line">
            <a:avLst/>
          </a:prstGeom>
          <a:ln w="12600">
            <a:solidFill>
              <a:srgbClr val="d52b1e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1173240" y="1843200"/>
            <a:ext cx="230508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inanc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"/>
          <p:cNvSpPr/>
          <p:nvPr/>
        </p:nvSpPr>
        <p:spPr>
          <a:xfrm>
            <a:off x="1317600" y="263520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5853240" y="1843200"/>
            <a:ext cx="208728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8"/>
          <p:cNvSpPr/>
          <p:nvPr/>
        </p:nvSpPr>
        <p:spPr>
          <a:xfrm>
            <a:off x="3478320" y="1987560"/>
            <a:ext cx="237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9"/>
          <p:cNvSpPr/>
          <p:nvPr/>
        </p:nvSpPr>
        <p:spPr>
          <a:xfrm>
            <a:off x="3478320" y="2203560"/>
            <a:ext cx="2374920" cy="0"/>
          </a:xfrm>
          <a:prstGeom prst="line">
            <a:avLst/>
          </a:prstGeom>
          <a:ln w="12600">
            <a:solidFill>
              <a:srgbClr val="d52b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523800" y="299556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Grant of 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1531800" y="299556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Rental Pa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981600" y="1771560"/>
            <a:ext cx="122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3"/>
          <p:cNvSpPr/>
          <p:nvPr/>
        </p:nvSpPr>
        <p:spPr>
          <a:xfrm>
            <a:off x="3478320" y="2274840"/>
            <a:ext cx="22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Purchase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"/>
          <p:cNvSpPr/>
          <p:nvPr/>
        </p:nvSpPr>
        <p:spPr>
          <a:xfrm>
            <a:off x="3189240" y="2635200"/>
            <a:ext cx="0" cy="11509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2397240" y="2995560"/>
            <a:ext cx="72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Grant of Put O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6"/>
          <p:cNvSpPr/>
          <p:nvPr/>
        </p:nvSpPr>
        <p:spPr>
          <a:xfrm>
            <a:off x="3333600" y="2635200"/>
            <a:ext cx="0" cy="1150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3405240" y="2995560"/>
            <a:ext cx="10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Grant of Call O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21760" y="290520"/>
            <a:ext cx="692316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Ijara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95200" y="942480"/>
            <a:ext cx="842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Ijara (leasing):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ws for flexibility in future cashflows through the mechanism to calculate rent on a periodic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er holds a proprietary interest in the asset during the term of the financing. Financier takes on risk that may not exist in a conventional trans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31480" y="307440"/>
            <a:ext cx="6923160" cy="9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31840" y="925560"/>
            <a:ext cx="737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hariah law 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n-national system of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ies to all aspects of life and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t schools of thought as to how principles should be interpreted or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English law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s a well-known and developed jurisprud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open to doubt on basis of religious or philosophical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17440" y="250920"/>
            <a:ext cx="78199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: Shamil Bank v Beximco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17080" y="826560"/>
            <a:ext cx="79707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Leading case in the United Kingdom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Court &amp; Court of Appeal jud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mil operated in accordance with the principles of Shariah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mil’s commercial activities supervised by its Religious Supervisory Board and audited each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slamic Finance – Overview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ce of Islamic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atures of Islamic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ditional Islamic Contr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verning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2400" y="247680"/>
            <a:ext cx="76532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: Shamil Bank v Beximco (cont)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98080" y="868320"/>
            <a:ext cx="8170920" cy="56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urt of Appeal, Lord Justice Potter’s leading judgement in January 2004 concluded: 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interpreting governing law clauses court should lean against a construction that would defeat the commercial purpose of the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could not be two governing la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possible to incorporate provisions of Shariah law the general reference to Shariah law here did not identify any specific aspects which the parties intended to incorp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64600" y="290160"/>
            <a:ext cx="7721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: Best practi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264600" y="944280"/>
            <a:ext cx="7985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n binding statement in recitals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presentation from each party as to Shariah compliance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venant / undertaking that it will raise no objection as to matters of Shariah compliance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mission to single governing law 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twa from Shariah Supervisory Board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Schol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mited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t jurisd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nual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t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65AC-6F56-44B2-A7B8-982F2AD29D81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 rot="16200000">
            <a:off x="1091520" y="753480"/>
            <a:ext cx="612720" cy="1582560"/>
          </a:xfrm>
          <a:prstGeom prst="rect">
            <a:avLst/>
          </a:prstGeom>
          <a:solidFill>
            <a:srgbClr val="0070c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eliminary Structure Memora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4"/>
          <p:cNvSpPr/>
          <p:nvPr/>
        </p:nvSpPr>
        <p:spPr>
          <a:xfrm rot="16200000">
            <a:off x="1081800" y="1791360"/>
            <a:ext cx="612720" cy="1582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rim 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Fa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16200000">
            <a:off x="1083240" y="2848320"/>
            <a:ext cx="613080" cy="1582920"/>
          </a:xfrm>
          <a:prstGeom prst="rect">
            <a:avLst/>
          </a:prstGeom>
          <a:solidFill>
            <a:srgbClr val="0070c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ue 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6200000">
            <a:off x="1083240" y="3904200"/>
            <a:ext cx="612720" cy="1582920"/>
          </a:xfrm>
          <a:prstGeom prst="rect">
            <a:avLst/>
          </a:prstGeom>
          <a:solidFill>
            <a:srgbClr val="0070c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raft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7"/>
          <p:cNvSpPr/>
          <p:nvPr/>
        </p:nvSpPr>
        <p:spPr>
          <a:xfrm rot="16200000">
            <a:off x="1095840" y="4959720"/>
            <a:ext cx="613080" cy="158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Final 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Fa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8"/>
          <p:cNvSpPr/>
          <p:nvPr/>
        </p:nvSpPr>
        <p:spPr>
          <a:xfrm>
            <a:off x="1300320" y="1841400"/>
            <a:ext cx="182520" cy="424080"/>
          </a:xfrm>
          <a:prstGeom prst="downArrow">
            <a:avLst>
              <a:gd name="adj1" fmla="val 50000"/>
              <a:gd name="adj2" fmla="val 58087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9"/>
          <p:cNvSpPr/>
          <p:nvPr/>
        </p:nvSpPr>
        <p:spPr>
          <a:xfrm>
            <a:off x="1301760" y="2898720"/>
            <a:ext cx="182520" cy="424080"/>
          </a:xfrm>
          <a:prstGeom prst="downArrow">
            <a:avLst>
              <a:gd name="adj1" fmla="val 50000"/>
              <a:gd name="adj2" fmla="val 58087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10"/>
          <p:cNvSpPr/>
          <p:nvPr/>
        </p:nvSpPr>
        <p:spPr>
          <a:xfrm>
            <a:off x="1303200" y="3956040"/>
            <a:ext cx="182880" cy="423720"/>
          </a:xfrm>
          <a:prstGeom prst="downArrow">
            <a:avLst>
              <a:gd name="adj1" fmla="val 50000"/>
              <a:gd name="adj2" fmla="val 57923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11"/>
          <p:cNvSpPr/>
          <p:nvPr/>
        </p:nvSpPr>
        <p:spPr>
          <a:xfrm>
            <a:off x="1305000" y="5013360"/>
            <a:ext cx="182520" cy="423720"/>
          </a:xfrm>
          <a:prstGeom prst="downArrow">
            <a:avLst>
              <a:gd name="adj1" fmla="val 50000"/>
              <a:gd name="adj2" fmla="val 58037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2"/>
          <p:cNvSpPr/>
          <p:nvPr/>
        </p:nvSpPr>
        <p:spPr>
          <a:xfrm rot="16200000">
            <a:off x="5286960" y="-1523160"/>
            <a:ext cx="612720" cy="6116760"/>
          </a:xfrm>
          <a:prstGeom prst="rect">
            <a:avLst/>
          </a:prstGeom>
          <a:noFill/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pared by financiers, lawyers and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3"/>
          <p:cNvSpPr/>
          <p:nvPr/>
        </p:nvSpPr>
        <p:spPr>
          <a:xfrm rot="16200000">
            <a:off x="5307840" y="-474840"/>
            <a:ext cx="612720" cy="61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ovided by Shariah Supervisory Board based on the preliminary structure memora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4"/>
          <p:cNvSpPr/>
          <p:nvPr/>
        </p:nvSpPr>
        <p:spPr>
          <a:xfrm rot="16200000">
            <a:off x="5290200" y="583200"/>
            <a:ext cx="612720" cy="6116760"/>
          </a:xfrm>
          <a:prstGeom prst="rect">
            <a:avLst/>
          </a:prstGeom>
          <a:noFill/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 of legal, commercial, tax and credit risk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5"/>
          <p:cNvSpPr/>
          <p:nvPr/>
        </p:nvSpPr>
        <p:spPr>
          <a:xfrm rot="16200000">
            <a:off x="5292000" y="1625040"/>
            <a:ext cx="612720" cy="61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epared by lawyers with input from financiers and, if necessary accoun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6"/>
          <p:cNvSpPr/>
          <p:nvPr/>
        </p:nvSpPr>
        <p:spPr>
          <a:xfrm rot="16200000">
            <a:off x="5266440" y="2697840"/>
            <a:ext cx="612720" cy="6116760"/>
          </a:xfrm>
          <a:prstGeom prst="rect">
            <a:avLst/>
          </a:prstGeom>
          <a:noFill/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vided by Shariah Supervisory Board based on th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17"/>
          <p:cNvSpPr/>
          <p:nvPr/>
        </p:nvSpPr>
        <p:spPr>
          <a:xfrm flipH="1">
            <a:off x="3341160" y="1836720"/>
            <a:ext cx="8280" cy="423720"/>
          </a:xfrm>
          <a:prstGeom prst="line">
            <a:avLst/>
          </a:prstGeom>
          <a:ln w="9360">
            <a:solidFill>
              <a:srgbClr val="70717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18"/>
          <p:cNvSpPr/>
          <p:nvPr/>
        </p:nvSpPr>
        <p:spPr>
          <a:xfrm>
            <a:off x="3324240" y="4987800"/>
            <a:ext cx="0" cy="449280"/>
          </a:xfrm>
          <a:prstGeom prst="line">
            <a:avLst/>
          </a:prstGeom>
          <a:ln w="9360">
            <a:solidFill>
              <a:srgbClr val="70717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9"/>
          <p:cNvSpPr/>
          <p:nvPr/>
        </p:nvSpPr>
        <p:spPr>
          <a:xfrm rot="16200000">
            <a:off x="5510880" y="3580200"/>
            <a:ext cx="41292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formal discussions with Shariah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20"/>
          <p:cNvSpPr/>
          <p:nvPr/>
        </p:nvSpPr>
        <p:spPr>
          <a:xfrm rot="16200000">
            <a:off x="5512320" y="430560"/>
            <a:ext cx="41292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formal discussions with Shariah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21"/>
          <p:cNvSpPr/>
          <p:nvPr/>
        </p:nvSpPr>
        <p:spPr>
          <a:xfrm>
            <a:off x="263520" y="15084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Fataw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D34-E582-417C-9AAD-66B8621AB98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58920" y="431640"/>
            <a:ext cx="8423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future of Islamic finan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2" name="Slide Number Placeholder 2"/>
          <p:cNvSpPr/>
          <p:nvPr/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E9F2-87F7-49FC-AD82-31C4CECCCB03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5892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EF: 29-31/10/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government Suk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s in global economy – move east/developing 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islation normally needed to accommodate Islamic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ographic and polit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ity inves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rastructure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ooter Placeholder 1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Box 4"/>
          <p:cNvSpPr/>
          <p:nvPr/>
        </p:nvSpPr>
        <p:spPr>
          <a:xfrm>
            <a:off x="185760" y="6388200"/>
            <a:ext cx="221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D#19060212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mportance of Islamic Finance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erging econo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itic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1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5C7-D437-42EC-B5A4-3C76FD9CFFBC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ncorporation of Shariah law into English law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x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ory changes – CIS, deposit protection scheme, status of S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FI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ndon Stock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glish law and cou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592-0455-4920-B857-AB75D8E6EEAC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slamic finance in U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1128600" y="1157400"/>
          <a:ext cx="6326280" cy="4332240"/>
        </p:xfrm>
        <a:graphic>
          <a:graphicData uri="http://schemas.openxmlformats.org/drawingml/2006/table">
            <a:tbl>
              <a:tblPr/>
              <a:tblGrid>
                <a:gridCol w="1581120"/>
                <a:gridCol w="1582920"/>
                <a:gridCol w="1581120"/>
                <a:gridCol w="1581120"/>
              </a:tblGrid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 Licen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s Off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5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Bank of Britain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Current Account (qar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Purchase Plan; Savings Accounts; and Personal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onary Portfolio Servi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Islamic Investment Bank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y and Capital Marke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of London and the Middle E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Banking, Wealth Management, Islamic Capital Markets Produ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B (UK)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y&amp; Corporate Finance/ Asset/Wealth Manag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house Bank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y &amp; Corporate Finance 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oyds T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Current Accou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BC Amar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ased trading in September 20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Current Ac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D7F-9CA5-45BA-8C92-D2AA0CAD3A6E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slamic Products in U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lamic Funds – lever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Islamic mortg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Deposit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Current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Student 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kaful - Cob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E 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E332-1DAA-4693-ADB3-B8BE70C0C781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xamples of Islamic financing in the U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tter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lsea Barr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ton Mart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7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86A-BEFF-4819-A74E-CD2DFEA10B4D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 of Islamic Finan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ba (usury or unjust enrichment)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harar (uncertainty)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sir (speculation)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ured Profi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ethical Investmen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94840" y="632880"/>
            <a:ext cx="619452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 of Islamic Finance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295200" y="1279080"/>
            <a:ext cx="7377120" cy="39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The Nature of Money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55680" indent="-34308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y is a means of exchange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4308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y is not a commod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4308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y can only be exchanged for the same par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1:53:13Z</dcterms:created>
  <dc:creator>Helen Jones, Fiona McKenzie</dc:creator>
  <dc:description>built by: www.mediasterling.com</dc:description>
  <dc:language>en-US</dc:language>
  <cp:lastModifiedBy>London School of Economics and Political Science</cp:lastModifiedBy>
  <cp:lastPrinted>2013-10-28T11:54:57Z</cp:lastPrinted>
  <dcterms:modified xsi:type="dcterms:W3CDTF">2014-01-08T18:22:09Z</dcterms:modified>
  <cp:revision>67</cp:revision>
  <dc:subject>Norton Rose presentation</dc:subject>
  <dc:title>Norton Ros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ClientFolder">
    <vt:lpwstr>English (UK)\</vt:lpwstr>
  </property>
  <property fmtid="{D5CDD505-2E9C-101B-9397-08002B2CF9AE}" pid="3" name="MS_InstallKey">
    <vt:r8>1</vt:r8>
  </property>
  <property fmtid="{D5CDD505-2E9C-101B-9397-08002B2CF9AE}" pid="4" name="MS_MediaSterling">
    <vt:bool>1</vt:bool>
  </property>
  <property fmtid="{D5CDD505-2E9C-101B-9397-08002B2CF9AE}" pid="5" name="MS_Version">
    <vt:lpwstr>3.0.19</vt:lpwstr>
  </property>
</Properties>
</file>