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2AB1F-F678-49EC-B8BE-98C4D2B8B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0920" y="382464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B7D5-C8BB-478B-BCE7-5440D3456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928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4870-681D-4AD4-BC0F-98AB01C5D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304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480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092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304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480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1763-C5D0-432F-9CD4-E735E5E58C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7F837-DAE1-4AB9-8455-B79D76B5F6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2E646-90AE-41F3-94D5-004298B736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AA1B1-2FB8-49A3-A36C-9D30D8A50D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078C6-DE2D-47DD-A3EA-1648E9A463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6C5EA-B7E9-45E6-970C-3F4B4312CD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000" y="533160"/>
            <a:ext cx="76867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EE838-29EB-4BCE-8D4D-D416D2F1F3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D2731-F791-4DE8-A017-BC06972ECC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2F54F-7E73-490A-A501-9C913321F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928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7DB90-7451-4DBE-9153-4DA482DA2C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1BE6D-54C2-402B-BE68-CCCDE07DDA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0920" y="382464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B5B63-2877-48C2-BDB8-8268840286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928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A6EF6-85BB-453E-87E6-09D8730C07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7304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092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7304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9480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3C4B4-C4D3-4066-8E12-834E95E164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9489-8343-4248-B4D2-EDFC0C382C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43000" y="533160"/>
            <a:ext cx="76867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928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50920" y="382464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928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7304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5092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7304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9480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9DC2-B83D-422F-9822-4F6B711B2C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43000" y="533160"/>
            <a:ext cx="76867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928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50920" y="382464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928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7304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25092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7304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9480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74C04-BA08-4673-9284-078FC310F45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243000" y="533160"/>
            <a:ext cx="76867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928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50920" y="382464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928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000" y="533160"/>
            <a:ext cx="76867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386FA-1F1D-4405-B3A8-F30D3AB70E0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17304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25092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17304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9480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912D6-D760-4938-AC26-0468CF54C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928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3862-DE72-45F3-B72D-6F010CE71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0D91-A4B4-4571-BF74-1D11090C3F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2"/>
          <p:cNvSpPr/>
          <p:nvPr/>
        </p:nvSpPr>
        <p:spPr>
          <a:xfrm>
            <a:off x="252360" y="426960"/>
            <a:ext cx="8610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243000" y="6597720"/>
            <a:ext cx="6554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a19589"/>
                </a:solidFill>
                <a:latin typeface="Times New Roman"/>
              </a:rPr>
              <a:t>© Allen &amp; Overy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6"/>
          <p:cNvSpPr/>
          <p:nvPr/>
        </p:nvSpPr>
        <p:spPr>
          <a:xfrm>
            <a:off x="239760" y="6524640"/>
            <a:ext cx="8610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803640" y="6570720"/>
            <a:ext cx="21337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195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2FDD-DBF7-4E16-BDCF-42DD7C493F94}" type="slidenum">
              <a:rPr b="0" lang="en-US" sz="800" spc="-1" strike="noStrike">
                <a:solidFill>
                  <a:srgbClr val="a195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5"/>
          <p:cNvSpPr/>
          <p:nvPr/>
        </p:nvSpPr>
        <p:spPr>
          <a:xfrm>
            <a:off x="7102440" y="695628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526B-4E2E-4197-93D1-5CAC2D332BAC}" type="slidenum">
              <a:rPr b="0" lang="en-US" sz="800" spc="-1" strike="noStrike">
                <a:solidFill>
                  <a:srgbClr val="a195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Click to edit the title text format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pic>
        <p:nvPicPr>
          <p:cNvPr id="6" name="Picture 17" descr=""/>
          <p:cNvPicPr/>
          <p:nvPr/>
        </p:nvPicPr>
        <p:blipFill>
          <a:blip r:embed="rId2"/>
          <a:stretch/>
        </p:blipFill>
        <p:spPr>
          <a:xfrm>
            <a:off x="6797520" y="98280"/>
            <a:ext cx="1951200" cy="216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241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96760" indent="-204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AO_Logo_RED_RGB"/>
          <p:cNvPicPr/>
          <p:nvPr/>
        </p:nvPicPr>
        <p:blipFill>
          <a:blip r:embed="rId2"/>
          <a:stretch/>
        </p:blipFill>
        <p:spPr>
          <a:xfrm>
            <a:off x="257040" y="208080"/>
            <a:ext cx="516600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1"/>
          <p:cNvSpPr/>
          <p:nvPr/>
        </p:nvSpPr>
        <p:spPr>
          <a:xfrm>
            <a:off x="250920" y="6597720"/>
            <a:ext cx="6554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a19589"/>
                </a:solidFill>
                <a:latin typeface="Times New Roman"/>
              </a:rPr>
              <a:t>© Allen &amp; Overy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6"/>
          <p:cNvSpPr/>
          <p:nvPr/>
        </p:nvSpPr>
        <p:spPr>
          <a:xfrm>
            <a:off x="250920" y="6524640"/>
            <a:ext cx="8610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Num" idx="2"/>
          </p:nvPr>
        </p:nvSpPr>
        <p:spPr>
          <a:xfrm>
            <a:off x="6740640" y="6570720"/>
            <a:ext cx="213336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195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E134-AF91-45A4-9F85-6C9AEEA91EF0}" type="slidenum">
              <a:rPr b="0" lang="en-US" sz="800" spc="-1" strike="noStrike">
                <a:solidFill>
                  <a:srgbClr val="a195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239760" y="6524640"/>
            <a:ext cx="8610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2"/>
          <p:cNvSpPr/>
          <p:nvPr/>
        </p:nvSpPr>
        <p:spPr>
          <a:xfrm>
            <a:off x="252360" y="426960"/>
            <a:ext cx="8610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43000" y="6597720"/>
            <a:ext cx="6554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a19589"/>
                </a:solidFill>
                <a:latin typeface="Times New Roman"/>
              </a:rPr>
              <a:t>© Allen &amp; Overy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239760" y="6524640"/>
            <a:ext cx="8610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7102440" y="695628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CE82-DEBC-46E3-A238-B9A53F38C8AD}" type="slidenum">
              <a:rPr b="0" lang="en-US" sz="800" spc="-1" strike="noStrike">
                <a:solidFill>
                  <a:srgbClr val="a195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7" descr=""/>
          <p:cNvPicPr/>
          <p:nvPr/>
        </p:nvPicPr>
        <p:blipFill>
          <a:blip r:embed="rId2"/>
          <a:stretch/>
        </p:blipFill>
        <p:spPr>
          <a:xfrm>
            <a:off x="6797520" y="98280"/>
            <a:ext cx="1951200" cy="216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Click to edit the title text format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241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96760" indent="-204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12"/>
          <p:cNvSpPr/>
          <p:nvPr/>
        </p:nvSpPr>
        <p:spPr>
          <a:xfrm>
            <a:off x="252360" y="426960"/>
            <a:ext cx="8610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243000" y="6597720"/>
            <a:ext cx="6554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a19589"/>
                </a:solidFill>
                <a:latin typeface="Times New Roman"/>
              </a:rPr>
              <a:t>© Allen &amp; Overy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"/>
          <p:cNvSpPr/>
          <p:nvPr/>
        </p:nvSpPr>
        <p:spPr>
          <a:xfrm>
            <a:off x="239760" y="6524640"/>
            <a:ext cx="8610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7102440" y="695628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3A1C-EF55-461C-8D18-CA6A52F142B6}" type="slidenum">
              <a:rPr b="0" lang="en-US" sz="800" spc="-1" strike="noStrike">
                <a:solidFill>
                  <a:srgbClr val="a195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7" descr=""/>
          <p:cNvPicPr/>
          <p:nvPr/>
        </p:nvPicPr>
        <p:blipFill>
          <a:blip r:embed="rId2"/>
          <a:stretch/>
        </p:blipFill>
        <p:spPr>
          <a:xfrm>
            <a:off x="6797520" y="98280"/>
            <a:ext cx="1951200" cy="216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Click to edit the title text format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241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96760" indent="-204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12"/>
          <p:cNvSpPr/>
          <p:nvPr/>
        </p:nvSpPr>
        <p:spPr>
          <a:xfrm>
            <a:off x="252360" y="426960"/>
            <a:ext cx="8610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243000" y="6597720"/>
            <a:ext cx="6554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a19589"/>
                </a:solidFill>
                <a:latin typeface="Times New Roman"/>
              </a:rPr>
              <a:t>© Allen &amp; Overy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6"/>
          <p:cNvSpPr/>
          <p:nvPr/>
        </p:nvSpPr>
        <p:spPr>
          <a:xfrm>
            <a:off x="239760" y="6524640"/>
            <a:ext cx="8610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7102440" y="695628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D162-95F6-4CE3-9C99-DA0D33704959}" type="slidenum">
              <a:rPr b="0" lang="en-US" sz="800" spc="-1" strike="noStrike">
                <a:solidFill>
                  <a:srgbClr val="a195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7" descr=""/>
          <p:cNvPicPr/>
          <p:nvPr/>
        </p:nvPicPr>
        <p:blipFill>
          <a:blip r:embed="rId2"/>
          <a:stretch/>
        </p:blipFill>
        <p:spPr>
          <a:xfrm>
            <a:off x="6797520" y="98280"/>
            <a:ext cx="1951200" cy="216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Click to edit the title text format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241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96760" indent="-204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1"/>
          <p:cNvSpPr/>
          <p:nvPr/>
        </p:nvSpPr>
        <p:spPr>
          <a:xfrm>
            <a:off x="6740640" y="6570720"/>
            <a:ext cx="2133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9D9C-9CD8-4BBD-8672-E31330BB5DE9}" type="slidenum">
              <a:rPr b="0" lang="en-US" sz="800" spc="-1" strike="noStrike">
                <a:solidFill>
                  <a:srgbClr val="a195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PaintBands"/>
          <p:cNvPicPr/>
          <p:nvPr/>
        </p:nvPicPr>
        <p:blipFill>
          <a:blip r:embed="rId1"/>
          <a:srcRect l="0" t="5137" r="0" b="0"/>
          <a:stretch/>
        </p:blipFill>
        <p:spPr>
          <a:xfrm>
            <a:off x="0" y="2271600"/>
            <a:ext cx="9145440" cy="42372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7"/>
          <p:cNvSpPr/>
          <p:nvPr/>
        </p:nvSpPr>
        <p:spPr>
          <a:xfrm>
            <a:off x="230040" y="1488960"/>
            <a:ext cx="8339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000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95221a"/>
                </a:solidFill>
                <a:latin typeface="Times New Roman"/>
              </a:rPr>
              <a:t>Roger Wedderburn-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230040" y="2070000"/>
            <a:ext cx="833940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95221a"/>
                </a:solidFill>
                <a:latin typeface="Times New Roman"/>
              </a:rPr>
              <a:t>Debt Financing and Suku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95221a"/>
                </a:solidFill>
                <a:latin typeface="Times New Roman"/>
              </a:rPr>
              <a:t>LSE Islamic Finance Seminar Se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95221a"/>
                </a:solidFill>
                <a:latin typeface="Times New Roman"/>
              </a:rPr>
              <a:t>30 October 201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What are Sukuk?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 certif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pay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mimic conventional fixed-income debt secu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a Fatwa sign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ri’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ed by English law no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ri’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b23427"/>
                </a:solidFill>
                <a:latin typeface="Times New Roman"/>
              </a:rPr>
              <a:t>What are sukuk?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142640" y="1447560"/>
            <a:ext cx="7697880" cy="42130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haria Schol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ed on by Sharia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lars provide a fat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range of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nforce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ing bound by Sharia is essentially el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exceptions, Sharia is not national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hami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b23427"/>
                </a:solidFill>
                <a:latin typeface="Times New Roman"/>
              </a:rPr>
              <a:t>Sukuk – Interesting features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incipal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kuk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ventional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scription Agree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scription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ency Agree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ency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le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e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 Agency Agre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chase Under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Sukuk – Interesting features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the Trus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on defaul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9"/>
          <p:cNvSpPr/>
          <p:nvPr/>
        </p:nvSpPr>
        <p:spPr>
          <a:xfrm>
            <a:off x="1189080" y="333360"/>
            <a:ext cx="768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3427"/>
                </a:solidFill>
                <a:latin typeface="Arial"/>
                <a:ea typeface="Arial"/>
              </a:rPr>
              <a:t>What is the future for suku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0" descr=""/>
          <p:cNvPicPr/>
          <p:nvPr/>
        </p:nvPicPr>
        <p:blipFill>
          <a:blip r:embed="rId1"/>
          <a:stretch/>
        </p:blipFill>
        <p:spPr>
          <a:xfrm>
            <a:off x="1846440" y="1268280"/>
            <a:ext cx="533376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"/>
          <p:cNvSpPr/>
          <p:nvPr/>
        </p:nvSpPr>
        <p:spPr>
          <a:xfrm>
            <a:off x="1189080" y="333360"/>
            <a:ext cx="768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3427"/>
                </a:solidFill>
                <a:latin typeface="Arial"/>
                <a:ea typeface="Arial"/>
              </a:rPr>
              <a:t>What is the future for suku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"/>
          <p:cNvPicPr/>
          <p:nvPr/>
        </p:nvPicPr>
        <p:blipFill>
          <a:blip r:embed="rId1"/>
          <a:stretch/>
        </p:blipFill>
        <p:spPr>
          <a:xfrm>
            <a:off x="1905120" y="1247760"/>
            <a:ext cx="533376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What is the future for sukuk?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ic issuer or issuer based in Middle East /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uild a new investor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nefit from future liquidity as market deve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lement commitment to Middle East /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What is the future for sukuk?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2392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vereign suk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 East credi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kuk defaults and restructu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a comp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greater predictability and consis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market liqu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 suk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sukuk by western multi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others foll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7012080" y="6570720"/>
            <a:ext cx="2133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5A46-9020-4CD8-B544-3CFFD9766E28}" type="slidenum">
              <a:rPr b="0" lang="en-US" sz="800" spc="-1" strike="noStrike">
                <a:solidFill>
                  <a:srgbClr val="a19589"/>
                </a:solidFill>
                <a:latin typeface="Times New Roman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Any questions?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7012080" y="6570720"/>
            <a:ext cx="2133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B7FE-D699-4347-99D4-57FE14A8104A}" type="slidenum">
              <a:rPr b="0" lang="en-US" sz="800" spc="-1" strike="noStrike">
                <a:solidFill>
                  <a:srgbClr val="a19589"/>
                </a:solidFill>
                <a:latin typeface="Times New Roman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Introduction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23920" indent="-223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debt financ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bond issues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there a bond mark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this relevant to suku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sukuk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uku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 features of suk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future for suku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What is debt financing?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 lo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e financ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k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How do bond issues work?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 bo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differences from loa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credi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ersity in credi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Why is there a bond market?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sue secur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source of funding (issu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flexible (bank lend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dging (non-bank lend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How is this relevant to sukuk?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rea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ive source of funding (issu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flexible (bank lend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dging (non-bank lend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How do sukuk work?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23920" indent="-223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ic bonds, but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434520"/>
            <a:ext cx="826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b23427"/>
                </a:solidFill>
                <a:latin typeface="Times New Roman"/>
              </a:rPr>
              <a:t>How do sukuk work?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059280" y="2313000"/>
            <a:ext cx="2125440" cy="719280"/>
          </a:xfrm>
          <a:prstGeom prst="rect">
            <a:avLst/>
          </a:prstGeom>
          <a:solidFill>
            <a:srgbClr val="edcbbe"/>
          </a:solidFill>
          <a:ln w="9360">
            <a:solidFill>
              <a:srgbClr val="952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5221a"/>
                </a:solidFill>
                <a:latin typeface="Arial"/>
                <a:ea typeface="Arial"/>
              </a:rPr>
              <a:t>PAKIS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059280" y="4435560"/>
            <a:ext cx="2162160" cy="720720"/>
          </a:xfrm>
          <a:prstGeom prst="rect">
            <a:avLst/>
          </a:prstGeom>
          <a:solidFill>
            <a:srgbClr val="edcbbe"/>
          </a:solidFill>
          <a:ln w="9360">
            <a:solidFill>
              <a:srgbClr val="952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5221a"/>
                </a:solidFill>
                <a:latin typeface="Arial"/>
                <a:ea typeface="Arial"/>
              </a:rPr>
              <a:t>INVES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 rot="5400000">
            <a:off x="3259440" y="35586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US$50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 rot="5400000">
            <a:off x="2668320" y="354528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b23427"/>
                </a:solidFill>
                <a:latin typeface="Arial"/>
                <a:ea typeface="Arial"/>
              </a:rPr>
              <a:t>US$500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 rot="5400000">
            <a:off x="4271760" y="360720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595"/>
                </a:solidFill>
                <a:latin typeface="Arial"/>
                <a:ea typeface="Arial"/>
              </a:rPr>
              <a:t>US$500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3205080" y="3173400"/>
            <a:ext cx="1800" cy="1150920"/>
          </a:xfrm>
          <a:prstGeom prst="line">
            <a:avLst/>
          </a:prstGeom>
          <a:ln w="9360">
            <a:solidFill>
              <a:srgbClr val="b234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 flipH="1">
            <a:off x="3725640" y="3139920"/>
            <a:ext cx="6120" cy="11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81080" y="1197000"/>
            <a:ext cx="87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lamic Republic of Pakistan – Conventional Bond Issuance (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>
            <a:off x="4799160" y="3124080"/>
            <a:ext cx="1440" cy="1150920"/>
          </a:xfrm>
          <a:prstGeom prst="line">
            <a:avLst/>
          </a:prstGeom>
          <a:ln w="9360">
            <a:solidFill>
              <a:srgbClr val="00659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4311720" y="3124080"/>
            <a:ext cx="1440" cy="1150920"/>
          </a:xfrm>
          <a:prstGeom prst="line">
            <a:avLst/>
          </a:prstGeom>
          <a:ln w="9360">
            <a:solidFill>
              <a:srgbClr val="0065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 rot="5400000">
            <a:off x="4177080" y="35452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595"/>
                </a:solidFill>
                <a:latin typeface="Arial"/>
                <a:ea typeface="Arial"/>
              </a:rPr>
              <a:t>B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How do sukuk work?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108320" y="2798640"/>
            <a:ext cx="2125800" cy="730440"/>
          </a:xfrm>
          <a:prstGeom prst="rect">
            <a:avLst/>
          </a:prstGeom>
          <a:solidFill>
            <a:srgbClr val="edcb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5221a"/>
                </a:solidFill>
                <a:latin typeface="Arial"/>
                <a:ea typeface="Arial"/>
              </a:rPr>
              <a:t>ISS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108320" y="4951440"/>
            <a:ext cx="2162160" cy="730080"/>
          </a:xfrm>
          <a:prstGeom prst="rect">
            <a:avLst/>
          </a:prstGeom>
          <a:solidFill>
            <a:srgbClr val="edcb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5221a"/>
                </a:solidFill>
                <a:latin typeface="Arial"/>
                <a:ea typeface="Arial"/>
              </a:rPr>
              <a:t>INVES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 rot="5400000">
            <a:off x="5253840" y="404424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595"/>
                </a:solidFill>
                <a:latin typeface="Arial"/>
                <a:ea typeface="Arial"/>
              </a:rPr>
              <a:t>Suk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 rot="5400000">
            <a:off x="5320080" y="411372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595"/>
                </a:solidFill>
                <a:latin typeface="Arial"/>
                <a:ea typeface="Arial"/>
              </a:rPr>
              <a:t>US$500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 rot="5400000">
            <a:off x="4378680" y="40680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US$50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>
            <a:off x="4844880" y="3638520"/>
            <a:ext cx="0" cy="11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6630840" y="5388120"/>
            <a:ext cx="1871640" cy="717840"/>
          </a:xfrm>
          <a:prstGeom prst="rect">
            <a:avLst/>
          </a:prstGeom>
          <a:solidFill>
            <a:srgbClr val="a1958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nvestors purchase sukuk from Issu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6737400" y="3060720"/>
            <a:ext cx="1871640" cy="1265400"/>
          </a:xfrm>
          <a:prstGeom prst="rect">
            <a:avLst/>
          </a:prstGeom>
          <a:solidFill>
            <a:srgbClr val="a1958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ssuer purchases Land from Highway Authority for Purchase Price, declares trust and issues suku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119240" y="3784680"/>
            <a:ext cx="1871640" cy="1159200"/>
          </a:xfrm>
          <a:prstGeom prst="rect">
            <a:avLst/>
          </a:prstGeom>
          <a:solidFill>
            <a:srgbClr val="a1958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ssuer leases Land to Pakistan for rental f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ssuer pays Investor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eriodic distrib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1914480" y="5162400"/>
            <a:ext cx="1871640" cy="1159200"/>
          </a:xfrm>
          <a:prstGeom prst="rect">
            <a:avLst/>
          </a:prstGeom>
          <a:solidFill>
            <a:srgbClr val="a1958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akistan purchases land for Exercise P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ssuer pays Investor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nal distrib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4280040" y="2140920"/>
            <a:ext cx="2880" cy="50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5"/>
          <p:cNvSpPr/>
          <p:nvPr/>
        </p:nvSpPr>
        <p:spPr>
          <a:xfrm flipH="1">
            <a:off x="3279240" y="214164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6"/>
          <p:cNvSpPr/>
          <p:nvPr/>
        </p:nvSpPr>
        <p:spPr>
          <a:xfrm flipH="1">
            <a:off x="4503600" y="1921680"/>
            <a:ext cx="5040" cy="69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7"/>
          <p:cNvSpPr/>
          <p:nvPr/>
        </p:nvSpPr>
        <p:spPr>
          <a:xfrm flipH="1">
            <a:off x="3243240" y="1922400"/>
            <a:ext cx="12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3459240" y="2170080"/>
            <a:ext cx="8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5221a"/>
                </a:solidFill>
                <a:latin typeface="Arial"/>
                <a:ea typeface="Arial"/>
              </a:rPr>
              <a:t>Rental (50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3314880" y="1589040"/>
            <a:ext cx="122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b23427"/>
                </a:solidFill>
                <a:latin typeface="Arial"/>
                <a:ea typeface="Arial"/>
              </a:rPr>
              <a:t>Ijara (Lea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"/>
          <p:cNvSpPr/>
          <p:nvPr/>
        </p:nvSpPr>
        <p:spPr>
          <a:xfrm>
            <a:off x="1700280" y="1812960"/>
            <a:ext cx="1434960" cy="733320"/>
          </a:xfrm>
          <a:prstGeom prst="rect">
            <a:avLst/>
          </a:prstGeom>
          <a:solidFill>
            <a:srgbClr val="edcb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5221a"/>
                </a:solidFill>
                <a:latin typeface="Arial"/>
                <a:ea typeface="Arial"/>
              </a:rPr>
              <a:t>PAKIS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"/>
          <p:cNvSpPr/>
          <p:nvPr/>
        </p:nvSpPr>
        <p:spPr>
          <a:xfrm flipH="1">
            <a:off x="2779200" y="2652840"/>
            <a:ext cx="180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2"/>
          <p:cNvSpPr/>
          <p:nvPr/>
        </p:nvSpPr>
        <p:spPr>
          <a:xfrm flipH="1">
            <a:off x="2782800" y="3284640"/>
            <a:ext cx="114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3"/>
          <p:cNvSpPr/>
          <p:nvPr/>
        </p:nvSpPr>
        <p:spPr>
          <a:xfrm flipH="1">
            <a:off x="2557080" y="2652840"/>
            <a:ext cx="468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4"/>
          <p:cNvSpPr/>
          <p:nvPr/>
        </p:nvSpPr>
        <p:spPr>
          <a:xfrm flipH="1">
            <a:off x="2561760" y="3489480"/>
            <a:ext cx="136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795760" y="2544840"/>
            <a:ext cx="97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5221a"/>
                </a:solidFill>
                <a:latin typeface="Arial"/>
                <a:ea typeface="Arial"/>
              </a:rPr>
              <a:t>Exercise</a:t>
            </a:r>
            <a:br>
              <a:rPr sz="1400"/>
            </a:br>
            <a:r>
              <a:rPr b="0" lang="en-GB" sz="1400" spc="-1" strike="noStrike">
                <a:solidFill>
                  <a:srgbClr val="95221a"/>
                </a:solidFill>
                <a:latin typeface="Arial"/>
                <a:ea typeface="Arial"/>
              </a:rPr>
              <a:t>Price (500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1983240" y="29732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b23427"/>
                </a:solidFill>
                <a:latin typeface="Arial"/>
                <a:ea typeface="Arial"/>
              </a:rPr>
              <a:t>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7"/>
          <p:cNvSpPr/>
          <p:nvPr/>
        </p:nvSpPr>
        <p:spPr>
          <a:xfrm>
            <a:off x="7167600" y="1812960"/>
            <a:ext cx="1434960" cy="839880"/>
          </a:xfrm>
          <a:prstGeom prst="rect">
            <a:avLst/>
          </a:prstGeom>
          <a:solidFill>
            <a:srgbClr val="edcb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5221a"/>
                </a:solidFill>
                <a:latin typeface="Arial"/>
                <a:ea typeface="Arial"/>
              </a:rPr>
              <a:t>NATIONAL</a:t>
            </a:r>
            <a:br>
              <a:rPr sz="1400"/>
            </a:br>
            <a:r>
              <a:rPr b="0" lang="en-GB" sz="1400" spc="-1" strike="noStrike">
                <a:solidFill>
                  <a:srgbClr val="95221a"/>
                </a:solidFill>
                <a:latin typeface="Arial"/>
                <a:ea typeface="Arial"/>
              </a:rPr>
              <a:t>HIGHWAY</a:t>
            </a:r>
            <a:br>
              <a:rPr sz="1400"/>
            </a:br>
            <a:r>
              <a:rPr b="0" lang="en-GB" sz="1400" spc="-1" strike="noStrike">
                <a:solidFill>
                  <a:srgbClr val="95221a"/>
                </a:solidFill>
                <a:latin typeface="Arial"/>
                <a:ea typeface="Arial"/>
              </a:rPr>
              <a:t>AUTHO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8"/>
          <p:cNvSpPr/>
          <p:nvPr/>
        </p:nvSpPr>
        <p:spPr>
          <a:xfrm flipH="1">
            <a:off x="5938560" y="2140920"/>
            <a:ext cx="3240" cy="50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9"/>
          <p:cNvSpPr/>
          <p:nvPr/>
        </p:nvSpPr>
        <p:spPr>
          <a:xfrm flipH="1">
            <a:off x="5949720" y="214164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0"/>
          <p:cNvSpPr/>
          <p:nvPr/>
        </p:nvSpPr>
        <p:spPr>
          <a:xfrm flipH="1">
            <a:off x="5729040" y="1921680"/>
            <a:ext cx="468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1"/>
          <p:cNvSpPr/>
          <p:nvPr/>
        </p:nvSpPr>
        <p:spPr>
          <a:xfrm flipH="1">
            <a:off x="5730840" y="1922400"/>
            <a:ext cx="122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6008760" y="2176560"/>
            <a:ext cx="115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5221a"/>
                </a:solidFill>
                <a:latin typeface="Arial"/>
                <a:ea typeface="Arial"/>
              </a:rPr>
              <a:t>Purchase</a:t>
            </a:r>
            <a:br>
              <a:rPr sz="1400"/>
            </a:br>
            <a:r>
              <a:rPr b="0" lang="en-GB" sz="1400" spc="-1" strike="noStrike">
                <a:solidFill>
                  <a:srgbClr val="95221a"/>
                </a:solidFill>
                <a:latin typeface="Arial"/>
                <a:ea typeface="Arial"/>
              </a:rPr>
              <a:t>Price   (500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3"/>
          <p:cNvSpPr/>
          <p:nvPr/>
        </p:nvSpPr>
        <p:spPr>
          <a:xfrm>
            <a:off x="5762520" y="1604880"/>
            <a:ext cx="119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b23427"/>
                </a:solidFill>
                <a:latin typeface="Arial"/>
                <a:ea typeface="Arial"/>
              </a:rPr>
              <a:t>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4"/>
          <p:cNvSpPr/>
          <p:nvPr/>
        </p:nvSpPr>
        <p:spPr>
          <a:xfrm>
            <a:off x="5438880" y="3638520"/>
            <a:ext cx="0" cy="11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5"/>
          <p:cNvSpPr/>
          <p:nvPr/>
        </p:nvSpPr>
        <p:spPr>
          <a:xfrm>
            <a:off x="5872320" y="3630600"/>
            <a:ext cx="0" cy="1166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108000" y="1197000"/>
            <a:ext cx="88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lamic Republic of Pakistan – Sukuk Al Ijara (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9"/>
          <p:cNvSpPr/>
          <p:nvPr/>
        </p:nvSpPr>
        <p:spPr>
          <a:xfrm>
            <a:off x="4290840" y="3638520"/>
            <a:ext cx="0" cy="11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 rot="5400000">
            <a:off x="3821400" y="406908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b23427"/>
                </a:solidFill>
                <a:latin typeface="Arial"/>
                <a:ea typeface="Arial"/>
              </a:rPr>
              <a:t>US$500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4-01-08T18:24:0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lient">
    <vt:lpwstr>0010023</vt:lpwstr>
  </property>
  <property fmtid="{D5CDD505-2E9C-101B-9397-08002B2CF9AE}" pid="3" name="FilePedigree">
    <vt:lpwstr>OSAX</vt:lpwstr>
  </property>
  <property fmtid="{D5CDD505-2E9C-101B-9397-08002B2CF9AE}" pid="4" name="Matter">
    <vt:lpwstr>0024072</vt:lpwstr>
  </property>
  <property fmtid="{D5CDD505-2E9C-101B-9397-08002B2CF9AE}" pid="5" name="cpClientMatter">
    <vt:lpwstr>0010023-0024072</vt:lpwstr>
  </property>
  <property fmtid="{D5CDD505-2E9C-101B-9397-08002B2CF9AE}" pid="6" name="cpCombinedRef">
    <vt:lpwstr>0010023-0024072 ICM:18153333.1</vt:lpwstr>
  </property>
  <property fmtid="{D5CDD505-2E9C-101B-9397-08002B2CF9AE}" pid="7" name="cpDocRef">
    <vt:lpwstr>ICM:18153333.1</vt:lpwstr>
  </property>
</Properties>
</file>