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5.png" ContentType="image/png"/>
  <Override PartName="/ppt/media/image24.wmf" ContentType="image/x-wmf"/>
  <Override PartName="/ppt/media/image22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44EB-BE43-4549-BDAA-76376138D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FAD-6DE6-4A44-B59F-57D4BA417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A181-EB64-42E9-8A0E-2F1E272F8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AD2-5914-4393-BE2D-F3C41C4E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4E6-AB35-41BE-8272-B8165C2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A54-CDBF-4778-A596-321AB1E5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16B-4683-4B6B-B3CD-429309D0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082-8A12-4D05-88E0-139B947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B46-6035-4A34-9246-18434F4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4D5-D767-4442-93FF-CD5C478F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517-D514-483F-89AA-37B5134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67E-0C71-4724-9D24-DBF51A2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0C3-594B-45F7-9D8A-EA2CB632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62B-F8B9-433B-B0A9-0F95E9A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722-C06E-42BD-81EE-7DF3BA4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EC8-E2A0-4166-8000-70610FCE4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2.goldmansach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Financial Crisis: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’s to bla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65800" y="5818320"/>
            <a:ext cx="359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ederation of Indi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Delhi, 9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24000" y="1628640"/>
          <a:ext cx="8424720" cy="459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42472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4280" y="255240"/>
            <a:ext cx="8002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IMF forecast a modest recovery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9640" y="64371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IMF World Economic Outlook Database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18400" y="1197000"/>
            <a:ext cx="75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ss domestic product forecast (% change), constant prices, 2007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01800" y="1413000"/>
            <a:ext cx="5975280" cy="357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4000" y="6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t global unemployment is likely to continue to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93440" y="105264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mployment (Million) and unemployment rate (%), 1999 -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01800" y="6462720"/>
            <a:ext cx="8207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ource: ILO, Trends Econometric Models, December 200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900000" y="5157720"/>
            <a:ext cx="47516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68360" y="119700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im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se monetary policy, 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ispricing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redit bub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ss’ leverage, facilitated by procyclical regulation, and regulatory arbit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ss’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nmanag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of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al sec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which magnified risks, rather than diversif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6560" y="4730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the underlying 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current account imbalances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grew rapidly from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75920" y="1190520"/>
            <a:ext cx="77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s of account balances for selected countries ($ Billion), 1993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900000" y="1816200"/>
            <a:ext cx="7201080" cy="420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68360" y="6437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Datastream, FSA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79280" y="33336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623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Bank of England, Speech of Charles Bean at the Annual Conference of the European Economic Association, 2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g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24000" y="1303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netary policy was loose, especially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27840" y="119052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ation of policy rates from Taylor rule (%), 200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1116000" y="1698480"/>
            <a:ext cx="6769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640872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ehold debt 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%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P, 1987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mage3"/>
          <p:cNvPicPr/>
          <p:nvPr/>
        </p:nvPicPr>
        <p:blipFill>
          <a:blip r:embed="rId2"/>
          <a:stretch/>
        </p:blipFill>
        <p:spPr>
          <a:xfrm>
            <a:off x="0" y="1557360"/>
            <a:ext cx="8128080" cy="4495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95280" y="64468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FSA, ONS, Federal Reserve, Eurodata, Data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79280" y="189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Household debt rose shar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Image5"/>
          <p:cNvPicPr/>
          <p:nvPr/>
        </p:nvPicPr>
        <p:blipFill>
          <a:blip r:embed="rId1"/>
          <a:stretch/>
        </p:blipFill>
        <p:spPr>
          <a:xfrm>
            <a:off x="2268360" y="1125360"/>
            <a:ext cx="4229280" cy="503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95280" y="8301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e-Shiller Home Price Index (2000 Q1 = 100), Jan 1987 -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63817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Case-Shiller Price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79280" y="2570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US house prices doubled in fiv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79280" y="33336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4360" y="61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ECB, National Statistical Offices, IMF, EMF, Italian Ministry of Infrastructure, Morgan Stanley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189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 prices rose rapidly in much of Europe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3280" y="119052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house price changes over the last ten years (%), 1996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4040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9280" y="1015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nk Balance Sheets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95280" y="645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Capital I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mage7"/>
          <p:cNvPicPr/>
          <p:nvPr/>
        </p:nvPicPr>
        <p:blipFill>
          <a:blip r:embed="rId2"/>
          <a:stretch/>
        </p:blipFill>
        <p:spPr>
          <a:xfrm>
            <a:off x="395280" y="1268280"/>
            <a:ext cx="7872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03200" y="55548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-cap banks’ aggregate assets rose to 43x tangible book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760320" cy="6112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55640" y="1484280"/>
            <a:ext cx="7561080" cy="4898880"/>
            <a:chOff x="755640" y="1484280"/>
            <a:chExt cx="7561080" cy="4898880"/>
          </a:xfrm>
        </p:grpSpPr>
        <p:pic>
          <p:nvPicPr>
            <p:cNvPr id="54" name="Picture 4" descr="Vampyroteuthis_illustration"/>
            <p:cNvPicPr/>
            <p:nvPr/>
          </p:nvPicPr>
          <p:blipFill>
            <a:blip r:embed="rId2"/>
            <a:stretch/>
          </p:blipFill>
          <p:spPr>
            <a:xfrm>
              <a:off x="755640" y="1484280"/>
              <a:ext cx="7561080" cy="48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Goldman Sachs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640" y="1484280"/>
              <a:ext cx="115236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179280" y="24624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olling Sto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ribed Goldman Sachs as “a great vampire squid wrapped around the face of humanity, relentlessly jamming its blood funnel into anything that smells like mone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79280" y="1015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 banks leverage grew sharply from 2003 o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Bank of England, Financial Stability Report, Issue 24, 28 October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27800" y="98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ht 1"/>
          <p:cNvPicPr/>
          <p:nvPr/>
        </p:nvPicPr>
        <p:blipFill>
          <a:blip r:embed="rId2"/>
          <a:stretch/>
        </p:blipFill>
        <p:spPr>
          <a:xfrm>
            <a:off x="1258920" y="1217520"/>
            <a:ext cx="6121440" cy="5019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539640" y="98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 UK banks’ leverage ratio, %, 1998 -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95280" y="6280200"/>
            <a:ext cx="83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Leverage ratio defined as total assets divided by total equity excluding minority interest. Excludes Nationwide due to lack of interim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826920" y="64771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: The Turner Review, March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826200" y="90792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 – volumes outstanding, $ Billion, 1996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6560" y="328680"/>
            <a:ext cx="86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s di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ecuritised credi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913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8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curitisation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magnified credi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773360"/>
          <a:ext cx="4033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3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3280" y="1773360"/>
          <a:ext cx="40341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034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5"/>
          <p:cNvSpPr/>
          <p:nvPr/>
        </p:nvSpPr>
        <p:spPr>
          <a:xfrm>
            <a:off x="6012000" y="2492280"/>
            <a:ext cx="1008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PER SEN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84720" y="4581360"/>
            <a:ext cx="9352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95280" y="1197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ital Structure Containing Subprim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003640" y="1197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prime Mezzanine CDO Containing BBB Subprim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971640" y="2060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42920" y="4724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116000" y="5084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42920" y="5300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42920" y="5589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042920" y="587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348000" y="5300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564000" y="5445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76720" y="2060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003640" y="4292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003640" y="5589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7308720" y="1989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380360" y="429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7308720" y="57340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3348000" y="2133360"/>
            <a:ext cx="2519280" cy="3382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3348000" y="5661000"/>
            <a:ext cx="2448000" cy="289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50920" y="31417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UMULATIVE LO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6" descr="main"/>
          <p:cNvPicPr/>
          <p:nvPr/>
        </p:nvPicPr>
        <p:blipFill>
          <a:blip r:embed="rId5"/>
          <a:srcRect l="0" t="0" r="84454" b="0"/>
          <a:stretch/>
        </p:blipFill>
        <p:spPr>
          <a:xfrm>
            <a:off x="7740720" y="26028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611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Morgan Stanle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24000" y="40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vate Equity Leverage Multiple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19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Morgan Stanley, Capital I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8"/>
          <p:cNvSpPr/>
          <p:nvPr/>
        </p:nvSpPr>
        <p:spPr>
          <a:xfrm>
            <a:off x="900000" y="98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t/EBITDA, 2002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82560" y="1766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24000" y="1890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owth in Hedge Fund Assets &amp; Leverage accel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11280" y="6093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Through Q308 – HFR industry report; Q408 projections based on C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Image2"/>
          <p:cNvPicPr/>
          <p:nvPr/>
        </p:nvPicPr>
        <p:blipFill>
          <a:blip r:embed="rId2"/>
          <a:stretch/>
        </p:blipFill>
        <p:spPr>
          <a:xfrm>
            <a:off x="1476360" y="1989000"/>
            <a:ext cx="5689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24000" y="14382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oints to the need for monetary policy to focus mor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credit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financial intermediation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asse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stronger emphasis on the risk of financi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92040" y="879480"/>
            <a:ext cx="7275600" cy="521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68360" y="162864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regulation may not have been the main cause of the crisis, but it is important to refor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 in markets, and in regulation, has been affected, which damages investment and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lobal system does not meet the needs of glob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24000" y="260280"/>
            <a:ext cx="806436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he crisis revealed 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blem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xisting regulatory archite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pelessly complex 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ing a central authority to drive co-operation and make changes ha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 system balkanised and in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uropean system a fudge – neither truly European nor truly n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two national systems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169236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760" y="419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Committee Structur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Regulator’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64000" y="1484280"/>
            <a:ext cx="1512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419640" y="3068640"/>
            <a:ext cx="180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S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50920" y="2133720"/>
            <a:ext cx="9014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619280" y="2060640"/>
            <a:ext cx="13701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76360" y="26370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T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Money Launde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588000" y="285264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ccou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7956720" y="2924280"/>
            <a:ext cx="1008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24000" y="3645000"/>
            <a:ext cx="172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nk for 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entral Ban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24000" y="5084640"/>
            <a:ext cx="136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entral Ban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95280" y="6021360"/>
            <a:ext cx="1224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G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050920" y="6021360"/>
            <a:ext cx="1295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104920" y="5084640"/>
            <a:ext cx="145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l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ank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814920" y="5084640"/>
            <a:ext cx="151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O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Secur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140360" y="6021360"/>
            <a:ext cx="13698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int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740560" y="5084640"/>
            <a:ext cx="14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nsur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7885080" y="3573360"/>
            <a:ext cx="1258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5724360" y="3573360"/>
            <a:ext cx="93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A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u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6877080" y="3573360"/>
            <a:ext cx="79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97164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1692360" y="5661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900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2050920" y="3500280"/>
            <a:ext cx="136872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877080" y="90792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116000" y="22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313200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529272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 flipV="1">
            <a:off x="226836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2268360" y="1557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3"/>
          <p:cNvSpPr/>
          <p:nvPr/>
        </p:nvSpPr>
        <p:spPr>
          <a:xfrm>
            <a:off x="327672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6300720" y="177336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7631280" y="5084640"/>
            <a:ext cx="151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u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4284720" y="191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5076720" y="17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 flipV="1">
            <a:off x="5219640" y="242064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H="1">
            <a:off x="3058920" y="3716280"/>
            <a:ext cx="433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3492360" y="566100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5508720" y="5660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464328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406728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4643280" y="3716280"/>
            <a:ext cx="1513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>
            <a:off x="5219640" y="3716280"/>
            <a:ext cx="237672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334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3419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8"/>
          <p:cNvSpPr/>
          <p:nvPr/>
        </p:nvSpPr>
        <p:spPr>
          <a:xfrm>
            <a:off x="334800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9"/>
          <p:cNvSpPr/>
          <p:nvPr/>
        </p:nvSpPr>
        <p:spPr>
          <a:xfrm flipH="1">
            <a:off x="3347640" y="4076640"/>
            <a:ext cx="453708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5292720" y="4076640"/>
            <a:ext cx="273528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1"/>
          <p:cNvSpPr/>
          <p:nvPr/>
        </p:nvSpPr>
        <p:spPr>
          <a:xfrm flipH="1">
            <a:off x="6876720" y="407664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2"/>
          <p:cNvSpPr/>
          <p:nvPr/>
        </p:nvSpPr>
        <p:spPr>
          <a:xfrm>
            <a:off x="802800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3"/>
          <p:cNvSpPr/>
          <p:nvPr/>
        </p:nvSpPr>
        <p:spPr>
          <a:xfrm>
            <a:off x="7596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4"/>
          <p:cNvSpPr/>
          <p:nvPr/>
        </p:nvSpPr>
        <p:spPr>
          <a:xfrm>
            <a:off x="76676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5"/>
          <p:cNvSpPr/>
          <p:nvPr/>
        </p:nvSpPr>
        <p:spPr>
          <a:xfrm>
            <a:off x="66596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H="1">
            <a:off x="5219280" y="306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 flipV="1">
            <a:off x="5219640" y="357300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0" y="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9"/>
          <p:cNvSpPr/>
          <p:nvPr/>
        </p:nvSpPr>
        <p:spPr>
          <a:xfrm>
            <a:off x="5651640" y="5734080"/>
            <a:ext cx="34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dapted with permission from Sloan and Fitzpatrick in Chapter 13, The Structure of International Market Regulation, in Financial Markets and Exchanges Law, Oxford University Press, March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40720" y="225360"/>
            <a:ext cx="7603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989000"/>
          <a:ext cx="8496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6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o is to blame for the current financial cri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964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respondents answering “a lot” to the given statement: “For each one please  tell me if you think it has contributed a lot, some, or not at all to the downtur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9080" y="647712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: WorldPublicOpinion.org. Public Opinion on the Global Economic Crisis, 21 July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7020000" y="2068560"/>
            <a:ext cx="1371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ational Regulator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1557360"/>
          <a:ext cx="8197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97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4"/>
          <p:cNvSpPr/>
          <p:nvPr/>
        </p:nvSpPr>
        <p:spPr>
          <a:xfrm>
            <a:off x="108000" y="6237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ow Countries Supervise their Banks, Insurers and Securities Markets 2007: Central Bank Pub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258920" y="1557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13200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219640" y="486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7164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050920" y="17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12589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203640" y="39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276720" y="3284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7236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7236000" y="263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H="1">
            <a:off x="2050560" y="191628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0" y="184464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bank regu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250920" y="3068640"/>
            <a:ext cx="118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s as banking reg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995640" y="414972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 as one pil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924360" y="3213000"/>
            <a:ext cx="11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Central Bank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7956720" y="350028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-Central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956720" y="242100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2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And there were a number of r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gulatory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 Financial markets regulation wa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coordinated and overl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d regulatory “compet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Regulation also at fault: complex mix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uropean and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UK, weak FSA regulation of Norther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, and the Bank of England too distan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More r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gulatory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rkets were unreg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bank private mortgag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Default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xchange, central clearing or capit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urance industry in the US was lightly reg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ederal reg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ed “one-sided” credit insurance &amp; CDS risks taken on by AIG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 capital requirements were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ed too much leverage, over-reliance on credit ratings, and didn’t encompass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-cyclical: as asset prices rose, banks seemed to need less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20 Sum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haping the global financial and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rporate governance and ri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prudential regulation, but with a ‘managed transition’ to avoid exacerbating the down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financial activities according to their economic substance and ensure regulation is consistent in all juris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7603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9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haping the global financial and regulatory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l Stability Board with standing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hip of FSB, Basel etc extended to BRICs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ed coverage of regulation to include systemic hedge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ghter controls on offshor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ghter regulation of credit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and better quality capital in the ban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-prudential mechanism to respond to asset price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ory controls on bank remu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25440" y="461880"/>
            <a:ext cx="31021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20 Sum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722680" y="1268280"/>
            <a:ext cx="3720960" cy="5112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8436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5092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bout the bankers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ssive reliance on Value at Ris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d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dequate h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wed capital alloc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ing strategies under-capit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entive structures which reward short-term risk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corporate governance: boards ignorant of the ris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nagement were ta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108000" y="25560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ailures in the financial firms themselves may have been even mo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of the past 30 years of macroeconomics was “spectacularly useless at best, and positively harmful at wor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. Paul Krugman, Princ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nfortunate uselessness of most ‘state of the art’ academic monetary economic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. Willem Buiter,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dern risk management paradigm held sway for decades. The whole intellectual edifice, however, collapsed in the summer of last ye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n Green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4920" y="18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, finally, there are major problems with Economics – and efficient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imbalances, loose monetary policy and financial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pid credit growth, asset price bubbles, overbor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finance without glob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wed assumptions about market efficiency and investor ra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70880" y="344520"/>
            <a:ext cx="5284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ch a complex fail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s many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Financial Crisis: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’s to bla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365800" y="5818320"/>
            <a:ext cx="359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ederation of Indi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Delhi, 9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4000" y="148428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ists - “if anything needs fixing, it’s the sociology of the profession” – Dani Rodrik (Harv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siness schools – the Guard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osterone – Scientific American: “risk-taking in an investment game with potential for real monetary pay-offs correlates positively with salivary testosterone levels and facial masculinit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deo games – Professor Susan Greenfield of Oxf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uman greed – Rowan Willi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411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me su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24000" y="404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o blames “the Jews” for the financial crisi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184720" cy="4217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395280" y="6237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N Malhotra, Y Margalit: State of the Nation. Boston Review, May/ Jun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% bl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 reg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dge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reg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58160" y="257040"/>
            <a:ext cx="6122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iews of Me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f the European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6% recommend deeper political union in Europe, as a key respon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th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nk failures are caused by depositors who don’t deposit enough money to cover the losses due to mismanagement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n Qua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On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p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Tw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Thre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Four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l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Fiv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6560" y="404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redit Crisis:  A Five-Ac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kespearian Trag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53:11Z</dcterms:created>
  <dc:creator>hallas</dc:creator>
  <dc:description/>
  <dc:language>en-US</dc:language>
  <cp:lastModifiedBy>Ruth Kattumuri</cp:lastModifiedBy>
  <dcterms:modified xsi:type="dcterms:W3CDTF">2010-04-07T04:26:30Z</dcterms:modified>
  <cp:revision>49</cp:revision>
  <dc:subject/>
  <dc:title>MSc Law &amp; Accounting Seminar</dc:title>
</cp:coreProperties>
</file>