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7.wmf" ContentType="image/x-wmf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5.png" ContentType="image/png"/>
  <Override PartName="/ppt/media/image24.wmf" ContentType="image/x-wmf"/>
  <Override PartName="/ppt/media/image22.jpeg" ContentType="image/jpeg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670675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B7F6-4E42-431C-96AC-DE3151BBE2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E78B-3EF9-4192-884F-2287D65CF0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3400-B4D1-45BE-AC14-9EF7F2659B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DE3-287D-4972-84A9-2C5C2C8D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20D-E27F-4507-8A91-02CD93B5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067-8A43-484C-BE4C-9F897EF2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578-0A14-4B0D-860E-29147283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677-96E4-4011-AB73-35999EC8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967-1994-409B-8950-3A65F53D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50A-79FF-4256-9E73-C5168B9B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25C1-982F-4E8D-9369-E21B1297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459-2022-459D-9AF3-CCDBE487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367-82C0-449F-8729-08B20194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9191-48C8-408E-88A1-0E296B33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8782-284D-4BB2-ADA8-A408DF77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82D3-3556-4109-ADE9-F03B134A3B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2.goldmansach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3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The Financial Crisis: 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Who’s to blam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933360"/>
            <a:ext cx="64008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ard Da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or, 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365800" y="5818320"/>
            <a:ext cx="3598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ederation of Indian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Delhi, 9 April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772400" y="22860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24000" y="1628640"/>
          <a:ext cx="8424720" cy="459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8424720" cy="459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4280" y="255240"/>
            <a:ext cx="80028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IMF forecast a modest recovery nex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ain"/>
          <p:cNvPicPr/>
          <p:nvPr/>
        </p:nvPicPr>
        <p:blipFill>
          <a:blip r:embed="rId3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39640" y="643716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IMF World Economic Outlook Database, October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18400" y="1197000"/>
            <a:ext cx="75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ss domestic product forecast (% change), constant prices, 2007-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901800" y="1413000"/>
            <a:ext cx="5975280" cy="3578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main"/>
          <p:cNvPicPr/>
          <p:nvPr/>
        </p:nvPicPr>
        <p:blipFill>
          <a:blip r:embed="rId2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24000" y="64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ut global unemployment is likely to continue to 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93440" y="1052640"/>
            <a:ext cx="67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employment (Million) and unemployment rate (%), 1999 -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901800" y="6462720"/>
            <a:ext cx="8207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ource: ILO, Trends Econometric Models, December 2008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900000" y="5157720"/>
            <a:ext cx="475164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68360" y="1197000"/>
            <a:ext cx="8280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im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se monetary policy, leading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ispricing of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redit bub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ess’ leverage, facilitated by procyclical regulation, and regulatory arbit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ess’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unmanage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of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ncial sec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which magnified risks, rather than diversif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66560" y="47304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are the underlying cau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533520" y="9907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2492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current account imbalances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 grew rapidly from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475920" y="1190520"/>
            <a:ext cx="77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imates of account balances for selected countries ($ Billion), 1993-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2"/>
          <a:stretch/>
        </p:blipFill>
        <p:spPr>
          <a:xfrm>
            <a:off x="900000" y="1816200"/>
            <a:ext cx="7201080" cy="4205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468360" y="64371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Datastream, FSA Calcu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179280" y="333360"/>
            <a:ext cx="763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4360" y="6237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Bank of England, Speech of Charles Bean at the Annual Conference of the European Economic Association, 2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ug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24000" y="13032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onetary policy was loose, especially in th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27840" y="119052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iation of policy rates from Taylor rule (%), 2000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"/>
          <p:cNvPicPr/>
          <p:nvPr/>
        </p:nvPicPr>
        <p:blipFill>
          <a:blip r:embed="rId2"/>
          <a:stretch/>
        </p:blipFill>
        <p:spPr>
          <a:xfrm>
            <a:off x="1116000" y="1698480"/>
            <a:ext cx="67690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533520" y="9907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640872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533520" y="9907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usehold debt as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% o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DP, 1987-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Image3"/>
          <p:cNvPicPr/>
          <p:nvPr/>
        </p:nvPicPr>
        <p:blipFill>
          <a:blip r:embed="rId2"/>
          <a:stretch/>
        </p:blipFill>
        <p:spPr>
          <a:xfrm>
            <a:off x="0" y="1557360"/>
            <a:ext cx="8128080" cy="4495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395280" y="644688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FSA, ONS, Federal Reserve, Eurodata, Data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79280" y="189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Household debt rose shar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Image5"/>
          <p:cNvPicPr/>
          <p:nvPr/>
        </p:nvPicPr>
        <p:blipFill>
          <a:blip r:embed="rId1"/>
          <a:stretch/>
        </p:blipFill>
        <p:spPr>
          <a:xfrm>
            <a:off x="2268360" y="1125360"/>
            <a:ext cx="4229280" cy="503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main"/>
          <p:cNvPicPr/>
          <p:nvPr/>
        </p:nvPicPr>
        <p:blipFill>
          <a:blip r:embed="rId2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395280" y="83016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se-Shiller Home Price Index (2000 Q1 = 100), Jan 1987 -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24000" y="638172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Silverlake, Case-Shiller Price Ind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179280" y="2570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US house prices doubled in five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179280" y="333360"/>
            <a:ext cx="763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84360" y="616572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ECB, National Statistical Offices, IMF, EMF, Italian Ministry of Infrastructure, Morgan Stanley Re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79280" y="18900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use prices rose rapidly in much of Europe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83280" y="1190520"/>
            <a:ext cx="67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 house price changes over the last ten years (%), 1996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"/>
          <p:cNvPicPr/>
          <p:nvPr/>
        </p:nvPicPr>
        <p:blipFill>
          <a:blip r:embed="rId2"/>
          <a:stretch/>
        </p:blipFill>
        <p:spPr>
          <a:xfrm>
            <a:off x="1258920" y="1628640"/>
            <a:ext cx="640404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179280" y="1015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nk Balance Sheets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xp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95280" y="6453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Silverlake, Capital I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Image7"/>
          <p:cNvPicPr/>
          <p:nvPr/>
        </p:nvPicPr>
        <p:blipFill>
          <a:blip r:embed="rId2"/>
          <a:stretch/>
        </p:blipFill>
        <p:spPr>
          <a:xfrm>
            <a:off x="395280" y="1268280"/>
            <a:ext cx="787248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9"/>
          <p:cNvSpPr/>
          <p:nvPr/>
        </p:nvSpPr>
        <p:spPr>
          <a:xfrm>
            <a:off x="403200" y="555480"/>
            <a:ext cx="70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rge-cap banks’ aggregate assets rose to 43x tangible book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772400" y="228600"/>
            <a:ext cx="760320" cy="6112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3"/>
          <p:cNvGrpSpPr/>
          <p:nvPr/>
        </p:nvGrpSpPr>
        <p:grpSpPr>
          <a:xfrm>
            <a:off x="755640" y="1484280"/>
            <a:ext cx="7561080" cy="4898880"/>
            <a:chOff x="755640" y="1484280"/>
            <a:chExt cx="7561080" cy="4898880"/>
          </a:xfrm>
        </p:grpSpPr>
        <p:pic>
          <p:nvPicPr>
            <p:cNvPr id="54" name="Picture 4" descr="Vampyroteuthis_illustration"/>
            <p:cNvPicPr/>
            <p:nvPr/>
          </p:nvPicPr>
          <p:blipFill>
            <a:blip r:embed="rId2"/>
            <a:stretch/>
          </p:blipFill>
          <p:spPr>
            <a:xfrm>
              <a:off x="755640" y="1484280"/>
              <a:ext cx="7561080" cy="489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5" descr="Goldman Sachs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55640" y="1484280"/>
              <a:ext cx="1152360" cy="115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6"/>
          <p:cNvSpPr/>
          <p:nvPr/>
        </p:nvSpPr>
        <p:spPr>
          <a:xfrm>
            <a:off x="179280" y="246240"/>
            <a:ext cx="792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olling Sto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cribed Goldman Sachs as “a great vampire squid wrapped around the face of humanity, relentlessly jamming its blood funnel into anything that smells like mone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79280" y="10152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K banks leverage grew sharply from 2003 on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9528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Bank of England, Financial Stability Report, Issue 24, 28 October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7327800" y="981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Cht 1"/>
          <p:cNvPicPr/>
          <p:nvPr/>
        </p:nvPicPr>
        <p:blipFill>
          <a:blip r:embed="rId2"/>
          <a:stretch/>
        </p:blipFill>
        <p:spPr>
          <a:xfrm>
            <a:off x="1258920" y="1217520"/>
            <a:ext cx="6121440" cy="5019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"/>
          <p:cNvSpPr/>
          <p:nvPr/>
        </p:nvSpPr>
        <p:spPr>
          <a:xfrm>
            <a:off x="539640" y="98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jor UK banks’ leverage ratio, %, 1998 -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95280" y="6280200"/>
            <a:ext cx="835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: Leverage ratio defined as total assets divided by total equity excluding minority interest. Excludes Nationwide due to lack of interim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826920" y="647712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urce: The Turner Review, March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826200" y="907920"/>
            <a:ext cx="52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 – volumes outstanding, $ Billion, 1996 -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466560" y="328680"/>
            <a:ext cx="86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As di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ecuritised credit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69134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8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curitisation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 magnified credit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773360"/>
          <a:ext cx="40338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40338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643280" y="1773360"/>
          <a:ext cx="403416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773360"/>
                    <a:ext cx="40341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5"/>
          <p:cNvSpPr/>
          <p:nvPr/>
        </p:nvSpPr>
        <p:spPr>
          <a:xfrm>
            <a:off x="6012000" y="2492280"/>
            <a:ext cx="10080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UPER SEN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6084720" y="4581360"/>
            <a:ext cx="93528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qu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95280" y="119700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pital Structure Containing Subprime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003640" y="119700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bprime Mezzanine CDO Containing BBB Subprime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971640" y="2060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042920" y="47242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116000" y="5084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1042920" y="53006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042920" y="55897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1042920" y="5877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3348000" y="530064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564000" y="5445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5076720" y="206064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5003640" y="429264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5003640" y="55897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7308720" y="1989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7380360" y="4292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7308720" y="57340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 flipV="1">
            <a:off x="3348000" y="2133360"/>
            <a:ext cx="2519280" cy="33829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3348000" y="5661000"/>
            <a:ext cx="2448000" cy="2890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250920" y="314172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UMULATIVE LO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6" descr="main"/>
          <p:cNvPicPr/>
          <p:nvPr/>
        </p:nvPicPr>
        <p:blipFill>
          <a:blip r:embed="rId5"/>
          <a:srcRect l="0" t="0" r="84454" b="0"/>
          <a:stretch/>
        </p:blipFill>
        <p:spPr>
          <a:xfrm>
            <a:off x="7740720" y="26028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8"/>
          <p:cNvSpPr/>
          <p:nvPr/>
        </p:nvSpPr>
        <p:spPr>
          <a:xfrm>
            <a:off x="611280" y="6453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Morgan Stanle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324000" y="404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vate Equity Leverage Multiples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g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719280" y="6453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Silverlake, Morgan Stanley, Capital I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8"/>
          <p:cNvSpPr/>
          <p:nvPr/>
        </p:nvSpPr>
        <p:spPr>
          <a:xfrm>
            <a:off x="900000" y="981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bt/EBITDA, 2002 -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82560" y="17668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324000" y="18900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owth in Hedge Fund Assets &amp; Leverage accel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611280" y="60930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Silverlake, Through Q308 – HFR industry report; Q408 projections based on CS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Image2"/>
          <p:cNvPicPr/>
          <p:nvPr/>
        </p:nvPicPr>
        <p:blipFill>
          <a:blip r:embed="rId2"/>
          <a:stretch/>
        </p:blipFill>
        <p:spPr>
          <a:xfrm>
            <a:off x="1476360" y="1989000"/>
            <a:ext cx="56894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324000" y="1438200"/>
            <a:ext cx="842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points to the need for monetary policy to focus more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credit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financial intermediation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asset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 stronger emphasis on the risk of financial in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392040" y="879480"/>
            <a:ext cx="7275600" cy="5213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main"/>
          <p:cNvPicPr/>
          <p:nvPr/>
        </p:nvPicPr>
        <p:blipFill>
          <a:blip r:embed="rId2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468360" y="1628640"/>
            <a:ext cx="828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ak regulation may not have been the main cause of the crisis, but it is important to reform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ust in markets, and in regulation, has been affected, which damages investment and economic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lobal system does not meet the needs of global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324000" y="260280"/>
            <a:ext cx="8064360" cy="67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he crisis revealed p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oblems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existing regulatory architec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opelessly complex 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cking a central authority to drive co-operation and make changes hap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 system balkanised and ineff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uropean system a fudge – neither truly European nor truly nat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two national systems the s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>
            <a:off x="1692360" y="530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8760" y="4190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Committee Structure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A Regulator’s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564000" y="1484280"/>
            <a:ext cx="151272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-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Gov’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3419640" y="3068640"/>
            <a:ext cx="1800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ancial Stabi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50920" y="2133720"/>
            <a:ext cx="9014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1619280" y="2060640"/>
            <a:ext cx="13701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Gov’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476360" y="2637000"/>
            <a:ext cx="16574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T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Money Launder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6588000" y="2852640"/>
            <a:ext cx="107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A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Accoun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7956720" y="2924280"/>
            <a:ext cx="100800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A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324000" y="3645000"/>
            <a:ext cx="172872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nk for 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tt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Central Ban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324000" y="5084640"/>
            <a:ext cx="1368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Central Ban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395280" y="6021360"/>
            <a:ext cx="1224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G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2050920" y="6021360"/>
            <a:ext cx="1295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P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104920" y="5084640"/>
            <a:ext cx="145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el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Bank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3814920" y="5084640"/>
            <a:ext cx="151272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O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Securit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4140360" y="6021360"/>
            <a:ext cx="13698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int Fo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5740560" y="5084640"/>
            <a:ext cx="14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Insuran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9"/>
          <p:cNvSpPr/>
          <p:nvPr/>
        </p:nvSpPr>
        <p:spPr>
          <a:xfrm>
            <a:off x="7885080" y="3573360"/>
            <a:ext cx="12589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5724360" y="3573360"/>
            <a:ext cx="935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AA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Aud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6877080" y="3573360"/>
            <a:ext cx="79200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I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2"/>
          <p:cNvSpPr/>
          <p:nvPr/>
        </p:nvSpPr>
        <p:spPr>
          <a:xfrm>
            <a:off x="97164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>
            <a:off x="1692360" y="566100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>
            <a:off x="90000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 flipH="1">
            <a:off x="2050920" y="3500280"/>
            <a:ext cx="1368720" cy="64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226836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6877080" y="907920"/>
            <a:ext cx="19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1116000" y="2276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9"/>
          <p:cNvSpPr/>
          <p:nvPr/>
        </p:nvSpPr>
        <p:spPr>
          <a:xfrm>
            <a:off x="3132000" y="2852640"/>
            <a:ext cx="28764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0"/>
          <p:cNvSpPr/>
          <p:nvPr/>
        </p:nvSpPr>
        <p:spPr>
          <a:xfrm>
            <a:off x="529272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1"/>
          <p:cNvSpPr/>
          <p:nvPr/>
        </p:nvSpPr>
        <p:spPr>
          <a:xfrm flipV="1">
            <a:off x="2268360" y="155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2"/>
          <p:cNvSpPr/>
          <p:nvPr/>
        </p:nvSpPr>
        <p:spPr>
          <a:xfrm>
            <a:off x="2268360" y="1557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3"/>
          <p:cNvSpPr/>
          <p:nvPr/>
        </p:nvSpPr>
        <p:spPr>
          <a:xfrm>
            <a:off x="3276720" y="1557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4"/>
          <p:cNvSpPr/>
          <p:nvPr/>
        </p:nvSpPr>
        <p:spPr>
          <a:xfrm>
            <a:off x="6300720" y="1773360"/>
            <a:ext cx="1440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Gov’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7631280" y="5084640"/>
            <a:ext cx="151272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I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Aud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6"/>
          <p:cNvSpPr/>
          <p:nvPr/>
        </p:nvSpPr>
        <p:spPr>
          <a:xfrm>
            <a:off x="4284720" y="1916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7"/>
          <p:cNvSpPr/>
          <p:nvPr/>
        </p:nvSpPr>
        <p:spPr>
          <a:xfrm>
            <a:off x="5076720" y="170028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8"/>
          <p:cNvSpPr/>
          <p:nvPr/>
        </p:nvSpPr>
        <p:spPr>
          <a:xfrm flipV="1">
            <a:off x="5219640" y="2420640"/>
            <a:ext cx="122400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 flipH="1">
            <a:off x="3058920" y="3716280"/>
            <a:ext cx="43308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0"/>
          <p:cNvSpPr/>
          <p:nvPr/>
        </p:nvSpPr>
        <p:spPr>
          <a:xfrm>
            <a:off x="3492360" y="5661000"/>
            <a:ext cx="64800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1"/>
          <p:cNvSpPr/>
          <p:nvPr/>
        </p:nvSpPr>
        <p:spPr>
          <a:xfrm flipV="1">
            <a:off x="5508720" y="566064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2"/>
          <p:cNvSpPr/>
          <p:nvPr/>
        </p:nvSpPr>
        <p:spPr>
          <a:xfrm>
            <a:off x="464328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3"/>
          <p:cNvSpPr/>
          <p:nvPr/>
        </p:nvSpPr>
        <p:spPr>
          <a:xfrm>
            <a:off x="4067280" y="3716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4"/>
          <p:cNvSpPr/>
          <p:nvPr/>
        </p:nvSpPr>
        <p:spPr>
          <a:xfrm>
            <a:off x="4643280" y="3716280"/>
            <a:ext cx="151308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5"/>
          <p:cNvSpPr/>
          <p:nvPr/>
        </p:nvSpPr>
        <p:spPr>
          <a:xfrm>
            <a:off x="5219640" y="3716280"/>
            <a:ext cx="2376720" cy="158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6"/>
          <p:cNvSpPr/>
          <p:nvPr/>
        </p:nvSpPr>
        <p:spPr>
          <a:xfrm flipH="1">
            <a:off x="3348000" y="17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7"/>
          <p:cNvSpPr/>
          <p:nvPr/>
        </p:nvSpPr>
        <p:spPr>
          <a:xfrm>
            <a:off x="341964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8"/>
          <p:cNvSpPr/>
          <p:nvPr/>
        </p:nvSpPr>
        <p:spPr>
          <a:xfrm>
            <a:off x="3348000" y="1700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9"/>
          <p:cNvSpPr/>
          <p:nvPr/>
        </p:nvSpPr>
        <p:spPr>
          <a:xfrm flipH="1">
            <a:off x="3347640" y="4076640"/>
            <a:ext cx="453708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0"/>
          <p:cNvSpPr/>
          <p:nvPr/>
        </p:nvSpPr>
        <p:spPr>
          <a:xfrm flipH="1">
            <a:off x="5292720" y="4076640"/>
            <a:ext cx="273528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1"/>
          <p:cNvSpPr/>
          <p:nvPr/>
        </p:nvSpPr>
        <p:spPr>
          <a:xfrm flipH="1">
            <a:off x="6876720" y="4076640"/>
            <a:ext cx="115092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2"/>
          <p:cNvSpPr/>
          <p:nvPr/>
        </p:nvSpPr>
        <p:spPr>
          <a:xfrm>
            <a:off x="8028000" y="40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3"/>
          <p:cNvSpPr/>
          <p:nvPr/>
        </p:nvSpPr>
        <p:spPr>
          <a:xfrm>
            <a:off x="759636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4"/>
          <p:cNvSpPr/>
          <p:nvPr/>
        </p:nvSpPr>
        <p:spPr>
          <a:xfrm>
            <a:off x="766764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5"/>
          <p:cNvSpPr/>
          <p:nvPr/>
        </p:nvSpPr>
        <p:spPr>
          <a:xfrm>
            <a:off x="665964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6"/>
          <p:cNvSpPr/>
          <p:nvPr/>
        </p:nvSpPr>
        <p:spPr>
          <a:xfrm flipH="1">
            <a:off x="5219280" y="306864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7"/>
          <p:cNvSpPr/>
          <p:nvPr/>
        </p:nvSpPr>
        <p:spPr>
          <a:xfrm flipH="1" flipV="1">
            <a:off x="5219640" y="3573000"/>
            <a:ext cx="50472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8"/>
          <p:cNvSpPr/>
          <p:nvPr/>
        </p:nvSpPr>
        <p:spPr>
          <a:xfrm>
            <a:off x="0" y="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9"/>
          <p:cNvSpPr/>
          <p:nvPr/>
        </p:nvSpPr>
        <p:spPr>
          <a:xfrm>
            <a:off x="5651640" y="5734080"/>
            <a:ext cx="3492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Adapted with permission from Sloan and Fitzpatrick in Chapter 13, The Structure of International Market Regulation, in Financial Markets and Exchanges Law, Oxford University Press, March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60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740720" y="225360"/>
            <a:ext cx="76032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1989000"/>
          <a:ext cx="849600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89000"/>
                    <a:ext cx="84960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o is to blame for the current financial cris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ain"/>
          <p:cNvPicPr/>
          <p:nvPr/>
        </p:nvPicPr>
        <p:blipFill>
          <a:blip r:embed="rId3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539640" y="1341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% of respondents answering “a lot” to the given statement: “For each one please  tell me if you think it has contributed a lot, some, or not at all to the downtur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89080" y="6477120"/>
            <a:ext cx="86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urce: WorldPublicOpinion.org. Public Opinion on the Global Economic Crisis, 21 July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4"/>
          <a:stretch/>
        </p:blipFill>
        <p:spPr>
          <a:xfrm>
            <a:off x="7020000" y="2068560"/>
            <a:ext cx="1371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ational Regulatory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68360" y="1557360"/>
          <a:ext cx="8197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8197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4"/>
          <p:cNvSpPr/>
          <p:nvPr/>
        </p:nvSpPr>
        <p:spPr>
          <a:xfrm>
            <a:off x="108000" y="623736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How Countries Supervise their Banks, Insurers and Securities Markets 2007: Central Bank Pub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258920" y="1557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3132000" y="2781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5219640" y="4869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7164360" y="191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2050920" y="1773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1258920" y="3500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3203640" y="3933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3276720" y="3284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7236000" y="3573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7236000" y="2637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5"/>
          <p:cNvSpPr/>
          <p:nvPr/>
        </p:nvSpPr>
        <p:spPr>
          <a:xfrm flipH="1">
            <a:off x="2050560" y="1916280"/>
            <a:ext cx="1429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0" y="1844640"/>
            <a:ext cx="118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 bank regu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250920" y="3068640"/>
            <a:ext cx="118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ntral banks as banking regul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3995640" y="4149720"/>
            <a:ext cx="11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ntral bank as one pil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3924360" y="3213000"/>
            <a:ext cx="118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Central Bank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7956720" y="3500280"/>
            <a:ext cx="118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n-Central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7956720" y="2421000"/>
            <a:ext cx="118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ntral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2" descr="main"/>
          <p:cNvPicPr/>
          <p:nvPr/>
        </p:nvPicPr>
        <p:blipFill>
          <a:blip r:embed="rId3"/>
          <a:srcRect l="0" t="0" r="84454" b="0"/>
          <a:stretch/>
        </p:blipFill>
        <p:spPr>
          <a:xfrm>
            <a:off x="7772400" y="22860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And there were a number of r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gulatory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il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 Financial markets regulation wa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coordinated and overl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moted regulatory “competi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ropean Regulation also at fault: complex mix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European and national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e UK, weak FSA regulation of Norther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ck, and the Bank of England too distant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financial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More r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gulatory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il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markets were unreg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bank private mortgage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dit Default Sw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exchange, central clearing or capit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urance industry in the US was lightly reg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federal reg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ssed “one-sided” credit insurance &amp; CDS risks taken on by AIG and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 II capital requirements were fla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owed too much leverage, over-reliance on credit ratings, and didn’t encompass liqu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-cyclical: as asset prices rose, banks seemed to need less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20 Sum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haping the global financial and regul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corporate governance and risk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en prudential regulation, but with a ‘managed transition’ to avoid exacerbating the down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e financial activities according to their economic substance and ensure regulation is consistent in all juris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772400" y="228600"/>
            <a:ext cx="76032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481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7952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haping the global financial and regulatory syst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al Stability Board with standing committ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hip of FSB, Basel etc extended to BRICs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ed coverage of regulation to include systemic hedge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ghter controls on offshore cen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ghter regulation of credit rating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and better quality capital in the ban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-prudential mechanism to respond to asset price bub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ulatory controls on bank remu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25440" y="461880"/>
            <a:ext cx="310212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20 Sum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2722680" y="1268280"/>
            <a:ext cx="3720960" cy="51120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6"/>
          <p:cNvSpPr/>
          <p:nvPr/>
        </p:nvSpPr>
        <p:spPr>
          <a:xfrm>
            <a:off x="684360" y="26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250920" y="404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about the bankers themsel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or ris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essive reliance on Value at Risk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ding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adequate hed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awed capital allocation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ding strategies under-capit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entive structures which reward short-term risk-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ak corporate governance: boards ignorant of the risk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anagement were tak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108000" y="255600"/>
            <a:ext cx="792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Failures in the financial firms themselves may have been even more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ch of the past 30 years of macroeconomics was “spectacularly useless at best, and positively harmful at wor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f. Paul Krugman, Princ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unfortunate uselessness of most ‘state of the art’ academic monetary economic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f. Willem Buiter, 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odern risk management paradigm held sway for decades. The whole intellectual edifice, however, collapsed in the summer of last ye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n Greens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34920" y="1890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d, finally, there are major problems with Economics – and efficient 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481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ro imbalances, loose monetary policy and financial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pid credit growth, asset price bubbles, overbor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finance without glob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awed assumptions about market efficiency and investor ra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470880" y="344520"/>
            <a:ext cx="528444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uch a complex fail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as many par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03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The Financial Crisis: 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Who’s to blam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32000" y="3933360"/>
            <a:ext cx="64008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ard Da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or, 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5365800" y="5818320"/>
            <a:ext cx="3598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ederation of Indian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Delhi, 9 April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772400" y="22860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24000" y="1484280"/>
            <a:ext cx="8280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onomists - “if anything needs fixing, it’s the sociology of the profession” – Dani Rodrik (Harva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siness schools – the Guardi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stosterone – Scientific American: “risk-taking in an investment game with potential for real monetary pay-offs correlates positively with salivary testosterone levels and facial masculinit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deo games – Professor Susan Greenfield of Oxf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uman greed – Rowan Willi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39640" y="4111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ome susp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24000" y="40464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o blames “the Jews” for the financial crisi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184720" cy="42177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395280" y="6237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N Malhotra, Y Margalit: State of the Nation. Boston Review, May/ June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26920" y="177336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% bl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ment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 reg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dge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reg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e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758160" y="257040"/>
            <a:ext cx="61225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Views of Memb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f the European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arli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66% recommend deeper political union in Europe, as a key respon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o the 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ank failures are caused by depositors who don’t deposit enough money to cover the losses due to mismanagement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n Qua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468360" y="162864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 One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p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 Two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 Three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rav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 Four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lt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 Five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66560" y="40464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Credit Crisis:  A Five-Act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akespearian Trag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9:53:11Z</dcterms:created>
  <dc:creator>hallas</dc:creator>
  <dc:description/>
  <dc:language>en-US</dc:language>
  <cp:lastModifiedBy>Ruth Kattumuri</cp:lastModifiedBy>
  <dcterms:modified xsi:type="dcterms:W3CDTF">2010-04-07T04:26:30Z</dcterms:modified>
  <cp:revision>49</cp:revision>
  <dc:subject/>
  <dc:title>MSc Law &amp; Accounting Seminar</dc:title>
</cp:coreProperties>
</file>