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BE61-364A-440A-AE6E-79F7B53AB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F0F-2579-44C2-8582-B8AB928E3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A43-5483-4579-9778-3F8A3529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F1A-916E-4A3A-8C93-DFBA9414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36B-97E7-4F28-B2C9-44137CD9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FD1-B1E8-44B3-A7F4-B16BAFDE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9BB-075F-489D-9EF0-EC0E8661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F0D-DDBE-4CDC-9708-1F19F48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BC7-C1CE-455E-B93B-5A6DFC9A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497-B6BE-4933-9811-19003EDB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64F-5BB0-469B-BCE2-D22D92B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D73-9705-4F5F-9EF7-C06235A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808-F1DC-4E67-A55C-0ACA283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FA7-7D9B-4E1E-8CD5-FF60706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5EE0-5C67-45BB-AD4C-9AF599F337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9400" y="200016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Europe – the lost contin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000680"/>
            <a:ext cx="6400800" cy="119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286240" y="5589720"/>
            <a:ext cx="3606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 Narayanan Memorial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Council of World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10" descr=""/>
          <p:cNvPicPr/>
          <p:nvPr/>
        </p:nvPicPr>
        <p:blipFill>
          <a:blip r:embed="rId2"/>
          <a:stretch/>
        </p:blipFill>
        <p:spPr>
          <a:xfrm>
            <a:off x="4243320" y="1779480"/>
            <a:ext cx="4907160" cy="494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4-Pigs-in-a-tub--C11762452"/>
          <p:cNvPicPr/>
          <p:nvPr/>
        </p:nvPicPr>
        <p:blipFill>
          <a:blip r:embed="rId3"/>
          <a:stretch/>
        </p:blipFill>
        <p:spPr>
          <a:xfrm>
            <a:off x="684360" y="1238400"/>
            <a:ext cx="763272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5761080" cy="4281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808200" y="134136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-year government-bond spreads over German bunds, percentage points, 2008 Jan – 2010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sts of borrowing in the Eurozone have been growing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829440" y="6518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The Econom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4920" y="1301760"/>
          <a:ext cx="9145440" cy="52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301760"/>
                    <a:ext cx="91454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9280" y="11124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it labour costs in Greece and Spain have been growing more rapidly than in Germany or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9640" y="140652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rterly unit labour cost*, index (2005 = 100.0), 2006 Q4 – 2009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74760" y="6153120"/>
            <a:ext cx="830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Unit labour costs measure the average cost of labour per unit of output and are calculated as the ratio of total labour costs to real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OEC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24000" y="2078280"/>
            <a:ext cx="84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f change is - inevitable - predictable - beneficial - doesn't logic demand that you be a part of it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aptain James T. Kirk, Star Tr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786361910038072299VOsKNz_ph"/>
          <p:cNvPicPr/>
          <p:nvPr/>
        </p:nvPicPr>
        <p:blipFill>
          <a:blip r:embed="rId2"/>
          <a:stretch/>
        </p:blipFill>
        <p:spPr>
          <a:xfrm>
            <a:off x="901800" y="1268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rispy-bacon"/>
          <p:cNvPicPr/>
          <p:nvPr/>
        </p:nvPicPr>
        <p:blipFill>
          <a:blip r:embed="rId2"/>
          <a:stretch/>
        </p:blipFill>
        <p:spPr>
          <a:xfrm>
            <a:off x="1914480" y="476280"/>
            <a:ext cx="4889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9400" y="2000160"/>
            <a:ext cx="78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Europe – the lost continen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4000680"/>
            <a:ext cx="6400800" cy="119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ard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or, 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286240" y="5589720"/>
            <a:ext cx="3606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 Narayanan Memorial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Council of World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Apri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6357960" y="1214280"/>
            <a:ext cx="152568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4572000" y="1500120"/>
            <a:ext cx="1539720" cy="128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2928960" y="1928880"/>
            <a:ext cx="1500120" cy="132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4"/>
          <a:stretch/>
        </p:blipFill>
        <p:spPr>
          <a:xfrm>
            <a:off x="1143000" y="2214720"/>
            <a:ext cx="1519200" cy="1276200"/>
          </a:xfrm>
          <a:prstGeom prst="rect">
            <a:avLst/>
          </a:prstGeom>
          <a:ln w="0">
            <a:noFill/>
          </a:ln>
        </p:spPr>
      </p:pic>
      <p:pic>
        <p:nvPicPr>
          <p:cNvPr id="56" name="Symbol zastępczy zawartości 18" descr=""/>
          <p:cNvPicPr/>
          <p:nvPr/>
        </p:nvPicPr>
        <p:blipFill>
          <a:blip r:embed="rId5"/>
          <a:stretch/>
        </p:blipFill>
        <p:spPr>
          <a:xfrm>
            <a:off x="420840" y="1920960"/>
            <a:ext cx="8199360" cy="449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ropean Union: 500 million people – 27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ain"/>
          <p:cNvPicPr/>
          <p:nvPr/>
        </p:nvPicPr>
        <p:blipFill>
          <a:blip r:embed="rId6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68360" y="6453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uro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20"/>
          <p:cNvSpPr/>
          <p:nvPr/>
        </p:nvSpPr>
        <p:spPr>
          <a:xfrm>
            <a:off x="714240" y="14288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population, million people, 1986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ro: A single currency for Europ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ttp://europa.eu/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eumap_money2008.jpg"/>
          <p:cNvPicPr/>
          <p:nvPr/>
        </p:nvPicPr>
        <p:blipFill>
          <a:blip r:embed="rId2"/>
          <a:stretch/>
        </p:blipFill>
        <p:spPr>
          <a:xfrm>
            <a:off x="285840" y="1428840"/>
            <a:ext cx="5100480" cy="5000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715000" y="1500120"/>
            <a:ext cx="30765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EU countries using the euro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Verdana"/>
              </a:rPr>
              <a:t>EU countries not using the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572080" y="1728720"/>
            <a:ext cx="146160" cy="154080"/>
          </a:xfrm>
          <a:prstGeom prst="rect">
            <a:avLst/>
          </a:prstGeom>
          <a:solidFill>
            <a:srgbClr val="9e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5572080" y="1917720"/>
            <a:ext cx="146160" cy="154080"/>
          </a:xfrm>
          <a:prstGeom prst="rect">
            <a:avLst/>
          </a:prstGeom>
          <a:solidFill>
            <a:srgbClr val="79b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in"/>
          <p:cNvPicPr/>
          <p:nvPr/>
        </p:nvPicPr>
        <p:blipFill>
          <a:blip r:embed="rId3"/>
          <a:stretch/>
        </p:blipFill>
        <p:spPr>
          <a:xfrm>
            <a:off x="5506920" y="2927520"/>
            <a:ext cx="2024280" cy="15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bill1"/>
          <p:cNvPicPr/>
          <p:nvPr/>
        </p:nvPicPr>
        <p:blipFill>
          <a:blip r:embed="rId4"/>
          <a:stretch/>
        </p:blipFill>
        <p:spPr>
          <a:xfrm>
            <a:off x="6840360" y="3378240"/>
            <a:ext cx="2160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rich is the EU compar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US, China and Ind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ymbol zastępczy zawartości 21" descr=""/>
          <p:cNvPicPr/>
          <p:nvPr/>
        </p:nvPicPr>
        <p:blipFill>
          <a:blip r:embed="rId2"/>
          <a:stretch/>
        </p:blipFill>
        <p:spPr>
          <a:xfrm>
            <a:off x="0" y="0"/>
            <a:ext cx="8663040" cy="638820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22"/>
          <p:cNvSpPr/>
          <p:nvPr/>
        </p:nvSpPr>
        <p:spPr>
          <a:xfrm>
            <a:off x="677520" y="1487520"/>
            <a:ext cx="51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per capita, current prices (US dollars)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 rot="19959000">
            <a:off x="960120" y="2284200"/>
            <a:ext cx="2847960" cy="2828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U economy is close in size to that of the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6"/>
          <p:cNvSpPr/>
          <p:nvPr/>
        </p:nvSpPr>
        <p:spPr>
          <a:xfrm>
            <a:off x="727200" y="142884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, current prices (Billion US dollars)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 rot="1133400">
            <a:off x="4817880" y="2355840"/>
            <a:ext cx="3000240" cy="29527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"/>
          <p:cNvSpPr/>
          <p:nvPr/>
        </p:nvSpPr>
        <p:spPr>
          <a:xfrm>
            <a:off x="950760" y="54673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(18,387 Billion 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4892400" y="54673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(14,441 Billion U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0920" y="1341360"/>
          <a:ext cx="8353440" cy="536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urope’s post-crisis growth rates will be slugg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in"/>
          <p:cNvPicPr/>
          <p:nvPr/>
        </p:nvPicPr>
        <p:blipFill>
          <a:blip r:embed="rId3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IMF World Economic Outlook, October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18400" y="1262160"/>
            <a:ext cx="75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ss domestic product forecast (% change), constant prices, 2007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77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ld’s Economic Centre of Gravity is moving east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42960" y="6288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Grether JM, Mathys N (2008): Is the World’s Economic Center of Gravity Already in A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1680" y="12016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the Worl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Economic and Geographic Centre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882720" y="1542960"/>
            <a:ext cx="7404120" cy="473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 is losing its share in the global economic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in"/>
          <p:cNvPicPr/>
          <p:nvPr/>
        </p:nvPicPr>
        <p:blipFill>
          <a:blip r:embed="rId1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64911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g20.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Wykres 10" descr=""/>
          <p:cNvPicPr/>
          <p:nvPr/>
        </p:nvPicPr>
        <p:blipFill>
          <a:blip r:embed="rId2"/>
          <a:stretch/>
        </p:blipFill>
        <p:spPr>
          <a:xfrm>
            <a:off x="4243320" y="1779480"/>
            <a:ext cx="4907160" cy="4945320"/>
          </a:xfrm>
          <a:prstGeom prst="rect">
            <a:avLst/>
          </a:prstGeom>
          <a:ln w="0">
            <a:noFill/>
          </a:ln>
        </p:spPr>
      </p:pic>
      <p:grpSp>
        <p:nvGrpSpPr>
          <p:cNvPr id="98" name="Grupa 18"/>
          <p:cNvGrpSpPr/>
          <p:nvPr/>
        </p:nvGrpSpPr>
        <p:grpSpPr>
          <a:xfrm>
            <a:off x="642960" y="1444680"/>
            <a:ext cx="7715160" cy="4341600"/>
            <a:chOff x="642960" y="1444680"/>
            <a:chExt cx="7715160" cy="4341600"/>
          </a:xfrm>
        </p:grpSpPr>
        <p:pic>
          <p:nvPicPr>
            <p:cNvPr id="99" name="Picture 7" descr=""/>
            <p:cNvPicPr/>
            <p:nvPr/>
          </p:nvPicPr>
          <p:blipFill>
            <a:blip r:embed="rId3"/>
            <a:stretch/>
          </p:blipFill>
          <p:spPr>
            <a:xfrm>
              <a:off x="4800960" y="2285640"/>
              <a:ext cx="3557160" cy="35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4"/>
            <a:stretch/>
          </p:blipFill>
          <p:spPr>
            <a:xfrm>
              <a:off x="642960" y="2180880"/>
              <a:ext cx="3558600" cy="35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pole tekstowe 15"/>
            <p:cNvSpPr/>
            <p:nvPr/>
          </p:nvSpPr>
          <p:spPr>
            <a:xfrm>
              <a:off x="1924920" y="1444680"/>
              <a:ext cx="92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400" spc="-1" strike="noStrike">
                  <a:solidFill>
                    <a:srgbClr val="000000"/>
                  </a:solidFill>
                  <a:latin typeface="Arial"/>
                </a:rPr>
                <a:t>G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ole tekstowe 16"/>
            <p:cNvSpPr/>
            <p:nvPr/>
          </p:nvSpPr>
          <p:spPr>
            <a:xfrm>
              <a:off x="5857920" y="1515960"/>
              <a:ext cx="15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400" spc="-1" strike="noStrike">
                  <a:solidFill>
                    <a:srgbClr val="000000"/>
                  </a:solidFill>
                  <a:latin typeface="Arial"/>
                </a:rPr>
                <a:t>G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4214880" y="5819760"/>
            <a:ext cx="4724280" cy="89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6"/>
          <a:stretch/>
        </p:blipFill>
        <p:spPr>
          <a:xfrm>
            <a:off x="1643040" y="5643720"/>
            <a:ext cx="714240" cy="93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7"/>
          <a:stretch/>
        </p:blipFill>
        <p:spPr>
          <a:xfrm>
            <a:off x="2500200" y="5691240"/>
            <a:ext cx="581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photo_verybig_110191"/>
          <p:cNvPicPr/>
          <p:nvPr/>
        </p:nvPicPr>
        <p:blipFill>
          <a:blip r:embed="rId1"/>
          <a:stretch/>
        </p:blipFill>
        <p:spPr>
          <a:xfrm>
            <a:off x="3492360" y="1246320"/>
            <a:ext cx="5194440" cy="344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ain"/>
          <p:cNvPicPr/>
          <p:nvPr/>
        </p:nvPicPr>
        <p:blipFill>
          <a:blip r:embed="rId2"/>
          <a:srcRect l="0" t="0" r="84454" b="0"/>
          <a:stretch/>
        </p:blipFill>
        <p:spPr>
          <a:xfrm>
            <a:off x="7667640" y="33336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ose-Manuel-Barroso-support"/>
          <p:cNvPicPr/>
          <p:nvPr/>
        </p:nvPicPr>
        <p:blipFill>
          <a:blip r:embed="rId3"/>
          <a:stretch/>
        </p:blipFill>
        <p:spPr>
          <a:xfrm>
            <a:off x="179280" y="189000"/>
            <a:ext cx="3459240" cy="414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134297-050-EE3E08F7"/>
          <p:cNvPicPr/>
          <p:nvPr/>
        </p:nvPicPr>
        <p:blipFill>
          <a:blip r:embed="rId4"/>
          <a:stretch/>
        </p:blipFill>
        <p:spPr>
          <a:xfrm>
            <a:off x="1116000" y="3768840"/>
            <a:ext cx="51847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9:53:11Z</dcterms:created>
  <dc:creator>hallas</dc:creator>
  <dc:description/>
  <dc:language>en-US</dc:language>
  <cp:lastModifiedBy>Ruth Kattumuri</cp:lastModifiedBy>
  <dcterms:modified xsi:type="dcterms:W3CDTF">2010-04-07T04:30:14Z</dcterms:modified>
  <cp:revision>146</cp:revision>
  <dc:subject/>
  <dc:title>MSc Law &amp; Accounting Seminar</dc:title>
</cp:coreProperties>
</file>