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6"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EEAD-415D-43BD-8D76-07194F9891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1160" y="744480"/>
            <a:ext cx="4959360" cy="3719520"/>
          </a:xfrm>
          <a:prstGeom prst="rect">
            <a:avLst/>
          </a:prstGeom>
          <a:ln w="0">
            <a:noFill/>
          </a:ln>
        </p:spPr>
      </p:sp>
      <p:sp>
        <p:nvSpPr>
          <p:cNvPr id="16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ucture</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sks and Targets</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Flows, Costs &amp; Stern Review One Year On</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Energy, Emission, Technology</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Global Deal</a:t>
            </a:r>
            <a:endParaRPr b="0" lang="en-US" sz="1000" spc="-1" strike="noStrike">
              <a:solidFill>
                <a:srgbClr val="000000"/>
              </a:solidFill>
              <a:latin typeface="Times New Roman"/>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1160" y="744480"/>
            <a:ext cx="4959360" cy="3719520"/>
          </a:xfrm>
          <a:prstGeom prst="rect">
            <a:avLst/>
          </a:prstGeom>
          <a:ln w="0">
            <a:noFill/>
          </a:ln>
        </p:spPr>
      </p:sp>
      <p:sp>
        <p:nvSpPr>
          <p:cNvPr id="17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G8 </a:t>
            </a:r>
            <a:r>
              <a:rPr b="1" lang="en-GB" sz="800" spc="-1" strike="noStrike">
                <a:solidFill>
                  <a:srgbClr val="000000"/>
                </a:solidFill>
                <a:latin typeface="Arial"/>
              </a:rPr>
              <a:t>Heiligendamm</a:t>
            </a:r>
            <a:r>
              <a:rPr b="1" lang="en-GB" sz="800" spc="-1" strike="noStrike">
                <a:solidFill>
                  <a:srgbClr val="000000"/>
                </a:solidFill>
                <a:latin typeface="Times New Roman"/>
              </a:rPr>
              <a:t>:</a:t>
            </a:r>
            <a:r>
              <a:rPr b="0" lang="en-GB" sz="800" spc="-1" strike="noStrike">
                <a:solidFill>
                  <a:srgbClr val="000000"/>
                </a:solidFill>
                <a:latin typeface="Times New Roman"/>
              </a:rPr>
              <a:t> We are therefore committed to taking strong and early action to tackle climate change in order to stabilize greenhouse gas concentrations at a level that would prevent dangerous anthropogenic interference with the climate system. Taking into account the scientific knowledge as represented in the recent IPCC reports, global greenhouse gas emissions must stop rising, followed by substantial global emission reductions. In setting a global goal for emissions reductions in the process we have agreed today involving all major emitters, we will consider seriously the decisions made by the European Union, Canada and Japan which include at least a halving of global emissions by 2050. We commit to achieving these goals and invite the major emerging economies to join 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 this endeavou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ource: http://www.g-8.de/Content/EN/Artikel/__g8-summit/anlagen/2007-06-07-gipfeldokument-wirtschaft-eng,property=publicationFile.pd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France: </a:t>
            </a:r>
            <a:r>
              <a:rPr b="0" lang="en-GB" sz="800" spc="-1" strike="noStrike">
                <a:solidFill>
                  <a:srgbClr val="000000"/>
                </a:solidFill>
                <a:latin typeface="Times New Roman"/>
              </a:rPr>
              <a:t>In France, the Factor 4 concept was first laid down by President Jacques Chirac, followed by Pri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inister Jean-Pierre Raffarin. At the opening of the 20th plenary session of the IPCC, on 19 Febru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2003 in Paris, the latter stated that “</a:t>
            </a:r>
            <a:r>
              <a:rPr b="0" i="1" lang="en-GB" sz="800" spc="-1" strike="noStrike">
                <a:solidFill>
                  <a:srgbClr val="000000"/>
                </a:solidFill>
                <a:latin typeface="Times New Roman"/>
              </a:rPr>
              <a:t>global GHG emissions must be halved by the year 2050</a:t>
            </a:r>
            <a:r>
              <a:rPr b="0" lang="en-GB" sz="800" spc="-1" strike="noStrike">
                <a:solidFill>
                  <a:srgbClr val="000000"/>
                </a:solidFill>
                <a:latin typeface="Times New Roman"/>
              </a:rPr>
              <a:t>”.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rance, as an industrialised country, “</a:t>
            </a:r>
            <a:r>
              <a:rPr b="0" i="1" lang="en-GB" sz="800" spc="-1" strike="noStrike">
                <a:solidFill>
                  <a:srgbClr val="000000"/>
                </a:solidFill>
                <a:latin typeface="Times New Roman"/>
              </a:rPr>
              <a:t>this is equivalent to a fourfold or fivefold cut in emissions</a:t>
            </a:r>
            <a:r>
              <a:rPr b="0" lang="en-GB" sz="800" spc="-1" strike="noStrike">
                <a:solidFill>
                  <a:srgbClr val="000000"/>
                </a:solidFill>
                <a:latin typeface="Times New Roman"/>
              </a:rPr>
              <a:t>. </a:t>
            </a:r>
            <a:r>
              <a:rPr b="0" i="1" lang="en-GB" sz="800" spc="-1" strike="noStrike">
                <a:solidFill>
                  <a:srgbClr val="000000"/>
                </a:solidFill>
                <a:latin typeface="Times New Roman"/>
              </a:rPr>
              <a:t>B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virtue of the principle of shared but differentiated responsibility, we must give the example as regard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the implementation of domestic policies to tackle the greenhouse effect”</a:t>
            </a:r>
            <a:r>
              <a:rPr b="0" lang="en-GB" sz="800" spc="-1" strike="noStrike">
                <a:solidFill>
                  <a:srgbClr val="000000"/>
                </a:solidFill>
                <a:latin typeface="Times New Roman"/>
              </a:rPr>
              <a:t>. This aim was lat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corporated into Article 2 of the Energy Policy Act of 13 July 200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ource: http://www.industrie.gouv.fr/energie/prospect/pdf/facteur4-rapport-final-engl.pd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Hillary Clinton:</a:t>
            </a:r>
            <a:r>
              <a:rPr b="0" lang="en-GB" sz="800" spc="-1" strike="noStrike">
                <a:solidFill>
                  <a:srgbClr val="000000"/>
                </a:solidFill>
                <a:latin typeface="Times New Roman"/>
              </a:rPr>
              <a:t> climate crisis, and an increasing reliance on foreign oil that is driving up energy costs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mericans. She also knows that Americans have always demonstrated the will and the ingenui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o confront the problems of their times, from the New Deal, to the Cold War, to the Space Ra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oday, global warming and dependence on foreign oil are two of the biggest challenges of ou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ime, and as President, Hillary will set three big goals to meet them:</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duce greenhouse gas emissions 80% from 1990 levels by 2050 – the level necessary 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void the worst impacts of global warming.</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ut foreign oil imports by two-thirds from projected levels by 2030.</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ansform our carbon-based economy into an efficient green economy, creating at least 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illion jobs from clean energy over the next deca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ource: http://www.hillaryclinton.com/files/pdf/poweringamericasfuture.pd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EU Spring Council</a:t>
            </a:r>
            <a:r>
              <a:rPr b="0" lang="en-GB" sz="800" spc="-1" strike="noStrike">
                <a:solidFill>
                  <a:srgbClr val="000000"/>
                </a:solidFill>
                <a:latin typeface="Times New Roman"/>
              </a:rPr>
              <a:t>: The European Council reaffirms that absolute emission reduction commitments are th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ackbone of a global carbon market. Developed countries should continue to take the lead by committing to collectively reducing their emissions of greenhouse gases in the order of 30 % by 2020 compared to 1990. They should do so also with a view to collectively reducing their emissions by 60 % to 80 % by 2050 compared to 199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 this context, the European Council endorses an EU objective of a 30 % reduction in greenhouse gas emissions by 2020 compared to 1990 as its contribution to a global and comprehensive agreement for the period beyond 2012, provided that other developed countries commit themselves to comparable emission reductions and economically more advanced developing countries to contributing adequately according to their responsibilities and respective capabilities. It invites these countries to come forward with proposals for their contributions to the post-2012 agree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 this context, the European Council endorses an EU objective of a 30 % reduction in greenhouse gas emissions by 2020 compared to 1990 as its contribution to a global and comprehensive agreement for the period beyond 2012, provided that other developed countries commit themselves to comparable emission reductions and economically more advanced developing countries to contributing adequately according to their responsibilities</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nd respective capabilities. It invites these countries to come forward with proposals for their contributions to the post-2012 agree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ource: http://www.consilium.europa.eu/ueDocs/cms_Data/docs/pressData/en/ec/93135.pd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1160" y="744480"/>
            <a:ext cx="4959360" cy="3719520"/>
          </a:xfrm>
          <a:prstGeom prst="rect">
            <a:avLst/>
          </a:prstGeom>
          <a:ln w="0">
            <a:noFill/>
          </a:ln>
        </p:spPr>
      </p:sp>
      <p:sp>
        <p:nvSpPr>
          <p:cNvPr id="17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qualize at 2-3 tonnes/capita by 2050 would be like saying that at the end of 200 years we from glass of same size, notwithstanding previous “guzzl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1160" y="744480"/>
            <a:ext cx="4959360" cy="3719520"/>
          </a:xfrm>
          <a:prstGeom prst="rect">
            <a:avLst/>
          </a:prstGeom>
          <a:ln w="0">
            <a:noFill/>
          </a:ln>
        </p:spPr>
      </p:sp>
      <p:sp>
        <p:nvSpPr>
          <p:cNvPr id="17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굴림"/>
              </a:rPr>
              <a:t>Source: World Resource Institu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1160" y="744480"/>
            <a:ext cx="4959360" cy="3719520"/>
          </a:xfrm>
          <a:prstGeom prst="rect">
            <a:avLst/>
          </a:prstGeom>
          <a:ln w="0">
            <a:noFill/>
          </a:ln>
        </p:spPr>
      </p:sp>
      <p:sp>
        <p:nvSpPr>
          <p:cNvPr id="179" name="PlaceHolder 2"/>
          <p:cNvSpPr>
            <a:spLocks noGrp="1"/>
          </p:cNvSpPr>
          <p:nvPr>
            <p:ph type="body"/>
          </p:nvPr>
        </p:nvSpPr>
        <p:spPr>
          <a:xfrm>
            <a:off x="979200" y="4711680"/>
            <a:ext cx="4973400" cy="44625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Explain nature of deal and enforcement by domestic pressure (see last slide)</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rich country should take on a strong individual target.  Their reduction and trading schemes should be designed to be open to trade with other countries, including developing countries. Strong targets create a demand side for reductio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country will use its own mix of instruments or technologie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supply side from developing countries should be simplified to allow much bigger markets for emissions reductions, for example through sectoral or technological benchmarking. One-sided trading, i.e. can sell reductions below a standard but do not have to buy or go above, initially can allow setting of strong standards. After flows are established can explore targets for non-Annex I countries. If press for developing country targets now will produce targets that are much too high. Unconvincing to say “trust us” on future financial flows and technology transfers</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ith strong rich country targets prices will be high enough to encourage action in rich countries</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1160" y="744480"/>
            <a:ext cx="4959360" cy="3719520"/>
          </a:xfrm>
          <a:prstGeom prst="rect">
            <a:avLst/>
          </a:prstGeom>
          <a:ln w="0">
            <a:noFill/>
          </a:ln>
        </p:spPr>
      </p:sp>
      <p:sp>
        <p:nvSpPr>
          <p:cNvPr id="181" name="PlaceHolder 2"/>
          <p:cNvSpPr>
            <a:spLocks noGrp="1"/>
          </p:cNvSpPr>
          <p:nvPr>
            <p:ph type="body"/>
          </p:nvPr>
        </p:nvSpPr>
        <p:spPr>
          <a:xfrm>
            <a:off x="979200" y="4711680"/>
            <a:ext cx="4973400" cy="44625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Explain nature of deal and enforcement by domestic pressure (see last slide)</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rich country should take on a strong individual target.  Their reduction and trading schemes should be designed to be open to trade with other countries, including developing countries. Strong targets create a demand side for reductio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country will use its own mix of instruments or technologie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supply side from developing countries should be simplified to allow much bigger markets for emissions reductions, for example through sectoral or technological benchmarking. One-sided trading, i.e. can sell reductions below a standard but do not have to buy or go above, initially can allow setting of strong standards. After flows are established can explore targets for non-Annex I countries. If press for developing country targets now will produce targets that are much too high. Unconvincing to say “trust us” on future financial flows and technology transfers</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ith strong rich country targets prices will be high enough to encourage action in rich countrie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1160" y="744480"/>
            <a:ext cx="4959360" cy="3719520"/>
          </a:xfrm>
          <a:prstGeom prst="rect">
            <a:avLst/>
          </a:prstGeom>
          <a:ln w="0">
            <a:noFill/>
          </a:ln>
        </p:spPr>
      </p:sp>
      <p:sp>
        <p:nvSpPr>
          <p:cNvPr id="183" name="PlaceHolder 2"/>
          <p:cNvSpPr>
            <a:spLocks noGrp="1"/>
          </p:cNvSpPr>
          <p:nvPr>
            <p:ph type="body"/>
          </p:nvPr>
        </p:nvSpPr>
        <p:spPr>
          <a:xfrm>
            <a:off x="979200" y="4711680"/>
            <a:ext cx="4973400" cy="44625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Explain nature of deal and enforcement by domestic pressure (see last slide)</a:t>
            </a:r>
            <a:endParaRPr b="0" lang="en-US" sz="1400" spc="-1" strike="noStrike">
              <a:solidFill>
                <a:srgbClr val="000000"/>
              </a:solidFill>
              <a:latin typeface="Times New Roman"/>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rich country should take on a strong individual target.  Their reduction and trading schemes should be designed to be open to trade with other countries, including developing countries. Strong targets create a demand side for reduction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Each country will use its own mix of instruments or technologies</a:t>
            </a:r>
            <a:endParaRPr b="0" lang="en-US" sz="1400" spc="-1" strike="noStrike">
              <a:solidFill>
                <a:srgbClr val="000000"/>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supply side from developing countries should be simplified to allow much bigger markets for emissions reductions, for example through sectoral or technological benchmarking. One-sided trading, i.e. can sell reductions below a standard but do not have to buy or go above, initially can allow setting of strong standards. After flows are established can explore targets for non-Annex I countries. If press for developing country targets now will produce targets that are much too high. Unconvincing to say “trust us” on future financial flows and technology transfers</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With strong rich country targets prices will be high enough to encourage action in rich countries</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1160" y="744480"/>
            <a:ext cx="4959360" cy="3719520"/>
          </a:xfrm>
          <a:prstGeom prst="rect">
            <a:avLst/>
          </a:prstGeom>
          <a:ln w="0">
            <a:noFill/>
          </a:ln>
        </p:spPr>
      </p:sp>
      <p:sp>
        <p:nvSpPr>
          <p:cNvPr id="16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U could take us beyond 750ppm this century</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key risk elements in carbon cycle (collapse of Amazon, thawing permafrost, reduction in absorptive capacity of oceans) omitted from many models of relationships between human emission flows and rate of change of stock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tipping points and unstable dynamic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ss of 5°C increase is world transforming: loss of ice sheets, loss of snow and glaciers of Himalayas, extremes of storms, droughts, floods, loss of more than half species, massive population movement</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not simply small probabilities of extremely high damages but are substantial probabilities of very high damages</a:t>
            </a: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used Hadley because AR4 does not provide directly corresponding probabilities – it reviews the litera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1160" y="744480"/>
            <a:ext cx="4959360" cy="3719520"/>
          </a:xfrm>
          <a:prstGeom prst="rect">
            <a:avLst/>
          </a:prstGeom>
          <a:ln w="0">
            <a:noFill/>
          </a:ln>
        </p:spPr>
      </p:sp>
      <p:sp>
        <p:nvSpPr>
          <p:cNvPr id="16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ind of results from optimum taxation (Atkinson/Stiglitz, Deaton/Stern, 1986) show how the structure of optimum taxation depends strongly on functional form, before we introduce parameters</a:t>
            </a:r>
            <a:endParaRPr b="0" lang="en-US" sz="16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nking about arguments for trade reform, CGE models play a relevant but only minor role, and they are better formulated than climate change models with all their problems of time scales of hundreds of years and excessive aggreg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2960" y="743040"/>
            <a:ext cx="4960800" cy="3720960"/>
          </a:xfrm>
          <a:prstGeom prst="rect">
            <a:avLst/>
          </a:prstGeom>
          <a:ln w="0">
            <a:noFill/>
          </a:ln>
        </p:spPr>
      </p:sp>
      <p:sp>
        <p:nvSpPr>
          <p:cNvPr id="167" name="PlaceHolder 2"/>
          <p:cNvSpPr>
            <a:spLocks noGrp="1"/>
          </p:cNvSpPr>
          <p:nvPr>
            <p:ph type="body"/>
          </p:nvPr>
        </p:nvSpPr>
        <p:spPr>
          <a:xfrm>
            <a:off x="903240" y="5024520"/>
            <a:ext cx="4975200" cy="2512800"/>
          </a:xfrm>
          <a:prstGeom prst="rect">
            <a:avLst/>
          </a:prstGeom>
          <a:noFill/>
          <a:ln w="0">
            <a:noFill/>
          </a:ln>
        </p:spPr>
        <p:txBody>
          <a:bodyPr lIns="90000" rIns="90000" tIns="46800" bIns="46800" anchor="t">
            <a:noAutofit/>
          </a:bodyPr>
          <a:p>
            <a:pPr marL="247680" indent="-2476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stabilisation trajectories shown here all assume global emissions peak at between 2010 and 2020</a:t>
            </a:r>
            <a:endParaRPr b="0" lang="en-US" sz="1600" spc="-1" strike="noStrike">
              <a:solidFill>
                <a:srgbClr val="000000"/>
              </a:solidFill>
              <a:latin typeface="Times New Roman"/>
            </a:endParaRPr>
          </a:p>
          <a:p>
            <a:pPr marL="2476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7680" indent="-2476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AU is based on IEA forecast energy emissions, plus EPA non-energy projections</a:t>
            </a:r>
            <a:endParaRPr b="0" lang="en-US" sz="1600" spc="-1" strike="noStrike">
              <a:solidFill>
                <a:srgbClr val="000000"/>
              </a:solidFill>
              <a:latin typeface="Times New Roman"/>
            </a:endParaRPr>
          </a:p>
          <a:p>
            <a:pPr marL="2476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7680" indent="-2476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owth of emissions in China probably means that BAU emissions underestimated</a:t>
            </a:r>
            <a:endParaRPr b="0" lang="en-US" sz="1600" spc="-1" strike="noStrike">
              <a:solidFill>
                <a:srgbClr val="000000"/>
              </a:solidFill>
              <a:latin typeface="Times New Roman"/>
            </a:endParaRPr>
          </a:p>
          <a:p>
            <a:pPr marL="2476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1160" y="744480"/>
            <a:ext cx="4959360" cy="3719520"/>
          </a:xfrm>
          <a:prstGeom prst="rect">
            <a:avLst/>
          </a:prstGeom>
          <a:ln w="0">
            <a:noFill/>
          </a:ln>
        </p:spPr>
      </p:sp>
      <p:sp>
        <p:nvSpPr>
          <p:cNvPr id="169" name="PlaceHolder 2"/>
          <p:cNvSpPr>
            <a:spLocks noGrp="1"/>
          </p:cNvSpPr>
          <p:nvPr>
            <p:ph type="body"/>
          </p:nvPr>
        </p:nvSpPr>
        <p:spPr>
          <a:xfrm>
            <a:off x="904680" y="4711680"/>
            <a:ext cx="4971960" cy="49356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ergy efficiency across the board very important</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other relatively cost-effective area for carbon savings is land-use –the sector accounts for 9-18% of global emissions</a:t>
            </a:r>
            <a:r>
              <a:rPr b="0" lang="en-US" sz="1000" spc="-1" strike="noStrike">
                <a:solidFill>
                  <a:srgbClr val="000000"/>
                </a:solidFill>
                <a:latin typeface="Arial"/>
              </a:rPr>
              <a:t>. Hence important to tackle emissions from deforestation</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antial body of evidence suggests that  action to prevent further deforestation would be relatively cheap compared with other types of mitigation</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ies suggest that costs are low for early action on a significant scale</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orestation is highly concentrated in a few countries. Currently around 30% of land-use emissions are from Indonesia and a further 20% from Brazil</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re other co-benefits from avoided deforestation.  The project in Namibia, Mozambique, combines sustainable agriculture and forestry to regenerate the local environment, reduce emissions and reduce poverty. Carbon credits have been sold to the Carbon Neutral Company, which specialises in supplying credits to the carbon offset market that is growing rapidly in rich countries</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are important sovereignty issues.  Situation different in Brazil, Congo Basin, Indonesia</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ge-scale pilot schemes can help provide more information about appropriate policy response – whether carbon markets or no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1160" y="744480"/>
            <a:ext cx="4959360" cy="3719520"/>
          </a:xfrm>
          <a:prstGeom prst="rect">
            <a:avLst/>
          </a:prstGeom>
          <a:ln w="0">
            <a:noFill/>
          </a:ln>
        </p:spPr>
      </p:sp>
      <p:sp>
        <p:nvSpPr>
          <p:cNvPr id="17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cKinsey use existing technologies; studies vary in assumptions about induced technical chang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rn review, Anderson &amp; Edenhofer consider also technological progres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S viable around $30 per tonne CO</a:t>
            </a:r>
            <a:r>
              <a:rPr b="0" lang="en-GB" sz="1200" spc="-1" strike="noStrike" baseline="-10000">
                <a:solidFill>
                  <a:srgbClr val="000000"/>
                </a:solidFill>
                <a:latin typeface="Times New Roman"/>
              </a:rPr>
              <a:t>2</a:t>
            </a:r>
            <a:r>
              <a:rPr b="0" lang="en-GB"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bilisation of 450ppm probably too late and in any case very costly. Waiting and seeing how technologies develop risks raising costs (e.g. if get close to 550ppm then costs of stabilising there may look like costs of stabilising at 450ppm toda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ty of action, decision now allows time to replace capital equipment etc in timely way. Delay likely to mean rushed decisions when challenge “sinks in “. Clarity and urgency of decision is the opposite of rushing and drastic a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698CB-7465-4206-9F9C-0DAD7CB7B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F68BA-D45C-4ACC-9C72-43FB4BDC1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CC20D-EB4A-4DF2-BFF1-DDD5CFB12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A506F-4771-4E9A-B824-20F7F07D4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E941E-0455-4ED1-8FF9-BC2F6FC9C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57114-2240-4716-9D46-E48A15D63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97D71-8D5B-4561-A547-0D8A3F88C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B9AC2-D9E5-4CAB-9EE6-46080842C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8EAAC-D6C0-444D-86F6-F90127C1C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FC5A1-D685-4273-9C5F-C1AF9C457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A17D6-A988-40A8-9227-47B5D5007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C45D9-B88F-4658-A393-F34C4AF40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05C0-D9D0-4818-B0C4-D992AB31D3A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2708280"/>
            <a:ext cx="8686800" cy="234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wards a Global Deal on Climate Chang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cholas Stern</a:t>
            </a:r>
            <a:br>
              <a:rPr sz="2800"/>
            </a:b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lhi, 31</a:t>
            </a:r>
            <a:r>
              <a:rPr b="1" lang="en-US" sz="2800" spc="-1" strike="noStrike" baseline="30000">
                <a:solidFill>
                  <a:srgbClr val="000000"/>
                </a:solidFill>
                <a:latin typeface="Arial"/>
              </a:rPr>
              <a:t>st</a:t>
            </a:r>
            <a:r>
              <a:rPr b="1" lang="en-US" sz="2800" spc="-1" strike="noStrike">
                <a:solidFill>
                  <a:srgbClr val="000000"/>
                </a:solidFill>
                <a:latin typeface="Arial"/>
              </a:rPr>
              <a:t> March 2008</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4140360" y="907920"/>
            <a:ext cx="1079280" cy="1079640"/>
          </a:xfrm>
          <a:prstGeom prst="rect">
            <a:avLst/>
          </a:prstGeom>
          <a:ln w="0">
            <a:noFill/>
          </a:ln>
        </p:spPr>
      </p:pic>
      <p:sp>
        <p:nvSpPr>
          <p:cNvPr id="2" name="PlaceHolder 1"/>
          <p:cNvSpPr>
            <a:spLocks noGrp="1"/>
          </p:cNvSpPr>
          <p:nvPr>
            <p:ph type="sldNum" idx="3"/>
          </p:nvPr>
        </p:nvSpPr>
        <p:spPr/>
        <p:txBody>
          <a:bodyPr/>
          <a:p>
            <a:fld id="{7193E790-A783-488A-9CCA-B931AD631E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Three </a:t>
            </a:r>
            <a:endParaRPr b="1" lang="en-US" sz="3600" spc="-1" strike="noStrike">
              <a:solidFill>
                <a:srgbClr val="000000"/>
              </a:solidFill>
              <a:latin typeface="Arial"/>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lobal Dea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1391073-C47F-4533-9801-7AAD431425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Criteria for a Global Deal</a:t>
            </a:r>
            <a:endParaRPr b="1" lang="en-US" sz="36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ness: the scale must be commensurate with the challe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cy: we must keep down the costs of emissions re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ty: the rich countries must take the lea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8288ACA-A480-40AF-A494-232A9B3258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Commitments: percentages</a:t>
            </a:r>
            <a:endParaRPr b="1" lang="en-US" sz="3600" spc="-1" strike="noStrike">
              <a:solidFill>
                <a:srgbClr val="000000"/>
              </a:solidFill>
              <a:latin typeface="Arial"/>
            </a:endParaRPr>
          </a:p>
        </p:txBody>
      </p:sp>
      <p:sp>
        <p:nvSpPr>
          <p:cNvPr id="115" name="PlaceHolder 2"/>
          <p:cNvSpPr>
            <a:spLocks noGrp="1"/>
          </p:cNvSpPr>
          <p:nvPr>
            <p:ph/>
          </p:nvPr>
        </p:nvSpPr>
        <p:spPr>
          <a:xfrm>
            <a:off x="304920" y="1143000"/>
            <a:ext cx="8534160" cy="51703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8 Heiligendamm – global 50% by 2050 (consistent with stabilisation around 500ppm C0</a:t>
            </a:r>
            <a:r>
              <a:rPr b="0" lang="en-GB" sz="2200" spc="-1" strike="noStrike" baseline="-10000">
                <a:solidFill>
                  <a:srgbClr val="000000"/>
                </a:solidFill>
                <a:latin typeface="Arial"/>
              </a:rPr>
              <a:t>2</a:t>
            </a:r>
            <a:r>
              <a:rPr b="0" lang="en-GB" sz="2200" spc="-1" strike="noStrike">
                <a:solidFill>
                  <a:srgbClr val="000000"/>
                </a:solidFill>
                <a:latin typeface="Arial"/>
              </a:rPr>
              <a:t>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alifornia (and US under e.g. Obama/Clinton) - 80% from 1990 levels by 2050. McCain 65% target and has sponsored cap-and-trade bill</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ance – 75% by 2050 (Factor 4), relative to 199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U Spring Council: 60-80% by 2050 and 20-30% by 2020, relative to 199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rmany – 40% by 2020, relative to 199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a to stay below rich country average per capit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15CBEE8-1471-4593-9C4F-015726299D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Equity and the GHG ‘reservoir’</a:t>
            </a:r>
            <a:endParaRPr b="1" lang="en-US" sz="3600" spc="-1" strike="noStrike">
              <a:solidFill>
                <a:srgbClr val="000000"/>
              </a:solidFill>
              <a:latin typeface="Arial"/>
            </a:endParaRPr>
          </a:p>
        </p:txBody>
      </p:sp>
      <p:sp>
        <p:nvSpPr>
          <p:cNvPr id="117" name="PlaceHolder 2"/>
          <p:cNvSpPr>
            <a:spLocks noGrp="1"/>
          </p:cNvSpPr>
          <p:nvPr>
            <p:ph/>
          </p:nvPr>
        </p:nvSpPr>
        <p:spPr>
          <a:xfrm>
            <a:off x="539640" y="1125360"/>
            <a:ext cx="8229600" cy="48960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stabilisation at 550ppm CO</a:t>
            </a:r>
            <a:r>
              <a:rPr b="0" lang="en-US" sz="2000" spc="-1" strike="noStrike" baseline="-10000">
                <a:solidFill>
                  <a:srgbClr val="000000"/>
                </a:solidFill>
                <a:latin typeface="Arial"/>
              </a:rPr>
              <a:t>2</a:t>
            </a:r>
            <a:r>
              <a:rPr b="0" lang="en-US" sz="2000" spc="-1" strike="noStrike">
                <a:solidFill>
                  <a:srgbClr val="000000"/>
                </a:solidFill>
                <a:latin typeface="Arial"/>
              </a:rPr>
              <a:t>e implies that only a further 120ppm CO</a:t>
            </a:r>
            <a:r>
              <a:rPr b="0" lang="en-US" sz="2000" spc="-1" strike="noStrike" baseline="-10000">
                <a:solidFill>
                  <a:srgbClr val="000000"/>
                </a:solidFill>
                <a:latin typeface="Arial"/>
              </a:rPr>
              <a:t>2</a:t>
            </a:r>
            <a:r>
              <a:rPr b="0" lang="en-US" sz="2000" spc="-1" strike="noStrike">
                <a:solidFill>
                  <a:srgbClr val="000000"/>
                </a:solidFill>
                <a:latin typeface="Arial"/>
              </a:rPr>
              <a:t>e can be ‘allocated’ for emission, given that we start at 430ppm CO</a:t>
            </a:r>
            <a:r>
              <a:rPr b="0" lang="en-US" sz="2000" spc="-1" strike="noStrike" baseline="-25000">
                <a:solidFill>
                  <a:srgbClr val="000000"/>
                </a:solidFill>
                <a:latin typeface="Arial"/>
              </a:rPr>
              <a:t>2</a:t>
            </a:r>
            <a:r>
              <a:rPr b="0" lang="en-US" sz="2000" spc="-1" strike="noStrike">
                <a:solidFill>
                  <a:srgbClr val="000000"/>
                </a:solidFill>
                <a:latin typeface="Arial"/>
              </a:rPr>
              <a:t>e (or further 70ppm if targeting 500ppm)</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view the issue as the use of a “collective reservoir” of 270ppm (i.e. 550 minus the 280ppm of 1850) over 200 years. Over half of reservoir already used mainly by rich countries. (i.e. 150ppm CO2e increase from 280 to 430)</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 requires a discussion of the appropriate use of this reservoir given past history</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convergence of flows does not fully capture the equity story, from emissions perspective</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 issues arise also in adaptation, given responsibilities for past increases</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1D72E5A-B664-4DBB-A2B8-A8AD68BC1D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8000"/>
            <a:ext cx="8229600" cy="7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Target: stocks, history, flows</a:t>
            </a:r>
            <a:endParaRPr b="1" lang="en-US" sz="3600" spc="-1" strike="noStrike">
              <a:solidFill>
                <a:srgbClr val="000000"/>
              </a:solidFill>
              <a:latin typeface="Arial"/>
            </a:endParaRPr>
          </a:p>
        </p:txBody>
      </p:sp>
      <p:sp>
        <p:nvSpPr>
          <p:cNvPr id="119" name="PlaceHolder 2"/>
          <p:cNvSpPr>
            <a:spLocks noGrp="1"/>
          </p:cNvSpPr>
          <p:nvPr>
            <p:ph/>
          </p:nvPr>
        </p:nvSpPr>
        <p:spPr>
          <a:xfrm>
            <a:off x="539640" y="980640"/>
            <a:ext cx="8229600" cy="4969080"/>
          </a:xfrm>
          <a:prstGeom prst="rect">
            <a:avLst/>
          </a:prstGeom>
          <a:noFill/>
          <a:ln w="0">
            <a:noFill/>
          </a:ln>
        </p:spPr>
        <p:txBody>
          <a:bodyPr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 40-45 GtCO</a:t>
            </a:r>
            <a:r>
              <a:rPr b="0" lang="en-GB" sz="2000" spc="-1" strike="noStrike" baseline="-10000">
                <a:solidFill>
                  <a:srgbClr val="000000"/>
                </a:solidFill>
                <a:latin typeface="Arial"/>
              </a:rPr>
              <a:t>2</a:t>
            </a:r>
            <a:r>
              <a:rPr b="0" lang="en-GB" sz="2000" spc="-1" strike="noStrike">
                <a:solidFill>
                  <a:srgbClr val="000000"/>
                </a:solidFill>
                <a:latin typeface="Arial"/>
              </a:rPr>
              <a:t>e p.a. Current stocks around 430ppm CO</a:t>
            </a:r>
            <a:r>
              <a:rPr b="0" lang="en-GB" sz="2000" spc="-1" strike="noStrike" baseline="-10000">
                <a:solidFill>
                  <a:srgbClr val="000000"/>
                </a:solidFill>
                <a:latin typeface="Arial"/>
              </a:rPr>
              <a:t>2</a:t>
            </a:r>
            <a:r>
              <a:rPr b="0" lang="en-GB" sz="2000" spc="-1" strike="noStrike">
                <a:solidFill>
                  <a:srgbClr val="000000"/>
                </a:solidFill>
                <a:latin typeface="Arial"/>
              </a:rPr>
              <a:t>e; pre-industrial stocks 280ppm</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The United States and the EU countries combined accounted for over half of cumulative global emissions from 1900 to 2005</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 reduction by 2050 requires per capita global GHG emissions of 2-3T/capita (20-25 Gt divided by 9 billion population)</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US ~ 20+, Europe ~10+, China ~5+, India ~1.5 T/capit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us 80% reductions would bring Europe, but not US, down to world average. Many developing countries would have to cut strongly too if world average of 2-3 T/capita is to be achieved. If one billion people are around 4 – 5 T/capita then (e.g.) another one billion would have to be around 0 – 1 T/capit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quires close to zero carbon electricity and surface transpor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9330202-A5E3-4321-A674-7304088A33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18920" y="476280"/>
            <a:ext cx="56134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SimSun"/>
              </a:rPr>
              <a:t>Key elements of a global deal / framework (I)</a:t>
            </a:r>
            <a:endParaRPr b="1" lang="en-US" sz="3600" spc="-1" strike="noStrike">
              <a:solidFill>
                <a:srgbClr val="000000"/>
              </a:solidFill>
              <a:latin typeface="Arial"/>
            </a:endParaRPr>
          </a:p>
        </p:txBody>
      </p:sp>
      <p:sp>
        <p:nvSpPr>
          <p:cNvPr id="121" name=""/>
          <p:cNvSpPr/>
          <p:nvPr/>
        </p:nvSpPr>
        <p:spPr>
          <a:xfrm>
            <a:off x="250920" y="1413000"/>
            <a:ext cx="8642160" cy="5054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SimSun"/>
              </a:rPr>
              <a:t>Targets and Trade</a:t>
            </a:r>
            <a:endParaRPr b="0" lang="en-US" sz="2400" spc="-1" strike="noStrike">
              <a:solidFill>
                <a:srgbClr val="000000"/>
              </a:solidFill>
              <a:latin typeface="Times New Roman"/>
            </a:endParaRPr>
          </a:p>
          <a:p>
            <a:pPr marL="268200" indent="-268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Confirm Heiligendamm </a:t>
            </a:r>
            <a:r>
              <a:rPr b="1" lang="en-US" sz="2400" spc="-1" strike="noStrike">
                <a:solidFill>
                  <a:srgbClr val="000000"/>
                </a:solidFill>
                <a:latin typeface="Arial"/>
                <a:ea typeface="SimSun"/>
              </a:rPr>
              <a:t>50%</a:t>
            </a:r>
            <a:r>
              <a:rPr b="0" lang="en-US" sz="2400" spc="-1" strike="noStrike">
                <a:solidFill>
                  <a:srgbClr val="000000"/>
                </a:solidFill>
                <a:latin typeface="Arial"/>
                <a:ea typeface="SimSun"/>
              </a:rPr>
              <a:t> cuts in world emissions by 2050 with rich country cuts at least </a:t>
            </a:r>
            <a:r>
              <a:rPr b="1" lang="en-US" sz="2400" spc="-1" strike="noStrike">
                <a:solidFill>
                  <a:srgbClr val="000000"/>
                </a:solidFill>
                <a:latin typeface="Arial"/>
                <a:ea typeface="SimSun"/>
              </a:rPr>
              <a:t>80%</a:t>
            </a:r>
            <a:endParaRPr b="0" lang="en-US" sz="2400" spc="-1" strike="noStrike">
              <a:solidFill>
                <a:srgbClr val="000000"/>
              </a:solidFill>
              <a:latin typeface="Times New Roman"/>
            </a:endParaRPr>
          </a:p>
          <a:p>
            <a:pPr marL="268200" indent="-268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Rich country reductions and trading schemes designed to be </a:t>
            </a:r>
            <a:r>
              <a:rPr b="1" lang="en-US" sz="2400" spc="-1" strike="noStrike">
                <a:solidFill>
                  <a:srgbClr val="000000"/>
                </a:solidFill>
                <a:latin typeface="Arial"/>
                <a:ea typeface="SimSun"/>
              </a:rPr>
              <a:t>open to trade with other countries</a:t>
            </a:r>
            <a:r>
              <a:rPr b="0" lang="en-US" sz="2400" spc="-1" strike="noStrike">
                <a:solidFill>
                  <a:srgbClr val="000000"/>
                </a:solidFill>
                <a:latin typeface="Arial"/>
                <a:ea typeface="SimSun"/>
              </a:rPr>
              <a:t>, including developing countries</a:t>
            </a:r>
            <a:endParaRPr b="0" lang="en-US" sz="2400" spc="-1" strike="noStrike">
              <a:solidFill>
                <a:srgbClr val="000000"/>
              </a:solidFill>
              <a:latin typeface="Times New Roman"/>
            </a:endParaRPr>
          </a:p>
          <a:p>
            <a:pPr marL="268200" indent="-268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Supply side from developing countries</a:t>
            </a:r>
            <a:r>
              <a:rPr b="0" lang="en-US" sz="2400" spc="-1" strike="noStrike">
                <a:solidFill>
                  <a:srgbClr val="000000"/>
                </a:solidFill>
                <a:latin typeface="Arial"/>
                <a:ea typeface="SimSun"/>
              </a:rPr>
              <a:t> simplified to allow much bigger markets for emissions reductions: ‘carbon flows’ from rich to developing countries to rise to $50-$100bn p.a. by 2030. Reform CDM to operate on wholesale level. No aggregate targets until rich countries prove credibilit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6320B2E-6779-44D9-94A2-A735DCD0A7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560" y="188640"/>
            <a:ext cx="889308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Key elements of a global deal / framework (II)</a:t>
            </a:r>
            <a:endParaRPr b="1" lang="en-US" sz="3200" spc="-1" strike="noStrike">
              <a:solidFill>
                <a:srgbClr val="000000"/>
              </a:solidFill>
              <a:latin typeface="Arial"/>
            </a:endParaRPr>
          </a:p>
        </p:txBody>
      </p:sp>
      <p:sp>
        <p:nvSpPr>
          <p:cNvPr id="123" name=""/>
          <p:cNvSpPr/>
          <p:nvPr/>
        </p:nvSpPr>
        <p:spPr>
          <a:xfrm>
            <a:off x="468360" y="1413000"/>
            <a:ext cx="8207280" cy="461628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Times New Roman"/>
              </a:rPr>
              <a:t>Funding Issues (flows from rich to developing)</a:t>
            </a:r>
            <a:endParaRPr b="0" lang="en-US" sz="2000" spc="-1" strike="noStrike">
              <a:solidFill>
                <a:srgbClr val="000000"/>
              </a:solidFill>
              <a:latin typeface="Times New Roman"/>
            </a:endParaRPr>
          </a:p>
          <a:p>
            <a:pPr marL="268200" indent="-268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trong initiatives, with public funding, on deforestation to prepare for inclusion in trading. For $10-15 bn p.a. could have a programme which might halve deforestation. Importance of global action and involvement of IFIs</a:t>
            </a:r>
            <a:endParaRPr b="0" lang="en-US" sz="2000" spc="-1" strike="noStrike">
              <a:solidFill>
                <a:srgbClr val="000000"/>
              </a:solidFill>
              <a:latin typeface="Times New Roman"/>
            </a:endParaRPr>
          </a:p>
          <a:p>
            <a:pPr marL="268200" indent="-268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emonstration and sharing of technologies: e.g. $5 bn p.a. commitment to feed-in tariffs for CCS coal would lead to 30+ new commercial size plants in the next 7-8 years</a:t>
            </a:r>
            <a:endParaRPr b="0" lang="en-US" sz="2000" spc="-1" strike="noStrike">
              <a:solidFill>
                <a:srgbClr val="000000"/>
              </a:solidFill>
              <a:latin typeface="Times New Roman"/>
            </a:endParaRPr>
          </a:p>
          <a:p>
            <a:pPr marL="268200" indent="-268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ich countries have caused most of the problem. Poor countries suffer earliest and hardest. Rich countries to deliver on Monterrey and Gleneagles commitments on ODA in context of extra costs of development arising from climate change: potential extra cost of development with climate change upwards of $80bn p.a. by 2015</a:t>
            </a:r>
            <a:endParaRPr b="0" lang="en-US" sz="2000" spc="-1" strike="noStrike">
              <a:solidFill>
                <a:srgbClr val="000000"/>
              </a:solidFill>
              <a:latin typeface="Times New Roman"/>
            </a:endParaRPr>
          </a:p>
          <a:p>
            <a:pPr marL="268200" indent="-268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77C7402-F3B4-410A-9E5D-2A11919B6D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476280"/>
            <a:ext cx="889308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Implications for India of an effective, efficient and equitable global deal</a:t>
            </a:r>
            <a:endParaRPr b="1" lang="en-US" sz="3200" spc="-1" strike="noStrike">
              <a:solidFill>
                <a:srgbClr val="000000"/>
              </a:solidFill>
              <a:latin typeface="Arial"/>
            </a:endParaRPr>
          </a:p>
        </p:txBody>
      </p:sp>
      <p:sp>
        <p:nvSpPr>
          <p:cNvPr id="125" name=""/>
          <p:cNvSpPr/>
          <p:nvPr/>
        </p:nvSpPr>
        <p:spPr>
          <a:xfrm>
            <a:off x="468360" y="1700280"/>
            <a:ext cx="8207280" cy="449892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harp reduction of risks (economic, security, climate) for India  </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Cleaner, safer, more biodiverse and more sustainable development</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ubstantial inflows of funding for move to low carbon economy (possibly tens of billions of dollars)</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Major transfers of technology</a:t>
            </a:r>
            <a:endParaRPr b="0" lang="en-US" sz="2400" spc="-1" strike="noStrike">
              <a:solidFill>
                <a:srgbClr val="000000"/>
              </a:solidFill>
              <a:latin typeface="Times New Roman"/>
            </a:endParaRPr>
          </a:p>
          <a:p>
            <a:pPr marL="268200" indent="-268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ubstantial resources for adaptation to more hostile climate, in context of past rich country responsibility for rise in stocks of GHGs</a:t>
            </a:r>
            <a:endParaRPr b="0" lang="en-US" sz="2400" spc="-1" strike="noStrike">
              <a:solidFill>
                <a:srgbClr val="000000"/>
              </a:solidFill>
              <a:latin typeface="Times New Roman"/>
            </a:endParaRPr>
          </a:p>
          <a:p>
            <a:pPr marL="268200" indent="-26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6AEBDBE-C726-4F09-8CDD-330249B121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Four </a:t>
            </a:r>
            <a:endParaRPr b="1" lang="en-US" sz="36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Role for Indi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86ADE0A-CDFB-45D2-AE47-5DEC17A79A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80880"/>
            <a:ext cx="830592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ia: steering toward a global deal I</a:t>
            </a:r>
            <a:endParaRPr b="1" lang="en-US" sz="3600" spc="-1" strike="noStrike">
              <a:solidFill>
                <a:srgbClr val="000000"/>
              </a:solidFill>
              <a:latin typeface="Arial"/>
            </a:endParaRPr>
          </a:p>
        </p:txBody>
      </p:sp>
      <p:sp>
        <p:nvSpPr>
          <p:cNvPr id="129" name="PlaceHolder 2"/>
          <p:cNvSpPr>
            <a:spLocks noGrp="1"/>
          </p:cNvSpPr>
          <p:nvPr>
            <p:ph/>
          </p:nvPr>
        </p:nvSpPr>
        <p:spPr>
          <a:xfrm>
            <a:off x="685440" y="1143000"/>
            <a:ext cx="8077320" cy="51055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st rich country cuts are at least 80% by 2050 and they have credible interim targets for 2020</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at proposing equality in flows by 2050 is a very weak demand given the history</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at those countries (including USA) around or above 20 tonnes per capita should be cutting by 90%</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same time the rich countries must </a:t>
            </a:r>
            <a:r>
              <a:rPr b="0" lang="en-GB" sz="2400" spc="-1" strike="noStrike">
                <a:solidFill>
                  <a:srgbClr val="000000"/>
                </a:solidFill>
                <a:latin typeface="Arial"/>
              </a:rPr>
              <a:t>recognise</a:t>
            </a:r>
            <a:r>
              <a:rPr b="0" lang="en-US" sz="2400" spc="-1" strike="noStrike">
                <a:solidFill>
                  <a:srgbClr val="000000"/>
                </a:solidFill>
                <a:latin typeface="Arial"/>
              </a:rPr>
              <a:t> that they must demonstrate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low carbon growth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credible mechanisms, including carbon trading, for helping finance developing country investments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credible mechanisms for transferring technology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v) funding for extra challenge for developing countries   in more hostile climate (adap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A3652AF-6791-429C-AE35-7A95919628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One </a:t>
            </a:r>
            <a:endParaRPr b="1" lang="en-US" sz="36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s and Targe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FC9DB20-7350-4D4B-9CE2-CB420A9902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457200"/>
            <a:ext cx="8305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ia: steering toward a global deal II</a:t>
            </a:r>
            <a:endParaRPr b="1" lang="en-US" sz="3600" spc="-1" strike="noStrike">
              <a:solidFill>
                <a:srgbClr val="000000"/>
              </a:solidFill>
              <a:latin typeface="Arial"/>
            </a:endParaRPr>
          </a:p>
        </p:txBody>
      </p:sp>
      <p:sp>
        <p:nvSpPr>
          <p:cNvPr id="131" name="PlaceHolder 2"/>
          <p:cNvSpPr>
            <a:spLocks noGrp="1"/>
          </p:cNvSpPr>
          <p:nvPr>
            <p:ph/>
          </p:nvPr>
        </p:nvSpPr>
        <p:spPr>
          <a:xfrm>
            <a:off x="762120" y="1371600"/>
            <a:ext cx="7772400" cy="4648320"/>
          </a:xfrm>
          <a:prstGeom prst="rect">
            <a:avLst/>
          </a:prstGeom>
          <a:noFill/>
          <a:ln w="0">
            <a:noFill/>
          </a:ln>
        </p:spPr>
        <p:txBody>
          <a:bodyPr lIns="90000" rIns="90000" tIns="46800" bIns="46800" anchor="t">
            <a:normAutofit fontScale="97000"/>
          </a:bodyPr>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 significance of Merkel/Heiligendamm offer by PM Manmohan Singh: lays down clear challenges to rich countries</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w actions India is taking and planning including Feb. 2008 budget statement (para. 109) and Climate Change Action Plan (June 2008)</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 that developing countries create their own credible action plans: including energy efficiency; deforestation; facilitating carbon trading; alternative fuels and technologies</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 the successor to Clean Development Mechanism (do not wait for rich countries to propose) capable of operating on scale</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 incentive mechanisms for promoting the transfer of technology</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8C51A76-CD5E-405B-9D76-D2F653DEC6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ndations of Strategy for India</a:t>
            </a:r>
            <a:endParaRPr b="1" lang="en-US" sz="3600" spc="-1" strike="noStrike">
              <a:solidFill>
                <a:srgbClr val="000000"/>
              </a:solidFill>
              <a:latin typeface="Arial"/>
            </a:endParaRPr>
          </a:p>
        </p:txBody>
      </p:sp>
      <p:sp>
        <p:nvSpPr>
          <p:cNvPr id="133" name="PlaceHolder 2"/>
          <p:cNvSpPr>
            <a:spLocks noGrp="1"/>
          </p:cNvSpPr>
          <p:nvPr>
            <p:ph/>
          </p:nvPr>
        </p:nvSpPr>
        <p:spPr>
          <a:xfrm>
            <a:off x="755640" y="1483920"/>
            <a:ext cx="7778880" cy="4465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r international community towards an equitable global de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 in self-interest to reduce energy costs and dependence on hydrocarbons in a world of high energy prices and energy insecur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India’s natural advantages of sun, wind, gas, tropical fores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ness India’s entrepreneurship, technical skills and divers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raging the country’s decentralisation strateg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259DDAE-474E-4797-AD15-1AB5F96932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ible Policy Measures in India - 1</a:t>
            </a:r>
            <a:endParaRPr b="1" lang="en-US" sz="3200" spc="-1" strike="noStrike">
              <a:solidFill>
                <a:srgbClr val="000000"/>
              </a:solidFill>
              <a:latin typeface="Arial"/>
            </a:endParaRPr>
          </a:p>
        </p:txBody>
      </p:sp>
      <p:sp>
        <p:nvSpPr>
          <p:cNvPr id="135" name="PlaceHolder 2"/>
          <p:cNvSpPr>
            <a:spLocks noGrp="1"/>
          </p:cNvSpPr>
          <p:nvPr>
            <p:ph/>
          </p:nvPr>
        </p:nvSpPr>
        <p:spPr>
          <a:xfrm>
            <a:off x="456840" y="1143000"/>
            <a:ext cx="8077320" cy="50227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ossible measures not only show action in India which will promote the global deal India and the world urgently need for sustainability, they are also in the short and medium term in India’s self-interest. Challenge is to align individual incentives with India’s self-interes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venue raising</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 on pollutants including in power and transport, or quota trading with auctioned permit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orm power sector, particularly reduce T &amp; D loss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energy subsidie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ew incentives &amp; technologi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tariffs for imports of cleaner technologies and reduced taxes on cleaner technology</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ssions regulation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transport; sustainable cities; electric vehicle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and demonstrate: CCS for coal; solar; nuclear; gas; hydro; CHP; 2</a:t>
            </a:r>
            <a:r>
              <a:rPr b="0" lang="en-US" sz="1800" spc="-1" strike="noStrike" baseline="30000">
                <a:solidFill>
                  <a:srgbClr val="000000"/>
                </a:solidFill>
                <a:latin typeface="Arial"/>
              </a:rPr>
              <a:t>nd</a:t>
            </a:r>
            <a:r>
              <a:rPr b="0" lang="en-US" sz="1800" spc="-1" strike="noStrike">
                <a:solidFill>
                  <a:srgbClr val="000000"/>
                </a:solidFill>
                <a:latin typeface="Arial"/>
              </a:rPr>
              <a:t> generation bio-fuels; etc.</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challenge fun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32931FD-7148-4752-995C-B052CCA625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ible Policy Measures in India - 2</a:t>
            </a:r>
            <a:endParaRPr b="1" lang="en-US" sz="3200" spc="-1" strike="noStrike">
              <a:solidFill>
                <a:srgbClr val="000000"/>
              </a:solidFill>
              <a:latin typeface="Arial"/>
            </a:endParaRPr>
          </a:p>
        </p:txBody>
      </p:sp>
      <p:sp>
        <p:nvSpPr>
          <p:cNvPr id="137" name="PlaceHolder 2"/>
          <p:cNvSpPr>
            <a:spLocks noGrp="1"/>
          </p:cNvSpPr>
          <p:nvPr>
            <p:ph/>
          </p:nvPr>
        </p:nvSpPr>
        <p:spPr>
          <a:xfrm>
            <a:off x="456840" y="990360"/>
            <a:ext cx="7467480" cy="5257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stitutional</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 monitor and regulator</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change committee to assess progress and promote policies</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lass emissions trading platform: demonstrate for trade within and outside India</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 grid to promote </a:t>
            </a:r>
            <a:r>
              <a:rPr b="0" lang="en-GB" sz="2400" spc="-1" strike="noStrike">
                <a:solidFill>
                  <a:srgbClr val="000000"/>
                </a:solidFill>
                <a:latin typeface="Arial"/>
              </a:rPr>
              <a:t>decentralisation</a:t>
            </a:r>
            <a:r>
              <a:rPr b="0" lang="en-US" sz="2400" spc="-1" strike="noStrike">
                <a:solidFill>
                  <a:srgbClr val="000000"/>
                </a:solidFill>
                <a:latin typeface="Arial"/>
              </a:rPr>
              <a:t> and selling as well as buying</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s to encourage afforestation and arrest deforestation</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daptation: CRUCIAL CHALLENG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ase – meteorology/ scienc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structure: irrigation, transport, flood defenc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iculture: new crops; techniques; insurance/early warning …</a:t>
            </a:r>
            <a:endParaRPr b="0" lang="en-US" sz="24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4ECE4F2-6C72-4E77-85D5-9C135085F7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01440" y="115560"/>
            <a:ext cx="73422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llustrative growth for India</a:t>
            </a:r>
            <a:endParaRPr b="1" lang="en-US" sz="3600" spc="-1" strike="noStrike">
              <a:solidFill>
                <a:srgbClr val="000000"/>
              </a:solidFill>
              <a:latin typeface="Arial"/>
            </a:endParaRPr>
          </a:p>
        </p:txBody>
      </p:sp>
      <p:sp>
        <p:nvSpPr>
          <p:cNvPr id="139" name="PlaceHolder 2"/>
          <p:cNvSpPr>
            <a:spLocks noGrp="1"/>
          </p:cNvSpPr>
          <p:nvPr>
            <p:ph/>
          </p:nvPr>
        </p:nvSpPr>
        <p:spPr>
          <a:xfrm>
            <a:off x="684360" y="5084640"/>
            <a:ext cx="7557840" cy="144000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ch world followed emission path close to income path</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example only: many simulations and possible paths should be examined, together with associated policies</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 likely to be down to 7 or 8 tonnes/capita by 2030</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a will require fundamental change to energy strategy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gotiate payment for difference between curve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
          <p:cNvSpPr/>
          <p:nvPr/>
        </p:nvSpPr>
        <p:spPr>
          <a:xfrm>
            <a:off x="1116000" y="981000"/>
            <a:ext cx="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26920" y="4581360"/>
            <a:ext cx="68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63400" y="4175280"/>
            <a:ext cx="9658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43" name=""/>
          <p:cNvSpPr/>
          <p:nvPr/>
        </p:nvSpPr>
        <p:spPr>
          <a:xfrm>
            <a:off x="558360" y="3860640"/>
            <a:ext cx="9658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44" name=""/>
          <p:cNvSpPr/>
          <p:nvPr/>
        </p:nvSpPr>
        <p:spPr>
          <a:xfrm>
            <a:off x="558360" y="3573360"/>
            <a:ext cx="9658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45" name=""/>
          <p:cNvSpPr/>
          <p:nvPr/>
        </p:nvSpPr>
        <p:spPr>
          <a:xfrm>
            <a:off x="558360" y="2708280"/>
            <a:ext cx="9658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146" name=""/>
          <p:cNvSpPr/>
          <p:nvPr/>
        </p:nvSpPr>
        <p:spPr>
          <a:xfrm>
            <a:off x="1116000" y="1268280"/>
            <a:ext cx="6408720" cy="2881440"/>
          </a:xfrm>
          <a:custGeom>
            <a:avLst/>
            <a:gdLst/>
            <a:ahLst/>
            <a:rect l="l" t="t" r="r" b="b"/>
            <a:pathLst>
              <a:path w="4037" h="1815">
                <a:moveTo>
                  <a:pt x="0" y="1815"/>
                </a:moveTo>
                <a:cubicBezTo>
                  <a:pt x="234" y="1580"/>
                  <a:pt x="469" y="1346"/>
                  <a:pt x="907" y="1089"/>
                </a:cubicBezTo>
                <a:cubicBezTo>
                  <a:pt x="1345" y="832"/>
                  <a:pt x="2109" y="453"/>
                  <a:pt x="2631" y="272"/>
                </a:cubicBezTo>
                <a:cubicBezTo>
                  <a:pt x="3153" y="91"/>
                  <a:pt x="3803" y="45"/>
                  <a:pt x="4037" y="0"/>
                </a:cubicBezTo>
              </a:path>
            </a:pathLst>
          </a:custGeom>
          <a:noFill/>
          <a:ln w="2232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7" name=""/>
          <p:cNvSpPr/>
          <p:nvPr/>
        </p:nvSpPr>
        <p:spPr>
          <a:xfrm>
            <a:off x="1116000" y="2887560"/>
            <a:ext cx="6443640" cy="1262160"/>
          </a:xfrm>
          <a:custGeom>
            <a:avLst/>
            <a:gdLst/>
            <a:ahLst/>
            <a:rect l="l" t="t" r="r" b="b"/>
            <a:pathLst>
              <a:path w="4059" h="795">
                <a:moveTo>
                  <a:pt x="0" y="795"/>
                </a:moveTo>
                <a:cubicBezTo>
                  <a:pt x="136" y="689"/>
                  <a:pt x="272" y="583"/>
                  <a:pt x="499" y="477"/>
                </a:cubicBezTo>
                <a:cubicBezTo>
                  <a:pt x="726" y="371"/>
                  <a:pt x="1127" y="236"/>
                  <a:pt x="1361" y="160"/>
                </a:cubicBezTo>
                <a:cubicBezTo>
                  <a:pt x="1595" y="84"/>
                  <a:pt x="1731" y="46"/>
                  <a:pt x="1905" y="23"/>
                </a:cubicBezTo>
                <a:cubicBezTo>
                  <a:pt x="2079" y="0"/>
                  <a:pt x="2245" y="15"/>
                  <a:pt x="2404" y="23"/>
                </a:cubicBezTo>
                <a:cubicBezTo>
                  <a:pt x="2563" y="31"/>
                  <a:pt x="2653" y="9"/>
                  <a:pt x="2857" y="69"/>
                </a:cubicBezTo>
                <a:cubicBezTo>
                  <a:pt x="3061" y="129"/>
                  <a:pt x="3440" y="310"/>
                  <a:pt x="3629" y="386"/>
                </a:cubicBezTo>
                <a:cubicBezTo>
                  <a:pt x="3818" y="462"/>
                  <a:pt x="3923" y="492"/>
                  <a:pt x="3991" y="522"/>
                </a:cubicBezTo>
                <a:cubicBezTo>
                  <a:pt x="4059" y="552"/>
                  <a:pt x="4048" y="560"/>
                  <a:pt x="4037" y="568"/>
                </a:cubicBezTo>
              </a:path>
            </a:pathLst>
          </a:custGeom>
          <a:noFill/>
          <a:ln w="22320">
            <a:solidFill>
              <a:srgbClr val="3399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8" name=""/>
          <p:cNvSpPr/>
          <p:nvPr/>
        </p:nvSpPr>
        <p:spPr>
          <a:xfrm>
            <a:off x="1116000" y="4149720"/>
            <a:ext cx="6408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1120" y="907920"/>
            <a:ext cx="1453680" cy="478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nnes/</a:t>
            </a:r>
            <a:endParaRPr b="0" lang="en-US" sz="1400" spc="-1" strike="noStrike">
              <a:solidFill>
                <a:srgbClr val="000000"/>
              </a:solidFill>
              <a:latin typeface="Times New Roman"/>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a:t>
            </a:r>
            <a:endParaRPr b="0" lang="en-US" sz="1400" spc="-1" strike="noStrike">
              <a:solidFill>
                <a:srgbClr val="000000"/>
              </a:solidFill>
              <a:latin typeface="Times New Roman"/>
            </a:endParaRPr>
          </a:p>
        </p:txBody>
      </p:sp>
      <p:sp>
        <p:nvSpPr>
          <p:cNvPr id="150" name=""/>
          <p:cNvSpPr/>
          <p:nvPr/>
        </p:nvSpPr>
        <p:spPr>
          <a:xfrm>
            <a:off x="266760" y="482292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a:t>
            </a:r>
            <a:endParaRPr b="0" lang="en-US" sz="1400" spc="-1" strike="noStrike">
              <a:solidFill>
                <a:srgbClr val="000000"/>
              </a:solidFill>
              <a:latin typeface="Times New Roman"/>
            </a:endParaRPr>
          </a:p>
        </p:txBody>
      </p:sp>
      <p:sp>
        <p:nvSpPr>
          <p:cNvPr id="151" name=""/>
          <p:cNvSpPr/>
          <p:nvPr/>
        </p:nvSpPr>
        <p:spPr>
          <a:xfrm>
            <a:off x="771840" y="460692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0</a:t>
            </a:r>
            <a:endParaRPr b="0" lang="en-US" sz="1400" spc="-1" strike="noStrike">
              <a:solidFill>
                <a:srgbClr val="000000"/>
              </a:solidFill>
              <a:latin typeface="Times New Roman"/>
            </a:endParaRPr>
          </a:p>
        </p:txBody>
      </p:sp>
      <p:sp>
        <p:nvSpPr>
          <p:cNvPr id="152" name=""/>
          <p:cNvSpPr/>
          <p:nvPr/>
        </p:nvSpPr>
        <p:spPr>
          <a:xfrm>
            <a:off x="6820200" y="460692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0</a:t>
            </a:r>
            <a:endParaRPr b="0" lang="en-US" sz="1400" spc="-1" strike="noStrike">
              <a:solidFill>
                <a:srgbClr val="000000"/>
              </a:solidFill>
              <a:latin typeface="Times New Roman"/>
            </a:endParaRPr>
          </a:p>
        </p:txBody>
      </p:sp>
      <p:sp>
        <p:nvSpPr>
          <p:cNvPr id="153" name=""/>
          <p:cNvSpPr/>
          <p:nvPr/>
        </p:nvSpPr>
        <p:spPr>
          <a:xfrm>
            <a:off x="3795840" y="458136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30</a:t>
            </a:r>
            <a:endParaRPr b="0" lang="en-US" sz="1400" spc="-1" strike="noStrike">
              <a:solidFill>
                <a:srgbClr val="000000"/>
              </a:solidFill>
              <a:latin typeface="Times New Roman"/>
            </a:endParaRPr>
          </a:p>
        </p:txBody>
      </p:sp>
      <p:sp>
        <p:nvSpPr>
          <p:cNvPr id="154" name=""/>
          <p:cNvSpPr/>
          <p:nvPr/>
        </p:nvSpPr>
        <p:spPr>
          <a:xfrm>
            <a:off x="2211480" y="458136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a:t>
            </a:r>
            <a:endParaRPr b="0" lang="en-US" sz="1400" spc="-1" strike="noStrike">
              <a:solidFill>
                <a:srgbClr val="000000"/>
              </a:solidFill>
              <a:latin typeface="Times New Roman"/>
            </a:endParaRPr>
          </a:p>
        </p:txBody>
      </p:sp>
      <p:sp>
        <p:nvSpPr>
          <p:cNvPr id="155" name=""/>
          <p:cNvSpPr/>
          <p:nvPr/>
        </p:nvSpPr>
        <p:spPr>
          <a:xfrm>
            <a:off x="5382000" y="458136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40</a:t>
            </a:r>
            <a:endParaRPr b="0" lang="en-US" sz="1400" spc="-1" strike="noStrike">
              <a:solidFill>
                <a:srgbClr val="000000"/>
              </a:solidFill>
              <a:latin typeface="Times New Roman"/>
            </a:endParaRPr>
          </a:p>
        </p:txBody>
      </p:sp>
      <p:sp>
        <p:nvSpPr>
          <p:cNvPr id="156" name=""/>
          <p:cNvSpPr/>
          <p:nvPr/>
        </p:nvSpPr>
        <p:spPr>
          <a:xfrm>
            <a:off x="7524720" y="1052640"/>
            <a:ext cx="0" cy="35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109280" y="4076640"/>
            <a:ext cx="1164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158" name=""/>
          <p:cNvSpPr/>
          <p:nvPr/>
        </p:nvSpPr>
        <p:spPr>
          <a:xfrm>
            <a:off x="7204320" y="1197000"/>
            <a:ext cx="126324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00</a:t>
            </a:r>
            <a:endParaRPr b="0" lang="en-US" sz="1400" spc="-1" strike="noStrike">
              <a:solidFill>
                <a:srgbClr val="000000"/>
              </a:solidFill>
              <a:latin typeface="Times New Roman"/>
            </a:endParaRPr>
          </a:p>
        </p:txBody>
      </p:sp>
      <p:sp>
        <p:nvSpPr>
          <p:cNvPr id="159" name=""/>
          <p:cNvSpPr/>
          <p:nvPr/>
        </p:nvSpPr>
        <p:spPr>
          <a:xfrm>
            <a:off x="7451640" y="765000"/>
            <a:ext cx="1220760" cy="478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a:t>
            </a:r>
            <a:endParaRPr b="0" lang="en-US" sz="1400" spc="-1" strike="noStrike">
              <a:solidFill>
                <a:srgbClr val="000000"/>
              </a:solidFill>
              <a:latin typeface="Times New Roman"/>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6742E6-8851-458B-9532-6428B19D2C1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1412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ed impacts of climate change</a:t>
            </a:r>
            <a:endParaRPr b="1" lang="en-US" sz="2400" spc="-1" strike="noStrike">
              <a:solidFill>
                <a:srgbClr val="000000"/>
              </a:solidFill>
              <a:latin typeface="Arial"/>
            </a:endParaRPr>
          </a:p>
        </p:txBody>
      </p:sp>
      <p:sp>
        <p:nvSpPr>
          <p:cNvPr id="54" name=""/>
          <p:cNvSpPr/>
          <p:nvPr/>
        </p:nvSpPr>
        <p:spPr>
          <a:xfrm>
            <a:off x="304920" y="4589640"/>
            <a:ext cx="8636040" cy="99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04920" y="5562720"/>
            <a:ext cx="8636040" cy="9144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04920" y="3733920"/>
            <a:ext cx="8636040" cy="1019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04920" y="1295280"/>
            <a:ext cx="8636040" cy="1295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04920" y="2514600"/>
            <a:ext cx="8636040" cy="12193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98440" y="685800"/>
            <a:ext cx="8636040" cy="6094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0" name=""/>
          <p:cNvGraphicFramePr/>
          <p:nvPr/>
        </p:nvGraphicFramePr>
        <p:xfrm>
          <a:off x="533520" y="762120"/>
          <a:ext cx="8153280" cy="5715000"/>
        </p:xfrm>
        <a:graphic>
          <a:graphicData uri="http://schemas.openxmlformats.org/drawingml/2006/table">
            <a:tbl>
              <a:tblPr/>
              <a:tblGrid>
                <a:gridCol w="1358640"/>
                <a:gridCol w="1359000"/>
                <a:gridCol w="1358640"/>
                <a:gridCol w="1359000"/>
                <a:gridCol w="1346400"/>
                <a:gridCol w="1371600"/>
              </a:tblGrid>
              <a:tr h="696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2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21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17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694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2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1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r h="72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b2b2b2"/>
                      </a:solidFill>
                    </a:lnL>
                    <a:lnR w="5760">
                      <a:solidFill>
                        <a:srgbClr val="b2b2b2"/>
                      </a:solidFill>
                    </a:lnR>
                    <a:lnT>
                      <a:noFill/>
                    </a:lnT>
                    <a:lnB>
                      <a:noFill/>
                    </a:lnB>
                    <a:noFill/>
                  </a:tcPr>
                </a:tc>
              </a:tr>
            </a:tbl>
          </a:graphicData>
        </a:graphic>
      </p:graphicFrame>
      <p:sp>
        <p:nvSpPr>
          <p:cNvPr id="61" name=""/>
          <p:cNvSpPr/>
          <p:nvPr/>
        </p:nvSpPr>
        <p:spPr>
          <a:xfrm>
            <a:off x="1778040" y="928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2" name=""/>
          <p:cNvSpPr/>
          <p:nvPr/>
        </p:nvSpPr>
        <p:spPr>
          <a:xfrm>
            <a:off x="3149640" y="928800"/>
            <a:ext cx="7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3" name=""/>
          <p:cNvSpPr/>
          <p:nvPr/>
        </p:nvSpPr>
        <p:spPr>
          <a:xfrm>
            <a:off x="7188120" y="9288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4" name=""/>
          <p:cNvSpPr/>
          <p:nvPr/>
        </p:nvSpPr>
        <p:spPr>
          <a:xfrm>
            <a:off x="5816520" y="928800"/>
            <a:ext cx="78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5" name=""/>
          <p:cNvSpPr/>
          <p:nvPr/>
        </p:nvSpPr>
        <p:spPr>
          <a:xfrm>
            <a:off x="4521240" y="92880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66" name=""/>
          <p:cNvSpPr/>
          <p:nvPr/>
        </p:nvSpPr>
        <p:spPr>
          <a:xfrm>
            <a:off x="2971800" y="5595840"/>
            <a:ext cx="5740560" cy="838440"/>
          </a:xfrm>
          <a:custGeom>
            <a:avLst/>
            <a:gdLst>
              <a:gd name="textAreaLeft" fmla="*/ 896760 w 5740560"/>
              <a:gd name="textAreaRight" fmla="*/ 4614840 w 5740560"/>
              <a:gd name="textAreaTop" fmla="*/ 113400 h 838440"/>
              <a:gd name="textAreaBottom" fmla="*/ 725040 h 838440"/>
            </a:gdLst>
            <a:ahLst/>
            <a:rect l="textAreaLeft" t="textAreaTop" r="textAreaRight" b="textAreaBottom"/>
            <a:pathLst>
              <a:path w="21600" h="21600">
                <a:moveTo>
                  <a:pt x="3375" y="2922"/>
                </a:moveTo>
                <a:lnTo>
                  <a:pt x="15792" y="2922"/>
                </a:lnTo>
                <a:lnTo>
                  <a:pt x="15792" y="0"/>
                </a:lnTo>
                <a:lnTo>
                  <a:pt x="21600" y="10800"/>
                </a:lnTo>
                <a:lnTo>
                  <a:pt x="15792" y="21600"/>
                </a:lnTo>
                <a:lnTo>
                  <a:pt x="15792" y="18678"/>
                </a:lnTo>
                <a:lnTo>
                  <a:pt x="3375" y="18678"/>
                </a:lnTo>
                <a:close/>
              </a:path>
              <a:path w="21600" h="21600">
                <a:moveTo>
                  <a:pt x="0" y="2922"/>
                </a:moveTo>
                <a:lnTo>
                  <a:pt x="675" y="2922"/>
                </a:lnTo>
                <a:lnTo>
                  <a:pt x="675" y="18678"/>
                </a:lnTo>
                <a:lnTo>
                  <a:pt x="0" y="18678"/>
                </a:lnTo>
                <a:close/>
              </a:path>
              <a:path w="21600" h="21600">
                <a:moveTo>
                  <a:pt x="1350" y="2922"/>
                </a:moveTo>
                <a:lnTo>
                  <a:pt x="2700" y="2922"/>
                </a:lnTo>
                <a:lnTo>
                  <a:pt x="2700" y="18678"/>
                </a:lnTo>
                <a:lnTo>
                  <a:pt x="1350" y="18678"/>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516720" y="2590920"/>
            <a:ext cx="2398680" cy="990360"/>
          </a:xfrm>
          <a:custGeom>
            <a:avLst/>
            <a:gdLst>
              <a:gd name="textAreaLeft" fmla="*/ 374760 w 2398680"/>
              <a:gd name="textAreaRight" fmla="*/ 1962000 w 2398680"/>
              <a:gd name="textAreaTop" fmla="*/ 168840 h 990360"/>
              <a:gd name="textAreaBottom" fmla="*/ 821520 h 990360"/>
            </a:gdLst>
            <a:ahLst/>
            <a:rect l="textAreaLeft" t="textAreaTop" r="textAreaRight" b="textAreaBottom"/>
            <a:pathLst>
              <a:path w="21600" h="21600">
                <a:moveTo>
                  <a:pt x="3375" y="3682"/>
                </a:moveTo>
                <a:lnTo>
                  <a:pt x="15633" y="3682"/>
                </a:lnTo>
                <a:lnTo>
                  <a:pt x="15633" y="0"/>
                </a:lnTo>
                <a:lnTo>
                  <a:pt x="21600" y="10800"/>
                </a:lnTo>
                <a:lnTo>
                  <a:pt x="15633" y="21600"/>
                </a:lnTo>
                <a:lnTo>
                  <a:pt x="15633" y="17918"/>
                </a:lnTo>
                <a:lnTo>
                  <a:pt x="3375" y="17918"/>
                </a:lnTo>
                <a:close/>
              </a:path>
              <a:path w="21600" h="21600">
                <a:moveTo>
                  <a:pt x="0" y="3682"/>
                </a:moveTo>
                <a:lnTo>
                  <a:pt x="675" y="3682"/>
                </a:lnTo>
                <a:lnTo>
                  <a:pt x="675" y="17918"/>
                </a:lnTo>
                <a:lnTo>
                  <a:pt x="0" y="17918"/>
                </a:lnTo>
                <a:close/>
              </a:path>
              <a:path w="21600" h="21600">
                <a:moveTo>
                  <a:pt x="1350" y="3682"/>
                </a:moveTo>
                <a:lnTo>
                  <a:pt x="2700" y="3682"/>
                </a:lnTo>
                <a:lnTo>
                  <a:pt x="2700" y="17918"/>
                </a:lnTo>
                <a:lnTo>
                  <a:pt x="1350" y="17918"/>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591240" y="2771640"/>
            <a:ext cx="213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Sea level rise threatens major cities</a:t>
            </a:r>
            <a:endParaRPr b="0" lang="en-US" sz="1600" spc="-1" strike="noStrike">
              <a:solidFill>
                <a:srgbClr val="000000"/>
              </a:solidFill>
              <a:latin typeface="Times New Roman"/>
            </a:endParaRPr>
          </a:p>
        </p:txBody>
      </p:sp>
      <p:sp>
        <p:nvSpPr>
          <p:cNvPr id="69" name=""/>
          <p:cNvSpPr/>
          <p:nvPr/>
        </p:nvSpPr>
        <p:spPr>
          <a:xfrm>
            <a:off x="1219320" y="1276200"/>
            <a:ext cx="7619760" cy="762120"/>
          </a:xfrm>
          <a:custGeom>
            <a:avLst/>
            <a:gdLst>
              <a:gd name="textAreaLeft" fmla="*/ 1190520 w 7619760"/>
              <a:gd name="textAreaRight" fmla="*/ 6129720 w 7619760"/>
              <a:gd name="textAreaTop" fmla="*/ 113040 h 762120"/>
              <a:gd name="textAreaBottom" fmla="*/ 649080 h 762120"/>
            </a:gdLst>
            <a:ahLst/>
            <a:rect l="textAreaLeft" t="textAreaTop" r="textAreaRight" b="textAreaBottom"/>
            <a:pathLst>
              <a:path w="21600" h="21600">
                <a:moveTo>
                  <a:pt x="3375" y="3211"/>
                </a:moveTo>
                <a:lnTo>
                  <a:pt x="15588" y="3211"/>
                </a:lnTo>
                <a:lnTo>
                  <a:pt x="15588" y="0"/>
                </a:lnTo>
                <a:lnTo>
                  <a:pt x="21600" y="10800"/>
                </a:lnTo>
                <a:lnTo>
                  <a:pt x="15588" y="21600"/>
                </a:lnTo>
                <a:lnTo>
                  <a:pt x="15588" y="18389"/>
                </a:lnTo>
                <a:lnTo>
                  <a:pt x="3375" y="18389"/>
                </a:lnTo>
                <a:close/>
              </a:path>
              <a:path w="21600" h="21600">
                <a:moveTo>
                  <a:pt x="0" y="3211"/>
                </a:moveTo>
                <a:lnTo>
                  <a:pt x="675" y="3211"/>
                </a:lnTo>
                <a:lnTo>
                  <a:pt x="675" y="18389"/>
                </a:lnTo>
                <a:lnTo>
                  <a:pt x="0" y="18389"/>
                </a:lnTo>
                <a:close/>
              </a:path>
              <a:path w="21600" h="21600">
                <a:moveTo>
                  <a:pt x="1350" y="3211"/>
                </a:moveTo>
                <a:lnTo>
                  <a:pt x="2700" y="3211"/>
                </a:lnTo>
                <a:lnTo>
                  <a:pt x="2700" y="18389"/>
                </a:lnTo>
                <a:lnTo>
                  <a:pt x="1350" y="18389"/>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1352520"/>
            <a:ext cx="4496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lling crop yields in many areas, particularly developing regions </a:t>
            </a:r>
            <a:endParaRPr b="0" lang="en-US" sz="1600" spc="-1" strike="noStrike">
              <a:solidFill>
                <a:srgbClr val="000000"/>
              </a:solidFill>
              <a:latin typeface="Times New Roman"/>
            </a:endParaRPr>
          </a:p>
        </p:txBody>
      </p:sp>
      <p:sp>
        <p:nvSpPr>
          <p:cNvPr id="71" name=""/>
          <p:cNvSpPr/>
          <p:nvPr/>
        </p:nvSpPr>
        <p:spPr>
          <a:xfrm>
            <a:off x="304920" y="1309680"/>
            <a:ext cx="101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a:t>
            </a:r>
            <a:endParaRPr b="0" lang="en-US" sz="1800" spc="-1" strike="noStrike">
              <a:solidFill>
                <a:srgbClr val="000000"/>
              </a:solidFill>
              <a:latin typeface="Times New Roman"/>
            </a:endParaRPr>
          </a:p>
        </p:txBody>
      </p:sp>
      <p:sp>
        <p:nvSpPr>
          <p:cNvPr id="72" name=""/>
          <p:cNvSpPr/>
          <p:nvPr/>
        </p:nvSpPr>
        <p:spPr>
          <a:xfrm>
            <a:off x="304920" y="2590920"/>
            <a:ext cx="101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a:t>
            </a:r>
            <a:endParaRPr b="0" lang="en-US" sz="1800" spc="-1" strike="noStrike">
              <a:solidFill>
                <a:srgbClr val="000000"/>
              </a:solidFill>
              <a:latin typeface="Times New Roman"/>
            </a:endParaRPr>
          </a:p>
        </p:txBody>
      </p:sp>
      <p:sp>
        <p:nvSpPr>
          <p:cNvPr id="73" name=""/>
          <p:cNvSpPr/>
          <p:nvPr/>
        </p:nvSpPr>
        <p:spPr>
          <a:xfrm>
            <a:off x="304920" y="368604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systems</a:t>
            </a:r>
            <a:endParaRPr b="0" lang="en-US" sz="1800" spc="-1" strike="noStrike">
              <a:solidFill>
                <a:srgbClr val="000000"/>
              </a:solidFill>
              <a:latin typeface="Times New Roman"/>
            </a:endParaRPr>
          </a:p>
        </p:txBody>
      </p:sp>
      <p:sp>
        <p:nvSpPr>
          <p:cNvPr id="74" name=""/>
          <p:cNvSpPr/>
          <p:nvPr/>
        </p:nvSpPr>
        <p:spPr>
          <a:xfrm>
            <a:off x="304920" y="5527800"/>
            <a:ext cx="2361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isk of Abrupt and Major Irreversible Changes</a:t>
            </a:r>
            <a:endParaRPr b="0" lang="en-US" sz="1800" spc="-1" strike="noStrike">
              <a:solidFill>
                <a:srgbClr val="000000"/>
              </a:solidFill>
              <a:latin typeface="Times New Roman"/>
            </a:endParaRPr>
          </a:p>
        </p:txBody>
      </p:sp>
      <p:sp>
        <p:nvSpPr>
          <p:cNvPr id="75" name=""/>
          <p:cNvSpPr/>
          <p:nvPr/>
        </p:nvSpPr>
        <p:spPr>
          <a:xfrm>
            <a:off x="1600200" y="67140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temperature change (relative to pre-industrial)</a:t>
            </a:r>
            <a:endParaRPr b="0" lang="en-US" sz="1800" spc="-1" strike="noStrike">
              <a:solidFill>
                <a:srgbClr val="000000"/>
              </a:solidFill>
              <a:latin typeface="Times New Roman"/>
            </a:endParaRPr>
          </a:p>
        </p:txBody>
      </p:sp>
      <p:sp>
        <p:nvSpPr>
          <p:cNvPr id="76" name=""/>
          <p:cNvSpPr/>
          <p:nvPr/>
        </p:nvSpPr>
        <p:spPr>
          <a:xfrm>
            <a:off x="406440" y="928800"/>
            <a:ext cx="7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77" name=""/>
          <p:cNvSpPr/>
          <p:nvPr/>
        </p:nvSpPr>
        <p:spPr>
          <a:xfrm>
            <a:off x="5384880" y="1886040"/>
            <a:ext cx="3352680" cy="609480"/>
          </a:xfrm>
          <a:custGeom>
            <a:avLst/>
            <a:gdLst>
              <a:gd name="textAreaLeft" fmla="*/ 523800 w 3352680"/>
              <a:gd name="textAreaRight" fmla="*/ 2682360 w 3352680"/>
              <a:gd name="textAreaTop" fmla="*/ 75960 h 609480"/>
              <a:gd name="textAreaBottom" fmla="*/ 533520 h 609480"/>
            </a:gdLst>
            <a:ahLst/>
            <a:rect l="textAreaLeft" t="textAreaTop" r="textAreaRight" b="textAreaBottom"/>
            <a:pathLst>
              <a:path w="21600" h="21600">
                <a:moveTo>
                  <a:pt x="3375" y="2700"/>
                </a:moveTo>
                <a:lnTo>
                  <a:pt x="15840" y="2700"/>
                </a:lnTo>
                <a:lnTo>
                  <a:pt x="15840" y="0"/>
                </a:lnTo>
                <a:lnTo>
                  <a:pt x="21600" y="10800"/>
                </a:lnTo>
                <a:lnTo>
                  <a:pt x="15840" y="21600"/>
                </a:lnTo>
                <a:lnTo>
                  <a:pt x="15840" y="18900"/>
                </a:lnTo>
                <a:lnTo>
                  <a:pt x="3375" y="18900"/>
                </a:lnTo>
                <a:close/>
              </a:path>
              <a:path w="21600" h="21600">
                <a:moveTo>
                  <a:pt x="0" y="2700"/>
                </a:moveTo>
                <a:lnTo>
                  <a:pt x="675" y="2700"/>
                </a:lnTo>
                <a:lnTo>
                  <a:pt x="675" y="18900"/>
                </a:lnTo>
                <a:lnTo>
                  <a:pt x="0" y="18900"/>
                </a:lnTo>
                <a:close/>
              </a:path>
              <a:path w="21600" h="21600">
                <a:moveTo>
                  <a:pt x="1350" y="2700"/>
                </a:moveTo>
                <a:lnTo>
                  <a:pt x="2700" y="2700"/>
                </a:lnTo>
                <a:lnTo>
                  <a:pt x="2700" y="18900"/>
                </a:lnTo>
                <a:lnTo>
                  <a:pt x="1350" y="18900"/>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943600" y="189540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Falling yields in many developed regions</a:t>
            </a:r>
            <a:endParaRPr b="0" lang="en-US" sz="1600" spc="-1" strike="noStrike">
              <a:solidFill>
                <a:srgbClr val="000000"/>
              </a:solidFill>
              <a:latin typeface="Times New Roman"/>
            </a:endParaRPr>
          </a:p>
        </p:txBody>
      </p:sp>
      <p:sp>
        <p:nvSpPr>
          <p:cNvPr id="79" name=""/>
          <p:cNvSpPr/>
          <p:nvPr/>
        </p:nvSpPr>
        <p:spPr>
          <a:xfrm>
            <a:off x="3251160" y="2514600"/>
            <a:ext cx="3251160" cy="1066680"/>
          </a:xfrm>
          <a:custGeom>
            <a:avLst/>
            <a:gdLst>
              <a:gd name="textAreaLeft" fmla="*/ 507960 w 3251160"/>
              <a:gd name="textAreaRight" fmla="*/ 2571840 w 3251160"/>
              <a:gd name="textAreaTop" fmla="*/ 95040 h 1066680"/>
              <a:gd name="textAreaBottom" fmla="*/ 971640 h 1066680"/>
            </a:gdLst>
            <a:ahLst/>
            <a:rect l="textAreaLeft" t="textAreaTop" r="textAreaRight" b="textAreaBottom"/>
            <a:pathLst>
              <a:path w="21600" h="21600">
                <a:moveTo>
                  <a:pt x="3375" y="1929"/>
                </a:moveTo>
                <a:lnTo>
                  <a:pt x="16105" y="1929"/>
                </a:lnTo>
                <a:lnTo>
                  <a:pt x="16105" y="0"/>
                </a:lnTo>
                <a:lnTo>
                  <a:pt x="21600" y="10800"/>
                </a:lnTo>
                <a:lnTo>
                  <a:pt x="16105" y="21600"/>
                </a:lnTo>
                <a:lnTo>
                  <a:pt x="16105" y="19671"/>
                </a:lnTo>
                <a:lnTo>
                  <a:pt x="3375" y="19671"/>
                </a:lnTo>
                <a:close/>
              </a:path>
              <a:path w="21600" h="21600">
                <a:moveTo>
                  <a:pt x="0" y="1929"/>
                </a:moveTo>
                <a:lnTo>
                  <a:pt x="675" y="1929"/>
                </a:lnTo>
                <a:lnTo>
                  <a:pt x="675" y="19671"/>
                </a:lnTo>
                <a:lnTo>
                  <a:pt x="0" y="19671"/>
                </a:lnTo>
                <a:close/>
              </a:path>
              <a:path w="21600" h="21600">
                <a:moveTo>
                  <a:pt x="1350" y="1929"/>
                </a:moveTo>
                <a:lnTo>
                  <a:pt x="2700" y="1929"/>
                </a:lnTo>
                <a:lnTo>
                  <a:pt x="2700" y="19671"/>
                </a:lnTo>
                <a:lnTo>
                  <a:pt x="1350" y="19671"/>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38280" y="3886200"/>
            <a:ext cx="5994360" cy="790560"/>
          </a:xfrm>
          <a:custGeom>
            <a:avLst/>
            <a:gdLst>
              <a:gd name="textAreaLeft" fmla="*/ 936360 w 5994360"/>
              <a:gd name="textAreaRight" fmla="*/ 4960440 w 5994360"/>
              <a:gd name="textAreaTop" fmla="*/ 124560 h 790560"/>
              <a:gd name="textAreaBottom" fmla="*/ 666000 h 790560"/>
            </a:gdLst>
            <a:ahLst/>
            <a:rect l="textAreaLeft" t="textAreaTop" r="textAreaRight" b="textAreaBottom"/>
            <a:pathLst>
              <a:path w="21600" h="21600">
                <a:moveTo>
                  <a:pt x="3375" y="3411"/>
                </a:moveTo>
                <a:lnTo>
                  <a:pt x="16154" y="3411"/>
                </a:lnTo>
                <a:lnTo>
                  <a:pt x="16154" y="0"/>
                </a:lnTo>
                <a:lnTo>
                  <a:pt x="21600" y="10800"/>
                </a:lnTo>
                <a:lnTo>
                  <a:pt x="16154" y="21600"/>
                </a:lnTo>
                <a:lnTo>
                  <a:pt x="16154" y="18189"/>
                </a:lnTo>
                <a:lnTo>
                  <a:pt x="3375" y="18189"/>
                </a:lnTo>
                <a:close/>
              </a:path>
              <a:path w="21600" h="21600">
                <a:moveTo>
                  <a:pt x="0" y="3411"/>
                </a:moveTo>
                <a:lnTo>
                  <a:pt x="675" y="3411"/>
                </a:lnTo>
                <a:lnTo>
                  <a:pt x="675" y="18189"/>
                </a:lnTo>
                <a:lnTo>
                  <a:pt x="0" y="18189"/>
                </a:lnTo>
                <a:close/>
              </a:path>
              <a:path w="21600" h="21600">
                <a:moveTo>
                  <a:pt x="1350" y="3411"/>
                </a:moveTo>
                <a:lnTo>
                  <a:pt x="2700" y="3411"/>
                </a:lnTo>
                <a:lnTo>
                  <a:pt x="2700" y="18189"/>
                </a:lnTo>
                <a:lnTo>
                  <a:pt x="1350" y="18189"/>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352680" y="4114800"/>
            <a:ext cx="455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ising number of species face extinction</a:t>
            </a:r>
            <a:endParaRPr b="0" lang="en-US" sz="1600" spc="-1" strike="noStrike">
              <a:solidFill>
                <a:srgbClr val="000000"/>
              </a:solidFill>
              <a:latin typeface="Times New Roman"/>
            </a:endParaRPr>
          </a:p>
        </p:txBody>
      </p:sp>
      <p:sp>
        <p:nvSpPr>
          <p:cNvPr id="82" name=""/>
          <p:cNvSpPr/>
          <p:nvPr/>
        </p:nvSpPr>
        <p:spPr>
          <a:xfrm>
            <a:off x="3800520" y="571032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creasing risk of dangerous feedbacks and abrupt, large-scale shifts in the climate system</a:t>
            </a:r>
            <a:endParaRPr b="0" lang="en-US" sz="1600" spc="-1" strike="noStrike">
              <a:solidFill>
                <a:srgbClr val="000000"/>
              </a:solidFill>
              <a:latin typeface="Times New Roman"/>
            </a:endParaRPr>
          </a:p>
        </p:txBody>
      </p:sp>
      <p:sp>
        <p:nvSpPr>
          <p:cNvPr id="83" name=""/>
          <p:cNvSpPr/>
          <p:nvPr/>
        </p:nvSpPr>
        <p:spPr>
          <a:xfrm>
            <a:off x="3409920" y="2590920"/>
            <a:ext cx="3048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ignificant decreases in water availability in many areas, including Mediterranean and Southern Africa</a:t>
            </a:r>
            <a:endParaRPr b="0" lang="en-US" sz="1400" spc="-1" strike="noStrike">
              <a:solidFill>
                <a:srgbClr val="000000"/>
              </a:solidFill>
              <a:latin typeface="Times New Roman"/>
            </a:endParaRPr>
          </a:p>
        </p:txBody>
      </p:sp>
      <p:sp>
        <p:nvSpPr>
          <p:cNvPr id="84" name=""/>
          <p:cNvSpPr/>
          <p:nvPr/>
        </p:nvSpPr>
        <p:spPr>
          <a:xfrm>
            <a:off x="1295280" y="2638440"/>
            <a:ext cx="2159280" cy="1066680"/>
          </a:xfrm>
          <a:custGeom>
            <a:avLst/>
            <a:gdLst>
              <a:gd name="textAreaLeft" fmla="*/ 337320 w 2159280"/>
              <a:gd name="textAreaRight" fmla="*/ 1633680 w 2159280"/>
              <a:gd name="textAreaTop" fmla="*/ 93600 h 1066680"/>
              <a:gd name="textAreaBottom" fmla="*/ 973080 h 1066680"/>
            </a:gdLst>
            <a:ahLst/>
            <a:rect l="textAreaLeft" t="textAreaTop" r="textAreaRight" b="textAreaBottom"/>
            <a:pathLst>
              <a:path w="21600" h="21600">
                <a:moveTo>
                  <a:pt x="3375" y="1896"/>
                </a:moveTo>
                <a:lnTo>
                  <a:pt x="15220" y="1896"/>
                </a:lnTo>
                <a:lnTo>
                  <a:pt x="15220" y="0"/>
                </a:lnTo>
                <a:lnTo>
                  <a:pt x="21600" y="10800"/>
                </a:lnTo>
                <a:lnTo>
                  <a:pt x="15220" y="21600"/>
                </a:lnTo>
                <a:lnTo>
                  <a:pt x="15220" y="19704"/>
                </a:lnTo>
                <a:lnTo>
                  <a:pt x="3375" y="19704"/>
                </a:lnTo>
                <a:close/>
              </a:path>
              <a:path w="21600" h="21600">
                <a:moveTo>
                  <a:pt x="0" y="1896"/>
                </a:moveTo>
                <a:lnTo>
                  <a:pt x="675" y="1896"/>
                </a:lnTo>
                <a:lnTo>
                  <a:pt x="675" y="19704"/>
                </a:lnTo>
                <a:lnTo>
                  <a:pt x="0" y="19704"/>
                </a:lnTo>
                <a:close/>
              </a:path>
              <a:path w="21600" h="21600">
                <a:moveTo>
                  <a:pt x="1350" y="1896"/>
                </a:moveTo>
                <a:lnTo>
                  <a:pt x="2700" y="1896"/>
                </a:lnTo>
                <a:lnTo>
                  <a:pt x="2700" y="19704"/>
                </a:lnTo>
                <a:lnTo>
                  <a:pt x="1350" y="19704"/>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295280" y="2714760"/>
            <a:ext cx="2133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mall mountain glaciers disappear  – water supplies threatened in several areas</a:t>
            </a:r>
            <a:endParaRPr b="0" lang="en-US" sz="1400" spc="-1" strike="noStrike">
              <a:solidFill>
                <a:srgbClr val="000000"/>
              </a:solidFill>
              <a:latin typeface="Times New Roman"/>
            </a:endParaRPr>
          </a:p>
        </p:txBody>
      </p:sp>
      <p:sp>
        <p:nvSpPr>
          <p:cNvPr id="86" name=""/>
          <p:cNvSpPr/>
          <p:nvPr/>
        </p:nvSpPr>
        <p:spPr>
          <a:xfrm>
            <a:off x="1015920" y="4038480"/>
            <a:ext cx="2235240" cy="685800"/>
          </a:xfrm>
          <a:custGeom>
            <a:avLst/>
            <a:gdLst>
              <a:gd name="textAreaLeft" fmla="*/ 349200 w 2235240"/>
              <a:gd name="textAreaRight" fmla="*/ 1695600 w 2235240"/>
              <a:gd name="textAreaTop" fmla="*/ 64080 h 685800"/>
              <a:gd name="textAreaBottom" fmla="*/ 621720 h 685800"/>
            </a:gdLst>
            <a:ahLst/>
            <a:rect l="textAreaLeft" t="textAreaTop" r="textAreaRight" b="textAreaBottom"/>
            <a:pathLst>
              <a:path w="21600" h="21600">
                <a:moveTo>
                  <a:pt x="3375" y="2025"/>
                </a:moveTo>
                <a:lnTo>
                  <a:pt x="15180" y="2025"/>
                </a:lnTo>
                <a:lnTo>
                  <a:pt x="15180" y="0"/>
                </a:lnTo>
                <a:lnTo>
                  <a:pt x="21600" y="10800"/>
                </a:lnTo>
                <a:lnTo>
                  <a:pt x="15180" y="21600"/>
                </a:lnTo>
                <a:lnTo>
                  <a:pt x="15180" y="19575"/>
                </a:lnTo>
                <a:lnTo>
                  <a:pt x="3375" y="19575"/>
                </a:lnTo>
                <a:close/>
              </a:path>
              <a:path w="21600" h="21600">
                <a:moveTo>
                  <a:pt x="0" y="2025"/>
                </a:moveTo>
                <a:lnTo>
                  <a:pt x="675" y="2025"/>
                </a:lnTo>
                <a:lnTo>
                  <a:pt x="675" y="19575"/>
                </a:lnTo>
                <a:lnTo>
                  <a:pt x="0" y="19575"/>
                </a:lnTo>
                <a:close/>
              </a:path>
              <a:path w="21600" h="21600">
                <a:moveTo>
                  <a:pt x="1350" y="2025"/>
                </a:moveTo>
                <a:lnTo>
                  <a:pt x="2700" y="2025"/>
                </a:lnTo>
                <a:lnTo>
                  <a:pt x="2700" y="19575"/>
                </a:lnTo>
                <a:lnTo>
                  <a:pt x="1350" y="19575"/>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19320" y="4095720"/>
            <a:ext cx="1930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xtensive Damage to Coral Reefs</a:t>
            </a:r>
            <a:endParaRPr b="0" lang="en-US" sz="1600" spc="-1" strike="noStrike">
              <a:solidFill>
                <a:srgbClr val="000000"/>
              </a:solidFill>
              <a:latin typeface="Times New Roman"/>
            </a:endParaRPr>
          </a:p>
        </p:txBody>
      </p:sp>
      <p:sp>
        <p:nvSpPr>
          <p:cNvPr id="88" name=""/>
          <p:cNvSpPr/>
          <p:nvPr/>
        </p:nvSpPr>
        <p:spPr>
          <a:xfrm>
            <a:off x="304920" y="4694400"/>
            <a:ext cx="1828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treme Weather Events</a:t>
            </a:r>
            <a:endParaRPr b="0" lang="en-US" sz="1800" spc="-1" strike="noStrike">
              <a:solidFill>
                <a:srgbClr val="000000"/>
              </a:solidFill>
              <a:latin typeface="Times New Roman"/>
            </a:endParaRPr>
          </a:p>
        </p:txBody>
      </p:sp>
      <p:sp>
        <p:nvSpPr>
          <p:cNvPr id="89" name=""/>
          <p:cNvSpPr/>
          <p:nvPr/>
        </p:nvSpPr>
        <p:spPr>
          <a:xfrm>
            <a:off x="1930320" y="4800600"/>
            <a:ext cx="6908760" cy="609480"/>
          </a:xfrm>
          <a:custGeom>
            <a:avLst/>
            <a:gdLst>
              <a:gd name="textAreaLeft" fmla="*/ 1079280 w 6908760"/>
              <a:gd name="textAreaRight" fmla="*/ 5521680 w 6908760"/>
              <a:gd name="textAreaTop" fmla="*/ 61920 h 609480"/>
              <a:gd name="textAreaBottom" fmla="*/ 547560 h 609480"/>
            </a:gdLst>
            <a:ahLst/>
            <a:rect l="textAreaLeft" t="textAreaTop" r="textAreaRight" b="textAreaBottom"/>
            <a:pathLst>
              <a:path w="21600" h="21600">
                <a:moveTo>
                  <a:pt x="3375" y="2200"/>
                </a:moveTo>
                <a:lnTo>
                  <a:pt x="16154" y="2200"/>
                </a:lnTo>
                <a:lnTo>
                  <a:pt x="16154" y="0"/>
                </a:lnTo>
                <a:lnTo>
                  <a:pt x="21600" y="10800"/>
                </a:lnTo>
                <a:lnTo>
                  <a:pt x="16154" y="21600"/>
                </a:lnTo>
                <a:lnTo>
                  <a:pt x="16154" y="19400"/>
                </a:lnTo>
                <a:lnTo>
                  <a:pt x="3375" y="19400"/>
                </a:lnTo>
                <a:close/>
              </a:path>
              <a:path w="21600" h="21600">
                <a:moveTo>
                  <a:pt x="0" y="2200"/>
                </a:moveTo>
                <a:lnTo>
                  <a:pt x="675" y="2200"/>
                </a:lnTo>
                <a:lnTo>
                  <a:pt x="675" y="19400"/>
                </a:lnTo>
                <a:lnTo>
                  <a:pt x="0" y="19400"/>
                </a:lnTo>
                <a:close/>
              </a:path>
              <a:path w="21600" h="21600">
                <a:moveTo>
                  <a:pt x="1350" y="2200"/>
                </a:moveTo>
                <a:lnTo>
                  <a:pt x="2700" y="2200"/>
                </a:lnTo>
                <a:lnTo>
                  <a:pt x="2700" y="19400"/>
                </a:lnTo>
                <a:lnTo>
                  <a:pt x="1350" y="19400"/>
                </a:lnTo>
                <a:close/>
              </a:path>
            </a:pathLst>
          </a:custGeom>
          <a:gradFill rotWithShape="0">
            <a:gsLst>
              <a:gs pos="0">
                <a:srgbClr val="ff0000"/>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828800" y="4951440"/>
            <a:ext cx="701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ising intensity of storms, forest fires, droughts, flooding and heat waves</a:t>
            </a:r>
            <a:endParaRPr b="0" lang="en-US" sz="1600" spc="-1" strike="noStrike">
              <a:solidFill>
                <a:srgbClr val="000000"/>
              </a:solidFill>
              <a:latin typeface="Times New Roman"/>
            </a:endParaRPr>
          </a:p>
        </p:txBody>
      </p:sp>
      <p:sp>
        <p:nvSpPr>
          <p:cNvPr id="91" name=""/>
          <p:cNvSpPr/>
          <p:nvPr/>
        </p:nvSpPr>
        <p:spPr>
          <a:xfrm>
            <a:off x="1219320" y="1905120"/>
            <a:ext cx="3352680" cy="609480"/>
          </a:xfrm>
          <a:custGeom>
            <a:avLst/>
            <a:gdLst>
              <a:gd name="textAreaLeft" fmla="*/ 523800 w 3352680"/>
              <a:gd name="textAreaRight" fmla="*/ 2682360 w 3352680"/>
              <a:gd name="textAreaTop" fmla="*/ 75960 h 609480"/>
              <a:gd name="textAreaBottom" fmla="*/ 533520 h 609480"/>
            </a:gdLst>
            <a:ahLst/>
            <a:rect l="textAreaLeft" t="textAreaTop" r="textAreaRight" b="textAreaBottom"/>
            <a:pathLst>
              <a:path w="21600" h="21600">
                <a:moveTo>
                  <a:pt x="3375" y="2700"/>
                </a:moveTo>
                <a:lnTo>
                  <a:pt x="15840" y="2700"/>
                </a:lnTo>
                <a:lnTo>
                  <a:pt x="15840" y="0"/>
                </a:lnTo>
                <a:lnTo>
                  <a:pt x="21600" y="10800"/>
                </a:lnTo>
                <a:lnTo>
                  <a:pt x="15840" y="21600"/>
                </a:lnTo>
                <a:lnTo>
                  <a:pt x="15840" y="18900"/>
                </a:lnTo>
                <a:lnTo>
                  <a:pt x="3375" y="18900"/>
                </a:lnTo>
                <a:close/>
              </a:path>
              <a:path w="21600" h="21600">
                <a:moveTo>
                  <a:pt x="0" y="2700"/>
                </a:moveTo>
                <a:lnTo>
                  <a:pt x="675" y="2700"/>
                </a:lnTo>
                <a:lnTo>
                  <a:pt x="675" y="18900"/>
                </a:lnTo>
                <a:lnTo>
                  <a:pt x="0" y="18900"/>
                </a:lnTo>
                <a:close/>
              </a:path>
              <a:path w="21600" h="21600">
                <a:moveTo>
                  <a:pt x="1350" y="2700"/>
                </a:moveTo>
                <a:lnTo>
                  <a:pt x="2700" y="2700"/>
                </a:lnTo>
                <a:lnTo>
                  <a:pt x="2700" y="18900"/>
                </a:lnTo>
                <a:lnTo>
                  <a:pt x="1350" y="18900"/>
                </a:lnTo>
                <a:close/>
              </a:path>
            </a:pathLst>
          </a:custGeom>
          <a:gradFill rotWithShape="0">
            <a:gsLst>
              <a:gs pos="0">
                <a:srgbClr val="ffff00"/>
              </a:gs>
              <a:gs pos="100000">
                <a:srgbClr val="99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536840" y="191448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Possible rising yields in some high latitude region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E6430D6-E4BE-46B8-AC11-2930BFC952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5105520"/>
            <a:ext cx="777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ly at 430ppm, rising at 2.5ppm p.a. and this rate of increase is increasing</a:t>
            </a:r>
            <a:endParaRPr b="0" lang="en-US" sz="2000" spc="-1" strike="noStrike">
              <a:solidFill>
                <a:srgbClr val="000000"/>
              </a:solidFill>
              <a:latin typeface="Times New Roman"/>
            </a:endParaRPr>
          </a:p>
        </p:txBody>
      </p:sp>
      <p:sp>
        <p:nvSpPr>
          <p:cNvPr id="94" name="PlaceHolder 1"/>
          <p:cNvSpPr>
            <a:spLocks noGrp="1"/>
          </p:cNvSpPr>
          <p:nvPr>
            <p:ph type="title"/>
          </p:nvPr>
        </p:nvSpPr>
        <p:spPr>
          <a:xfrm>
            <a:off x="-360" y="609120"/>
            <a:ext cx="860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abilities (in %) of exceeding a temperature increase at equilibrium</a:t>
            </a:r>
            <a:endParaRPr b="1" lang="en-US" sz="3600" spc="-1" strike="noStrike">
              <a:solidFill>
                <a:srgbClr val="000000"/>
              </a:solidFill>
              <a:latin typeface="Arial"/>
            </a:endParaRPr>
          </a:p>
        </p:txBody>
      </p:sp>
      <p:sp>
        <p:nvSpPr>
          <p:cNvPr id="95" name=""/>
          <p:cNvSpPr/>
          <p:nvPr/>
        </p:nvSpPr>
        <p:spPr>
          <a:xfrm>
            <a:off x="468360" y="4437000"/>
            <a:ext cx="777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adley Centre: From Murphy et al. 2004</a:t>
            </a:r>
            <a:endParaRPr b="0" lang="en-US" sz="1200" spc="-1" strike="noStrike">
              <a:solidFill>
                <a:srgbClr val="000000"/>
              </a:solidFill>
              <a:latin typeface="Times New Roman"/>
            </a:endParaRPr>
          </a:p>
        </p:txBody>
      </p:sp>
      <p:graphicFrame>
        <p:nvGraphicFramePr>
          <p:cNvPr id="96" name=""/>
          <p:cNvGraphicFramePr/>
          <p:nvPr/>
        </p:nvGraphicFramePr>
        <p:xfrm>
          <a:off x="179280" y="1916280"/>
          <a:ext cx="8604360" cy="2374560"/>
        </p:xfrm>
        <a:graphic>
          <a:graphicData uri="http://schemas.openxmlformats.org/drawingml/2006/table">
            <a:tbl>
              <a:tblPr/>
              <a:tblGrid>
                <a:gridCol w="2592360"/>
                <a:gridCol w="652680"/>
                <a:gridCol w="822240"/>
                <a:gridCol w="907920"/>
                <a:gridCol w="906480"/>
                <a:gridCol w="906480"/>
                <a:gridCol w="909720"/>
                <a:gridCol w="906480"/>
              </a:tblGrid>
              <a:tr h="7581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abilisation level (in ppm CO</a:t>
                      </a:r>
                      <a:r>
                        <a:rPr b="1" lang="en-US" sz="2000" spc="-1" strike="noStrike" baseline="-30000">
                          <a:solidFill>
                            <a:srgbClr val="000000"/>
                          </a:solidFill>
                          <a:latin typeface="Arial"/>
                          <a:ea typeface="Arial"/>
                        </a:rPr>
                        <a:t>2</a:t>
                      </a:r>
                      <a:r>
                        <a:rPr b="1" lang="en-US" sz="2000" spc="-1" strike="noStrike">
                          <a:solidFill>
                            <a:srgbClr val="000000"/>
                          </a:solidFill>
                          <a:latin typeface="Arial"/>
                          <a:ea typeface="Arial"/>
                        </a:rPr>
                        <a:t>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C</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C</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5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8</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6</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5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5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8</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9</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7</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5A68C951-61C5-4964-BA15-93C123BE61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cture of argument on global mitigation objectives </a:t>
            </a:r>
            <a:endParaRPr b="1" lang="en-US" sz="3200" spc="-1" strike="noStrike">
              <a:solidFill>
                <a:srgbClr val="000000"/>
              </a:solidFill>
              <a:latin typeface="Arial"/>
            </a:endParaRPr>
          </a:p>
        </p:txBody>
      </p:sp>
      <p:sp>
        <p:nvSpPr>
          <p:cNvPr id="98" name="PlaceHolder 2"/>
          <p:cNvSpPr>
            <a:spLocks noGrp="1"/>
          </p:cNvSpPr>
          <p:nvPr>
            <p:ph/>
          </p:nvPr>
        </p:nvSpPr>
        <p:spPr>
          <a:xfrm>
            <a:off x="380880" y="1143000"/>
            <a:ext cx="8229600" cy="5029200"/>
          </a:xfrm>
          <a:prstGeom prst="rect">
            <a:avLst/>
          </a:prstGeom>
          <a:noFill/>
          <a:ln w="9360">
            <a:solidFill>
              <a:srgbClr val="ffffff"/>
            </a:solidFill>
            <a:miter/>
          </a:ln>
        </p:spPr>
        <p:txBody>
          <a:bodyPr lIns="90000" rIns="90000" tIns="46800" bIns="46800"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going above 5°C increase are very severe: e.g. would induce massive movements of population including in the sub-continent; thawing of Himalayan glaciers/ snows with floods/torrents in rainy season; dry rivers in dry season and loss of water from run-off; droughts and floods more severe; cyclones more severe; sea-level rise…..</a:t>
            </a:r>
            <a:endParaRPr b="0" lang="en-US" sz="2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deal essential for India</a:t>
            </a:r>
            <a:endParaRPr b="0" lang="en-US" sz="2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sation to 550 or 500ppm CO</a:t>
            </a:r>
            <a:r>
              <a:rPr b="0" lang="en-US" sz="2000" spc="-1" strike="noStrike" baseline="-10000">
                <a:solidFill>
                  <a:srgbClr val="000000"/>
                </a:solidFill>
                <a:latin typeface="Arial"/>
              </a:rPr>
              <a:t>2</a:t>
            </a:r>
            <a:r>
              <a:rPr b="0" lang="en-US" sz="2000" spc="-1" strike="noStrike">
                <a:solidFill>
                  <a:srgbClr val="000000"/>
                </a:solidFill>
                <a:latin typeface="Arial"/>
              </a:rPr>
              <a:t>e </a:t>
            </a:r>
            <a:r>
              <a:rPr b="0" lang="en-US" sz="2000" spc="-1" strike="noStrike">
                <a:solidFill>
                  <a:srgbClr val="000000"/>
                </a:solidFill>
                <a:latin typeface="Arial"/>
                <a:ea typeface="Arial"/>
              </a:rPr>
              <a:t>‛buys</a:t>
            </a:r>
            <a:r>
              <a:rPr b="0" lang="en-US" sz="2000" spc="-1" strike="noStrike">
                <a:solidFill>
                  <a:srgbClr val="000000"/>
                </a:solidFill>
                <a:latin typeface="Arial"/>
              </a:rPr>
              <a:t>’ sharp reduction in probabilities of dangerous temperature increases relative to BAU</a:t>
            </a:r>
            <a:endParaRPr b="0" lang="en-US" sz="2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cuts of 30-50% by 2050 required for target of stabilisation range 550- 500ppm CO</a:t>
            </a:r>
            <a:r>
              <a:rPr b="0" lang="en-US" sz="2000" spc="-1" strike="noStrike" baseline="-10000">
                <a:solidFill>
                  <a:srgbClr val="000000"/>
                </a:solidFill>
                <a:latin typeface="Arial"/>
              </a:rPr>
              <a:t>2</a:t>
            </a:r>
            <a:r>
              <a:rPr b="0" lang="en-US" sz="2000" spc="-1" strike="noStrike">
                <a:solidFill>
                  <a:srgbClr val="000000"/>
                </a:solidFill>
                <a:latin typeface="Arial"/>
              </a:rPr>
              <a:t>e:  implied carbon price around $30 per tonne</a:t>
            </a:r>
            <a:endParaRPr b="0" lang="en-US" sz="2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action to get in range looks acceptable relative to reduction of risks and damages avoided</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21CB36C-924C-4451-B419-19202E0BB8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Two </a:t>
            </a:r>
            <a:endParaRPr b="1" lang="en-US" sz="36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ws and Cos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A6F6043-7D6A-4E44-BB99-158ECCB846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333360"/>
            <a:ext cx="8553240" cy="96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laying mitigation is dangerous and costly</a:t>
            </a:r>
            <a:endParaRPr b="1" lang="en-US" sz="3600" spc="-1" strike="noStrike">
              <a:solidFill>
                <a:srgbClr val="000000"/>
              </a:solidFill>
              <a:latin typeface="Arial"/>
            </a:endParaRPr>
          </a:p>
        </p:txBody>
      </p:sp>
      <p:sp>
        <p:nvSpPr>
          <p:cNvPr id="102" name=""/>
          <p:cNvSpPr/>
          <p:nvPr/>
        </p:nvSpPr>
        <p:spPr>
          <a:xfrm>
            <a:off x="1542960" y="14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3" name=""/>
          <p:cNvGraphicFramePr/>
          <p:nvPr/>
        </p:nvGraphicFramePr>
        <p:xfrm>
          <a:off x="15840" y="1511280"/>
          <a:ext cx="9452160" cy="4438800"/>
        </p:xfrm>
        <a:graphic>
          <a:graphicData uri="http://schemas.openxmlformats.org/presentationml/2006/ole">
            <p:oleObj progId="Excel.Sheet.12" r:id="rId1" spid="">
              <p:embed/>
              <p:pic>
                <p:nvPicPr>
                  <p:cNvPr id="104" name="" descr=""/>
                  <p:cNvPicPr/>
                  <p:nvPr/>
                </p:nvPicPr>
                <p:blipFill>
                  <a:blip r:embed="rId2"/>
                  <a:stretch/>
                </p:blipFill>
                <p:spPr>
                  <a:xfrm>
                    <a:off x="15840" y="1511280"/>
                    <a:ext cx="9452160" cy="4438800"/>
                  </a:xfrm>
                  <a:prstGeom prst="rect">
                    <a:avLst/>
                  </a:prstGeom>
                  <a:ln w="0">
                    <a:noFill/>
                  </a:ln>
                </p:spPr>
              </p:pic>
            </p:oleObj>
          </a:graphicData>
        </a:graphic>
      </p:graphicFrame>
      <p:sp>
        <p:nvSpPr>
          <p:cNvPr id="105" name=""/>
          <p:cNvSpPr/>
          <p:nvPr/>
        </p:nvSpPr>
        <p:spPr>
          <a:xfrm>
            <a:off x="609120" y="6094440"/>
            <a:ext cx="165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ern Review</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692607DA-14A1-4BD1-A0BF-97992FC5C1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14400" y="1371600"/>
            <a:ext cx="7257960" cy="5367240"/>
          </a:xfrm>
          <a:prstGeom prst="rect">
            <a:avLst/>
          </a:prstGeom>
          <a:ln w="0">
            <a:noFill/>
          </a:ln>
        </p:spPr>
      </p:pic>
      <p:sp>
        <p:nvSpPr>
          <p:cNvPr id="107" name="PlaceHolder 1"/>
          <p:cNvSpPr>
            <a:spLocks noGrp="1"/>
          </p:cNvSpPr>
          <p:nvPr>
            <p:ph type="title"/>
          </p:nvPr>
        </p:nvSpPr>
        <p:spPr>
          <a:xfrm>
            <a:off x="304920" y="476280"/>
            <a:ext cx="815184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ducing emissions requires action across many sectors</a:t>
            </a: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769BBE2F-3601-4B8C-B9DD-FBFE2BFCEA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6028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 of action or inaction</a:t>
            </a:r>
            <a:endParaRPr b="1" lang="en-US" sz="3600" spc="-1" strike="noStrike">
              <a:solidFill>
                <a:srgbClr val="000000"/>
              </a:solidFill>
              <a:latin typeface="Arial"/>
            </a:endParaRPr>
          </a:p>
        </p:txBody>
      </p:sp>
      <p:sp>
        <p:nvSpPr>
          <p:cNvPr id="109" name="PlaceHolder 2"/>
          <p:cNvSpPr>
            <a:spLocks noGrp="1"/>
          </p:cNvSpPr>
          <p:nvPr>
            <p:ph/>
          </p:nvPr>
        </p:nvSpPr>
        <p:spPr>
          <a:xfrm>
            <a:off x="468360" y="1125000"/>
            <a:ext cx="8229600" cy="504036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rn Review examined results from bottom-up (Ch 9) &amp; top-down (Ch 10) studies: concluded that world could stabilise below 550ppm CO</a:t>
            </a:r>
            <a:r>
              <a:rPr b="0" lang="en-US" sz="2200" spc="-1" strike="noStrike" baseline="-10000">
                <a:solidFill>
                  <a:srgbClr val="000000"/>
                </a:solidFill>
                <a:latin typeface="Arial"/>
              </a:rPr>
              <a:t>2</a:t>
            </a:r>
            <a:r>
              <a:rPr b="0" lang="en-US" sz="2200" spc="-1" strike="noStrike">
                <a:solidFill>
                  <a:srgbClr val="000000"/>
                </a:solidFill>
                <a:latin typeface="Arial"/>
              </a:rPr>
              <a:t>e for around 1% of global GDP. Subsequent analyses IEA/IPCC/McKinsey have indicated similar or lower figur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ing planning now with clear targets and good policies allows measured action and keeps costs down. Delayed decisions/actions (or “slow ramp”), lack of clarity, bad policy will increase cos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ociated co-benefits (energy security, reduced pollution) and opportunities (innovations, new marke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probably under-estimated emission growth (growth of emissions from China particularl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bly under-estimated risks of high-temperatures (omitted features in climate science modelling) </a:t>
            </a:r>
            <a:r>
              <a:rPr b="0" lang="en-US" sz="2200" spc="-1" strike="noStrike" u="sng">
                <a:solidFill>
                  <a:srgbClr val="000000"/>
                </a:solidFill>
                <a:uFillTx/>
                <a:latin typeface="Arial"/>
              </a:rPr>
              <a:t>and </a:t>
            </a:r>
            <a:r>
              <a:rPr b="0" lang="en-US" sz="2200" spc="-1" strike="noStrike">
                <a:solidFill>
                  <a:srgbClr val="000000"/>
                </a:solidFill>
                <a:latin typeface="Arial"/>
              </a:rPr>
              <a:t>damages from high temperatures (implausible ‘overly linear’ extrapol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 magnitude of avoided damages under-estimated</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EC24564-ED70-4DEA-A4D7-E80F24DB0B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08:06:14Z</dcterms:created>
  <dc:creator>garbets</dc:creator>
  <dc:description/>
  <dc:language>en-US</dc:language>
  <cp:lastModifiedBy>LSe</cp:lastModifiedBy>
  <dcterms:modified xsi:type="dcterms:W3CDTF">2008-03-31T03:50:20Z</dcterms:modified>
  <cp:revision>1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