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F8D7-1AB8-453C-8059-5709C9DCAF96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A724-92D1-45B3-AFD9-D9B2260B49E5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A lot of my emphasis in this presentation is on the nature of ‘naming’ and ‘framing’  in policy discourse – the way in which key concepts such as structural poverty function to organize and focus policymakers’ concern, linking issues that would otherwise be seen as disapa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2329-FCD3-4FF2-A113-59BF8CE075DE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Chronic poverty can be approached in many different ways.  In South Africa,  we approached chronic poverty as a symptom of structural poverty.   Structural poverty is poverty that flows out of the core social relations in society: the distribution of productive assets, how people are affected by social relations of power, and also the structure of the economy itself and the basic nature of the growth path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This creates a number of challenges.   Mainstream poverty approaches often tend to turn the study of poverty into the study of the poor; and assume that poverty can be reduced by going for growth.  But if poverty is structural – if it is the routine and systematic result of nature of growth path – we have to go further.  In particular, it means that policy responses have to be much broader: structural poverty cannot be addressed through a strucctural poverty policy.  It has to be addrerssed n core economic poli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C06A-9EC5-4E87-A7FD-92A6DCAFD242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F72C-4CA9-4A2D-8081-939F89C2028B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ist bias (Ferguson), ignore distributive lab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ive generating income, sustaining livelihood and risk mitig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F17E-03C4-4150-AD86-F0947748911E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5CBB-DCCC-454A-9D4C-1CBE8589336D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0198-0692-46EB-AA50-E66C2A606108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67B7-5811-4138-8CE0-6383A4C8CBC0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033-DC71-458C-AC5E-849319A8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7DDD-5E64-42F9-928F-BAC4934A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BBE7-4671-4A1F-BD95-8BBCA55D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AF86-3D49-4AB4-AAB1-8509EA36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E331-253D-4781-B9D8-4E8F14F1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8D7-0E10-4F72-AAFB-7D9AE826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64F5-CF47-469B-8F5B-21985711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F397-542D-4EBF-9BCA-C5189E38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291-BF68-415A-A045-CF32734E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E5C-96B7-44F1-9A49-F93D096B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1FC-53A2-4F20-BB22-C8FDC7B5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5B3-1997-4E59-A79D-1EF830F2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F27E-E946-4334-879B-3FBA5C3EB78B}" type="slidenum">
              <a:rPr b="0" lang="en-Z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ic informality in South Africa: practice &amp; pol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898989"/>
                </a:solidFill>
                <a:latin typeface="Calibri"/>
              </a:rPr>
              <a:t>David Ne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LA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plaas logo high res"/>
          <p:cNvPicPr/>
          <p:nvPr/>
        </p:nvPicPr>
        <p:blipFill>
          <a:blip r:embed="rId1"/>
          <a:srcRect l="3126" t="25643" r="4936" b="15638"/>
          <a:stretch/>
        </p:blipFill>
        <p:spPr>
          <a:xfrm>
            <a:off x="6932520" y="285840"/>
            <a:ext cx="2211480" cy="739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 contex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poverty &amp; unemployment, yet small SMME sec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l sector: African, low earning, female &amp; retail domina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ibited b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tial, labour market &amp; ‘human capital’ lega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 and credit constra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favourable positioning within value ch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tory barr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earching informal self employment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d focus on household &amp; enterpr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dden transfers &amp; synerg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le of social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ion relative to larger value ch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Calibri"/>
              </a:rPr>
              <a:t>Successful informal self employmen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Calibri"/>
              </a:rPr>
              <a:t>Access to formal-sector inc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Calibri"/>
              </a:rPr>
              <a:t>Ongoing connection with formal sec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Calibri"/>
              </a:rPr>
              <a:t>Favourable human capital / skills acquisi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Calibri"/>
              </a:rPr>
              <a:t>Multiple activities and inter/intra-household synerg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Calibri"/>
              </a:rPr>
              <a:t>Household labour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nding 1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derstand divergent objec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nding 2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importance of social networ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ing vs. inhibiting r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tegies to managing redistributive claim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sting &amp; cont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mbed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lec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Calibri"/>
              </a:rPr>
              <a:t>Finding 3.  </a:t>
            </a:r>
            <a:br>
              <a:rPr sz="4000"/>
            </a:br>
            <a:r>
              <a:rPr b="0" lang="en-ZA" sz="4000" spc="-1" strike="noStrike">
                <a:solidFill>
                  <a:srgbClr val="000000"/>
                </a:solidFill>
                <a:latin typeface="Calibri"/>
              </a:rPr>
              <a:t>The centrality of economic govern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‘right to trade’ and forms of 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popular (viz. Informal) &amp; formal (state bas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nding 4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demands of managing cred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dit hungry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ambivalence on need for cre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Calibri"/>
              </a:rPr>
              <a:t>Practice vs. Policy?</a:t>
            </a:r>
            <a:br>
              <a:rPr sz="4000"/>
            </a:br>
            <a:r>
              <a:rPr b="0" lang="en-ZA" sz="4000" spc="-1" strike="noStrike">
                <a:solidFill>
                  <a:srgbClr val="000000"/>
                </a:solidFill>
                <a:latin typeface="Calibri"/>
              </a:rPr>
              <a:t>Need to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plurality of objectives (beyond the deficit model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aggregate survivalists from entrepren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se ambivalence of formali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importance of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e value chains (formal econom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dy intermediation failures, in credit markets, value chains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2:45:16Z</dcterms:created>
  <dc:creator>adutoit</dc:creator>
  <dc:description/>
  <dc:language>en-US</dc:language>
  <cp:lastModifiedBy>LSE</cp:lastModifiedBy>
  <dcterms:modified xsi:type="dcterms:W3CDTF">2011-03-07T16:37:42Z</dcterms:modified>
  <cp:revision>79</cp:revision>
  <dc:subject/>
  <dc:title>Imagining the Margins</dc:title>
</cp:coreProperties>
</file>