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08C-6D10-4AC3-B91B-AE7C0838B49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60CC-2FB3-4125-8625-F13ED12E93C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 lot of my emphasis in this presentation is on the nature of ‘naming’ and ‘framing’  in policy discourse – the way in which key concepts such as structural poverty function to organize and focus policymakers’ concern, linking issues that would otherwise be seen as disapa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359E-5769-4DFA-A51B-C37ECA378EC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hronic poverty can be approached in many different ways.  In South Africa,  we approached chronic poverty as a symptom of structural poverty.   Structural poverty is poverty that flows out of the core social relations in society: the distribution of productive assets, how people are affected by social relations of power, and also the structure of the economy itself and the basic nature of the growth path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is creates a number of challenges.   Mainstream poverty approaches often tend to turn the study of poverty into the study of the poor; and assume that poverty can be reduced by going for growth.  But if poverty is structural – if it is the routine and systematic result of nature of growth path – we have to go further.  In particular, it means that policy responses have to be much broader: structural poverty cannot be addressed through a strucctural poverty policy.  It has to be addrerssed n core economic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F5C-F84E-4AC6-ACA4-C498A295C61A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09B-E85D-45AF-BEA9-FDE13C8C455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ist bias (Ferguson), ignore distributive lab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 generating income, sustaining livelihood and risk mitig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FA6-6511-45BA-8415-6145B41AEF1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E475-991D-4F8E-8843-E043A417DEDA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F58-F4A9-4255-BD22-3D657C5A0E0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DB24-07D8-4EA3-9726-D0A8AE400B8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027-FB3E-4144-BDCD-708BE515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8E7-F13E-49CF-BB4B-F2F7CBC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6D2-D724-4F1A-B3B8-46BD5079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178-37E1-4B3A-A954-B408A80C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B03-D95D-42A9-B740-CE22E0A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EE0-56B0-433C-A41D-8F61890D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4AF-4150-4AF3-B331-92FBC83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234-7B47-41E0-8424-9273482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E6C-BDB8-4E69-9A44-EB9A2A9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688-06A0-474C-AD97-89A74666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114-CF49-4C44-9EE6-4CF5265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DFD-243A-403E-980A-3C76367B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281E-4DC2-428B-8990-234E2A2E16E5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informality in South Africa: practice &amp;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avid Ne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LA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plaas logo high res"/>
          <p:cNvPicPr/>
          <p:nvPr/>
        </p:nvPicPr>
        <p:blipFill>
          <a:blip r:embed="rId1"/>
          <a:srcRect l="3126" t="25643" r="4936" b="15638"/>
          <a:stretch/>
        </p:blipFill>
        <p:spPr>
          <a:xfrm>
            <a:off x="6932520" y="285840"/>
            <a:ext cx="221148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contex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poverty &amp; unemployment, yet small SMME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sector: African, low earning, female &amp; retail domin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ed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tial, labour market &amp; ‘human capital’ lega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and credit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avourable positioning within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ory b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ing informal self employmen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focus on household &amp; enterpr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transfers &amp; syner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soci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relative to larger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Successful informal self employmen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Access to formal-sector inc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Ongoing connection with formal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Favourable human capital / skills acquis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Multiple activities and inter/intra-household syner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Household labour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1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 divergent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2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importance of social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ing vs. inhibiting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to managing redistributive clai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ing &amp; cont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mbed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Finding 3.  </a:t>
            </a:r>
            <a:br>
              <a:rPr sz="4000"/>
            </a:b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The centrality of economic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‘right to trade’ and forms of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popular (viz. Informal) &amp; formal (state bas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4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emands of managing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t hungry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mbivalence on need for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Practice vs. Policy?</a:t>
            </a:r>
            <a:br>
              <a:rPr sz="4000"/>
            </a:b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Need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plurality of objectives (beyond the deficit model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ggregate survivalists from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se ambivalence of forma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importance of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 value chains (formal econom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dy intermediation failures, in credit markets, value chains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2:45:16Z</dcterms:created>
  <dc:creator>adutoit</dc:creator>
  <dc:description/>
  <dc:language>en-US</dc:language>
  <cp:lastModifiedBy>LSE</cp:lastModifiedBy>
  <dcterms:modified xsi:type="dcterms:W3CDTF">2011-03-07T16:37:42Z</dcterms:modified>
  <cp:revision>79</cp:revision>
  <dc:subject/>
  <dc:title>Imagining the Margins</dc:title>
</cp:coreProperties>
</file>