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8BF93-26AB-4BE3-B4A9-6F6D74165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8870-4F82-41EE-B178-DD18E296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83270-CF18-4FB1-9C05-138D51DC4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5078E-9261-4CB4-88C6-B6CF86250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8F894-2B5C-4D4D-B49F-597649974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53CBE-7E56-4C14-BE88-8E0B8DB6D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DF8F9-51FC-41AA-BCB6-AF76F639D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D2EDF-E497-4D6A-85F2-E4B704EBF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B70FB-76F3-4899-BCEF-3427CF8F1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F0D99-4DB6-4024-8D7E-1C3C97974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D5874-922D-4D8D-8C0B-4BB569B7F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EEF2-E5F9-4C44-8E23-BA42B892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E843-322D-4E08-885C-1E2ADA3B5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92397-39F7-4CFD-96A3-C311D8EB3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3CE2F-4B76-46F0-B6A6-1E36126A6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A5E94-5601-4BB3-A860-7CF905EDA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62097-1439-4A38-BA33-E66D0D213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73FDE-49CB-47B9-8720-821C8DE9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B6EB-B25C-4E9F-85F6-469F8842A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FB5C-B1E1-45EF-A2F2-BF794AF5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822B-F5BF-481D-BEDE-94A93BDC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F6C6-AB93-4D59-BBE9-E0EB468B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C20A-9423-4BE6-AF62-3490ED8D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48C5-27C4-401D-A79A-8FB0DE0E0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4F14-B349-461E-9684-BEAC83EB485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DB40-7CF3-4C65-AD65-2EAF8AEFA1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Bandbot" descr=""/>
          <p:cNvPicPr/>
          <p:nvPr/>
        </p:nvPicPr>
        <p:blipFill>
          <a:blip r:embed="rId1"/>
          <a:stretch/>
        </p:blipFill>
        <p:spPr>
          <a:xfrm>
            <a:off x="-1440" y="1676520"/>
            <a:ext cx="9145440" cy="868320"/>
          </a:xfrm>
          <a:prstGeom prst="rect">
            <a:avLst/>
          </a:prstGeom>
          <a:ln w="0">
            <a:noFill/>
          </a:ln>
        </p:spPr>
      </p:pic>
      <p:pic>
        <p:nvPicPr>
          <p:cNvPr id="84" name="Bandtop" descr=""/>
          <p:cNvPicPr/>
          <p:nvPr/>
        </p:nvPicPr>
        <p:blipFill>
          <a:blip r:embed="rId2"/>
          <a:srcRect l="0" t="0" r="9105" b="9067"/>
          <a:stretch/>
        </p:blipFill>
        <p:spPr>
          <a:xfrm>
            <a:off x="0" y="304920"/>
            <a:ext cx="9144000" cy="1371600"/>
          </a:xfrm>
          <a:prstGeom prst="rect">
            <a:avLst/>
          </a:prstGeom>
          <a:ln w="0">
            <a:noFill/>
          </a:ln>
        </p:spPr>
      </p:pic>
      <p:sp>
        <p:nvSpPr>
          <p:cNvPr id="85" name=""/>
          <p:cNvSpPr/>
          <p:nvPr/>
        </p:nvSpPr>
        <p:spPr>
          <a:xfrm>
            <a:off x="914400" y="3276720"/>
            <a:ext cx="44197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FRAGILE COMPLEXITY OF REGULATORY QUALITY: DEFINITIONS AND MEASUR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Claudio M. Radaell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e for European Stud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delivered to CAR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e for the Analysis of Risk and Regulation, LSE, 16 March 2004</a:t>
            </a:r>
            <a:endParaRPr b="0" lang="en-US" sz="2000" spc="-1" strike="noStrike">
              <a:solidFill>
                <a:srgbClr val="000000"/>
              </a:solidFill>
              <a:latin typeface="Times New Roman"/>
            </a:endParaRPr>
          </a:p>
        </p:txBody>
      </p:sp>
      <p:pic>
        <p:nvPicPr>
          <p:cNvPr id="86" name="sculpture-smaller" descr=""/>
          <p:cNvPicPr/>
          <p:nvPr/>
        </p:nvPicPr>
        <p:blipFill>
          <a:blip r:embed="rId3"/>
          <a:stretch/>
        </p:blipFill>
        <p:spPr>
          <a:xfrm>
            <a:off x="6302520" y="2514600"/>
            <a:ext cx="2841480" cy="4343400"/>
          </a:xfrm>
          <a:prstGeom prst="rect">
            <a:avLst/>
          </a:prstGeom>
          <a:ln w="0">
            <a:noFill/>
          </a:ln>
        </p:spPr>
      </p:pic>
      <p:sp>
        <p:nvSpPr>
          <p:cNvPr id="2" name="PlaceHolder 1"/>
          <p:cNvSpPr>
            <a:spLocks noGrp="1"/>
          </p:cNvSpPr>
          <p:nvPr>
            <p:ph type="sldNum" idx="3"/>
          </p:nvPr>
        </p:nvSpPr>
        <p:spPr/>
        <p:txBody>
          <a:bodyPr/>
          <a:p>
            <a:fld id="{3606657A-B73A-484F-9048-F89BF843B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ademics: Baldwin and Cave</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y derive RQ from the claims to legitimacy [of regul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gislative mandat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ountability</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pertis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fficiency: the legislative mandate is implemented correc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BC8AE2-8E8E-4B0A-8289-2017428F4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Baldwin, Hood, and Rothstein 'Assessing the Dangerous Dogs Act: When Does a Regulatory Law Fail?' </a:t>
            </a:r>
            <a:r>
              <a:rPr b="0" i="1" lang="en-GB" sz="2200" spc="-1" strike="noStrike">
                <a:solidFill>
                  <a:srgbClr val="000000"/>
                </a:solidFill>
                <a:latin typeface="Arial Black"/>
              </a:rPr>
              <a:t>Public Law</a:t>
            </a:r>
            <a:r>
              <a:rPr b="0" lang="en-GB" sz="2200" spc="-1" strike="noStrike">
                <a:solidFill>
                  <a:srgbClr val="000000"/>
                </a:solidFill>
                <a:latin typeface="Arial Black"/>
              </a:rPr>
              <a:t> Summer (2000)</a:t>
            </a:r>
            <a:endParaRPr b="0" lang="en-US" sz="22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inciples do not help much. Paradoxically, one can demonstrate that even bad legislation can pass the test of complying with the principles of the Better Regulation Task Force.</a:t>
            </a:r>
            <a:endParaRPr b="0" lang="en-US" sz="2600" spc="-1" strike="noStrike">
              <a:solidFill>
                <a:srgbClr val="000000"/>
              </a:solidFill>
              <a:latin typeface="Tahoma"/>
            </a:endParaRPr>
          </a:p>
          <a:p>
            <a:pPr marL="332640" indent="-33264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We need to evaluate the results achieved by regulation rather than use principles and key-words. More emphasis on systematic evaluation (ex-ante and ex-post) and on effective implementation of proposed regulation </a:t>
            </a:r>
            <a:endParaRPr b="0" lang="en-US" sz="2600" spc="-1" strike="noStrike">
              <a:solidFill>
                <a:srgbClr val="000000"/>
              </a:solidFill>
              <a:latin typeface="Tahoma"/>
            </a:endParaRPr>
          </a:p>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6600cc"/>
                </a:solidFill>
                <a:latin typeface="Wingdings"/>
                <a:ea typeface="Wingdings"/>
              </a:rPr>
              <a:t></a:t>
            </a:r>
            <a:r>
              <a:rPr b="1" i="1" lang="en-GB" sz="2600" spc="-1" strike="noStrike">
                <a:solidFill>
                  <a:srgbClr val="6600cc"/>
                </a:solidFill>
                <a:latin typeface="Tahoma"/>
              </a:rPr>
              <a:t> </a:t>
            </a:r>
            <a:r>
              <a:rPr b="1" i="1" lang="en-GB" sz="2600" spc="-1" strike="noStrike">
                <a:solidFill>
                  <a:srgbClr val="6600cc"/>
                </a:solidFill>
                <a:latin typeface="Tahoma"/>
              </a:rPr>
              <a:t>Indicators, not slogans?</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432B3458-2A00-42ED-A049-836E4F070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t>
            </a:r>
            <a:r>
              <a:rPr b="0" lang="en-GB"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take issue with the narrow notion of efficiency presented by Baldwin and Cave</a:t>
            </a:r>
            <a:endParaRPr b="0" lang="en-US" sz="3200" spc="-1" strike="noStrike">
              <a:solidFill>
                <a:srgbClr val="000000"/>
              </a:solidFill>
              <a:latin typeface="Tahoma"/>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have a different benchmark: maximisation of the collective welfare</a:t>
            </a:r>
            <a:endParaRPr b="0" lang="en-US" sz="3200" spc="-1" strike="noStrike">
              <a:solidFill>
                <a:srgbClr val="000000"/>
              </a:solidFill>
              <a:latin typeface="Tahoma"/>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regulation is about the economic impact of regulation, not about implementing the mandat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5A917F-392F-4573-960C-05FA52EAD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imensions of quality</a:t>
            </a: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 They do not talk about RQ, they talk about the efficiency of regulation.</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efficiency is only one element of quality or one claim to legitimacy (in Baldwin and Cave’s typology).</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other element of RQ is the quality of the process through which regulations are produced.</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cc0000"/>
                </a:solidFill>
                <a:latin typeface="Tahoma"/>
              </a:rPr>
              <a:t>Doubt: do economists measure </a:t>
            </a:r>
            <a:r>
              <a:rPr b="1" i="1" lang="en-GB" sz="2800" spc="-1" strike="noStrike">
                <a:solidFill>
                  <a:srgbClr val="cc0000"/>
                </a:solidFill>
                <a:latin typeface="Tahoma"/>
              </a:rPr>
              <a:t>quality</a:t>
            </a:r>
            <a:r>
              <a:rPr b="0" i="1" lang="en-GB" sz="2800" spc="-1" strike="noStrike">
                <a:solidFill>
                  <a:srgbClr val="cc0000"/>
                </a:solidFill>
                <a:latin typeface="Tahoma"/>
              </a:rPr>
              <a:t> or </a:t>
            </a:r>
            <a:r>
              <a:rPr b="1" i="1" lang="en-GB" sz="2800" spc="-1" strike="noStrike">
                <a:solidFill>
                  <a:srgbClr val="cc0000"/>
                </a:solidFill>
                <a:latin typeface="Tahoma"/>
              </a:rPr>
              <a:t>quantity (extent of regulation)</a:t>
            </a:r>
            <a:r>
              <a:rPr b="0" i="1" lang="en-GB" sz="2800" spc="-1" strike="noStrike">
                <a:solidFill>
                  <a:srgbClr val="cc0000"/>
                </a:solidFill>
                <a:latin typeface="Tahoma"/>
              </a:rPr>
              <a:t>?</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AE5C5C4-45BE-4D83-8490-189B4BA72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Black"/>
              </a:rPr>
              <a:t>To conclude on RQ: Advantages and limitations</a:t>
            </a:r>
            <a:endParaRPr b="0" lang="en-US" sz="3500" spc="-1" strike="noStrike">
              <a:solidFill>
                <a:srgbClr val="000000"/>
              </a:solidFill>
              <a:latin typeface="Arial Black"/>
            </a:endParaRPr>
          </a:p>
        </p:txBody>
      </p:sp>
      <p:sp>
        <p:nvSpPr>
          <p:cNvPr id="11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Q tells us something about quality of governance</a:t>
            </a:r>
            <a:endParaRPr b="0" lang="en-US" sz="2400" spc="-1" strike="noStrike">
              <a:solidFill>
                <a:srgbClr val="000000"/>
              </a:solidFill>
              <a:latin typeface="Tahoma"/>
            </a:endParaRPr>
          </a:p>
          <a:p>
            <a:pPr marL="315360" indent="-31536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Q is neutral with respect to size of government or scope of intervention (claim made by OECD). Hence it does not express a judgment on how big government should be. Unless one follows the economists and ‘confuses’ quality and quantity.</a:t>
            </a:r>
            <a:endParaRPr b="0" lang="en-US" sz="2400" spc="-1" strike="noStrike">
              <a:solidFill>
                <a:srgbClr val="000000"/>
              </a:solidFill>
              <a:latin typeface="Tahoma"/>
            </a:endParaRPr>
          </a:p>
        </p:txBody>
      </p:sp>
      <p:sp>
        <p:nvSpPr>
          <p:cNvPr id="114"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notion of RQ is  a bit fuzzy </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too many attributes in the current definitions of regulatory quality, but how does one recognise regulatory quality in the real world? What are our empirical sensors?</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73A76556-CF8D-4AFC-A5DE-DEB87A18E8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our project approaches RQ</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Design of the process (structures, inter-organisational linkages, etc.)</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ctivities and output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al-world outcome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0FA16B18-B38C-4BEB-B5CD-36ADCAF6B2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puzzle of real-world outcome</a:t>
            </a: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Cross-country differences revealed by indicators: do they really mean differences in policies and their enforcement? Or do they simply register different models of capitalism (Hall and Soskice)? </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affe et al, JEL 1995: the evidence of the impact of regulation on competitiveness and locational choices of firms is far from clear. Same results for environmental regulation. But see </a:t>
            </a:r>
            <a:r>
              <a:rPr b="0" lang="it-IT" sz="2000" spc="-1" strike="noStrike">
                <a:solidFill>
                  <a:srgbClr val="000000"/>
                </a:solidFill>
                <a:latin typeface="Tahoma"/>
              </a:rPr>
              <a:t>Koedijk, K. e J. Kremers (1996), Market opening, regulation and growth in Europe, Economic Policy. Regulatory governance matters</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terature on regulatory competition: evidence tells us that countries do not compete by using regulation in the way predicted by simplistic economic models of ‘races’ </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cc"/>
                </a:solidFill>
                <a:uFillTx/>
                <a:latin typeface="Tahoma"/>
              </a:rPr>
              <a:t>OUR SUGGESTION</a:t>
            </a:r>
            <a:r>
              <a:rPr b="0" lang="en-GB" sz="2000" spc="-1" strike="noStrike">
                <a:solidFill>
                  <a:srgbClr val="0000cc"/>
                </a:solidFill>
                <a:latin typeface="Tahoma"/>
              </a:rPr>
              <a:t>: for us real-world outcome makes more sense if we look at changes in the behaviour of regulatory stakeholders. Regulatory governance as learn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ECA549D-D184-45AC-BD8C-058DFAC2AC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ools for RQ</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act assessmen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ultation</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ification, codification, recasting</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cess to legislation and regulatory transparenc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ost evaluation of regulatory tools and institu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27E2666-C7A4-44BA-9201-BAE70918A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2. Complexity of RQ</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is not a monolithic concept</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for whom?</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a:t>
            </a:r>
            <a:r>
              <a:rPr b="0" lang="en-GB" sz="3200" spc="-1" strike="noStrike">
                <a:solidFill>
                  <a:srgbClr val="0000cc"/>
                </a:solidFill>
                <a:latin typeface="Tahoma"/>
              </a:rPr>
              <a:t>Context</a:t>
            </a:r>
            <a:r>
              <a:rPr b="0" lang="en-GB" sz="3200" spc="-1" strike="noStrike">
                <a:solidFill>
                  <a:srgbClr val="000000"/>
                </a:solidFill>
                <a:latin typeface="Tahoma"/>
              </a:rPr>
              <a:t> shapes RQ</a:t>
            </a:r>
            <a:endParaRPr b="0" lang="en-US" sz="3200" spc="-1" strike="noStrike">
              <a:solidFill>
                <a:srgbClr val="000000"/>
              </a:solidFill>
              <a:latin typeface="Tahoma"/>
            </a:endParaRPr>
          </a:p>
          <a:p>
            <a:pPr lvl="3" marL="1600200" indent="-228600">
              <a:lnSpc>
                <a:spcPct val="90000"/>
              </a:lnSpc>
              <a:spcBef>
                <a:spcPts val="5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ahoma"/>
              </a:rPr>
              <a:t>SEE PAPER ‘HOW CONTEXT MATTERS’  (Radaelli)</a:t>
            </a:r>
            <a:endParaRPr b="0" lang="en-US" sz="2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 Models of the policy </a:t>
            </a:r>
            <a:r>
              <a:rPr b="0" lang="en-GB" sz="3200" spc="-1" strike="noStrike">
                <a:solidFill>
                  <a:srgbClr val="0000cc"/>
                </a:solidFill>
                <a:latin typeface="Tahoma"/>
              </a:rPr>
              <a:t>process</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 Models of </a:t>
            </a:r>
            <a:r>
              <a:rPr b="0" lang="en-GB" sz="3200" spc="-1" strike="noStrike">
                <a:solidFill>
                  <a:srgbClr val="0000cc"/>
                </a:solidFill>
                <a:latin typeface="Tahoma"/>
              </a:rPr>
              <a:t>actors</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B) and (C) are often neglected in the one-size-fit all approach to RQ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16E3863-7005-4A1A-AF07-4852CBB42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Black"/>
              </a:rPr>
              <a:t>How different stakeholders look at RQ</a:t>
            </a:r>
            <a:endParaRPr b="0" lang="en-US" sz="3000" spc="-1" strike="noStrike">
              <a:solidFill>
                <a:srgbClr val="000000"/>
              </a:solidFill>
              <a:latin typeface="Arial Black"/>
            </a:endParaRPr>
          </a:p>
        </p:txBody>
      </p:sp>
      <p:graphicFrame>
        <p:nvGraphicFramePr>
          <p:cNvPr id="124" name=""/>
          <p:cNvGraphicFramePr/>
          <p:nvPr/>
        </p:nvGraphicFramePr>
        <p:xfrm>
          <a:off x="457200" y="1886040"/>
          <a:ext cx="8178840" cy="4519440"/>
        </p:xfrm>
        <a:graphic>
          <a:graphicData uri="http://schemas.openxmlformats.org/drawingml/2006/table">
            <a:tbl>
              <a:tblPr/>
              <a:tblGrid>
                <a:gridCol w="1363680"/>
                <a:gridCol w="1361880"/>
                <a:gridCol w="1363680"/>
                <a:gridCol w="1363680"/>
                <a:gridCol w="1362240"/>
                <a:gridCol w="13636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conomi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ivil Serva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litici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ir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itiz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ffici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formity to ru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ensu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s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ini-mis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st-effective protection from ris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c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Goals achiev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llowing proced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utcome of negot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f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Enabling’ regul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a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social scien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tandard operating procedur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Negot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influ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partici-p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21B3FB1-9699-4FB3-B26E-EEEC38C83D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RQ – Indicators of regulatory quality</a:t>
            </a:r>
            <a:endParaRPr b="0" lang="en-US" sz="4000" spc="-1" strike="noStrike">
              <a:solidFill>
                <a:srgbClr val="000000"/>
              </a:solidFill>
              <a:latin typeface="Arial Black"/>
            </a:endParaRPr>
          </a:p>
        </p:txBody>
      </p:sp>
      <p:sp>
        <p:nvSpPr>
          <p:cNvPr id="8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Project:</a:t>
            </a:r>
            <a:r>
              <a:rPr b="0" lang="en-GB" sz="2400" spc="-1" strike="noStrike">
                <a:solidFill>
                  <a:srgbClr val="000000"/>
                </a:solidFill>
                <a:latin typeface="Tahoma"/>
              </a:rPr>
              <a:t> </a:t>
            </a:r>
            <a:endParaRPr b="0" lang="en-US" sz="2400" spc="-1" strike="noStrike">
              <a:solidFill>
                <a:srgbClr val="000000"/>
              </a:solidFill>
              <a:latin typeface="Tahoma"/>
            </a:endParaRPr>
          </a:p>
          <a:p>
            <a:pPr lvl="1" marL="683280" indent="-26280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ge 1 Review of initiatives and indicators used by EU member states to measure regulatory quality (plus others with interesting experiences)</a:t>
            </a:r>
            <a:endParaRPr b="0" lang="en-US" sz="2000" spc="-1" strike="noStrike">
              <a:solidFill>
                <a:srgbClr val="000000"/>
              </a:solidFill>
              <a:latin typeface="Tahoma"/>
            </a:endParaRPr>
          </a:p>
          <a:p>
            <a:pPr lvl="1" marL="683280" indent="-26280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ge 2: Elaboration of a set of indicators to be used by the European Commission</a:t>
            </a:r>
            <a:endParaRPr b="0" lang="en-US" sz="2000" spc="-1" strike="noStrike">
              <a:solidFill>
                <a:srgbClr val="000000"/>
              </a:solidFill>
              <a:latin typeface="Tahoma"/>
            </a:endParaRPr>
          </a:p>
          <a:p>
            <a:pPr marL="315360" indent="-315360">
              <a:lnSpc>
                <a:spcPct val="90000"/>
              </a:lnSpc>
              <a:spcBef>
                <a:spcPts val="55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iming: 14 months, interim report in May 2004, report on indicators in September 2004</a:t>
            </a:r>
            <a:endParaRPr b="0" lang="en-US" sz="2200" spc="-1" strike="noStrike">
              <a:solidFill>
                <a:srgbClr val="000000"/>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9"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IRQ Team</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radford team (Radaelli, De Francesco, Cameron, Jalilian)</a:t>
            </a:r>
            <a:endParaRPr b="0" lang="en-US" sz="20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visor: Scott Jacobs</a:t>
            </a:r>
            <a:endParaRPr b="0" lang="en-US" sz="20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visor: Bruno Dente</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Support network:</a:t>
            </a:r>
            <a:r>
              <a:rPr b="0" lang="en-GB" sz="2400" spc="-1" strike="noStrike">
                <a:solidFill>
                  <a:srgbClr val="660066"/>
                </a:solidFill>
                <a:latin typeface="Tahoma"/>
              </a:rPr>
              <a:t>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7 national experts on ‘better regulation’ policy from 16 EU M.S. (incl. 6 CEECs)</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9B451470-D56C-4A70-8284-F189286BB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Implicit models of actors and implicit theories of the policy process</a:t>
            </a:r>
            <a:endParaRPr b="0" lang="en-US" sz="26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Different stakeholders bring into the discussion diverse logics and criteria of quality and quality assurance mechanisms. </a:t>
            </a:r>
            <a:endParaRPr b="0" lang="en-US" sz="3200" spc="-1" strike="noStrike">
              <a:solidFill>
                <a:srgbClr val="000000"/>
              </a:solidFill>
              <a:latin typeface="Tahoma"/>
            </a:endParaRPr>
          </a:p>
          <a:p>
            <a:pPr marL="335880" indent="-3358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It is not clear what is the model of stakeholders implicit in RQ programmes. </a:t>
            </a:r>
            <a:endParaRPr b="0" lang="en-US" sz="3200" spc="-1" strike="noStrike">
              <a:solidFill>
                <a:srgbClr val="000000"/>
              </a:solidFill>
              <a:latin typeface="Tahoma"/>
            </a:endParaRPr>
          </a:p>
          <a:p>
            <a:pPr marL="335880" indent="-3358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On theories of the policy process see the paper </a:t>
            </a:r>
            <a:r>
              <a:rPr b="0" i="1" lang="en-GB" sz="2600" spc="-1" strike="noStrike">
                <a:solidFill>
                  <a:srgbClr val="000000"/>
                </a:solidFill>
                <a:latin typeface="Tahoma"/>
                <a:ea typeface="Times New Roman"/>
              </a:rPr>
              <a:t>HOW CONTEXT MATTERS</a:t>
            </a:r>
            <a:endParaRPr b="0" lang="en-US" sz="2600" spc="-1" strike="noStrike">
              <a:solidFill>
                <a:srgbClr val="000000"/>
              </a:solidFill>
              <a:latin typeface="Tahom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A4EEAE47-0E65-4C0E-8C27-8B2317CA8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mplicit theories (2)</a:t>
            </a:r>
            <a:endParaRPr b="0" lang="en-US" sz="40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Are these programmes based on the assumption that politicians are rent-seeking, hence quality assurance mechanisms should target this problem?</a:t>
            </a:r>
            <a:endParaRPr b="0" lang="en-US" sz="2200" spc="-1" strike="noStrike">
              <a:solidFill>
                <a:srgbClr val="000000"/>
              </a:solidFill>
              <a:latin typeface="Tahoma"/>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Or does ‘quality’ mean that a government is trying to curb bureaucratic power? Is RQ an approach to limit the power of business in the policy process or an instrument to provide more systematic access of corporate actors to the regulatory process? </a:t>
            </a:r>
            <a:endParaRPr b="0" lang="en-US" sz="2200" spc="-1" strike="noStrike">
              <a:solidFill>
                <a:srgbClr val="000000"/>
              </a:solidFill>
              <a:latin typeface="Tahoma"/>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What do corporate actors want in a regulatory process? Efficiency or protection? Profit maximisation or satisfying behaviour? Are they a unitary actor or in competition among themselve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F2782C4C-ADB3-4C5A-ABFB-F5956674F3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mplication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important to acknowledge the complexity of RQ up-fron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indispensable to discuss the criteria, theories, and models of actors upon which our approach to RQ is ba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7F8550F-C453-4A66-9A4C-FF2531DF4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3. How does one measure quality?</a:t>
            </a:r>
            <a:endParaRPr b="0" lang="en-US" sz="36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cc"/>
                </a:solidFill>
                <a:latin typeface="Tahoma"/>
              </a:rPr>
              <a:t>Tes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Tahoma"/>
              </a:rPr>
              <a:t>Indicator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of the RIA proces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of the regulations produced via RI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3A2D80A-C6E1-455A-97BE-9F9559A0AF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4. Classification of indicators</a:t>
            </a:r>
            <a:endParaRPr b="0" lang="en-US" sz="4000" spc="-1" strike="noStrike">
              <a:solidFill>
                <a:srgbClr val="000000"/>
              </a:solidFill>
              <a:latin typeface="Arial Black"/>
            </a:endParaRPr>
          </a:p>
        </p:txBody>
      </p:sp>
      <p:sp>
        <p:nvSpPr>
          <p:cNvPr id="13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5000"/>
          </a:bodyPr>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LEVELS</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OOLS</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YPES OF REGULATION</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CTORS OF REGULATION</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DEGREES OF SOPHISTICATION</a:t>
            </a:r>
            <a:endParaRPr b="0" lang="en-US" sz="2600" spc="-1" strike="noStrike">
              <a:solidFill>
                <a:srgbClr val="000000"/>
              </a:solidFill>
              <a:latin typeface="Tahoma"/>
            </a:endParaRPr>
          </a:p>
          <a:p>
            <a:pPr marL="3258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MEASURE</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VIDERS</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S OF MEASUREMENT</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RPOSES</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NCIP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033BC54B-8A26-462A-B824-2E0541EDB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LEVEL</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of the process</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tivities and Outputs</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l-World Outcomes</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6657AF81-56A7-4556-BAC1-7BEC3340B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OOL</a:t>
            </a:r>
            <a:endParaRPr b="0" lang="en-US" sz="4000" spc="-1" strike="noStrike">
              <a:solidFill>
                <a:srgbClr val="000000"/>
              </a:solidFill>
              <a:latin typeface="Times New Roman"/>
            </a:endParaRPr>
          </a:p>
        </p:txBody>
      </p:sp>
      <p:sp>
        <p:nvSpPr>
          <p:cNvPr id="139"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act assessment</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ultation</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ification, codification, recasting</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cess to legislation and regulatory transparenc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ost evaluation of regulatory tools and institutio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5D9BBAE-6EA1-4EE0-8E8F-81106C3FD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YPE OF REGULATION</a:t>
            </a:r>
            <a:endParaRPr b="0" lang="en-US" sz="4000" spc="-1" strike="noStrike">
              <a:solidFill>
                <a:srgbClr val="000000"/>
              </a:solidFill>
              <a:latin typeface="Times New Roman"/>
            </a:endParaRPr>
          </a:p>
        </p:txBody>
      </p:sp>
      <p:sp>
        <p:nvSpPr>
          <p:cNvPr id="141"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NOMIC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RATIVE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94B96F-C4A6-4CC1-B54F-1C61CC0870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SECTOR OF REGULATION</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f Entry</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f Labor</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l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X and Social security law</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9ECB431-1124-4B10-BCF4-B203B15BC0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DEGREE OF SOPHISTICATION</a:t>
            </a:r>
            <a:endParaRPr b="0" lang="en-US" sz="4000" spc="-1" strike="noStrike">
              <a:solidFill>
                <a:srgbClr val="000000"/>
              </a:solidFill>
              <a:latin typeface="Times New Roman"/>
            </a:endParaRPr>
          </a:p>
        </p:txBody>
      </p:sp>
      <p:sp>
        <p:nvSpPr>
          <p:cNvPr id="145"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mple measures</a:t>
            </a:r>
            <a:endParaRPr b="0" lang="en-US" sz="26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mposite measures (Factor analysis, aggregation of simple indicators on the basis of weighting). </a:t>
            </a:r>
            <a:endParaRPr b="0" lang="en-US" sz="26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e that composite measures are not necessarily better than simple measures. For example, factor analysis may not be explicit enough on the variables that can be controlled by program administrators. Or it can be the statistical artifact of a questionnaire with too many questions.</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613B0A9D-1873-46EC-8C3D-447C8CD22E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ims in this presentation</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discuss regulatory quality, the quality of indicators, and indicators of quality. Proliferation of OECD and DBER initiatives… ‘pie-chart’ mania</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ollect feedback, suggestions, and informa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A279C28-4E15-4780-AC2C-AE7FF22A4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YPE OF MEASURE </a:t>
            </a:r>
            <a:endParaRPr b="0" lang="en-US" sz="4000" spc="-1" strike="noStrike">
              <a:solidFill>
                <a:srgbClr val="000000"/>
              </a:solidFill>
              <a:latin typeface="Times New Roman"/>
            </a:endParaRPr>
          </a:p>
        </p:txBody>
      </p:sp>
      <p:sp>
        <p:nvSpPr>
          <p:cNvPr id="147"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bjective</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1820F93-C93E-4799-9D7A-787972B8A4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ROVIDER</a:t>
            </a:r>
            <a:endParaRPr b="0" lang="en-US" sz="4000" spc="-1" strike="noStrike">
              <a:solidFill>
                <a:srgbClr val="000000"/>
              </a:solidFill>
              <a:latin typeface="Times New Roman"/>
            </a:endParaRPr>
          </a:p>
        </p:txBody>
      </p:sp>
      <p:sp>
        <p:nvSpPr>
          <p:cNvPr id="149"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vernments (self-assessed responses to regulatory quality questionnaires)</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erts (think tanks responding to Word Bank questionnaires or reviewing IA)</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kehold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AE14218-99EC-40E2-8DA7-449C2A2E70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CHARACTERISTIC</a:t>
            </a:r>
            <a:endParaRPr b="0" lang="en-US" sz="4000" spc="-1" strike="noStrike">
              <a:solidFill>
                <a:srgbClr val="000000"/>
              </a:solidFill>
              <a:latin typeface="Times New Roman"/>
            </a:endParaRPr>
          </a:p>
        </p:txBody>
      </p:sp>
      <p:sp>
        <p:nvSpPr>
          <p:cNvPr id="151"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tegorical (ex. Dichotomous (Yes/No); </a:t>
            </a:r>
            <a:endParaRPr b="0" lang="en-US" sz="40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rdinal (ex. 1 to 5 scales)</a:t>
            </a:r>
            <a:endParaRPr b="0" lang="en-US" sz="40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inuum (ex. Number -- no. of procedures, steps, etc.; Ratios; indexes)</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F3951FF-6B03-4AD3-9E19-CAD4074BEA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URPOSE: INDICATORS FOR WHAT?</a:t>
            </a:r>
            <a:endParaRPr b="0" lang="en-US" sz="4000" spc="-1" strike="noStrike">
              <a:solidFill>
                <a:srgbClr val="000000"/>
              </a:solidFill>
              <a:latin typeface="Times New Roman"/>
            </a:endParaRPr>
          </a:p>
        </p:txBody>
      </p:sp>
      <p:sp>
        <p:nvSpPr>
          <p:cNvPr id="153"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lanation</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ansparency and accountability</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gram management</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rticipation and ‘good regulatory governanc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50C7F80-FCB3-476C-9AB4-1BC4B1D670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RINCIPLE</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f better regulation policy</a:t>
            </a:r>
            <a:endParaRPr b="0" lang="en-US" sz="3200" spc="-1" strike="noStrike">
              <a:solidFill>
                <a:srgbClr val="000000"/>
              </a:solidFill>
              <a:latin typeface="Times New Roman"/>
            </a:endParaRPr>
          </a:p>
        </p:txBody>
      </p:sp>
      <p:sp>
        <p:nvSpPr>
          <p:cNvPr id="155"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stralia</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ada</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K</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ademics</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elkern Report</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ECD</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Section 1 on the concept of RQ for the list of princip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67DA0C0-6F0E-4178-B7F5-0AFA4D57F3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n example: combining values and levels</a:t>
            </a:r>
            <a:endParaRPr b="0" lang="en-US" sz="4000" spc="-1" strike="noStrike">
              <a:solidFill>
                <a:srgbClr val="000000"/>
              </a:solidFill>
              <a:latin typeface="Arial Black"/>
            </a:endParaRPr>
          </a:p>
        </p:txBody>
      </p:sp>
      <p:graphicFrame>
        <p:nvGraphicFramePr>
          <p:cNvPr id="157" name=""/>
          <p:cNvGraphicFramePr/>
          <p:nvPr/>
        </p:nvGraphicFramePr>
        <p:xfrm>
          <a:off x="609480" y="1886040"/>
          <a:ext cx="7315200" cy="4427280"/>
        </p:xfrm>
        <a:graphic>
          <a:graphicData uri="http://schemas.openxmlformats.org/drawingml/2006/table">
            <a:tbl>
              <a:tblPr/>
              <a:tblGrid>
                <a:gridCol w="1828800"/>
                <a:gridCol w="1830600"/>
                <a:gridCol w="1828800"/>
                <a:gridCol w="1827000"/>
              </a:tblGrid>
              <a:tr h="858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Val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tivi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utpu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l Wor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ecess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portiona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ubsidia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ranspare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ccount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ccess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implic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ste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AF922D4-CDA5-4A2C-90B1-A367C3610A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5. From classification to the analysis of performance</a:t>
            </a:r>
            <a:endParaRPr b="0" lang="en-US" sz="36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Assessing quality of </a:t>
            </a:r>
            <a:r>
              <a:rPr b="0" i="1" lang="en-GB" sz="3000" spc="-1" strike="noStrike">
                <a:solidFill>
                  <a:srgbClr val="0000cc"/>
                </a:solidFill>
                <a:latin typeface="Tahoma"/>
              </a:rPr>
              <a:t>individual</a:t>
            </a:r>
            <a:r>
              <a:rPr b="0" lang="en-GB" sz="3000" spc="-1" strike="noStrike">
                <a:solidFill>
                  <a:srgbClr val="000000"/>
                </a:solidFill>
                <a:latin typeface="Tahoma"/>
              </a:rPr>
              <a:t> indicator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Assessing quality of </a:t>
            </a:r>
            <a:r>
              <a:rPr b="0" i="1" lang="en-GB" sz="3000" spc="-1" strike="noStrike">
                <a:solidFill>
                  <a:srgbClr val="cc0000"/>
                </a:solidFill>
                <a:latin typeface="Tahoma"/>
              </a:rPr>
              <a:t>systems</a:t>
            </a:r>
            <a:r>
              <a:rPr b="0" lang="en-GB" sz="3000" spc="-1" strike="noStrike">
                <a:solidFill>
                  <a:srgbClr val="000000"/>
                </a:solidFill>
                <a:latin typeface="Tahoma"/>
              </a:rPr>
              <a:t> of indicator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Controlling for </a:t>
            </a:r>
            <a:r>
              <a:rPr b="0" lang="en-GB" sz="3000" spc="-1" strike="noStrike">
                <a:solidFill>
                  <a:srgbClr val="808000"/>
                </a:solidFill>
                <a:latin typeface="Tahoma"/>
              </a:rPr>
              <a:t>adverse effect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Crucial step: </a:t>
            </a:r>
            <a:r>
              <a:rPr b="0" lang="en-GB" sz="3000" spc="-1" strike="noStrike">
                <a:solidFill>
                  <a:srgbClr val="660066"/>
                </a:solidFill>
                <a:latin typeface="Tahoma"/>
              </a:rPr>
              <a:t>Managing indicators</a:t>
            </a:r>
            <a:r>
              <a:rPr b="0" lang="en-GB" sz="3000" spc="-1" strike="noStrike">
                <a:solidFill>
                  <a:srgbClr val="000000"/>
                </a:solidFill>
                <a:latin typeface="Tahoma"/>
              </a:rPr>
              <a:t> – using indicators to improve management, to learn, and to produce better regulation.</a:t>
            </a:r>
            <a:endParaRPr b="0" lang="en-US" sz="3000" spc="-1" strike="noStrike">
              <a:solidFill>
                <a:srgbClr val="000000"/>
              </a:solidFill>
              <a:latin typeface="Tahoma"/>
            </a:endParaRPr>
          </a:p>
        </p:txBody>
      </p:sp>
      <p:sp>
        <p:nvSpPr>
          <p:cNvPr id="4" name="PlaceHolder 3"/>
          <p:cNvSpPr>
            <a:spLocks noGrp="1"/>
          </p:cNvSpPr>
          <p:nvPr>
            <p:ph type="sldNum" idx="3"/>
          </p:nvPr>
        </p:nvSpPr>
        <p:spPr/>
        <p:txBody>
          <a:bodyPr/>
          <a:p>
            <a:fld id="{5602AF30-69C4-4A08-A2B6-305A800465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a:t>
            </a:r>
            <a:r>
              <a:rPr b="0" lang="en-GB" sz="2800" spc="-1" strike="noStrike">
                <a:solidFill>
                  <a:srgbClr val="0000cc"/>
                </a:solidFill>
                <a:latin typeface="Arial Black"/>
              </a:rPr>
              <a:t>each</a:t>
            </a:r>
            <a:r>
              <a:rPr b="0" lang="en-GB" sz="2800" spc="-1" strike="noStrike">
                <a:solidFill>
                  <a:srgbClr val="000000"/>
                </a:solidFill>
                <a:latin typeface="Arial Black"/>
              </a:rPr>
              <a:t> indicator (1)</a:t>
            </a:r>
            <a:endParaRPr b="0" lang="en-US" sz="28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Tahoma"/>
              </a:rPr>
              <a:t>EASY STEPS</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Validity (relation between indicator and phenomenon)</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Quantifiable at regular intervals, so that the indicators can be monitored</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Reliable (two different people produce the same value given the same conditions)</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Comparability and cross-checkable</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Easy to gather, easy to communicate</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D2233FCB-8E48-4DED-A01E-18241B520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2.1)</a:t>
            </a:r>
            <a:endParaRPr b="0" lang="en-US" sz="28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ahoma"/>
              </a:rPr>
              <a:t>ENTERING COMPLEXITY</a:t>
            </a:r>
            <a:endParaRPr b="0" lang="en-US" sz="22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fficient: a sophisticated indicator (arising out of factor analysis) contains more information than simple indicator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wever, there may be a trade off between the quantity of information contained in an indicator and how easy it is to communicate it within the organisation and to the stakeholder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important that the variables upon which the complex measure is built are easy to understand and coherent (no trade-off between the variable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319FF3D-8EDD-4B39-BE51-384F80CF09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2.2)</a:t>
            </a:r>
            <a:endParaRPr b="0" lang="en-US" sz="28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 with principles or norms. This is to avoid ambiguity. The indicator relates to an outcome that can be unambiguously judged satisfactory or not.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 we measure the </a:t>
            </a:r>
            <a:r>
              <a:rPr b="1" lang="en-GB" sz="2400" spc="-1" strike="noStrike">
                <a:solidFill>
                  <a:srgbClr val="660066"/>
                </a:solidFill>
                <a:latin typeface="Tahoma"/>
              </a:rPr>
              <a:t>quality of the regulatory environment</a:t>
            </a:r>
            <a:r>
              <a:rPr b="0" lang="en-GB" sz="2400" spc="-1" strike="noStrike">
                <a:solidFill>
                  <a:srgbClr val="000000"/>
                </a:solidFill>
                <a:latin typeface="Tahoma"/>
              </a:rPr>
              <a:t> or the </a:t>
            </a:r>
            <a:r>
              <a:rPr b="1" lang="en-GB" sz="2400" spc="-1" strike="noStrike">
                <a:solidFill>
                  <a:srgbClr val="cc0000"/>
                </a:solidFill>
                <a:latin typeface="Tahoma"/>
              </a:rPr>
              <a:t>quality of better regulation programmes</a:t>
            </a:r>
            <a:r>
              <a:rPr b="0" lang="en-GB" sz="2400" spc="-1" strike="noStrike">
                <a:solidFill>
                  <a:srgbClr val="000000"/>
                </a:solidFill>
                <a:latin typeface="Tahoma"/>
              </a:rPr>
              <a:t>? In the long term they should converge. In the short-term, the environment can improve independently from the policy. Example: more people employed to issue licenses, the time needed to get a licence goes down, but the overall regulatory complexity is the sam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96A8315-C438-43A9-896F-104597C38A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able of content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etting to grips with the concept: what is regulatory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xity of regulatory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does one measure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assification of indicators</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rom classification to the analysis of the performance of indicators and system of indicators</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2601567-B116-40DD-A1CE-8E115DB9D1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3)</a:t>
            </a:r>
            <a:endParaRPr b="0" lang="en-US" sz="28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Tahoma"/>
              </a:rPr>
              <a:t>ENTERING PRINCIPLES</a:t>
            </a:r>
            <a:endParaRPr b="0" lang="en-US" sz="2600" spc="-1" strike="noStrike">
              <a:solidFill>
                <a:srgbClr val="000000"/>
              </a:solidFill>
              <a:latin typeface="Tahoma"/>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ake the example of principles of better regulation. Think of participation. Is this a dimension of quality? It depends on why one is designing an indicator</a:t>
            </a:r>
            <a:endParaRPr b="0" lang="en-US" sz="26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ways ask the question: if the indicator is the solution, what is your problem? Do you want to learn, to manage, to steer, to empower people,….?</a:t>
            </a:r>
            <a:endParaRPr b="0" lang="en-US" sz="2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his example tells us that the definition of quality is sensitive to the main purpose one has in mind when developing the system of indicators.</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809A40DC-93E1-4FED-8E7D-6661BB43D2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Black"/>
              </a:rPr>
              <a:t>From classification to the quality of </a:t>
            </a:r>
            <a:r>
              <a:rPr b="0" lang="en-GB" sz="3000" spc="-1" strike="noStrike">
                <a:solidFill>
                  <a:srgbClr val="0000cc"/>
                </a:solidFill>
                <a:latin typeface="Arial Black"/>
              </a:rPr>
              <a:t>systems</a:t>
            </a:r>
            <a:r>
              <a:rPr b="0" lang="en-GB" sz="3000" spc="-1" strike="noStrike">
                <a:solidFill>
                  <a:srgbClr val="000000"/>
                </a:solidFill>
                <a:latin typeface="Arial Black"/>
              </a:rPr>
              <a:t> of indicators</a:t>
            </a:r>
            <a:endParaRPr b="0" lang="en-US" sz="3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verage … but also simple and selective</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od balance among design, output, and real-world outcome. Good balance between providers (stakeholders and governments)</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should be targeted and focused on those themes in regulatory reforms programmes that have large implications for decision-mak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0CC9321-276C-4E7E-85C3-277D5C86E1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ynamic systems of indicator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rt with simple system of indicators, then in year two add more sophisticated indicators</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e indicators to allow member states to measure their own progress year by year and in relation to other member states. Indicators and scoreboard of regulatory quality? Drawback: learning may be hampered by the ranking syndrome. This is not a race, but a mutually beneficial exercise. </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e two sets of indicators. A simple set of those who use indicators to monitor complex regulatory reform programmes and another set of indicators for those who manage individual programm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44A95FD-396E-4D8E-A047-15533D0F5DE3}"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1. Regulatory quality (RQ)</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overnmen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the EU defines RQ</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tions provided by international organis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ademic approach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0753C15-4D26-49A3-B15F-7BF5B9103F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UK: Better Regulation Task Force</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Proportionalit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accountabilit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consistenc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ransparency, and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arget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95DF599-5645-42D6-84F8-C3E02F731F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mission</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Q is part of the strategy for </a:t>
            </a:r>
            <a:r>
              <a:rPr b="0" lang="en-GB" sz="2800" spc="-1" strike="noStrike">
                <a:solidFill>
                  <a:srgbClr val="cc0000"/>
                </a:solidFill>
                <a:latin typeface="Tahoma"/>
              </a:rPr>
              <a:t>better regulation</a:t>
            </a:r>
            <a:r>
              <a:rPr b="0" lang="en-GB" sz="2800" spc="-1" strike="noStrike">
                <a:solidFill>
                  <a:srgbClr val="000000"/>
                </a:solidFill>
                <a:latin typeface="Tahoma"/>
              </a:rPr>
              <a:t> and </a:t>
            </a:r>
            <a:r>
              <a:rPr b="0" lang="en-GB" sz="2800" spc="-1" strike="noStrike">
                <a:solidFill>
                  <a:srgbClr val="0000cc"/>
                </a:solidFill>
                <a:latin typeface="Tahoma"/>
              </a:rPr>
              <a:t>good governance</a:t>
            </a:r>
            <a:r>
              <a:rPr b="0" lang="en-GB" sz="2800" spc="-1" strike="noStrike">
                <a:solidFill>
                  <a:srgbClr val="000000"/>
                </a:solidFill>
                <a:latin typeface="Tahoma"/>
              </a:rPr>
              <a:t>. This implies that, in addition to properties such as efficiency, effectiveness, coherency, simplicity, and clarity, good regulation should also respect:</a:t>
            </a:r>
            <a:endParaRPr b="0" lang="en-US" sz="28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the re-vitalisation of the acquis (COM71 Final,) Commission 2003</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the democratic use of expertise</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consultation</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most importantly good regulation balances environmental protection, social conditions, and economic growth</a:t>
            </a:r>
            <a:r>
              <a:rPr b="0" lang="en-GB" sz="2400" spc="-1" strike="noStrike">
                <a:solidFill>
                  <a:srgbClr val="000000"/>
                </a:solidFill>
                <a:latin typeface="Wingdings"/>
                <a:ea typeface="Wingdings"/>
              </a:rPr>
              <a:t></a:t>
            </a:r>
            <a:r>
              <a:rPr b="0" lang="en-GB" sz="2400" spc="-1" strike="noStrike">
                <a:solidFill>
                  <a:srgbClr val="000000"/>
                </a:solidFill>
                <a:latin typeface="Tahoma"/>
              </a:rPr>
              <a:t> sustainable development</a:t>
            </a:r>
            <a:endParaRPr b="0" lang="en-US" sz="2400" spc="-1" strike="noStrike">
              <a:solidFill>
                <a:srgbClr val="000000"/>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BC5FEFB-B5A0-4D7D-B1AF-C25C53C50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andelkern Report (Council’s experts – EU)</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on principles:</a:t>
            </a:r>
            <a:endParaRPr b="0" lang="en-US" sz="22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cess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rtiona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idiarity </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untabi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ibi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icity</a:t>
            </a:r>
            <a:endParaRPr b="0" lang="en-US" sz="2000" spc="-1" strike="noStrike">
              <a:solidFill>
                <a:srgbClr val="000000"/>
              </a:solidFill>
              <a:latin typeface="Tahoma"/>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R is focused also on how to achieve RQ. The main tools are:</a:t>
            </a:r>
            <a:endParaRPr b="0" lang="en-US" sz="22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ternatives to regul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sult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implific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cess to regul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40DC333-3CE7-45FC-86D0-6F29C02E4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ECD: evolution of ideas on RQ</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995: Good practices -&gt; standards -&gt; checklists</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997: </a:t>
            </a:r>
            <a:r>
              <a:rPr b="0" lang="en-GB" sz="2000" spc="-1" strike="noStrike">
                <a:solidFill>
                  <a:srgbClr val="0000cc"/>
                </a:solidFill>
                <a:latin typeface="Tahoma"/>
              </a:rPr>
              <a:t>Three stages of development</a:t>
            </a:r>
            <a:r>
              <a:rPr b="0" lang="en-GB" sz="2000" spc="-1" strike="noStrike">
                <a:solidFill>
                  <a:srgbClr val="000000"/>
                </a:solidFill>
                <a:latin typeface="Tahoma"/>
              </a:rPr>
              <a:t> of regulatory reform: de-regulation, regulatory quality (instrument by instrument approach), and regulatory management (more horizontal) </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02: From RQ to </a:t>
            </a:r>
            <a:r>
              <a:rPr b="0" lang="en-GB" sz="2000" spc="-1" strike="noStrike">
                <a:solidFill>
                  <a:srgbClr val="cc0000"/>
                </a:solidFill>
                <a:latin typeface="Tahoma"/>
              </a:rPr>
              <a:t>regulatory governance</a:t>
            </a:r>
            <a:r>
              <a:rPr b="0" lang="en-GB" sz="2000" spc="-1" strike="noStrike">
                <a:solidFill>
                  <a:srgbClr val="000000"/>
                </a:solidFill>
                <a:latin typeface="Tahoma"/>
              </a:rPr>
              <a:t> (transparency, citizens as partners, and bringing principles of better regulation across levels of governance and regulatory actors (legislature, judiciary) </a:t>
            </a:r>
            <a:r>
              <a:rPr b="0" lang="en-GB" sz="2000" spc="-1" strike="noStrike">
                <a:solidFill>
                  <a:srgbClr val="000000"/>
                </a:solidFill>
                <a:latin typeface="Wingdings"/>
                <a:ea typeface="Wingdings"/>
              </a:rPr>
              <a:t></a:t>
            </a:r>
            <a:r>
              <a:rPr b="0" lang="en-GB" sz="2000" spc="-1" strike="noStrike">
                <a:solidFill>
                  <a:srgbClr val="000000"/>
                </a:solidFill>
                <a:latin typeface="Tahoma"/>
              </a:rPr>
              <a:t> grounded in the wider approach to good democratic governance </a:t>
            </a:r>
            <a:r>
              <a:rPr b="0" lang="en-GB" sz="2000" spc="-1" strike="noStrike">
                <a:solidFill>
                  <a:srgbClr val="000000"/>
                </a:solidFill>
                <a:latin typeface="Wingdings"/>
                <a:ea typeface="Wingdings"/>
              </a:rPr>
              <a:t></a:t>
            </a:r>
            <a:r>
              <a:rPr b="0" lang="en-GB" sz="2000" spc="-1" strike="noStrike">
                <a:solidFill>
                  <a:srgbClr val="000000"/>
                </a:solidFill>
                <a:latin typeface="Tahoma"/>
              </a:rPr>
              <a:t> two main perspectives on regulatory quality: </a:t>
            </a:r>
            <a:r>
              <a:rPr b="0" i="1" lang="en-GB" sz="2000" spc="-1" strike="noStrike">
                <a:solidFill>
                  <a:srgbClr val="000000"/>
                </a:solidFill>
                <a:latin typeface="Tahoma"/>
              </a:rPr>
              <a:t>economic</a:t>
            </a:r>
            <a:r>
              <a:rPr b="0" lang="en-GB" sz="2000" spc="-1" strike="noStrike">
                <a:solidFill>
                  <a:srgbClr val="000000"/>
                </a:solidFill>
                <a:latin typeface="Tahoma"/>
              </a:rPr>
              <a:t> and </a:t>
            </a:r>
            <a:r>
              <a:rPr b="0" i="1" lang="en-GB" sz="2000" spc="-1" strike="noStrike">
                <a:solidFill>
                  <a:srgbClr val="000000"/>
                </a:solidFill>
                <a:latin typeface="Tahoma"/>
              </a:rPr>
              <a:t>juridical</a:t>
            </a:r>
            <a:r>
              <a:rPr b="0" lang="en-GB" sz="2000" spc="-1" strike="noStrike">
                <a:solidFill>
                  <a:srgbClr val="000000"/>
                </a:solidFill>
                <a:latin typeface="Tahoma"/>
              </a:rPr>
              <a:t>, both correlated with the </a:t>
            </a:r>
            <a:r>
              <a:rPr b="0" i="1" lang="en-GB" sz="2000" spc="-1" strike="noStrike">
                <a:solidFill>
                  <a:srgbClr val="000000"/>
                </a:solidFill>
                <a:latin typeface="Tahoma"/>
              </a:rPr>
              <a:t>design</a:t>
            </a:r>
            <a:r>
              <a:rPr b="0" lang="en-GB" sz="2000" spc="-1" strike="noStrike">
                <a:solidFill>
                  <a:srgbClr val="000000"/>
                </a:solidFill>
                <a:latin typeface="Tahoma"/>
              </a:rPr>
              <a:t> and </a:t>
            </a:r>
            <a:r>
              <a:rPr b="0" i="1" lang="en-GB" sz="2000" spc="-1" strike="noStrike">
                <a:solidFill>
                  <a:srgbClr val="000000"/>
                </a:solidFill>
                <a:latin typeface="Tahoma"/>
              </a:rPr>
              <a:t>implementation</a:t>
            </a:r>
            <a:r>
              <a:rPr b="0" lang="en-GB" sz="2000" spc="-1" strike="noStrike">
                <a:solidFill>
                  <a:srgbClr val="000000"/>
                </a:solidFill>
                <a:latin typeface="Tahoma"/>
              </a:rPr>
              <a:t> of policies, tool and institu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00CAC2-3A8B-411C-8D10-4936931C4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3:14:21Z</dcterms:created>
  <dc:creator>Claudio Radaelli</dc:creator>
  <dc:description/>
  <dc:language>en-US</dc:language>
  <cp:lastModifiedBy>Claudio Radaelli</cp:lastModifiedBy>
  <cp:lastPrinted>2002-01-11T09:41:17Z</cp:lastPrinted>
  <dcterms:modified xsi:type="dcterms:W3CDTF">2004-03-11T15:05:24Z</dcterms:modified>
  <cp:revision>72</cp:revision>
  <dc:subject/>
  <dc:title>Getting to Grips with Regulatory Quality</dc:title>
</cp:coreProperties>
</file>