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4382-6849-4364-86E2-33113D5F521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9229-D47A-493B-A029-AA5258BFB82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87700BC1-656A-4D20-8E71-BCF9671CA07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35576B0-2F52-481E-9002-595FE67DC2A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7046-5BBF-4CEE-B905-B4DE5AC56BF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7072-363F-4551-AA6A-66F71A43377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2CB5-5025-451E-A901-9FC2AF294A5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6FDD-765C-4870-BB60-E8761CD0F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682E-EB39-40E5-9625-B41F9FE2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A148-9728-46FB-AA3D-0AC80CC88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4F86-45C8-446F-B00C-540362138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07743-E65C-4D4A-8131-B0626EECB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1556-B778-4324-BEEE-3572CC29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365D-D754-473D-B4F1-C4341E5D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7B785-C7F2-4C70-8867-82D23FDE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2D62-E734-40A7-81D4-CC926B53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99D7A-42C5-4613-9413-B4289DE6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2F814-2E39-421A-A30E-3BEE9886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4544-1925-4709-A294-20A0B573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30CDF-EA6C-45A5-933D-ED005A82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B5A8-82B4-4191-B03E-5C0A05FA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75516-85E2-4EAD-8BAE-5D85BD17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7EDE-6AB6-4516-87C0-3A2F7B05A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307B-6967-418A-8BD0-D5E364831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BEAC-0FB9-4988-988F-53862AD0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66E5-8B0C-4EEC-A0F0-2BBAC8E6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3FF8-573C-4454-B0FE-FC3DED3D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A479-7770-4542-82A9-05BF62F9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DD4F-3D09-4512-8AD6-F193F451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0417-AF5A-40DE-B009-2510B096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E7B6-B99D-43E9-97EA-2D349326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DD97-9BF0-40C5-8F36-20600A71A42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38CC-7DE2-481C-8928-F0655A2F09C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0360" y="1341000"/>
            <a:ext cx="896328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Prevention or Diversion? </a:t>
            </a:r>
            <a:br>
              <a:rPr sz="4400"/>
            </a:b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– Achieving change in older people’s service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Calibri"/>
              </a:rPr>
              <a:t>Report authors and core team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: Karen Windle, Richard Wagland, Julien Forder, Francesco D’Amico, Dirk Janssen, Gerald Wist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Calibri"/>
              </a:rPr>
              <a:t>Wider national evaluation team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: Roger Beech, Ann Bowling, Angela Dickinson, Kate Ellis, Catherine Henderson, Emily Knapp, Martin Knapp, Kathryn Lord, Brenda Ro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539640" y="5589720"/>
            <a:ext cx="1500120" cy="841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"/>
          <p:cNvPicPr/>
          <p:nvPr/>
        </p:nvPicPr>
        <p:blipFill>
          <a:blip r:embed="rId2"/>
          <a:stretch/>
        </p:blipFill>
        <p:spPr>
          <a:xfrm>
            <a:off x="7164360" y="5894280"/>
            <a:ext cx="1500120" cy="536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3"/>
          <a:srcRect l="0" t="0" r="0" b="36603"/>
          <a:stretch/>
        </p:blipFill>
        <p:spPr>
          <a:xfrm>
            <a:off x="3525840" y="5796000"/>
            <a:ext cx="209232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497d"/>
                </a:solidFill>
                <a:latin typeface="Calibri"/>
              </a:rPr>
              <a:t>Standardised percentage changes in EQ-5D (T</a:t>
            </a:r>
            <a:r>
              <a:rPr b="0" lang="en-GB" sz="3600" spc="-1" strike="noStrike" baseline="-25000">
                <a:solidFill>
                  <a:srgbClr val="1f497d"/>
                </a:solidFill>
                <a:latin typeface="Calibri"/>
              </a:rPr>
              <a:t>0</a:t>
            </a:r>
            <a:r>
              <a:rPr b="0" lang="en-GB" sz="3600" spc="-1" strike="noStrike">
                <a:solidFill>
                  <a:srgbClr val="1f497d"/>
                </a:solidFill>
                <a:latin typeface="Calibri"/>
              </a:rPr>
              <a:t>: T</a:t>
            </a:r>
            <a:r>
              <a:rPr b="0" lang="en-GB" sz="3600" spc="-1" strike="noStrike" baseline="-25000">
                <a:solidFill>
                  <a:srgbClr val="1f497d"/>
                </a:solidFill>
                <a:latin typeface="Calibri"/>
              </a:rPr>
              <a:t>1</a:t>
            </a:r>
            <a:r>
              <a:rPr b="0" lang="en-GB" sz="3600" spc="-1" strike="noStrike">
                <a:solidFill>
                  <a:srgbClr val="1f497d"/>
                </a:solidFill>
                <a:latin typeface="Calibri"/>
              </a:rPr>
              <a:t>): Home from hospit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Object 4" descr=""/>
          <p:cNvPicPr/>
          <p:nvPr/>
        </p:nvPicPr>
        <p:blipFill>
          <a:blip r:embed="rId1"/>
          <a:stretch/>
        </p:blipFill>
        <p:spPr>
          <a:xfrm>
            <a:off x="-50760" y="1074600"/>
            <a:ext cx="924552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497d"/>
                </a:solidFill>
                <a:latin typeface="Calibri"/>
              </a:rPr>
              <a:t>Effect of POPP on emergency bed-day u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50920" y="1557360"/>
          <a:ext cx="8704080" cy="3747960"/>
        </p:xfrm>
        <a:graphic>
          <a:graphicData uri="http://schemas.openxmlformats.org/drawingml/2006/table">
            <a:tbl>
              <a:tblPr/>
              <a:tblGrid>
                <a:gridCol w="2663640"/>
                <a:gridCol w="1738440"/>
                <a:gridCol w="890640"/>
                <a:gridCol w="1666800"/>
                <a:gridCol w="878040"/>
                <a:gridCol w="866520"/>
              </a:tblGrid>
              <a:tr h="681120"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ffect of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nagement overh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ffect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ffect on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ower 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pper 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bfde"/>
                    </a:solidFill>
                  </a:tcPr>
                </a:tc>
              </a:tr>
              <a:tr h="341280">
                <a:tc rowSpan="4"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verage POPP project compared to no POPP project (in same POPP PCT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1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bfde"/>
                    </a:solidFill>
                  </a:tcPr>
                </a:tc>
                <a:tc rowSpan="4"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ed-days per mon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2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1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34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1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bf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2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1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33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1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bf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2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1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34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2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bf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2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1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339480">
                <a:tc gridSpan="6"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bf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1280">
                <a:tc rowSpan="4"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£1 spend on POPP project per month in POPP PCT (at POPP tim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£1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bfde"/>
                    </a:solidFill>
                  </a:tcPr>
                </a:tc>
                <a:tc rowSpan="4"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st per month per PCT of bed-da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£1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£0.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34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£1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bf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£1.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£0.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33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£1.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bf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£1.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£0.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34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£1.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a7bf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£1.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96480" rIns="96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£0.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rcRect l="0" t="0" r="0" b="36628"/>
          <a:stretch/>
        </p:blipFill>
        <p:spPr>
          <a:xfrm>
            <a:off x="7812000" y="6294600"/>
            <a:ext cx="1119240" cy="3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497d"/>
                </a:solidFill>
                <a:latin typeface="Calibri"/>
              </a:rPr>
              <a:t>Self-reported service use change (mean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98280" y="1628640"/>
          <a:ext cx="8937720" cy="3365640"/>
        </p:xfrm>
        <a:graphic>
          <a:graphicData uri="http://schemas.openxmlformats.org/drawingml/2006/table">
            <a:tbl>
              <a:tblPr/>
              <a:tblGrid>
                <a:gridCol w="2532240"/>
                <a:gridCol w="2306520"/>
                <a:gridCol w="2433600"/>
                <a:gridCol w="1665360"/>
              </a:tblGrid>
              <a:tr h="839520">
                <a:tc>
                  <a:txBody>
                    <a:bodyPr lIns="99720" rIns="99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9720" marR="997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9720" rIns="99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re-intervention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 us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9720" marR="997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9720" rIns="99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1 (post-intervention) mean us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9720" marR="997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9720" rIns="99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age ch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9720" marR="997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315720">
                <a:tc gridSpan="4">
                  <a:txBody>
                    <a:bodyPr lIns="99720" rIns="99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P projects focused toward secondary prevention (n= 22 projects, 668 use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9720" marR="997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5b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>
                  <a:txBody>
                    <a:bodyPr lIns="99720" rIns="99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pital bed-day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9720" marR="997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9720" rIns="99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9720" marR="997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9720" rIns="99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9720" marR="997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9720" rIns="99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-5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9720" marR="997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31080">
                <a:tc>
                  <a:txBody>
                    <a:bodyPr lIns="99720" rIns="99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ident and emergency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9720" marR="997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9720" rIns="99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9720" marR="997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9720" rIns="99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9720" marR="997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9720" rIns="99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-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9720" marR="997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15720">
                <a:tc>
                  <a:txBody>
                    <a:bodyPr lIns="99720" rIns="99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ysiotherapy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9720" marR="997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9720" rIns="99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9720" marR="997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9720" rIns="99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9720" marR="997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9720" rIns="99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-3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9720" marR="997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15720">
                <a:tc>
                  <a:txBody>
                    <a:bodyPr lIns="99720" rIns="99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P appointments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9720" marR="997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9720" rIns="99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9720" marR="997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9720" rIns="99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9720" marR="997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9720" rIns="99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-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9720" marR="997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15720">
                <a:tc gridSpan="4">
                  <a:txBody>
                    <a:bodyPr lIns="99720" rIns="99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P projects focused toward tertiary prevention (n=4 projects, 48 use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9720" marR="997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5b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>
                  <a:txBody>
                    <a:bodyPr lIns="99720" rIns="99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pital bed-day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9720" marR="997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9720" rIns="99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9720" marR="997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9720" rIns="99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9720" marR="997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9720" rIns="99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en-GB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8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9720" marR="997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141" name="TextBox 4"/>
          <p:cNvSpPr/>
          <p:nvPr/>
        </p:nvSpPr>
        <p:spPr>
          <a:xfrm>
            <a:off x="108000" y="5013360"/>
            <a:ext cx="424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** p=&lt;0.01 (Marginal Homogeneity Tes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*   p=&lt;0.04 (Marginal Homogeneity Tes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rcRect l="0" t="0" r="0" b="36624"/>
          <a:stretch/>
        </p:blipFill>
        <p:spPr>
          <a:xfrm>
            <a:off x="7740720" y="6249960"/>
            <a:ext cx="119052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240" y="93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497d"/>
                </a:solidFill>
                <a:latin typeface="Calibri"/>
              </a:rPr>
              <a:t>Prevention or diversio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4000" y="1052640"/>
            <a:ext cx="784836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c00000"/>
                </a:solidFill>
                <a:latin typeface="Calibri"/>
              </a:rPr>
              <a:t>Prevented deterioration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in reported health-related quality of life for </a:t>
            </a:r>
            <a:r>
              <a:rPr b="0" i="1" lang="en-GB" sz="2700" spc="-1" strike="noStrike">
                <a:solidFill>
                  <a:srgbClr val="000000"/>
                </a:solidFill>
                <a:latin typeface="Calibri"/>
              </a:rPr>
              <a:t>some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users (e.g., younger old) in </a:t>
            </a:r>
            <a:r>
              <a:rPr b="0" i="1" lang="en-GB" sz="2700" spc="-1" strike="noStrike">
                <a:solidFill>
                  <a:srgbClr val="000000"/>
                </a:solidFill>
                <a:latin typeface="Calibri"/>
              </a:rPr>
              <a:t>some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projects (e.g., integrated co-located multi-disciplinary teams, single-line management, ‘flag-wavers’, appropriate skill levels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c00000"/>
                </a:solidFill>
                <a:latin typeface="Calibri"/>
              </a:rPr>
              <a:t>Changed </a:t>
            </a:r>
            <a:r>
              <a:rPr b="0" i="1" lang="en-GB" sz="2700" spc="-1" strike="noStrike">
                <a:solidFill>
                  <a:srgbClr val="c00000"/>
                </a:solidFill>
                <a:latin typeface="Calibri"/>
              </a:rPr>
              <a:t>some </a:t>
            </a:r>
            <a:r>
              <a:rPr b="0" lang="en-GB" sz="2700" spc="-1" strike="noStrike">
                <a:solidFill>
                  <a:srgbClr val="c00000"/>
                </a:solidFill>
                <a:latin typeface="Calibri"/>
              </a:rPr>
              <a:t>service use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– reduction in secondary and primary car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c00000"/>
                </a:solidFill>
                <a:latin typeface="Calibri"/>
              </a:rPr>
              <a:t>But, short or long-term change?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Did the POPP programme prevent on-going deterioration?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c00000"/>
                </a:solidFill>
                <a:latin typeface="Calibri"/>
              </a:rPr>
              <a:t>Or, service diversion and increased family support?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Some evidence increase in social care and  that family support increases following the POPP intervention – mean (hrs, mns, pw)  3.47 at T</a:t>
            </a:r>
            <a:r>
              <a:rPr b="0" lang="en-GB" sz="27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, to 13.49 at T</a:t>
            </a:r>
            <a:r>
              <a:rPr b="0" lang="en-GB" sz="27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 (p=&lt;0.03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rcRect l="0" t="0" r="0" b="36619"/>
          <a:stretch/>
        </p:blipFill>
        <p:spPr>
          <a:xfrm>
            <a:off x="7667640" y="6238800"/>
            <a:ext cx="1263600" cy="3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1160"/>
            <a:ext cx="7772400" cy="75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497d"/>
                </a:solidFill>
                <a:latin typeface="Calibri"/>
              </a:rPr>
              <a:t>Locating preven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16040" y="907560"/>
            <a:ext cx="77724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Definitional division between health and social care – context is all (Curry 2006, Wistow 2003,Godfrey, 2000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Health: Primary, secondary and tertiary prevention (Hollander 2001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Social care perceptions of prevention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 prevent or delay ill-health or disability consequent on age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 promote and/ or improve quality of lif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 create health and supportive environments (Wistow and Lewis 1997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000000"/>
                </a:solidFill>
                <a:latin typeface="Calibri"/>
              </a:rPr>
              <a:t>Our first priority should be to restore an individual’s independence and autonomy. 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(DH 2010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Continuum of preventatives servic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Underlying rationale, early and timely services will lead to a reduction in consumption of expensive services in the futur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ABFDB6B-4163-491F-86F0-F79B97B99464}" type="datetime">
              <a:rPr b="0" lang="en-GB" sz="1000" spc="-1" strike="noStrike">
                <a:solidFill>
                  <a:srgbClr val="000000"/>
                </a:solidFill>
                <a:latin typeface="Tahoma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9713D0E-7DEF-4F2E-BAA7-FCE1A43EE9DE}" type="slidenum">
              <a:rPr b="0" lang="en-GB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rcRect l="0" t="0" r="0" b="36619"/>
          <a:stretch/>
        </p:blipFill>
        <p:spPr>
          <a:xfrm>
            <a:off x="7667640" y="6238800"/>
            <a:ext cx="1263600" cy="38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POPP Program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11280" y="1413000"/>
            <a:ext cx="792144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£60 million ring-fenced funding for council-based partnerships to lead locally innovative pilot projects for older peop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verall aim was to improve the health, well-being and independence of older people throug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vide person centred and integrated responses for older peo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ncourage investment in approaches that promote health, well-being and independence for older people 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event or delay the need for high intensity or institutionalised ca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9 pilot sites funded May 2006 – 2008 (extended to 200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0 further pilot sites May 2007 –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1"/>
          <a:srcRect l="0" t="0" r="0" b="36619"/>
          <a:stretch/>
        </p:blipFill>
        <p:spPr>
          <a:xfrm>
            <a:off x="7667640" y="6238800"/>
            <a:ext cx="1263600" cy="382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Diagram 3" descr=""/>
          <p:cNvPicPr/>
          <p:nvPr/>
        </p:nvPicPr>
        <p:blipFill>
          <a:blip r:embed="rId1"/>
          <a:stretch/>
        </p:blipFill>
        <p:spPr>
          <a:xfrm>
            <a:off x="1962000" y="950760"/>
            <a:ext cx="7237440" cy="56944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497d"/>
                </a:solidFill>
                <a:latin typeface="Calibri"/>
              </a:rPr>
              <a:t>POPP Interven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TextBox 6"/>
          <p:cNvGrpSpPr/>
          <p:nvPr/>
        </p:nvGrpSpPr>
        <p:grpSpPr>
          <a:xfrm>
            <a:off x="-79200" y="901800"/>
            <a:ext cx="2346120" cy="1860480"/>
            <a:chOff x="-79200" y="901800"/>
            <a:chExt cx="2346120" cy="1860480"/>
          </a:xfrm>
        </p:grpSpPr>
        <p:pic>
          <p:nvPicPr>
            <p:cNvPr id="105" name="TextBox 6" descr=""/>
            <p:cNvPicPr/>
            <p:nvPr/>
          </p:nvPicPr>
          <p:blipFill>
            <a:blip r:embed="rId2"/>
            <a:stretch/>
          </p:blipFill>
          <p:spPr>
            <a:xfrm>
              <a:off x="-79200" y="901800"/>
              <a:ext cx="2346120" cy="186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0" y="981000"/>
              <a:ext cx="2124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alibri"/>
                </a:rPr>
                <a:t>Gardening/ handyperson/ befriending/ leisu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TextBox 8"/>
          <p:cNvGrpSpPr/>
          <p:nvPr/>
        </p:nvGrpSpPr>
        <p:grpSpPr>
          <a:xfrm>
            <a:off x="-152280" y="2773440"/>
            <a:ext cx="3565440" cy="1859040"/>
            <a:chOff x="-152280" y="2773440"/>
            <a:chExt cx="3565440" cy="1859040"/>
          </a:xfrm>
        </p:grpSpPr>
        <p:pic>
          <p:nvPicPr>
            <p:cNvPr id="108" name="TextBox 8" descr=""/>
            <p:cNvPicPr/>
            <p:nvPr/>
          </p:nvPicPr>
          <p:blipFill>
            <a:blip r:embed="rId3"/>
            <a:stretch/>
          </p:blipFill>
          <p:spPr>
            <a:xfrm>
              <a:off x="-152280" y="2773440"/>
              <a:ext cx="35654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0" y="2852640"/>
              <a:ext cx="32036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alibri"/>
                </a:rPr>
                <a:t>Holistic assessments/ Hospital aftercare/ Falls prevention/ Peer monitoring and suppor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TextBox 9"/>
          <p:cNvGrpSpPr/>
          <p:nvPr/>
        </p:nvGrpSpPr>
        <p:grpSpPr>
          <a:xfrm>
            <a:off x="480960" y="4578480"/>
            <a:ext cx="3951360" cy="1852560"/>
            <a:chOff x="480960" y="4578480"/>
            <a:chExt cx="3951360" cy="1852560"/>
          </a:xfrm>
        </p:grpSpPr>
        <p:pic>
          <p:nvPicPr>
            <p:cNvPr id="111" name="TextBox 9" descr=""/>
            <p:cNvPicPr/>
            <p:nvPr/>
          </p:nvPicPr>
          <p:blipFill>
            <a:blip r:embed="rId4"/>
            <a:stretch/>
          </p:blipFill>
          <p:spPr>
            <a:xfrm>
              <a:off x="480960" y="4578480"/>
              <a:ext cx="3951360" cy="18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39640" y="4653000"/>
              <a:ext cx="3834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2f2f2"/>
                  </a:solidFill>
                  <a:latin typeface="Calibri"/>
                </a:rPr>
                <a:t>Rapid response teams/ Hospital at Home/ Case management/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2f2f2"/>
                  </a:solidFill>
                  <a:latin typeface="Calibri"/>
                </a:rPr>
                <a:t>Proactive case finding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TextBox 10"/>
          <p:cNvGrpSpPr/>
          <p:nvPr/>
        </p:nvGrpSpPr>
        <p:grpSpPr>
          <a:xfrm>
            <a:off x="6742080" y="5078520"/>
            <a:ext cx="2389320" cy="1858680"/>
            <a:chOff x="6742080" y="5078520"/>
            <a:chExt cx="2389320" cy="1858680"/>
          </a:xfrm>
        </p:grpSpPr>
        <p:pic>
          <p:nvPicPr>
            <p:cNvPr id="114" name="TextBox 10" descr=""/>
            <p:cNvPicPr/>
            <p:nvPr/>
          </p:nvPicPr>
          <p:blipFill>
            <a:blip r:embed="rId5"/>
            <a:stretch/>
          </p:blipFill>
          <p:spPr>
            <a:xfrm>
              <a:off x="6742080" y="5078520"/>
              <a:ext cx="238932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6804000" y="5157720"/>
              <a:ext cx="22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alibri"/>
                </a:rPr>
                <a:t>146 core projects,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alibri"/>
                </a:rPr>
                <a:t>530 upstream project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497d"/>
                </a:solidFill>
                <a:latin typeface="Calibri"/>
              </a:rPr>
              <a:t>Measurement of chan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Content Placeholder 3"/>
          <p:cNvGrpSpPr/>
          <p:nvPr/>
        </p:nvGrpSpPr>
        <p:grpSpPr>
          <a:xfrm>
            <a:off x="66600" y="1096920"/>
            <a:ext cx="4206960" cy="5297400"/>
            <a:chOff x="66600" y="1096920"/>
            <a:chExt cx="4206960" cy="5297400"/>
          </a:xfrm>
        </p:grpSpPr>
        <p:pic>
          <p:nvPicPr>
            <p:cNvPr id="118" name="Content Placeholder 3" descr=""/>
            <p:cNvPicPr/>
            <p:nvPr/>
          </p:nvPicPr>
          <p:blipFill>
            <a:blip r:embed="rId1"/>
            <a:stretch/>
          </p:blipFill>
          <p:spPr>
            <a:xfrm>
              <a:off x="66600" y="1096920"/>
              <a:ext cx="4206960" cy="529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250920" y="1125360"/>
              <a:ext cx="3960720" cy="518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c00000"/>
                  </a:solidFill>
                  <a:latin typeface="Calibri"/>
                </a:rPr>
                <a:t>Research Questions (Outcomes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Bef>
                  <a:spcPts val="700"/>
                </a:spcBef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497d"/>
                  </a:solidFill>
                  <a:latin typeface="Calibri"/>
                </a:rPr>
                <a:t>Did the POPP interventions improve quality of life?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Bef>
                  <a:spcPts val="700"/>
                </a:spcBef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497d"/>
                  </a:solidFill>
                  <a:latin typeface="Calibri"/>
                </a:rPr>
                <a:t>Did the POPP programme change or reduce service use?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" name="Content Placeholder 4"/>
          <p:cNvGrpSpPr/>
          <p:nvPr/>
        </p:nvGrpSpPr>
        <p:grpSpPr>
          <a:xfrm>
            <a:off x="4248000" y="853920"/>
            <a:ext cx="4651560" cy="5686560"/>
            <a:chOff x="4248000" y="853920"/>
            <a:chExt cx="4651560" cy="5686560"/>
          </a:xfrm>
        </p:grpSpPr>
        <p:pic>
          <p:nvPicPr>
            <p:cNvPr id="121" name="Content Placeholder 4" descr=""/>
            <p:cNvPicPr/>
            <p:nvPr/>
          </p:nvPicPr>
          <p:blipFill>
            <a:blip r:embed="rId2"/>
            <a:stretch/>
          </p:blipFill>
          <p:spPr>
            <a:xfrm>
              <a:off x="4248000" y="853920"/>
              <a:ext cx="4651560" cy="56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4427640" y="981000"/>
              <a:ext cx="4392360" cy="54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c00000"/>
                  </a:solidFill>
                  <a:latin typeface="Calibri"/>
                </a:rPr>
                <a:t>Measurement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00000"/>
                  </a:solidFill>
                  <a:latin typeface="Calibri"/>
                </a:rPr>
                <a:t>Quality of Life: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elf-reported quality of life (Bowling 1995);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Q-5D (Dolan et al 1995);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Demographic 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00000"/>
                  </a:solidFill>
                  <a:latin typeface="Calibri"/>
                </a:rPr>
                <a:t>Expenditure difference approach: Emergency bed-days (difference-in-difference analysis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ES 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Overall project set-up and roll-out cos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ctivity 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Needs analysi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00000"/>
                  </a:solidFill>
                  <a:latin typeface="Calibri"/>
                </a:rPr>
                <a:t>Self-reported service use </a:t>
              </a: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(Beecham and Knapp 1992)</a:t>
              </a:r>
              <a:r>
                <a:rPr b="0" lang="en-GB" sz="2000" spc="-1" strike="noStrike">
                  <a:solidFill>
                    <a:srgbClr val="000000"/>
                  </a:solidFill>
                  <a:latin typeface="Calibri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econdary ca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rimary/ community ca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ocial and third sector ca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" y="108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497d"/>
                </a:solidFill>
                <a:latin typeface="Calibri"/>
              </a:rPr>
              <a:t>Base-line EQ-5D scores (T</a:t>
            </a:r>
            <a:r>
              <a:rPr b="0" lang="en-GB" sz="4000" spc="-1" strike="noStrike" baseline="-25000">
                <a:solidFill>
                  <a:srgbClr val="1f497d"/>
                </a:solidFill>
                <a:latin typeface="Calibri"/>
              </a:rPr>
              <a:t>0</a:t>
            </a:r>
            <a:r>
              <a:rPr b="0" lang="en-GB" sz="4000" spc="-1" strike="noStrike">
                <a:solidFill>
                  <a:srgbClr val="1f497d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Table 8" descr=""/>
          <p:cNvPicPr/>
          <p:nvPr/>
        </p:nvPicPr>
        <p:blipFill>
          <a:blip r:embed="rId1"/>
          <a:stretch/>
        </p:blipFill>
        <p:spPr>
          <a:xfrm>
            <a:off x="304920" y="1096920"/>
            <a:ext cx="8601120" cy="2457360"/>
          </a:xfrm>
          <a:prstGeom prst="rect">
            <a:avLst/>
          </a:prstGeom>
          <a:ln w="0">
            <a:noFill/>
          </a:ln>
        </p:spPr>
      </p:pic>
      <p:grpSp>
        <p:nvGrpSpPr>
          <p:cNvPr id="125" name="TextBox 9"/>
          <p:cNvGrpSpPr/>
          <p:nvPr/>
        </p:nvGrpSpPr>
        <p:grpSpPr>
          <a:xfrm>
            <a:off x="3151080" y="3492360"/>
            <a:ext cx="5900760" cy="2957760"/>
            <a:chOff x="3151080" y="3492360"/>
            <a:chExt cx="5900760" cy="2957760"/>
          </a:xfrm>
        </p:grpSpPr>
        <p:pic>
          <p:nvPicPr>
            <p:cNvPr id="126" name="TextBox 9" descr=""/>
            <p:cNvPicPr/>
            <p:nvPr/>
          </p:nvPicPr>
          <p:blipFill>
            <a:blip r:embed="rId2"/>
            <a:stretch/>
          </p:blipFill>
          <p:spPr>
            <a:xfrm>
              <a:off x="3151080" y="3492360"/>
              <a:ext cx="5900760" cy="29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3287880" y="3573360"/>
              <a:ext cx="561636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62 (of 146) projects, (n=1,529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EQ-5D measures five domains: mobility, self-care, usual activities, pain/ discomfort, anxiety/ depression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Scores range from 0 (death) to 1 (perfect health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BHPS used to ‘benchmark’ outcom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497d"/>
                </a:solidFill>
                <a:latin typeface="Calibri"/>
              </a:rPr>
              <a:t>Standardised percentage changes in EQ-5D (T</a:t>
            </a:r>
            <a:r>
              <a:rPr b="0" lang="en-GB" sz="4000" spc="-1" strike="noStrike" baseline="-25000">
                <a:solidFill>
                  <a:srgbClr val="1f497d"/>
                </a:solidFill>
                <a:latin typeface="Calibri"/>
              </a:rPr>
              <a:t>0</a:t>
            </a:r>
            <a:r>
              <a:rPr b="0" lang="en-GB" sz="4000" spc="-1" strike="noStrike">
                <a:solidFill>
                  <a:srgbClr val="1f497d"/>
                </a:solidFill>
                <a:latin typeface="Calibri"/>
              </a:rPr>
              <a:t>: T</a:t>
            </a:r>
            <a:r>
              <a:rPr b="0" lang="en-GB" sz="4000" spc="-1" strike="noStrike" baseline="-25000">
                <a:solidFill>
                  <a:srgbClr val="1f497d"/>
                </a:solidFill>
                <a:latin typeface="Calibri"/>
              </a:rPr>
              <a:t>1</a:t>
            </a:r>
            <a:r>
              <a:rPr b="0" lang="en-GB" sz="4000" spc="-1" strike="noStrike">
                <a:solidFill>
                  <a:srgbClr val="1f497d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Chart 3" descr=""/>
          <p:cNvPicPr/>
          <p:nvPr/>
        </p:nvPicPr>
        <p:blipFill>
          <a:blip r:embed="rId1"/>
          <a:stretch/>
        </p:blipFill>
        <p:spPr>
          <a:xfrm>
            <a:off x="-6480" y="1335240"/>
            <a:ext cx="915696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20880" y="0"/>
            <a:ext cx="90565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497d"/>
                </a:solidFill>
                <a:latin typeface="Calibri"/>
              </a:rPr>
              <a:t>Standardised percentage changes in EQ-5D</a:t>
            </a:r>
            <a:br>
              <a:rPr sz="3600"/>
            </a:br>
            <a:r>
              <a:rPr b="0" lang="en-GB" sz="3600" spc="-1" strike="noStrike">
                <a:solidFill>
                  <a:srgbClr val="1f497d"/>
                </a:solidFill>
                <a:latin typeface="Calibri"/>
              </a:rPr>
              <a:t>(T</a:t>
            </a:r>
            <a:r>
              <a:rPr b="0" lang="en-GB" sz="3600" spc="-1" strike="noStrike" baseline="-25000">
                <a:solidFill>
                  <a:srgbClr val="1f497d"/>
                </a:solidFill>
                <a:latin typeface="Calibri"/>
              </a:rPr>
              <a:t>0</a:t>
            </a:r>
            <a:r>
              <a:rPr b="0" lang="en-GB" sz="3600" spc="-1" strike="noStrike">
                <a:solidFill>
                  <a:srgbClr val="1f497d"/>
                </a:solidFill>
                <a:latin typeface="Calibri"/>
              </a:rPr>
              <a:t>: T</a:t>
            </a:r>
            <a:r>
              <a:rPr b="0" lang="en-GB" sz="3600" spc="-1" strike="noStrike" baseline="-25000">
                <a:solidFill>
                  <a:srgbClr val="1f497d"/>
                </a:solidFill>
                <a:latin typeface="Calibri"/>
              </a:rPr>
              <a:t>1</a:t>
            </a:r>
            <a:r>
              <a:rPr b="0" lang="en-GB" sz="3600" spc="-1" strike="noStrike">
                <a:solidFill>
                  <a:srgbClr val="1f497d"/>
                </a:solidFill>
                <a:latin typeface="Calibri"/>
              </a:rPr>
              <a:t>) across service ‘groupings’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Chart 3" descr=""/>
          <p:cNvPicPr/>
          <p:nvPr/>
        </p:nvPicPr>
        <p:blipFill>
          <a:blip r:embed="rId1"/>
          <a:stretch/>
        </p:blipFill>
        <p:spPr>
          <a:xfrm>
            <a:off x="-6480" y="1060560"/>
            <a:ext cx="915696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mpact of project structure and processes –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Home from hospit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50560" y="1267920"/>
            <a:ext cx="87138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Voluntary organisations facilitated safe and timely discharge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two projects within the category of ‘Long Term Conditions – Hospital Discharge’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Both concentrated on a practical respons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preparing the house prior to discharge, providing short-term assis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Differences: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within pilot site 88 the voluntary organisation was integrated within a multi-disciplinary team  - pilot site 15 operated ‘independently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09:38:08Z</dcterms:created>
  <dc:creator>Karen Windle</dc:creator>
  <dc:description/>
  <dc:language>en-US</dc:language>
  <cp:lastModifiedBy>Administrator</cp:lastModifiedBy>
  <cp:lastPrinted>2011-05-19T10:09:48Z</cp:lastPrinted>
  <dcterms:modified xsi:type="dcterms:W3CDTF">2011-06-22T14:44:19Z</dcterms:modified>
  <cp:revision>45</cp:revision>
  <dc:subject/>
  <dc:title>Prevention or avoidance?</dc:title>
</cp:coreProperties>
</file>