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70EB-DE94-4EC2-A3F9-E8E785EFED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4F17-F8A5-43B2-8C5B-9640742BC1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DF2F956-09E3-49FF-9889-B41E16E1DF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C1AB2DB-229D-43FF-98C6-19CBF0B6CE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6AF4-B176-45DA-82C2-AFD722B63C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77A1-901E-4B30-B97F-ACFCD122B0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D76A-878B-43CB-B1A2-27E54296C0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77B-2765-464A-B459-79980761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03D-42B7-4E1A-B3B4-BFF9C8B3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509-10D8-4CDA-9887-D4F8CAAB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6F3-9A4F-4523-8405-4B4798AA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329C-47DD-4ACC-95E7-4A9F5B99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1483-7376-4C27-924C-90E8D26C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BBF3-259B-4792-9C58-1A8BF265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2496-72DA-4404-9DC2-5426E0D9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06E4-0946-4295-BEBA-EF1B2F75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1267-40F2-422D-B658-A4C05A8B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C89C-141E-4497-B428-EF46AC8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260-D8AB-41D9-B34E-364CA682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4931-793E-4405-9782-6358467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3FF4-9559-4B29-B315-F620DBE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96DA-3F40-4DEA-966E-4890EC92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B7EF-7942-4ACE-A771-40951F1C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506D-C2CF-4FEF-A3C3-C084571D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99A-3478-431E-B7FE-DFAD751E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47A-A725-42AE-A621-96E80639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912-B200-4DC3-AF55-107839FC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EC3-02A9-46F4-9D4C-7A491548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46F-D318-4353-BEA7-A0DEF3D4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611-43E7-4AE1-92A3-8BA1BDA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E08-C55B-4E48-B947-D7A57941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34DE-5F3B-43AD-A6F2-E81F14514E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64E1-A720-498F-AEBF-2AECE0F4D0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360" y="1341000"/>
            <a:ext cx="89632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revention or Diversion? </a:t>
            </a:r>
            <a:br>
              <a:rPr sz="4400"/>
            </a:b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– Achieving change in older people’s servic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Report authors and core tea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 Karen Windle, Richard Wagland, Julien Forder, Francesco D’Amico, Dirk Janssen, Gerald Wist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Wider national evaluation tea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 Roger Beech, Ann Bowling, Angela Dickinson, Kate Ellis, Catherine Henderson, Emily Knapp, Martin Knapp, Kathryn Lord, Brenda R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39640" y="5589720"/>
            <a:ext cx="1500120" cy="841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7164360" y="5894280"/>
            <a:ext cx="1500120" cy="53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rcRect l="0" t="0" r="0" b="36603"/>
          <a:stretch/>
        </p:blipFill>
        <p:spPr>
          <a:xfrm>
            <a:off x="3525840" y="5796000"/>
            <a:ext cx="20923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Standardised percentage changes in EQ-5D (T</a:t>
            </a:r>
            <a:r>
              <a:rPr b="0" lang="en-GB" sz="3600" spc="-1" strike="noStrike" baseline="-25000">
                <a:solidFill>
                  <a:srgbClr val="1f497d"/>
                </a:solidFill>
                <a:latin typeface="Calibri"/>
              </a:rPr>
              <a:t>0</a:t>
            </a: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: T</a:t>
            </a:r>
            <a:r>
              <a:rPr b="0" lang="en-GB" sz="3600" spc="-1" strike="noStrike" baseline="-25000">
                <a:solidFill>
                  <a:srgbClr val="1f497d"/>
                </a:solidFill>
                <a:latin typeface="Calibri"/>
              </a:rPr>
              <a:t>1</a:t>
            </a: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): Home from hos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-50760" y="1074600"/>
            <a:ext cx="92455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Effect of POPP on emergency bed-day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704080" cy="3747960"/>
        </p:xfrm>
        <a:graphic>
          <a:graphicData uri="http://schemas.openxmlformats.org/drawingml/2006/table">
            <a:tbl>
              <a:tblPr/>
              <a:tblGrid>
                <a:gridCol w="2663640"/>
                <a:gridCol w="1738440"/>
                <a:gridCol w="890640"/>
                <a:gridCol w="1666800"/>
                <a:gridCol w="878040"/>
                <a:gridCol w="866520"/>
              </a:tblGrid>
              <a:tr h="681120"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ffect of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agement over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ffect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ffect o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wer 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pper 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41280">
                <a:tc rowSpan="4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verage POPP project compared to no POPP project (in same POPP PC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rowSpan="4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d-days per mon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39480">
                <a:tc gridSpan="6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rowSpan="4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£1 spend on POPP project per month in POPP PCT (at POPP ti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rowSpan="4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 per month per PCT of bed-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0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4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0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0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rcRect l="0" t="0" r="0" b="36628"/>
          <a:stretch/>
        </p:blipFill>
        <p:spPr>
          <a:xfrm>
            <a:off x="7812000" y="6294600"/>
            <a:ext cx="111924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Self-reported service use change (mea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8280" y="1628640"/>
          <a:ext cx="8937720" cy="3365640"/>
        </p:xfrm>
        <a:graphic>
          <a:graphicData uri="http://schemas.openxmlformats.org/drawingml/2006/table">
            <a:tbl>
              <a:tblPr/>
              <a:tblGrid>
                <a:gridCol w="2532240"/>
                <a:gridCol w="2306520"/>
                <a:gridCol w="2433600"/>
                <a:gridCol w="1665360"/>
              </a:tblGrid>
              <a:tr h="8395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-interventio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1 (post-intervention) mean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age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15720">
                <a:tc gridSpan="4"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P projects focused toward secondary prevention (n= 22 projects, 668 us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bed-day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108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dent and emergency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57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ysiotherapy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57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P appointments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5720">
                <a:tc gridSpan="4"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P projects focused toward tertiary prevention (n=4 projects, 48 us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bed-da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4"/>
          <p:cNvSpPr/>
          <p:nvPr/>
        </p:nvSpPr>
        <p:spPr>
          <a:xfrm>
            <a:off x="108000" y="5013360"/>
            <a:ext cx="42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* p=&lt;0.01 (Marginal Homogeneity T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  p=&lt;0.04 (Marginal Homogeneity T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rcRect l="0" t="0" r="0" b="36624"/>
          <a:stretch/>
        </p:blipFill>
        <p:spPr>
          <a:xfrm>
            <a:off x="7740720" y="6249960"/>
            <a:ext cx="11905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240" y="9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revention or divers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4000" y="1052640"/>
            <a:ext cx="784836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Prevented deterioration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reported health-related quality of life for </a:t>
            </a:r>
            <a:r>
              <a:rPr b="0" i="1" lang="en-GB" sz="2700" spc="-1" strike="noStrike">
                <a:solidFill>
                  <a:srgbClr val="000000"/>
                </a:solidFill>
                <a:latin typeface="Calibri"/>
              </a:rPr>
              <a:t>some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users (e.g., younger old) in </a:t>
            </a:r>
            <a:r>
              <a:rPr b="0" i="1" lang="en-GB" sz="2700" spc="-1" strike="noStrike">
                <a:solidFill>
                  <a:srgbClr val="000000"/>
                </a:solidFill>
                <a:latin typeface="Calibri"/>
              </a:rPr>
              <a:t>some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rojects (e.g., integrated co-located multi-disciplinary teams, single-line management, ‘flag-wavers’, appropriate skill level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Changed </a:t>
            </a:r>
            <a:r>
              <a:rPr b="0" i="1" lang="en-GB" sz="2700" spc="-1" strike="noStrike">
                <a:solidFill>
                  <a:srgbClr val="c00000"/>
                </a:solidFill>
                <a:latin typeface="Calibri"/>
              </a:rPr>
              <a:t>some </a:t>
            </a: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service use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– reduction in secondary and primary c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But, short or long-term change?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d the POPP programme prevent on-going deterioration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Or, service diversion and increased family support?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me evidence increase in social care and  that family support increases following the POPP intervention – mean (hrs, mns, pw)  3.47 at T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, to 13.49 at T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(p=&lt;0.0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rcRect l="0" t="0" r="0" b="36619"/>
          <a:stretch/>
        </p:blipFill>
        <p:spPr>
          <a:xfrm>
            <a:off x="7667640" y="6238800"/>
            <a:ext cx="12636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777240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Locating pre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6040" y="907560"/>
            <a:ext cx="77724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Definitional division between health and social care – context is all (Curry 2006, Wistow 2003,Godfrey, 2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Health: Primary, secondary and tertiary prevention (Hollander 200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Social care perceptions of prevention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prevent or delay ill-health or disability consequent on age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promote and/ or improve quality of li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create health and supportive environments (Wistow and Lewis 199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00"/>
                </a:solidFill>
                <a:latin typeface="Calibri"/>
              </a:rPr>
              <a:t>Our first priority should be to restore an individual’s independence and autonomy.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(DH 201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Continuum of preventatives servi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Underlying rationale, early and timely services will lead to a reduction in consumption of expensive services in the futur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E4B8B2-9FB8-42EA-AA4D-CA6CAF1BA53F}" type="datetime">
              <a:rPr b="0" lang="en-GB" sz="10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FC64DD-F745-4449-9554-A0BD32805C5B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rcRect l="0" t="0" r="0" b="36619"/>
          <a:stretch/>
        </p:blipFill>
        <p:spPr>
          <a:xfrm>
            <a:off x="7667640" y="6238800"/>
            <a:ext cx="1263600" cy="3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OPP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1413000"/>
            <a:ext cx="7921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£60 million ring-fenced funding for council-based partnerships to lead locally innovative pilot projects for older peop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all aim was to improve the health, well-being and independence of older people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person centred and integrated responses for older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ourage investment in approaches that promote health, well-being and independence for older people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event or delay the need for high intensity or institutionalised 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9 pilot sites funded May 2006 – 2008 (extended to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 further pilot sites May 2007 –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rcRect l="0" t="0" r="0" b="36619"/>
          <a:stretch/>
        </p:blipFill>
        <p:spPr>
          <a:xfrm>
            <a:off x="7667640" y="6238800"/>
            <a:ext cx="1263600" cy="38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962000" y="950760"/>
            <a:ext cx="7237440" cy="5694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OPP Inter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TextBox 6"/>
          <p:cNvGrpSpPr/>
          <p:nvPr/>
        </p:nvGrpSpPr>
        <p:grpSpPr>
          <a:xfrm>
            <a:off x="-79200" y="901800"/>
            <a:ext cx="2346120" cy="1860480"/>
            <a:chOff x="-79200" y="901800"/>
            <a:chExt cx="2346120" cy="1860480"/>
          </a:xfrm>
        </p:grpSpPr>
        <p:pic>
          <p:nvPicPr>
            <p:cNvPr id="105" name="TextBox 6" descr=""/>
            <p:cNvPicPr/>
            <p:nvPr/>
          </p:nvPicPr>
          <p:blipFill>
            <a:blip r:embed="rId2"/>
            <a:stretch/>
          </p:blipFill>
          <p:spPr>
            <a:xfrm>
              <a:off x="-79200" y="901800"/>
              <a:ext cx="234612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981000"/>
              <a:ext cx="212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Gardening/ handyperson/ befriending/ leisu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TextBox 8"/>
          <p:cNvGrpSpPr/>
          <p:nvPr/>
        </p:nvGrpSpPr>
        <p:grpSpPr>
          <a:xfrm>
            <a:off x="-152280" y="2773440"/>
            <a:ext cx="3565440" cy="1859040"/>
            <a:chOff x="-152280" y="2773440"/>
            <a:chExt cx="3565440" cy="1859040"/>
          </a:xfrm>
        </p:grpSpPr>
        <p:pic>
          <p:nvPicPr>
            <p:cNvPr id="108" name="TextBox 8" descr=""/>
            <p:cNvPicPr/>
            <p:nvPr/>
          </p:nvPicPr>
          <p:blipFill>
            <a:blip r:embed="rId3"/>
            <a:stretch/>
          </p:blipFill>
          <p:spPr>
            <a:xfrm>
              <a:off x="-152280" y="2773440"/>
              <a:ext cx="35654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2852640"/>
              <a:ext cx="3203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Holistic assessments/ Hospital aftercare/ Falls prevention/ Peer monitoring and suppor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TextBox 9"/>
          <p:cNvGrpSpPr/>
          <p:nvPr/>
        </p:nvGrpSpPr>
        <p:grpSpPr>
          <a:xfrm>
            <a:off x="480960" y="4578480"/>
            <a:ext cx="3951360" cy="1852560"/>
            <a:chOff x="480960" y="4578480"/>
            <a:chExt cx="3951360" cy="1852560"/>
          </a:xfrm>
        </p:grpSpPr>
        <p:pic>
          <p:nvPicPr>
            <p:cNvPr id="111" name="TextBox 9" descr=""/>
            <p:cNvPicPr/>
            <p:nvPr/>
          </p:nvPicPr>
          <p:blipFill>
            <a:blip r:embed="rId4"/>
            <a:stretch/>
          </p:blipFill>
          <p:spPr>
            <a:xfrm>
              <a:off x="480960" y="4578480"/>
              <a:ext cx="395136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39640" y="4653000"/>
              <a:ext cx="383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2f2f2"/>
                  </a:solidFill>
                  <a:latin typeface="Calibri"/>
                </a:rPr>
                <a:t>Rapid response teams/ Hospital at Home/ Case management/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2f2f2"/>
                  </a:solidFill>
                  <a:latin typeface="Calibri"/>
                </a:rPr>
                <a:t>Proactive case find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0"/>
          <p:cNvGrpSpPr/>
          <p:nvPr/>
        </p:nvGrpSpPr>
        <p:grpSpPr>
          <a:xfrm>
            <a:off x="6742080" y="5078520"/>
            <a:ext cx="2389320" cy="1858680"/>
            <a:chOff x="6742080" y="5078520"/>
            <a:chExt cx="2389320" cy="1858680"/>
          </a:xfrm>
        </p:grpSpPr>
        <p:pic>
          <p:nvPicPr>
            <p:cNvPr id="114" name="TextBox 10" descr=""/>
            <p:cNvPicPr/>
            <p:nvPr/>
          </p:nvPicPr>
          <p:blipFill>
            <a:blip r:embed="rId5"/>
            <a:stretch/>
          </p:blipFill>
          <p:spPr>
            <a:xfrm>
              <a:off x="6742080" y="5078520"/>
              <a:ext cx="238932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804000" y="5157720"/>
              <a:ext cx="22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146 core projects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530 upstream project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Measurement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Content Placeholder 3"/>
          <p:cNvGrpSpPr/>
          <p:nvPr/>
        </p:nvGrpSpPr>
        <p:grpSpPr>
          <a:xfrm>
            <a:off x="66600" y="1096920"/>
            <a:ext cx="4206960" cy="5297400"/>
            <a:chOff x="66600" y="1096920"/>
            <a:chExt cx="4206960" cy="5297400"/>
          </a:xfrm>
        </p:grpSpPr>
        <p:pic>
          <p:nvPicPr>
            <p:cNvPr id="118" name="Content Placeholder 3" descr=""/>
            <p:cNvPicPr/>
            <p:nvPr/>
          </p:nvPicPr>
          <p:blipFill>
            <a:blip r:embed="rId1"/>
            <a:stretch/>
          </p:blipFill>
          <p:spPr>
            <a:xfrm>
              <a:off x="66600" y="1096920"/>
              <a:ext cx="4206960" cy="52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50920" y="1125360"/>
              <a:ext cx="3960720" cy="51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c00000"/>
                  </a:solidFill>
                  <a:latin typeface="Calibri"/>
                </a:rPr>
                <a:t>Research Questions (Outcomes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497d"/>
                  </a:solidFill>
                  <a:latin typeface="Calibri"/>
                </a:rPr>
                <a:t>Did the POPP interventions improve quality of life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497d"/>
                  </a:solidFill>
                  <a:latin typeface="Calibri"/>
                </a:rPr>
                <a:t>Did the POPP programme change or reduce service use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Content Placeholder 4"/>
          <p:cNvGrpSpPr/>
          <p:nvPr/>
        </p:nvGrpSpPr>
        <p:grpSpPr>
          <a:xfrm>
            <a:off x="4248000" y="853920"/>
            <a:ext cx="4651560" cy="5686560"/>
            <a:chOff x="4248000" y="853920"/>
            <a:chExt cx="4651560" cy="5686560"/>
          </a:xfrm>
        </p:grpSpPr>
        <p:pic>
          <p:nvPicPr>
            <p:cNvPr id="121" name="Content Placeholder 4" descr=""/>
            <p:cNvPicPr/>
            <p:nvPr/>
          </p:nvPicPr>
          <p:blipFill>
            <a:blip r:embed="rId2"/>
            <a:stretch/>
          </p:blipFill>
          <p:spPr>
            <a:xfrm>
              <a:off x="4248000" y="853920"/>
              <a:ext cx="4651560" cy="56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427640" y="981000"/>
              <a:ext cx="4392360" cy="54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c00000"/>
                  </a:solidFill>
                  <a:latin typeface="Calibri"/>
                </a:rPr>
                <a:t>Measuremen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00000"/>
                  </a:solidFill>
                  <a:latin typeface="Calibri"/>
                </a:rPr>
                <a:t>Quality of Life: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lf-reported quality of life (Bowling 1995);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Q-5D (Dolan et al 1995);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mographic 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00000"/>
                  </a:solidFill>
                  <a:latin typeface="Calibri"/>
                </a:rPr>
                <a:t>Expenditure difference approach: Emergency bed-days (difference-in-difference analysi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ES 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verall project set-up and roll-out cos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vity 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eeds analy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00000"/>
                  </a:solidFill>
                  <a:latin typeface="Calibri"/>
                </a:rPr>
                <a:t>Self-reported service use </a:t>
              </a: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Beecham and Knapp 1992)</a:t>
              </a: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condary ca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imary/ community ca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al and third sector ca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" y="108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Base-line EQ-5D scores (T</a:t>
            </a:r>
            <a:r>
              <a:rPr b="0" lang="en-GB" sz="4000" spc="-1" strike="noStrike" baseline="-25000">
                <a:solidFill>
                  <a:srgbClr val="1f497d"/>
                </a:solidFill>
                <a:latin typeface="Calibri"/>
              </a:rPr>
              <a:t>0</a:t>
            </a: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Table 8" descr=""/>
          <p:cNvPicPr/>
          <p:nvPr/>
        </p:nvPicPr>
        <p:blipFill>
          <a:blip r:embed="rId1"/>
          <a:stretch/>
        </p:blipFill>
        <p:spPr>
          <a:xfrm>
            <a:off x="304920" y="1096920"/>
            <a:ext cx="8601120" cy="2457360"/>
          </a:xfrm>
          <a:prstGeom prst="rect">
            <a:avLst/>
          </a:prstGeom>
          <a:ln w="0">
            <a:noFill/>
          </a:ln>
        </p:spPr>
      </p:pic>
      <p:grpSp>
        <p:nvGrpSpPr>
          <p:cNvPr id="125" name="TextBox 9"/>
          <p:cNvGrpSpPr/>
          <p:nvPr/>
        </p:nvGrpSpPr>
        <p:grpSpPr>
          <a:xfrm>
            <a:off x="3151080" y="3492360"/>
            <a:ext cx="5900760" cy="2957760"/>
            <a:chOff x="3151080" y="3492360"/>
            <a:chExt cx="5900760" cy="2957760"/>
          </a:xfrm>
        </p:grpSpPr>
        <p:pic>
          <p:nvPicPr>
            <p:cNvPr id="126" name="TextBox 9" descr=""/>
            <p:cNvPicPr/>
            <p:nvPr/>
          </p:nvPicPr>
          <p:blipFill>
            <a:blip r:embed="rId2"/>
            <a:stretch/>
          </p:blipFill>
          <p:spPr>
            <a:xfrm>
              <a:off x="3151080" y="3492360"/>
              <a:ext cx="5900760" cy="29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287880" y="3573360"/>
              <a:ext cx="5616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62 (of 146) projects, (n=1,529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EQ-5D measures five domains: mobility, self-care, usual activities, pain/ discomfort, anxiety/ depression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Scores range from 0 (death) to 1 (perfect health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BHPS used to ‘benchmark’ outcom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Standardised percentage changes in EQ-5D (T</a:t>
            </a:r>
            <a:r>
              <a:rPr b="0" lang="en-GB" sz="4000" spc="-1" strike="noStrike" baseline="-25000">
                <a:solidFill>
                  <a:srgbClr val="1f497d"/>
                </a:solidFill>
                <a:latin typeface="Calibri"/>
              </a:rPr>
              <a:t>0</a:t>
            </a: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: T</a:t>
            </a:r>
            <a:r>
              <a:rPr b="0" lang="en-GB" sz="4000" spc="-1" strike="noStrike" baseline="-25000">
                <a:solidFill>
                  <a:srgbClr val="1f497d"/>
                </a:solidFill>
                <a:latin typeface="Calibri"/>
              </a:rPr>
              <a:t>1</a:t>
            </a: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hart 3" descr=""/>
          <p:cNvPicPr/>
          <p:nvPr/>
        </p:nvPicPr>
        <p:blipFill>
          <a:blip r:embed="rId1"/>
          <a:stretch/>
        </p:blipFill>
        <p:spPr>
          <a:xfrm>
            <a:off x="-6480" y="1335240"/>
            <a:ext cx="91569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20880" y="0"/>
            <a:ext cx="9056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Standardised percentage changes in EQ-5D</a:t>
            </a:r>
            <a:br>
              <a:rPr sz="3600"/>
            </a:b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(T</a:t>
            </a:r>
            <a:r>
              <a:rPr b="0" lang="en-GB" sz="3600" spc="-1" strike="noStrike" baseline="-25000">
                <a:solidFill>
                  <a:srgbClr val="1f497d"/>
                </a:solidFill>
                <a:latin typeface="Calibri"/>
              </a:rPr>
              <a:t>0</a:t>
            </a: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: T</a:t>
            </a:r>
            <a:r>
              <a:rPr b="0" lang="en-GB" sz="3600" spc="-1" strike="noStrike" baseline="-25000">
                <a:solidFill>
                  <a:srgbClr val="1f497d"/>
                </a:solidFill>
                <a:latin typeface="Calibri"/>
              </a:rPr>
              <a:t>1</a:t>
            </a: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) across service ‘groupings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3" descr=""/>
          <p:cNvPicPr/>
          <p:nvPr/>
        </p:nvPicPr>
        <p:blipFill>
          <a:blip r:embed="rId1"/>
          <a:stretch/>
        </p:blipFill>
        <p:spPr>
          <a:xfrm>
            <a:off x="-6480" y="1060560"/>
            <a:ext cx="91569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act of project structure and processes –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me from hos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Voluntary organisations facilitated safe and timely dischar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two projects within the category of ‘Long Term Conditions – Hospital Discharge’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Both concentrated on a practical respon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paring the house prior to discharge, providing short-term as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ifferences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within pilot site 88 the voluntary organisation was integrated within a multi-disciplinary team  - pilot site 15 operated ‘independently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9:38:08Z</dcterms:created>
  <dc:creator>Karen Windle</dc:creator>
  <dc:description/>
  <dc:language>en-US</dc:language>
  <cp:lastModifiedBy>Administrator</cp:lastModifiedBy>
  <cp:lastPrinted>2011-05-19T10:09:48Z</cp:lastPrinted>
  <dcterms:modified xsi:type="dcterms:W3CDTF">2011-06-22T14:44:19Z</dcterms:modified>
  <cp:revision>45</cp:revision>
  <dc:subject/>
  <dc:title>Prevention or avoidance?</dc:title>
</cp:coreProperties>
</file>