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12.wmf" ContentType="image/x-wmf"/>
  <Override PartName="/ppt/media/image7.jpeg" ContentType="image/jpeg"/>
  <Override PartName="/ppt/media/image11.png" ContentType="image/png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F75E2-9922-41DF-8594-609C3EDEEA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1EED2-F11B-4BE5-92AE-6534F8069B1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6E3C-27AA-4F9C-9A31-73016A5B41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A7FD-BAD3-4C8A-BEBF-FB32B3F82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1749-8A40-4B28-B15C-3FF52A33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751E-DDDA-411A-BAE5-5906A8E48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654B-A4E9-438B-B40D-01E938F36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3E5F-E325-497B-AE63-B2C951C94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6F83-1A41-418D-86B2-4D1461B9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346FC-109D-4C58-8CF7-38F82B9B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E98D9-7503-48F6-9270-2B640E8D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88C2-E623-4700-823C-177F4900E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27AE-1203-40AA-97AD-644C7528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D468-0A38-4662-B1F6-5EE24A4E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51C-636D-490A-9F21-7A4A7BCC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C539-C3C3-4397-BC4B-CE79A236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D21F-E73F-4915-995F-F10B91C4A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9FC0-43C0-4657-A738-67A7A4559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D843-8E6B-4FBE-A713-4326F64BF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44CB0-A15A-4965-A06D-650258E4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C6C-9B4E-4EBA-8E4D-63BD34FA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917B-04CA-42B0-8BFC-D7B60A23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ACB2-BE88-4656-A9C6-9E1F6770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7D7F-AC1C-47BE-B853-5D2F72EE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7CF-A90F-4C12-8141-F1EEB1BE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5D97-6F82-49C8-9747-EECB4B5D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AAA6-C979-4E8F-AD3F-C86CA00B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C7AF-2029-4CE8-B11E-2F897D51C9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5029200" y="6134040"/>
            <a:ext cx="4114800" cy="7239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rot="18980400">
            <a:off x="-914400" y="-837720"/>
            <a:ext cx="6400800" cy="64008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DFABD-7D5F-45F4-B911-A2C5B5E139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29200" y="6134040"/>
            <a:ext cx="4114800" cy="7239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 rot="19066800">
            <a:off x="-914400" y="-762120"/>
            <a:ext cx="6232680" cy="6172200"/>
          </a:xfrm>
          <a:prstGeom prst="triangle">
            <a:avLst>
              <a:gd name="adj" fmla="val 50000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99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43320" y="28479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705200" y="0"/>
            <a:ext cx="4438800" cy="11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6172200" y="5867280"/>
          <a:ext cx="297180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5867280"/>
                    <a:ext cx="29718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5029200" y="6095880"/>
            <a:ext cx="15238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640" y="1413000"/>
            <a:ext cx="8893080" cy="2232000"/>
          </a:xfrm>
          <a:prstGeom prst="rect">
            <a:avLst/>
          </a:prstGeom>
          <a:solidFill>
            <a:srgbClr val="66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Times New Roman"/>
              </a:rPr>
              <a:t>German Health Care 2008 – learning from others, </a:t>
            </a:r>
            <a:br>
              <a:rPr sz="4400"/>
            </a:br>
            <a:r>
              <a:rPr b="1" lang="en-NZ" sz="4400" spc="-1" strike="noStrike">
                <a:solidFill>
                  <a:srgbClr val="000000"/>
                </a:solidFill>
                <a:latin typeface="Times New Roman"/>
              </a:rPr>
              <a:t>or to learn from?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rcRect l="0" t="0" r="84359" b="0"/>
          <a:stretch/>
        </p:blipFill>
        <p:spPr>
          <a:xfrm>
            <a:off x="152280" y="5869080"/>
            <a:ext cx="990720" cy="9126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4149360"/>
            <a:ext cx="86104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Reinhard Busse, Prof. Dr. med. MPH FFPH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000000"/>
                </a:solidFill>
                <a:latin typeface="Arial"/>
              </a:rPr>
              <a:t>Dept. Health Care Management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Berlin University of Technology</a:t>
            </a:r>
            <a:br>
              <a:rPr sz="1800"/>
            </a:b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(WHO Collaborating Centre for Health Systems Research and Management),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harité – University Medicine Berlin &amp;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uropean Observatory on Health Systems and Policie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3059280" y="6073920"/>
            <a:ext cx="1728720" cy="66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isease Management Programs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since 2002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557000"/>
            <a:ext cx="8686800" cy="504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Compensate sickness funds for chronically ill better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(make them attractive) = reduce faulty incentives to attract young &amp; healthy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Address quality problem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by guidelines/ pathways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Tackle trans-sectoral problems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by “integrated“ contracts for diabetes I/ II, asthma/ COPD, CHD, breast cancer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= introduce Disease Management Program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eeting certain minimum criteria and compensate sickness funds for average expenditure of those enrolling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394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double incentive for sickness funds: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Times New Roman"/>
              </a:rPr>
              <a:t>potentially lower costs + extra compensation!</a:t>
            </a:r>
            <a:br>
              <a:rPr sz="2800"/>
            </a:br>
            <a:r>
              <a:rPr b="0" i="1" lang="de-DE" sz="2800" spc="-1" strike="noStrike">
                <a:solidFill>
                  <a:srgbClr val="ff0000"/>
                </a:solidFill>
                <a:latin typeface="Times New Roman"/>
              </a:rPr>
              <a:t>By end of 2007: 3.8 mn enrolled (5.5% of SHI insured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-34920" y="1728720"/>
            <a:ext cx="9144000" cy="51562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179280" y="189000"/>
            <a:ext cx="87631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DMP diabetes – results</a:t>
            </a:r>
            <a:br>
              <a:rPr sz="44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rom official evaluation with post-intervention no control group desig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48040" y="3103560"/>
            <a:ext cx="35334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3366ff"/>
                </a:solidFill>
                <a:latin typeface="Arial"/>
              </a:rPr>
              <a:t>Diabetics not enrolled in D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401480" y="6051600"/>
            <a:ext cx="7364880" cy="764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oke (m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troke (f)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oot/ leg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Foot/ le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putations (m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mputations (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How does a new technology/ service enter the system?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7112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 ambulatory care officially: Sickness fund or physicians‘ asociation make proposal to Federal Joint Committee which may commission an evaluation through IQWiG; if positive -&gt; passed to Valuation Committee to determine point valu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officially moreoften through reformulation of service definition through Valuation Committee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ntrast to inpatient care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: Hospital may provide any service which is not explicitly excluded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0" y="83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611280" y="1440"/>
          <a:ext cx="7451640" cy="688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440"/>
                    <a:ext cx="7451640" cy="688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6" name=""/>
          <p:cNvSpPr/>
          <p:nvPr/>
        </p:nvSpPr>
        <p:spPr>
          <a:xfrm>
            <a:off x="6012000" y="476280"/>
            <a:ext cx="1584360" cy="86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0" y="154080"/>
            <a:ext cx="9144000" cy="651492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40800" y="-27000"/>
            <a:ext cx="7582680" cy="125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l Office for Quality Assurance (BQS)</a:t>
            </a:r>
            <a:br>
              <a:rPr sz="28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ince 2001 mandatory for almost 1600 hospitals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70 indicators, with feedback and “structured dialogu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977120" y="5348160"/>
            <a:ext cx="3029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Inpatient episod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20434800">
            <a:off x="542880" y="2034720"/>
            <a:ext cx="4315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 the appropriate thing don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20434800">
            <a:off x="2979360" y="2107800"/>
            <a:ext cx="3763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s it done correctly?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20434800">
            <a:off x="4713480" y="2133360"/>
            <a:ext cx="43520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ith what (short-term) resul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6720" y="3429000"/>
            <a:ext cx="5671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Indication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 Proces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Outcom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08000" y="260280"/>
            <a:ext cx="8893080" cy="64501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3203640" y="5300640"/>
            <a:ext cx="3168720" cy="576360"/>
          </a:xfrm>
          <a:custGeom>
            <a:avLst/>
            <a:gdLst>
              <a:gd name="textAreaLeft" fmla="*/ 554400 w 3168720"/>
              <a:gd name="textAreaRight" fmla="*/ 2297520 w 3168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39520" y="347760"/>
            <a:ext cx="560448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An example (with slow progress):   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7240" y="822240"/>
            <a:ext cx="853524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Times New Roman"/>
              </a:rPr>
              <a:t>Documentation of operation distance to (breast) ca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4267080" y="1447920"/>
            <a:ext cx="24386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2361960" y="4495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2362320" y="1371600"/>
            <a:ext cx="1904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5720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94360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496400" y="121932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a. 240 sickness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4920" y="1963800"/>
            <a:ext cx="36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Wage-related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22120" y="5103720"/>
            <a:ext cx="265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Social Health 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Insurance 87%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rivate HI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940000" y="5119560"/>
            <a:ext cx="3153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Public-private mix,</a:t>
            </a:r>
            <a:br>
              <a:rPr sz="2800"/>
            </a:br>
            <a:r>
              <a:rPr b="0" lang="es-ES_tradnl" sz="2000" spc="-1" strike="noStrike">
                <a:solidFill>
                  <a:srgbClr val="cc0099"/>
                </a:solidFill>
                <a:latin typeface="Arial"/>
              </a:rPr>
              <a:t>organised in associations</a:t>
            </a:r>
            <a:br>
              <a:rPr sz="2000"/>
            </a:br>
            <a:r>
              <a:rPr b="0" lang="es-ES_tradnl" sz="2000" spc="-1" strike="noStrike">
                <a:solidFill>
                  <a:srgbClr val="cc0099"/>
                </a:solidFill>
                <a:latin typeface="Arial"/>
              </a:rPr>
              <a:t>ambulatory care/ hospi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2680" y="3276720"/>
            <a:ext cx="24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hoice of fund</a:t>
            </a:r>
            <a:br>
              <a:rPr sz="2800"/>
            </a:b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since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139800" y="2708280"/>
            <a:ext cx="277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ontracts,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mostly coll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638080" y="2540160"/>
            <a:ext cx="3507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Strong</a:t>
            </a:r>
            <a:br>
              <a:rPr sz="3200"/>
            </a:b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delegation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&amp; limited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government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114800" y="685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hird-party p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92360" y="187200"/>
            <a:ext cx="935280" cy="505080"/>
          </a:xfrm>
          <a:custGeom>
            <a:avLst/>
            <a:gdLst>
              <a:gd name="textAreaLeft" fmla="*/ 163440 w 935280"/>
              <a:gd name="textAreaRight" fmla="*/ 678240 w 9352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2200" y="173160"/>
            <a:ext cx="82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Risk-structure          compensation”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since 1994/95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987640" y="2420640"/>
            <a:ext cx="360360" cy="57636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853800" y="4925880"/>
            <a:ext cx="128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76720" y="5445000"/>
            <a:ext cx="2663640" cy="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920" y="24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Risk-related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38400" y="357336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o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61080" y="168588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. 50 private ins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6094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llector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24000" y="3645000"/>
            <a:ext cx="309564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Decision-making: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government vs.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self-governing actors;</a:t>
            </a:r>
            <a:br>
              <a:rPr sz="2400"/>
            </a:br>
            <a:r>
              <a:rPr b="0" lang="de-DE" sz="2400" spc="-1" strike="noStrike">
                <a:solidFill>
                  <a:srgbClr val="000099"/>
                </a:solidFill>
                <a:latin typeface="Times New Roman"/>
              </a:rPr>
              <a:t>patient 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1413000"/>
            <a:ext cx="4608360" cy="3168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New payment systems,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Times New Roman"/>
              </a:rPr>
              <a:t>esp. DRGs in hospital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666633"/>
                </a:solidFill>
                <a:latin typeface="Times New Roman"/>
              </a:rPr>
              <a:t>Disease Management Programmes,</a:t>
            </a:r>
            <a:br>
              <a:rPr sz="2400"/>
            </a:br>
            <a:r>
              <a:rPr b="0" lang="de-DE" sz="2400" spc="-1" strike="noStrike">
                <a:solidFill>
                  <a:srgbClr val="666633"/>
                </a:solidFill>
                <a:latin typeface="Times New Roman"/>
              </a:rPr>
              <a:t>selective contracts (GP models,</a:t>
            </a:r>
            <a:br>
              <a:rPr sz="2400"/>
            </a:br>
            <a:r>
              <a:rPr b="0" lang="de-DE" sz="2400" spc="-1" strike="noStrike">
                <a:solidFill>
                  <a:srgbClr val="666633"/>
                </a:solidFill>
                <a:latin typeface="Times New Roman"/>
              </a:rPr>
              <a:t>„integrated care“)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nefit evaluation/ Health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Technology Assess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79280" y="1484280"/>
            <a:ext cx="3384720" cy="17287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hange in fund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Gesundheitspauschale“,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ax funding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322280" y="6213600"/>
            <a:ext cx="7793280" cy="673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800" spc="-1" strike="noStrike">
                <a:solidFill>
                  <a:srgbClr val="000000"/>
                </a:solidFill>
                <a:latin typeface="Times New Roman"/>
              </a:rPr>
              <a:t>The status before the 2005 election ..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68360" y="189000"/>
            <a:ext cx="3961080" cy="1079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re morbidity orientation?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r less RSC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1280" y="5157720"/>
            <a:ext cx="3132360" cy="14400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versal coverage?</a:t>
            </a:r>
            <a:br>
              <a:rPr sz="2400"/>
            </a:b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„Bürgerversicherung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51280" y="5084640"/>
            <a:ext cx="5292720" cy="158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6600"/>
                </a:solidFill>
                <a:latin typeface="Times New Roman"/>
              </a:rPr>
              <a:t>Quality assurance:</a:t>
            </a:r>
            <a:br>
              <a:rPr sz="2400"/>
            </a:br>
            <a:r>
              <a:rPr b="0" lang="de-DE" sz="2400" spc="-1" strike="noStrike">
                <a:solidFill>
                  <a:srgbClr val="006600"/>
                </a:solidFill>
                <a:latin typeface="Times New Roman"/>
              </a:rPr>
              <a:t>mandatory quality management,</a:t>
            </a:r>
            <a:br>
              <a:rPr sz="2400"/>
            </a:br>
            <a:r>
              <a:rPr b="0" lang="de-DE" sz="2400" spc="-1" strike="noStrike">
                <a:solidFill>
                  <a:srgbClr val="006600"/>
                </a:solidFill>
                <a:latin typeface="Times New Roman"/>
              </a:rPr>
              <a:t>annual reports, minimum volu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408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-6120" y="6021360"/>
            <a:ext cx="616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PHI remains but: </a:t>
            </a:r>
            <a:r>
              <a:rPr b="1" lang="de-DE" sz="2400" spc="-1" strike="noStrike" u="sng">
                <a:solidFill>
                  <a:srgbClr val="ff0000"/>
                </a:solidFill>
                <a:uFillTx/>
                <a:latin typeface="Times New Roman"/>
              </a:rPr>
              <a:t>universal coverage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 +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34520" y="104760"/>
            <a:ext cx="827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What has or will be changed by the Competition</a:t>
            </a:r>
            <a:br>
              <a:rPr sz="2800"/>
            </a:b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Strengthening Act (in force since April 2007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223640" y="3429000"/>
            <a:ext cx="66668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4.2007: previously SHI insured have right to retur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.2007: previously PHI insured have right to retu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9: universal co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418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2266800">
            <a:off x="1995480" y="2522160"/>
            <a:ext cx="636480" cy="3168720"/>
          </a:xfrm>
          <a:prstGeom prst="upArrow">
            <a:avLst>
              <a:gd name="adj1" fmla="val 50000"/>
              <a:gd name="adj2" fmla="val 124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08000" y="2637000"/>
            <a:ext cx="300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Uniform contribution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ate (determined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by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19480" y="1670040"/>
            <a:ext cx="121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Health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u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098000" y="404640"/>
            <a:ext cx="696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Redesigning the risk-adjusted allocation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ormula to include supplements for 50 to 80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1760" y="6021360"/>
            <a:ext cx="57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HI remains but: universal coverage +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900000" y="3716280"/>
            <a:ext cx="6048360" cy="1152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tly debated, especially by richer stat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with above average reimbursement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-49320" y="852480"/>
            <a:ext cx="9242640" cy="574524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681120" y="255600"/>
            <a:ext cx="7776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andardised“ (= avg.) expenditure used for th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isk Structure Compensation mechanis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for DMP participants and other insured (200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755640" y="5204880"/>
            <a:ext cx="7056360" cy="24120"/>
          </a:xfrm>
          <a:prstGeom prst="line">
            <a:avLst/>
          </a:prstGeom>
          <a:ln w="38160">
            <a:solidFill>
              <a:srgbClr val="ff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440320" y="5300640"/>
            <a:ext cx="22989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Avg. 5.20€/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267080" y="1447920"/>
            <a:ext cx="24386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361960" y="4495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362320" y="1371600"/>
            <a:ext cx="1904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16000" y="555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hird-party P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172200" y="5877000"/>
          <a:ext cx="29718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877000"/>
                    <a:ext cx="2971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-252360" y="797040"/>
            <a:ext cx="9445680" cy="587196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833480" y="638172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% of populatio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013440" y="6381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% of expendi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757880" y="4428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The well-known 20/80 distribution –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ctually the 5/50 or 10/70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356000" y="1052640"/>
            <a:ext cx="4103640" cy="115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w can we predic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ho these 5 or 10% 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 flipV="1">
            <a:off x="755640" y="333000"/>
            <a:ext cx="0" cy="532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5640" y="566100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042920" y="765000"/>
            <a:ext cx="216000" cy="489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403280" y="3573360"/>
            <a:ext cx="216000" cy="20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003640" y="5589720"/>
            <a:ext cx="3024360" cy="7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8246160" y="5132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,2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246160" y="4772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,8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581440" y="575136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% &lt; 1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00360" y="5373720"/>
            <a:ext cx="5047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050920" y="57340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€  3.6€  2.1€  1.3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90160" y="31161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29800" y="333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5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215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195640" y="5229360"/>
            <a:ext cx="2174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55640" y="508464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30064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90920" y="5445000"/>
            <a:ext cx="50472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282920" y="5516640"/>
            <a:ext cx="505080" cy="14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46720" y="4484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79640" y="2349360"/>
            <a:ext cx="0" cy="4032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1476360" y="2637000"/>
            <a:ext cx="503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65960" y="2395440"/>
            <a:ext cx="59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14% of all insured above legal threshold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for selected diseases of 1.5x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 flipV="1">
            <a:off x="755640" y="333000"/>
            <a:ext cx="0" cy="532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5640" y="5661000"/>
            <a:ext cx="777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42920" y="765000"/>
            <a:ext cx="216000" cy="489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03280" y="3573360"/>
            <a:ext cx="216000" cy="208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3640" y="5589720"/>
            <a:ext cx="3024360" cy="71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8246160" y="51325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,2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246160" y="477216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,80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81440" y="575136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0% &lt; 1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700360" y="5373720"/>
            <a:ext cx="504720" cy="287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50920" y="573408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6€  3.6€  2.1€  1.3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1190160" y="31161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6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9800" y="33336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55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35280" y="5013360"/>
            <a:ext cx="215640" cy="6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95640" y="5229360"/>
            <a:ext cx="217440" cy="431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55640" y="508464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55640" y="5300640"/>
            <a:ext cx="74883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490920" y="5445000"/>
            <a:ext cx="50472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282920" y="5516640"/>
            <a:ext cx="505080" cy="144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746720" y="4484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9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79640" y="2349360"/>
            <a:ext cx="0" cy="4032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1476360" y="2637000"/>
            <a:ext cx="50328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965960" y="2395440"/>
            <a:ext cx="59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14% of all insured above legal threshold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for selected diseases of 1.5x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60520" y="1916280"/>
            <a:ext cx="798192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conflict between resigned Expert Council and Ministry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rted mainly by certain large sickness funds,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ion of diseases, especially role of preval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nsive” = expenditure/ person x preval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&gt; should “hypertension” be in? uncomplicated diabetes?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485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rot="2266800">
            <a:off x="1995480" y="2522160"/>
            <a:ext cx="636480" cy="3168720"/>
          </a:xfrm>
          <a:prstGeom prst="upArrow">
            <a:avLst>
              <a:gd name="adj1" fmla="val 50000"/>
              <a:gd name="adj2" fmla="val 124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8280" y="263700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iform contribu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te (determined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y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61960" y="1670040"/>
            <a:ext cx="11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alth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u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rot="2817600">
            <a:off x="3873240" y="2054160"/>
            <a:ext cx="187560" cy="3946320"/>
          </a:xfrm>
          <a:prstGeom prst="upDownArrow">
            <a:avLst>
              <a:gd name="adj1" fmla="val 50000"/>
              <a:gd name="adj2" fmla="val 4188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1760" y="6021360"/>
            <a:ext cx="57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HI remains but: universal coverage +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65760" y="33336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edesigning the risk-adjusted alloca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ormula to include supplements for 50 to 80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419640" y="3429000"/>
            <a:ext cx="4392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Extra, community-rated premium (positive or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132000" y="4437000"/>
            <a:ext cx="489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o-claim bonuses, individual deductibles … to lower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2276640"/>
            <a:ext cx="5040000" cy="1152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lief that insured respond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 a € amount than to a % amout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364000" y="1700280"/>
            <a:ext cx="3889440" cy="187308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s amount is capped to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% of gross income, sick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unds with poorer me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ill have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554200" y="5229360"/>
            <a:ext cx="6121440" cy="115236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se instruments taken from VHI ser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 keep voluntary members inside 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503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2266800">
            <a:off x="1995480" y="2522160"/>
            <a:ext cx="636480" cy="3168720"/>
          </a:xfrm>
          <a:prstGeom prst="upArrow">
            <a:avLst>
              <a:gd name="adj1" fmla="val 50000"/>
              <a:gd name="adj2" fmla="val 124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8280" y="263700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iform contribu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te (determined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y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61960" y="1670040"/>
            <a:ext cx="11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alth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u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2817600">
            <a:off x="3873240" y="2054160"/>
            <a:ext cx="187560" cy="3946320"/>
          </a:xfrm>
          <a:prstGeom prst="upDownArrow">
            <a:avLst>
              <a:gd name="adj1" fmla="val 50000"/>
              <a:gd name="adj2" fmla="val 4188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1760" y="6021360"/>
            <a:ext cx="57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HI remains but: universal coverage +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265760" y="33336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edesigning the risk-adjusted alloca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ormula to include supplements for 50 to 80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19640" y="3429000"/>
            <a:ext cx="43923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Extra, community-rated premium (positive or negativ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132000" y="4437000"/>
            <a:ext cx="4896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No-claim bonuses, individual deductibles … to lower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942960" y="1155600"/>
            <a:ext cx="216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ickness funds,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organized in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 Unicode MS"/>
              </a:rPr>
              <a:t>Sickness fund reorganisation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042560" y="1844640"/>
            <a:ext cx="720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One association (under public law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revious associations dissolved (may continue on voluntary basis under private law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ergers between sickness funds belonging to different associations possible (and happening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ickness funds may go bankrup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6752520" y="4262400"/>
            <a:ext cx="2399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New fee schedule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for physic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966280" y="2637000"/>
            <a:ext cx="293148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Still mostly collective</a:t>
            </a:r>
            <a:br>
              <a:rPr sz="2400"/>
            </a:b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contracts, but </a:t>
            </a: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more</a:t>
            </a:r>
            <a:br>
              <a:rPr sz="2400"/>
            </a:b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selective „integr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Times New Roman"/>
              </a:rPr>
              <a:t>care“ contra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09480" y="1676520"/>
            <a:ext cx="7999920" cy="4344120"/>
            <a:chOff x="609480" y="1676520"/>
            <a:chExt cx="7999920" cy="4344120"/>
          </a:xfrm>
        </p:grpSpPr>
        <p:sp>
          <p:nvSpPr>
            <p:cNvPr id="523" name=""/>
            <p:cNvSpPr/>
            <p:nvPr/>
          </p:nvSpPr>
          <p:spPr>
            <a:xfrm>
              <a:off x="1235520" y="1812960"/>
              <a:ext cx="6747480" cy="420768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90200" y="1676520"/>
              <a:ext cx="284292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ntribution</a:t>
              </a:r>
              <a:br>
                <a:rPr sz="2800"/>
              </a:b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collect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685760" y="1676520"/>
              <a:ext cx="2626560" cy="8420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Third-party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ay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09480" y="5558760"/>
              <a:ext cx="2810160" cy="46152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opulatio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799240" y="5341320"/>
              <a:ext cx="2810160" cy="6512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00"/>
                  </a:solidFill>
                  <a:latin typeface="Times New Roman"/>
                </a:rPr>
                <a:t>Provid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059280" y="1341360"/>
            <a:ext cx="3168360" cy="306360"/>
          </a:xfrm>
          <a:custGeom>
            <a:avLst/>
            <a:gdLst>
              <a:gd name="textAreaLeft" fmla="*/ 554400 w 3168360"/>
              <a:gd name="textAreaRight" fmla="*/ 2297160 w 3168360"/>
              <a:gd name="textAreaTop" fmla="*/ 41040 h 306360"/>
              <a:gd name="textAreaBottom" fmla="*/ 265320 h 306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rot="2266800">
            <a:off x="1995480" y="2522160"/>
            <a:ext cx="636480" cy="3168720"/>
          </a:xfrm>
          <a:prstGeom prst="upArrow">
            <a:avLst>
              <a:gd name="adj1" fmla="val 50000"/>
              <a:gd name="adj2" fmla="val 1244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88280" y="263700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Uniform contribu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ate (determined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y govern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61960" y="1670040"/>
            <a:ext cx="113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„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Health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und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rot="2817600">
            <a:off x="3873240" y="2054160"/>
            <a:ext cx="187560" cy="3946320"/>
          </a:xfrm>
          <a:prstGeom prst="upDownArrow">
            <a:avLst>
              <a:gd name="adj1" fmla="val 50000"/>
              <a:gd name="adj2" fmla="val 41885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1760" y="6021360"/>
            <a:ext cx="576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PHI remains but: universal coverage +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bligation to contract (for a capped premiu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265760" y="333360"/>
            <a:ext cx="662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Redesigning the risk-adjusted allocatio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formula to include supplements for 50 to 80 dise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55560" y="1155600"/>
            <a:ext cx="207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ickness funds,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rganized in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Unicode MS"/>
              </a:rPr>
              <a:t>Selective contracting for services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6560" y="1411200"/>
            <a:ext cx="83534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Allowed within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model project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tegrated care“ contracts (since 2000/04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GP contracts“ (insured choose GP as gate-keeper; may be done without KV since 2007)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      first contract without KV in Baden-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          Wuerttemberg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(details published today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900000" y="4365720"/>
            <a:ext cx="792360" cy="485640"/>
          </a:xfrm>
          <a:prstGeom prst="rightArrow">
            <a:avLst>
              <a:gd name="adj1" fmla="val 50000"/>
              <a:gd name="adj2" fmla="val 407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54200" y="5373720"/>
            <a:ext cx="6121440" cy="7192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w to separate capitation payments to K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 Unicode MS"/>
              </a:rPr>
              <a:t>Pharmaceutical policies 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raditional, interventionist approach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ational SHI-wide reference pric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ard „budgets“ (actually prescription caps) for physicians‘ associations and softer targets for individual practic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ubstitution, parallel imports, mandatory rebates for manufacture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o stimulate price-setting well below RP, patients are exempted from co-payments if price is at least 30% belkow RP (currently ca. 12,000 drugs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 Unicode MS"/>
              </a:rPr>
              <a:t>Pharmaceutical policies II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aditional, interventionist approache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National SHI-wide reference price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ard „budgets“ (actually prescription caps) for physicians‘ associations and softer targets for individual practice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ubstitution, parallel imports, mandatory rebates for manufacturer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o stimulate price-setting well below RP, patients are exempted from co-payments if price is at least 30% belkow RP (currently ca. 12,000 drugs)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New approach since 2007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Contracts/ public procurement through sickness funds directly with manufacturers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Winning manufacturer gets monopoly for that substance, i.e. no choice for patient, prescribing physician or pharmacist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88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-&gt; initially ignored by large manufacturers -&gt; turn-over by small Indian/ Israeli ... manufactures increased drastically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0000"/>
                </a:solidFill>
                <a:latin typeface="Times New Roman"/>
              </a:rPr>
              <a:t>Current regulatory framework inconclusive (e.g. physicians can hardly be held liable for prescription expenditure as prices under procurement are not known or to be influenced)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267080" y="1447920"/>
            <a:ext cx="24386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361960" y="4495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2362320" y="1371600"/>
            <a:ext cx="1904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14800" y="685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hird-party p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8080" y="6094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llector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24000" y="3573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172200" y="5877000"/>
          <a:ext cx="2971800" cy="99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5877000"/>
                    <a:ext cx="297180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 Unicode MS"/>
              </a:rPr>
              <a:t>Medical aids (medical products on prescription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42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oliticians have discovered medical aids as field for regulation relatively recentl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-&gt; national reference prices (= max. reimbursement price for sickness funds) per product group since 2005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-&gt; procurement of medical aids through sickness funds since 2007: </a:t>
            </a:r>
            <a:r>
              <a:rPr b="0" i="1" lang="de-DE" sz="3200" spc="-1" strike="noStrike">
                <a:solidFill>
                  <a:srgbClr val="000000"/>
                </a:solidFill>
                <a:latin typeface="Times New Roman"/>
              </a:rPr>
              <a:t>contracts with suppliers (not manufacturers!) who get regional monopoly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ee schedule “Uniform value scale” 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EBM 2000 plu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since April 2005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07640" y="1483920"/>
            <a:ext cx="9018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sed on time unit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egotiated value of physicians’ work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0.77 €/ minute (ca. 95,000 €/ year)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ultiplied by estimated average amount to provide service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+ monetary value of “technical” component (but devices for individual patients are paid separately through lump sum)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m is divided by 0.051 € and expressed in points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56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ctual reimbursement/ point depends on capitations paid and total number of points, usually around 0.035 €</a:t>
            </a:r>
            <a:endParaRPr b="0" lang="en-US" sz="3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2987640" y="189000"/>
            <a:ext cx="3313080" cy="863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ckness fund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979640" y="2852640"/>
            <a:ext cx="5184720" cy="863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hysicians‘ association (K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50920" y="5734080"/>
            <a:ext cx="1225440" cy="863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P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572000" y="1052640"/>
            <a:ext cx="0" cy="1800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1042560" y="4508640"/>
            <a:ext cx="129708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783600" y="1557360"/>
            <a:ext cx="16527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egotiated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api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1270080"/>
            <a:ext cx="3313080" cy="863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ckness fund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1268280"/>
            <a:ext cx="3313080" cy="863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ickness fund 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3640" y="2133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5867280" y="213372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266920" y="3645000"/>
            <a:ext cx="237636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P budge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(ca. 1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00720" y="3645000"/>
            <a:ext cx="237636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pecialists‘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budget (ca. 2/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788000" y="5734080"/>
            <a:ext cx="122544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c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690560" y="5734080"/>
            <a:ext cx="1225800" cy="863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P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130560" y="5734080"/>
            <a:ext cx="1225440" cy="863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P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6227640" y="5734080"/>
            <a:ext cx="122580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c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67640" y="5734080"/>
            <a:ext cx="1225440" cy="86364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ec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40000" y="4508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6804000" y="4508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780000" y="4869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508720" y="4869000"/>
            <a:ext cx="0" cy="79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804000" y="4508640"/>
            <a:ext cx="129528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99600" y="4987800"/>
            <a:ext cx="8279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€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pendent on total number of points for deliver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5236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bulatory physicians’ fee schedule: changes from 2008/09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5280" y="1484280"/>
            <a:ext cx="8793360" cy="481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ulated income of physicians increased from 95,000 € to 105,000 €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points to be increased on average by 10% in 2008 (but with great variations among specialties, favouring GPs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services will be included into “quarterly case fees” (especially, but not only for GPs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ints will be changed to € values in 2009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pitation from sickness funds to physicians’ associations will be morbidity-adjust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 rot="20222400">
            <a:off x="1831680" y="18331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095880" y="2997360"/>
            <a:ext cx="1676520" cy="39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Hospital 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rot="16200000">
            <a:off x="3878640" y="2629440"/>
            <a:ext cx="158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743200" y="216000"/>
            <a:ext cx="3809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Parlia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772400" y="2454120"/>
            <a:ext cx="7621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7600" y="1371600"/>
            <a:ext cx="1828800" cy="59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suree/ Pat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95880" y="2286000"/>
            <a:ext cx="1676520" cy="24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87280" y="2286000"/>
            <a:ext cx="1860840" cy="24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638680" y="1249200"/>
            <a:ext cx="198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 hospital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62120" y="574560"/>
            <a:ext cx="198108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152280" y="577800"/>
            <a:ext cx="0" cy="3681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914400" y="2814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52280" y="425916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57200" y="3247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486400" y="144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914400" y="914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53080" y="574560"/>
            <a:ext cx="182880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839080" y="577800"/>
            <a:ext cx="0" cy="3465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72400" y="9381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914400"/>
            <a:ext cx="0" cy="15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095880" y="152280"/>
            <a:ext cx="1676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pre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n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944640"/>
            <a:ext cx="21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38680" y="36813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38680" y="4043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638680" y="447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791320" y="353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regional fun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53080" y="39988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315200" y="216000"/>
            <a:ext cx="159372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Ministr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187280" y="2527200"/>
            <a:ext cx="1860840" cy="51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 (Regional) Physicians’ Associations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095880" y="2527200"/>
            <a:ext cx="1676520" cy="456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 Regional Hospital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505320" y="4114800"/>
            <a:ext cx="2133360" cy="39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he federal association of</a:t>
            </a:r>
            <a:br>
              <a:rPr sz="1000"/>
            </a:b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sickness funds (from 1.7.2008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V="1">
            <a:off x="304920" y="577440"/>
            <a:ext cx="0" cy="31035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457200" y="649440"/>
            <a:ext cx="0" cy="2598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82440" y="216000"/>
            <a:ext cx="1594080" cy="5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Minist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Health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76160" y="1249200"/>
            <a:ext cx="7467840" cy="4988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7221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914400" y="914400"/>
            <a:ext cx="0" cy="19000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04920" y="3681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rot="16200000">
            <a:off x="4182480" y="2637360"/>
            <a:ext cx="1587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472428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487692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01028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914400" y="3537000"/>
            <a:ext cx="243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country-wide funds (via Federal Insurance Autho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04920" y="304812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43200" y="4475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13372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536000" y="6308640"/>
            <a:ext cx="3661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utory health insurance mid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V="1">
            <a:off x="1828800" y="1515600"/>
            <a:ext cx="182880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22860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rot="20164200">
            <a:off x="1374480" y="18046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flipH="1" flipV="1">
            <a:off x="54864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H="1" flipV="1">
            <a:off x="5486400" y="1515600"/>
            <a:ext cx="182880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 flipH="1" rot="1388400">
            <a:off x="5025600" y="1833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 flipH="1" rot="1435800">
            <a:off x="5333760" y="1752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81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352680" y="281448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352680" y="3970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791320" y="2454120"/>
            <a:ext cx="0" cy="1444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791320" y="245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48640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3786120"/>
            <a:ext cx="2133360" cy="3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ckness funds in one region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219320" y="15228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osal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health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 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2946960" y="3072240"/>
            <a:ext cx="100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16200000">
            <a:off x="5157000" y="278352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505320" y="3570120"/>
            <a:ext cx="2133360" cy="2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ckness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743200" y="433440"/>
            <a:ext cx="182880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emb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undesta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572000" y="433440"/>
            <a:ext cx="198108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deral Council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Bundesra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187280" y="2949480"/>
            <a:ext cx="1860840" cy="54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ociation of SHI Physician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066680" y="4403880"/>
            <a:ext cx="16765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52280" y="425916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52280" y="4692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914400" y="4440240"/>
            <a:ext cx="19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aluation Committe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&amp; Institute: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ting of relative point val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553080" y="44038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400800" y="4365720"/>
            <a:ext cx="167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ittee &amp; Institut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r Hospita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imbursment: DR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340000" y="5877000"/>
            <a:ext cx="2590920" cy="21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2340360" y="5848200"/>
            <a:ext cx="255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stitute for Quality and Efficiency (IQWi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8686800" y="990720"/>
            <a:ext cx="0" cy="2690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rot="16195800">
            <a:off x="7809480" y="1623240"/>
            <a:ext cx="125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listment in hospital pla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048120" y="1949040"/>
            <a:ext cx="15238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rot="20095800">
            <a:off x="2895480" y="228600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3657600" y="946080"/>
            <a:ext cx="95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egislative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304920" y="4068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0" y="449568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514600" y="1752480"/>
            <a:ext cx="3962520" cy="2286000"/>
          </a:xfrm>
          <a:prstGeom prst="diamond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495680" y="175248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771640" y="4724280"/>
            <a:ext cx="3672000" cy="8654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deral Joint Commit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484360" y="3500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692360" y="38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amework contract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729480" y="51562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88000" y="5192640"/>
            <a:ext cx="167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deral Office fo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2843280" y="3500280"/>
            <a:ext cx="73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6011640" y="342900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500720" y="450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3563640" y="551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20560" y="4284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124000" y="56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issio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 flipH="1">
            <a:off x="6156000" y="510696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4932000" y="5948280"/>
            <a:ext cx="431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94520" y="5846760"/>
            <a:ext cx="346788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valuation of drugs‘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dical cost-benefit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372360" y="5300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517080" y="2924280"/>
            <a:ext cx="2674080" cy="265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mbers (1.7.08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5 sickness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5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3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+ 5 patients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no voting rights)</a:t>
            </a:r>
            <a:br>
              <a:rPr sz="2400"/>
            </a:br>
            <a:r>
              <a:rPr b="0" i="1" lang="de-DE" sz="2400" spc="-1" strike="noStrike">
                <a:solidFill>
                  <a:srgbClr val="ffffff"/>
                </a:solidFill>
                <a:latin typeface="Arial"/>
              </a:rPr>
              <a:t>Meetings in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1341360"/>
            <a:ext cx="9144000" cy="1150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24000" y="1481040"/>
            <a:ext cx="165564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Define Therapeutic A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376360" y="148104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Select Interven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427640" y="1481040"/>
            <a:ext cx="18730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Identify Con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53080" y="148104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stimate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349800" y="2744640"/>
            <a:ext cx="2482560" cy="1647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Benefit on Cardinal scal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76360" y="310032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Translate Benefits to G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1" name=""/>
          <p:cNvCxnSpPr>
            <a:stCxn id="675" idx="3"/>
            <a:endCxn id="676" idx="1"/>
          </p:cNvCxnSpPr>
          <p:nvPr/>
        </p:nvCxnSpPr>
        <p:spPr>
          <a:xfrm>
            <a:off x="1979640" y="1949040"/>
            <a:ext cx="39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2" name=""/>
          <p:cNvCxnSpPr>
            <a:stCxn id="676" idx="3"/>
            <a:endCxn id="677" idx="1"/>
          </p:cNvCxnSpPr>
          <p:nvPr/>
        </p:nvCxnSpPr>
        <p:spPr>
          <a:xfrm>
            <a:off x="4103640" y="1949040"/>
            <a:ext cx="324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3" name=""/>
          <p:cNvCxnSpPr>
            <a:stCxn id="677" idx="3"/>
            <a:endCxn id="678" idx="1"/>
          </p:cNvCxnSpPr>
          <p:nvPr/>
        </p:nvCxnSpPr>
        <p:spPr>
          <a:xfrm>
            <a:off x="6300360" y="1949040"/>
            <a:ext cx="253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4" name=""/>
          <p:cNvCxnSpPr>
            <a:stCxn id="678" idx="2"/>
            <a:endCxn id="679" idx="0"/>
          </p:cNvCxnSpPr>
          <p:nvPr/>
        </p:nvCxnSpPr>
        <p:spPr>
          <a:xfrm rot="5400000">
            <a:off x="5842080" y="1165680"/>
            <a:ext cx="322920" cy="2826360"/>
          </a:xfrm>
          <a:prstGeom prst="bentConnector3">
            <a:avLst>
              <a:gd name="adj1" fmla="val 496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5" name=""/>
          <p:cNvCxnSpPr>
            <a:stCxn id="679" idx="1"/>
            <a:endCxn id="680" idx="3"/>
          </p:cNvCxnSpPr>
          <p:nvPr/>
        </p:nvCxnSpPr>
        <p:spPr>
          <a:xfrm flipH="1">
            <a:off x="2303280" y="3568320"/>
            <a:ext cx="1046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6" name=""/>
          <p:cNvSpPr/>
          <p:nvPr/>
        </p:nvSpPr>
        <p:spPr>
          <a:xfrm>
            <a:off x="7020000" y="2994120"/>
            <a:ext cx="1727280" cy="936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Estimat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7" name=""/>
          <p:cNvCxnSpPr>
            <a:stCxn id="678" idx="2"/>
            <a:endCxn id="686" idx="0"/>
          </p:cNvCxnSpPr>
          <p:nvPr/>
        </p:nvCxnSpPr>
        <p:spPr>
          <a:xfrm flipH="1" rot="16200000">
            <a:off x="7360920" y="2472120"/>
            <a:ext cx="577080" cy="467640"/>
          </a:xfrm>
          <a:prstGeom prst="bentConnector3">
            <a:avLst>
              <a:gd name="adj1" fmla="val 49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8" name=""/>
          <p:cNvSpPr/>
          <p:nvPr/>
        </p:nvSpPr>
        <p:spPr>
          <a:xfrm>
            <a:off x="5508720" y="580536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Plot Efficiency Fron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3727440" y="486576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0" name=""/>
          <p:cNvCxnSpPr>
            <a:stCxn id="680" idx="2"/>
            <a:endCxn id="689" idx="1"/>
          </p:cNvCxnSpPr>
          <p:nvPr/>
        </p:nvCxnSpPr>
        <p:spPr>
          <a:xfrm flipH="1" rot="16200000">
            <a:off x="1935000" y="3541320"/>
            <a:ext cx="1297800" cy="2288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79" idx="2"/>
            <a:endCxn id="689" idx="0"/>
          </p:cNvCxnSpPr>
          <p:nvPr/>
        </p:nvCxnSpPr>
        <p:spPr>
          <a:xfrm>
            <a:off x="4590720" y="4397040"/>
            <a:ext cx="108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2" name=""/>
          <p:cNvCxnSpPr>
            <a:stCxn id="689" idx="2"/>
            <a:endCxn id="688" idx="1"/>
          </p:cNvCxnSpPr>
          <p:nvPr/>
        </p:nvCxnSpPr>
        <p:spPr>
          <a:xfrm flipH="1" rot="16200000">
            <a:off x="4813200" y="5578920"/>
            <a:ext cx="471960" cy="918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3" name=""/>
          <p:cNvSpPr/>
          <p:nvPr/>
        </p:nvSpPr>
        <p:spPr>
          <a:xfrm>
            <a:off x="7021440" y="4397400"/>
            <a:ext cx="1727280" cy="936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Rounded MT Bold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86" idx="2"/>
            <a:endCxn id="693" idx="0"/>
          </p:cNvCxnSpPr>
          <p:nvPr/>
        </p:nvCxnSpPr>
        <p:spPr>
          <a:xfrm>
            <a:off x="7883640" y="3930120"/>
            <a:ext cx="2160" cy="467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5" name=""/>
          <p:cNvCxnSpPr>
            <a:stCxn id="693" idx="2"/>
            <a:endCxn id="688" idx="3"/>
          </p:cNvCxnSpPr>
          <p:nvPr/>
        </p:nvCxnSpPr>
        <p:spPr>
          <a:xfrm rot="5400000">
            <a:off x="7089840" y="5479200"/>
            <a:ext cx="940320" cy="649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harmaceuticals may be subject to economic evaluation by IQWiG: proposed method</a:t>
            </a:r>
            <a:endParaRPr b="0" lang="en-US" sz="3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252640" y="1433520"/>
            <a:ext cx="93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Eval.</a:t>
            </a:r>
            <a:br>
              <a:rPr sz="1800"/>
            </a:b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Med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Times New Roman"/>
              </a:rPr>
              <a:t>Benef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5483520" y="2600280"/>
            <a:ext cx="125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Times New Roman"/>
              </a:rPr>
              <a:t>If super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1204920" y="41911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244520" y="3013200"/>
            <a:ext cx="4157640" cy="3054240"/>
          </a:xfrm>
          <a:custGeom>
            <a:avLst/>
            <a:gdLst/>
            <a:ahLst/>
            <a:rect l="l" t="t" r="r" b="b"/>
            <a:pathLst>
              <a:path w="2619" h="1924">
                <a:moveTo>
                  <a:pt x="0" y="1924"/>
                </a:moveTo>
                <a:lnTo>
                  <a:pt x="168" y="1640"/>
                </a:lnTo>
                <a:lnTo>
                  <a:pt x="868" y="830"/>
                </a:lnTo>
                <a:lnTo>
                  <a:pt x="1831" y="296"/>
                </a:lnTo>
                <a:lnTo>
                  <a:pt x="2619" y="0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231920" y="6073920"/>
            <a:ext cx="6951600" cy="668880"/>
            <a:chOff x="1231920" y="6073920"/>
            <a:chExt cx="6951600" cy="668880"/>
          </a:xfrm>
        </p:grpSpPr>
        <p:sp>
          <p:nvSpPr>
            <p:cNvPr id="702" name=""/>
            <p:cNvSpPr/>
            <p:nvPr/>
          </p:nvSpPr>
          <p:spPr>
            <a:xfrm>
              <a:off x="1231920" y="6073920"/>
              <a:ext cx="6951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V="1">
              <a:off x="262260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401328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540216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V="1">
              <a:off x="679464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8183520" y="607392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479480" y="643752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tal Cost (/pati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"/>
          <p:cNvGrpSpPr/>
          <p:nvPr/>
        </p:nvGrpSpPr>
        <p:grpSpPr>
          <a:xfrm>
            <a:off x="1170000" y="1365120"/>
            <a:ext cx="61920" cy="4762440"/>
            <a:chOff x="1170000" y="1365120"/>
            <a:chExt cx="61920" cy="4762440"/>
          </a:xfrm>
        </p:grpSpPr>
        <p:sp>
          <p:nvSpPr>
            <p:cNvPr id="710" name=""/>
            <p:cNvSpPr/>
            <p:nvPr/>
          </p:nvSpPr>
          <p:spPr>
            <a:xfrm>
              <a:off x="1231920" y="1365120"/>
              <a:ext cx="0" cy="470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170000" y="60735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170000" y="56019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70000" y="51321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170000" y="46605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170000" y="41907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170000" y="37191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170000" y="32479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170000" y="27763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170000" y="23065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70000" y="18349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170000" y="136512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1231920" y="607356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506960" y="3263760"/>
            <a:ext cx="209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Therap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1204920" y="5448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04560" y="52736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1204560" y="4195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204560" y="40068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204920" y="3325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204920" y="2873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ucting the frontier (in one therapeutic area)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16000" y="186516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rot="16200000">
            <a:off x="95400" y="345636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07407E-006 L 0.03055 4.07407E-006 E">
                                      <p:cBhvr>
                                        <p:cTn id="249" dur="2000" fill="hold"/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0.00046 L 0.15746 -0.00046 E">
                                      <p:cBhvr>
                                        <p:cTn id="252" dur="1000" fill="hold"/>
                                        <p:tgtEl>
                                          <p:spTgt spid="7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59259E-006 L 0.14861 -2.59259E-006 E">
                                      <p:cBhvr>
                                        <p:cTn id="255" dur="1000" fill="hold"/>
                                        <p:tgtEl>
                                          <p:spTgt spid="6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5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1.7341E-006 L 0.25191 -0.0037 E">
                                      <p:cBhvr>
                                        <p:cTn id="258" dur="1000" fill="hold"/>
                                        <p:tgtEl>
                                          <p:spTgt spid="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6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2.71676E-006 L 0.40156 0.003 E">
                                      <p:cBhvr>
                                        <p:cTn id="261" dur="1000" fill="hold"/>
                                        <p:tgtEl>
                                          <p:spTgt spid="7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6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81481E-006 L 0.32187 4.81481E-006 E">
                                      <p:cBhvr>
                                        <p:cTn id="264" dur="10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2.96296E-006 L 0.44791 -2.96296E-006 E">
                                      <p:cBhvr>
                                        <p:cTn id="267" dur="10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5364000" y="1144440"/>
            <a:ext cx="2592720" cy="1943280"/>
          </a:xfrm>
          <a:custGeom>
            <a:avLst/>
            <a:gdLst/>
            <a:ahLst/>
            <a:rect l="l" t="t" r="r" b="b"/>
            <a:pathLst>
              <a:path w="1633" h="1224">
                <a:moveTo>
                  <a:pt x="0" y="1224"/>
                </a:moveTo>
                <a:lnTo>
                  <a:pt x="726" y="0"/>
                </a:lnTo>
                <a:lnTo>
                  <a:pt x="1406" y="227"/>
                </a:lnTo>
                <a:lnTo>
                  <a:pt x="1633" y="635"/>
                </a:lnTo>
                <a:lnTo>
                  <a:pt x="0" y="1224"/>
                </a:lnTo>
                <a:close/>
              </a:path>
            </a:pathLst>
          </a:custGeom>
          <a:solidFill>
            <a:srgbClr val="c5d9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233360" y="3065400"/>
            <a:ext cx="7155000" cy="3079800"/>
          </a:xfrm>
          <a:prstGeom prst="rect">
            <a:avLst/>
          </a:prstGeom>
          <a:solidFill>
            <a:srgbClr val="a50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231920" y="3078000"/>
            <a:ext cx="4140360" cy="3079800"/>
          </a:xfrm>
          <a:custGeom>
            <a:avLst/>
            <a:gdLst/>
            <a:ahLst/>
            <a:rect l="l" t="t" r="r" b="b"/>
            <a:pathLst>
              <a:path w="2608" h="1940">
                <a:moveTo>
                  <a:pt x="0" y="1940"/>
                </a:moveTo>
                <a:lnTo>
                  <a:pt x="164" y="1632"/>
                </a:lnTo>
                <a:lnTo>
                  <a:pt x="879" y="823"/>
                </a:lnTo>
                <a:lnTo>
                  <a:pt x="1824" y="300"/>
                </a:lnTo>
                <a:lnTo>
                  <a:pt x="2608" y="0"/>
                </a:lnTo>
                <a:lnTo>
                  <a:pt x="4" y="0"/>
                </a:lnTo>
                <a:lnTo>
                  <a:pt x="0" y="194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258920" y="3068640"/>
            <a:ext cx="4157640" cy="3054240"/>
          </a:xfrm>
          <a:custGeom>
            <a:avLst/>
            <a:gdLst/>
            <a:ahLst/>
            <a:rect l="l" t="t" r="r" b="b"/>
            <a:pathLst>
              <a:path w="2619" h="1924">
                <a:moveTo>
                  <a:pt x="0" y="1924"/>
                </a:moveTo>
                <a:lnTo>
                  <a:pt x="168" y="1640"/>
                </a:lnTo>
                <a:lnTo>
                  <a:pt x="868" y="830"/>
                </a:lnTo>
                <a:lnTo>
                  <a:pt x="1831" y="296"/>
                </a:lnTo>
                <a:lnTo>
                  <a:pt x="2619" y="0"/>
                </a:lnTo>
              </a:path>
            </a:pathLst>
          </a:custGeom>
          <a:noFill/>
          <a:ln w="363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1231920" y="6145200"/>
            <a:ext cx="6951600" cy="668880"/>
            <a:chOff x="1231920" y="6145200"/>
            <a:chExt cx="6951600" cy="668880"/>
          </a:xfrm>
        </p:grpSpPr>
        <p:sp>
          <p:nvSpPr>
            <p:cNvPr id="738" name=""/>
            <p:cNvSpPr/>
            <p:nvPr/>
          </p:nvSpPr>
          <p:spPr>
            <a:xfrm>
              <a:off x="1231920" y="6145200"/>
              <a:ext cx="69516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262260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401328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40216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679464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818352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79480" y="6508800"/>
              <a:ext cx="2391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otal Cost (/patien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5" name=""/>
          <p:cNvGrpSpPr/>
          <p:nvPr/>
        </p:nvGrpSpPr>
        <p:grpSpPr>
          <a:xfrm>
            <a:off x="1170000" y="1436760"/>
            <a:ext cx="61920" cy="4762440"/>
            <a:chOff x="1170000" y="1436760"/>
            <a:chExt cx="61920" cy="4762440"/>
          </a:xfrm>
        </p:grpSpPr>
        <p:sp>
          <p:nvSpPr>
            <p:cNvPr id="746" name=""/>
            <p:cNvSpPr/>
            <p:nvPr/>
          </p:nvSpPr>
          <p:spPr>
            <a:xfrm>
              <a:off x="1231920" y="1436760"/>
              <a:ext cx="0" cy="470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170000" y="61452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70000" y="56736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70000" y="52038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70000" y="47322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70000" y="42624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70000" y="379080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70000" y="33195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170000" y="28479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170000" y="23781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170000" y="19065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170000" y="1436760"/>
              <a:ext cx="619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1231920" y="6145200"/>
              <a:ext cx="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 rot="16200000">
            <a:off x="238320" y="3540960"/>
            <a:ext cx="812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06960" y="3335400"/>
            <a:ext cx="2096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Therap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>
            <a:off x="1080720" y="3060720"/>
            <a:ext cx="7224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8101080" y="1484280"/>
            <a:ext cx="792000" cy="1531800"/>
          </a:xfrm>
          <a:prstGeom prst="upArrow">
            <a:avLst>
              <a:gd name="adj1" fmla="val 50000"/>
              <a:gd name="adj2" fmla="val 4835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f"/>
                </a:solidFill>
                <a:latin typeface="Arial Unicode MS"/>
              </a:rPr>
              <a:t>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41440" y="5364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cision zones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cision taken by Federal Joint Committee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116000" y="1936800"/>
            <a:ext cx="22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5389560" y="1389240"/>
            <a:ext cx="0" cy="483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1239840" y="1647720"/>
            <a:ext cx="4143240" cy="216000"/>
          </a:xfrm>
          <a:prstGeom prst="rect">
            <a:avLst/>
          </a:prstGeom>
          <a:gradFill rotWithShape="0">
            <a:gsLst>
              <a:gs pos="0">
                <a:srgbClr val="e4f866"/>
              </a:gs>
              <a:gs pos="100000">
                <a:srgbClr val="00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424160" y="55627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528640" y="53881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22240" y="4313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543040" y="430524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282920" y="4121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059360" y="344016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5327640" y="29448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1209600" y="5698800"/>
            <a:ext cx="266760" cy="4460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5410080" y="1158480"/>
            <a:ext cx="1079640" cy="18860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076720" y="1647720"/>
            <a:ext cx="1150920" cy="216000"/>
          </a:xfrm>
          <a:custGeom>
            <a:avLst/>
            <a:gdLst/>
            <a:ahLst/>
            <a:rect l="l" t="t" r="r" b="b"/>
            <a:pathLst>
              <a:path w="725" h="136">
                <a:moveTo>
                  <a:pt x="0" y="0"/>
                </a:moveTo>
                <a:lnTo>
                  <a:pt x="725" y="0"/>
                </a:lnTo>
                <a:lnTo>
                  <a:pt x="635" y="136"/>
                </a:lnTo>
                <a:lnTo>
                  <a:pt x="0" y="136"/>
                </a:lnTo>
              </a:path>
            </a:pathLst>
          </a:custGeom>
          <a:gradFill rotWithShape="0">
            <a:gsLst>
              <a:gs pos="0">
                <a:srgbClr val="ccff66"/>
              </a:gs>
              <a:gs pos="100000">
                <a:srgbClr val="e4f866"/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1220760" y="1215720"/>
            <a:ext cx="6735960" cy="491652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5435640" y="2079720"/>
            <a:ext cx="2808360" cy="100944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508720" y="2208240"/>
            <a:ext cx="2651040" cy="879480"/>
          </a:xfrm>
          <a:custGeom>
            <a:avLst/>
            <a:gdLst/>
            <a:ahLst/>
            <a:rect l="l" t="t" r="r" b="b"/>
            <a:pathLst>
              <a:path w="1670" h="554">
                <a:moveTo>
                  <a:pt x="0" y="554"/>
                </a:moveTo>
                <a:lnTo>
                  <a:pt x="1566" y="0"/>
                </a:lnTo>
                <a:lnTo>
                  <a:pt x="1670" y="540"/>
                </a:lnTo>
                <a:lnTo>
                  <a:pt x="0" y="554"/>
                </a:lnTo>
                <a:close/>
              </a:path>
            </a:pathLst>
          </a:custGeom>
          <a:solidFill>
            <a:srgbClr val="ff7c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7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3.12139E-006 L -0.14965 3.12139E-006 E">
                                      <p:cBhvr>
                                        <p:cTn id="301" dur="2000" fill="hold"/>
                                        <p:tgtEl>
                                          <p:spTgt spid="7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4.50867E-006 L 0.4526 4.50867E-006 E">
                                      <p:cBhvr>
                                        <p:cTn id="316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479 4.50867E-006 L 0.51562 4.50867E-006 E">
                                      <p:cBhvr>
                                        <p:cTn id="334" dur="2000" fill="hold"/>
                                        <p:tgtEl>
                                          <p:spTgt spid="7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9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47736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762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Competition Strengthening Act has more components than initially relalised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Probably largest structural impact upon system of any refor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In many respects, Germany has learnt from other countri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But: actual implementation will again provide examples for other countries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096000" y="604980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 Black"/>
              </a:rPr>
              <a:t>http://mig.tu-berlin.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267080" y="1447920"/>
            <a:ext cx="243864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361960" y="449568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2362320" y="1371600"/>
            <a:ext cx="190476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5720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45720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6400" y="1219320"/>
            <a:ext cx="386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a. 240 sickness fu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920" y="1963800"/>
            <a:ext cx="36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Arial"/>
              </a:rPr>
              <a:t>Wage-related con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2120" y="5103720"/>
            <a:ext cx="265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Social Health 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Insurance 87%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Private HI 1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0000" y="5119560"/>
            <a:ext cx="315396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Public-private mix,</a:t>
            </a:r>
            <a:br>
              <a:rPr sz="2800"/>
            </a:br>
            <a:r>
              <a:rPr b="0" lang="es-ES_tradnl" sz="2000" spc="-1" strike="noStrike">
                <a:solidFill>
                  <a:srgbClr val="cc0099"/>
                </a:solidFill>
                <a:latin typeface="Arial"/>
              </a:rPr>
              <a:t>organised in associations</a:t>
            </a:r>
            <a:br>
              <a:rPr sz="2000"/>
            </a:br>
            <a:r>
              <a:rPr b="0" lang="es-ES_tradnl" sz="2000" spc="-1" strike="noStrike">
                <a:solidFill>
                  <a:srgbClr val="cc0099"/>
                </a:solidFill>
                <a:latin typeface="Arial"/>
              </a:rPr>
              <a:t>ambulatory care/ hospit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2680" y="3276720"/>
            <a:ext cx="247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hoice of fund</a:t>
            </a:r>
            <a:br>
              <a:rPr sz="2800"/>
            </a:b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since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139800" y="2708280"/>
            <a:ext cx="277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Contracts,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mostly coll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38080" y="2540160"/>
            <a:ext cx="35074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Strong</a:t>
            </a:r>
            <a:br>
              <a:rPr sz="3200"/>
            </a:b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delegation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&amp; limited</a:t>
            </a:r>
            <a:br>
              <a:rPr sz="2800"/>
            </a:b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governmental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760" y="6324480"/>
            <a:ext cx="5912640" cy="48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000000"/>
                </a:solidFill>
                <a:latin typeface="Times New Roman"/>
              </a:rPr>
              <a:t>The German system at a glance (2007) ..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14800" y="685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hird-party pay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92360" y="187200"/>
            <a:ext cx="935280" cy="505080"/>
          </a:xfrm>
          <a:custGeom>
            <a:avLst/>
            <a:gdLst>
              <a:gd name="textAreaLeft" fmla="*/ 163440 w 935280"/>
              <a:gd name="textAreaRight" fmla="*/ 678240 w 935280"/>
              <a:gd name="textAreaTop" fmla="*/ 67680 h 505080"/>
              <a:gd name="textAreaBottom" fmla="*/ 437400 h 505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42200" y="173160"/>
            <a:ext cx="821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s-ES_tradnl" sz="2800" spc="-1" strike="noStrike">
                <a:solidFill>
                  <a:srgbClr val="ff0000"/>
                </a:solidFill>
                <a:latin typeface="Arial"/>
              </a:rPr>
              <a:t>Risk-structure          compensation” </a:t>
            </a:r>
            <a:r>
              <a:rPr b="0" i="1" lang="es-ES_tradnl" sz="2800" spc="-1" strike="noStrike">
                <a:solidFill>
                  <a:srgbClr val="ff0000"/>
                </a:solidFill>
                <a:latin typeface="Arial"/>
              </a:rPr>
              <a:t>since 1994/95</a:t>
            </a:r>
            <a:r>
              <a:rPr b="0" lang="es-ES_tradn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987640" y="2420640"/>
            <a:ext cx="360360" cy="57636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53800" y="4925880"/>
            <a:ext cx="1288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99"/>
                </a:solidFill>
                <a:latin typeface="Arial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5445000"/>
            <a:ext cx="2663640" cy="0"/>
          </a:xfrm>
          <a:prstGeom prst="line">
            <a:avLst/>
          </a:prstGeom>
          <a:ln w="5724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920" y="242100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Risk-related prem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38400" y="3573360"/>
            <a:ext cx="218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No contra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61080" y="1685880"/>
            <a:ext cx="376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ff"/>
                </a:solidFill>
                <a:latin typeface="Arial"/>
              </a:rPr>
              <a:t>Ca. 50 private ins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6094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Collector of resour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250920" y="189000"/>
          <a:ext cx="8713800" cy="6462720"/>
        </p:xfrm>
        <a:graphic>
          <a:graphicData uri="http://schemas.openxmlformats.org/drawingml/2006/table">
            <a:tbl>
              <a:tblPr/>
              <a:tblGrid>
                <a:gridCol w="1454040"/>
                <a:gridCol w="4354560"/>
                <a:gridCol w="2905200"/>
              </a:tblGrid>
              <a:tr h="68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tatutory Health Insurance (SH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rivate Health Insurance (PH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ation cover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7%: </a:t>
                      </a:r>
                      <a:r>
                        <a:rPr b="0" lang="de-DE" sz="1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75% mandatorily</a:t>
                      </a: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employed up to income ceiling, unemployed, retired …) + </a:t>
                      </a:r>
                      <a:r>
                        <a:rPr b="0" lang="de-DE" sz="19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</a:rPr>
                        <a:t>12% voluntari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%, </a:t>
                      </a:r>
                      <a:r>
                        <a:rPr b="0" lang="de-DE" sz="1900" spc="-1" strike="noStrike" u="sng">
                          <a:solidFill>
                            <a:srgbClr val="000099"/>
                          </a:solidFill>
                          <a:uFillTx/>
                          <a:latin typeface="Arial"/>
                        </a:rPr>
                        <a:t>mainly excluded from SHI</a:t>
                      </a: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(self-employed, civil cervant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ts cover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Uniform and broad: hospital, ambulatory care, pharmaceuticals, dental care, rehabilitation, transport, sick pay …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epending on cho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rcentage on wages (on average 14.5%), shared between employer and insured – NOT risk-related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isk-related premium </a:t>
                      </a:r>
                      <a:r>
                        <a:rPr b="0" i="1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better for high incom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ur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. 220 sickness funds (self-governing not-for profit entities under public law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a. 50 insurers under prvate law (FP/ NFP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cial Code Book (= law), details through self-regulation (main actor: Federal Joint Committee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nsurance law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hoice among all contracted providers (ca. 97% in ambulatory care, 99% hospital beds)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9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ree choic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 rot="20222400">
            <a:off x="1831680" y="18331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2997360"/>
            <a:ext cx="1676520" cy="39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Hospital 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3878640" y="2629440"/>
            <a:ext cx="158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43200" y="216000"/>
            <a:ext cx="3809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Parlia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72400" y="2454120"/>
            <a:ext cx="7621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1371600"/>
            <a:ext cx="1828800" cy="59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suree/ Pat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2286000"/>
            <a:ext cx="1676520" cy="24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87280" y="2286000"/>
            <a:ext cx="1860840" cy="24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638680" y="1249200"/>
            <a:ext cx="198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 hospital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74560"/>
            <a:ext cx="198108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52280" y="577800"/>
            <a:ext cx="0" cy="3681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14400" y="2814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425916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247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6400" y="144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914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3080" y="574560"/>
            <a:ext cx="182880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839080" y="577800"/>
            <a:ext cx="0" cy="3465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772400" y="9381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4520" y="914400"/>
            <a:ext cx="0" cy="15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5880" y="152280"/>
            <a:ext cx="1676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pre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n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81480" y="944640"/>
            <a:ext cx="21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638680" y="36813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38680" y="4043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638680" y="447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53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regional fun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53080" y="39988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15200" y="216000"/>
            <a:ext cx="159372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Ministr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2527200"/>
            <a:ext cx="1860840" cy="51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 (Regional) Physicians’ Associations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5880" y="2527200"/>
            <a:ext cx="1676520" cy="456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 Regional Hospital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4114800"/>
            <a:ext cx="2133360" cy="39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Federal associations o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ckness f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04920" y="577440"/>
            <a:ext cx="0" cy="31035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7200" y="649440"/>
            <a:ext cx="0" cy="2598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440" y="216000"/>
            <a:ext cx="1594080" cy="5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Minist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Health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76160" y="1249200"/>
            <a:ext cx="7467840" cy="4988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7221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914400"/>
            <a:ext cx="0" cy="19000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3681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16200000">
            <a:off x="4182480" y="2637360"/>
            <a:ext cx="1587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472428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87692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3537000"/>
            <a:ext cx="243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country-wide funds (via Federal Insurance Autho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304812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4475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535280" y="6308640"/>
            <a:ext cx="377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utory health insurance earl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828800" y="1515600"/>
            <a:ext cx="182880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22860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20164200">
            <a:off x="1374480" y="18046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54864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5486400" y="1515600"/>
            <a:ext cx="182880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rot="1388400">
            <a:off x="5025600" y="1833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rot="1435800">
            <a:off x="5333760" y="1752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8120" y="281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352680" y="281448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352680" y="3970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1320" y="2454120"/>
            <a:ext cx="0" cy="1444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91320" y="245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48640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05320" y="3786120"/>
            <a:ext cx="2133360" cy="3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ckness funds in one region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15228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osal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health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 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2946960" y="3072240"/>
            <a:ext cx="100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rot="16200000">
            <a:off x="5157000" y="278352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05320" y="3570120"/>
            <a:ext cx="2133360" cy="2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ckness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743200" y="433440"/>
            <a:ext cx="182880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emb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undesta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433440"/>
            <a:ext cx="198108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deral Council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Bundesra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2949480"/>
            <a:ext cx="1860840" cy="54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ociation of SHI Physician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4403880"/>
            <a:ext cx="16765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425916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280" y="4692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4440240"/>
            <a:ext cx="19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aluation Committe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&amp; Institute: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ting of relative point val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553080" y="44038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4365720"/>
            <a:ext cx="167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ittee &amp; Institut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r Hospita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imbursment: DR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340000" y="5877000"/>
            <a:ext cx="2590920" cy="21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340360" y="5848200"/>
            <a:ext cx="255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stitute for Quality and Efficiency (IQWi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8686800" y="990720"/>
            <a:ext cx="0" cy="2690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rot="16195800">
            <a:off x="7809480" y="1623240"/>
            <a:ext cx="125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listment in hospital pla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048120" y="1949040"/>
            <a:ext cx="15238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rot="20095800">
            <a:off x="2895480" y="228600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946080"/>
            <a:ext cx="95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egislative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4920" y="4068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449568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1752480"/>
            <a:ext cx="3962520" cy="2286000"/>
          </a:xfrm>
          <a:prstGeom prst="diamond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175248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042920" y="1289160"/>
            <a:ext cx="1656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Ambulat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75640" y="1531800"/>
            <a:ext cx="12967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imes New Roman"/>
              </a:rPr>
              <a:t>Inpat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3280" y="792000"/>
            <a:ext cx="795168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Delegation = State only defines legal framewor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353400" y="2592360"/>
            <a:ext cx="229464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Sectoris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771640" y="4724280"/>
            <a:ext cx="3672000" cy="8654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deral Joint Committee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(since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84360" y="3500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38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amework contract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29480" y="51562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88000" y="5192640"/>
            <a:ext cx="167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deral Office fo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43280" y="3500280"/>
            <a:ext cx="73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6011640" y="342900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00720" y="450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563640" y="551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0560" y="4284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56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issio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23960" y="2735280"/>
            <a:ext cx="199872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Federal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372360" y="5300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rot="20222400">
            <a:off x="1831680" y="18331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2997360"/>
            <a:ext cx="1676520" cy="396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Hospital 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6200000">
            <a:off x="3878640" y="2629440"/>
            <a:ext cx="1587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743200" y="216000"/>
            <a:ext cx="3809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Parlia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772400" y="2454120"/>
            <a:ext cx="7621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1371600"/>
            <a:ext cx="1828800" cy="59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Insuree/ Pat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95880" y="2286000"/>
            <a:ext cx="1676520" cy="2440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ospi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87280" y="2286000"/>
            <a:ext cx="1860840" cy="24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ysici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638680" y="1249200"/>
            <a:ext cx="1981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 hospital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574560"/>
            <a:ext cx="198108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152280" y="577800"/>
            <a:ext cx="0" cy="36813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28144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4259160"/>
            <a:ext cx="335304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3247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86400" y="144288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14400" y="9144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574560"/>
            <a:ext cx="182880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839080" y="577800"/>
            <a:ext cx="0" cy="34657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772400" y="93816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34520" y="914400"/>
            <a:ext cx="0" cy="15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5880" y="152280"/>
            <a:ext cx="16765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pre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n-</a:t>
            </a:r>
            <a:br>
              <a:rPr sz="800"/>
            </a:b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81480" y="944640"/>
            <a:ext cx="21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3681360"/>
            <a:ext cx="304812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404352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44751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791320" y="353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regional fund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553080" y="39988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216000"/>
            <a:ext cx="159372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Ministr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ponsible for heal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187280" y="2527200"/>
            <a:ext cx="1860840" cy="51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7 (Regional) Physicians’ Associations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5880" y="2527200"/>
            <a:ext cx="1676520" cy="456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20000"/>
              </a:lnSpc>
              <a:spcBef>
                <a:spcPts val="624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6 Regional Hospital Organiz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4114800"/>
            <a:ext cx="2133360" cy="39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 federal association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sickness fun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304920" y="577440"/>
            <a:ext cx="0" cy="31035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57200" y="649440"/>
            <a:ext cx="0" cy="25984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2440" y="216000"/>
            <a:ext cx="1594080" cy="51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Ministr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Health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6160" y="1249200"/>
            <a:ext cx="7467840" cy="4988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0" y="722160"/>
            <a:ext cx="0" cy="505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14400" y="914400"/>
            <a:ext cx="0" cy="19000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368136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182480" y="2637360"/>
            <a:ext cx="1587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contrac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72428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4876920" y="1949040"/>
            <a:ext cx="0" cy="16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1028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3537000"/>
            <a:ext cx="2438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 of country-wide funds (via Federal Insurance Autho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04812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44751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133720" y="3392640"/>
            <a:ext cx="0" cy="101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535280" y="6308640"/>
            <a:ext cx="377568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tutory health insurance early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1828800" y="1515600"/>
            <a:ext cx="1828800" cy="7700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2860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20164200">
            <a:off x="1374480" y="18046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5486400" y="1731600"/>
            <a:ext cx="1371600" cy="577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 flipV="1">
            <a:off x="5486400" y="1515600"/>
            <a:ext cx="1828800" cy="79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 rot="1388400">
            <a:off x="5025600" y="1833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eedom to cho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 rot="1435800">
            <a:off x="5333760" y="175248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tre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8120" y="2814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352680" y="2814480"/>
            <a:ext cx="0" cy="115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52680" y="3970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91320" y="2454120"/>
            <a:ext cx="0" cy="14446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791320" y="24541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86400" y="389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505320" y="3786120"/>
            <a:ext cx="2133360" cy="36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ckness funds in one region</a:t>
            </a:r>
            <a:br>
              <a:rPr sz="8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152280"/>
            <a:ext cx="198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osal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health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orm a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2946960" y="3072240"/>
            <a:ext cx="1009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5157000" y="2783520"/>
            <a:ext cx="1009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inancial negoti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05320" y="3570120"/>
            <a:ext cx="2133360" cy="244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ckness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433440"/>
            <a:ext cx="182880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embly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undesta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433440"/>
            <a:ext cx="1981080" cy="39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ederal Council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(Bundesrat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87280" y="2949480"/>
            <a:ext cx="1860840" cy="548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ederal Association of SHI Physicians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4403880"/>
            <a:ext cx="1676520" cy="50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4259160"/>
            <a:ext cx="0" cy="4334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52280" y="46926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14400" y="4440240"/>
            <a:ext cx="198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aluation Committee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&amp; Institute:</a:t>
            </a:r>
            <a:br>
              <a:rPr sz="900"/>
            </a:b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Setting of relative point valu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553080" y="44038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400800" y="4365720"/>
            <a:ext cx="1676520" cy="5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Committee &amp; Institute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or Hospital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Reimbursment: DR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340000" y="5877000"/>
            <a:ext cx="2590920" cy="216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340360" y="5848200"/>
            <a:ext cx="2558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Institute for Quality and Efficiency (IQWi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8686800" y="990720"/>
            <a:ext cx="0" cy="269064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16195800">
            <a:off x="7809480" y="1623240"/>
            <a:ext cx="1250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nlistment in hospital pla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3048120" y="1949040"/>
            <a:ext cx="1523880" cy="7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0095800">
            <a:off x="2895480" y="2286000"/>
            <a:ext cx="1981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Obligation to secure</a:t>
            </a:r>
            <a:br>
              <a:rPr sz="700"/>
            </a:b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mbulatory ca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57600" y="946080"/>
            <a:ext cx="956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Legislative fr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04920" y="4068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4495680"/>
            <a:ext cx="914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4600" y="1752480"/>
            <a:ext cx="3962520" cy="2286000"/>
          </a:xfrm>
          <a:prstGeom prst="diamond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1752480"/>
            <a:ext cx="0" cy="228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771640" y="4724280"/>
            <a:ext cx="3672000" cy="865440"/>
          </a:xfrm>
          <a:prstGeom prst="ellipse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ederal Joint Committee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(since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84360" y="350028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692360" y="38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Framework contract”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29480" y="5156280"/>
            <a:ext cx="1371600" cy="504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88000" y="5192640"/>
            <a:ext cx="1676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Federal Office for</a:t>
            </a:r>
            <a:br>
              <a:rPr sz="1000"/>
            </a:b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43280" y="3500280"/>
            <a:ext cx="7308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011640" y="3429000"/>
            <a:ext cx="21564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500720" y="450864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3563640" y="551664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20560" y="428472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ervis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24000" y="5607000"/>
            <a:ext cx="22860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missio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6156000" y="5106960"/>
            <a:ext cx="43164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H="1">
            <a:off x="4932000" y="5948280"/>
            <a:ext cx="43164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367240" y="5846760"/>
            <a:ext cx="1941120" cy="8254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Evaluation of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drug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8720" y="115920"/>
            <a:ext cx="6958080" cy="94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Even though certain regulatory institutions</a:t>
            </a:r>
            <a:br>
              <a:rPr sz="2800"/>
            </a:br>
            <a:r>
              <a:rPr b="0" lang="de-DE" sz="2800" spc="-1" strike="noStrike">
                <a:solidFill>
                  <a:srgbClr val="ffffff"/>
                </a:solidFill>
                <a:latin typeface="Times New Roman"/>
              </a:rPr>
              <a:t>and programmes have become trans-sectoral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30880" y="6192720"/>
            <a:ext cx="3722400" cy="550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00000"/>
                </a:solidFill>
                <a:latin typeface="Times New Roman"/>
              </a:rPr>
              <a:t>Joint self-gover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72360" y="5300640"/>
            <a:ext cx="360360" cy="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590160" y="3233880"/>
            <a:ext cx="245160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Memb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9 sickness f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9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3 neu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+ 9 patients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(no voting righ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87280" y="115920"/>
            <a:ext cx="853272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care coordination, quality and</a:t>
            </a:r>
            <a:br>
              <a:rPr sz="3800"/>
            </a:br>
            <a:r>
              <a:rPr b="0" lang="de-DE" sz="3800" spc="-1" strike="noStrike">
                <a:solidFill>
                  <a:srgbClr val="000000"/>
                </a:solidFill>
                <a:latin typeface="Arial"/>
              </a:rPr>
              <a:t>cost-effectiveness are problematic</a:t>
            </a:r>
            <a:endParaRPr b="0" lang="en-US" sz="3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51920" y="1125360"/>
            <a:ext cx="89154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ermany always knew that its health care system was expensive, but was sure it was worth it (“the best system“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Quality assurance was introduced early but concentrated initially on structur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creasing doubts since late 1990s: Health Technology Assessment introduced since 1997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World Health Report 2000: Germany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nly # 25 in terms of performance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efficiency)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rnational comparative studi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emonstrate only average quality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especially low for chronically ill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6095880" y="3657600"/>
            <a:ext cx="2527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Times New Roman"/>
              </a:rPr>
              <a:t>Legal attempts to improve care coordination/ overcome sectorisation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68000" y="2052720"/>
            <a:ext cx="82803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re- and post-inpatient care in hospitals (1997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ated [i.e. transsectoral] care“ contracts (2000; funded with 1% of expenditure 2004-2008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Disease Management Programmes (2002) -&gt; 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next slid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olyclinics (potentially with hospital owners, 2004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GP contracts“ (insured choose GP as gatekeeper; 2004, have to be offered since 2007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mbulatory care in hospitals for patients with selected rare/ difficult diseases (2004)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9T11:10:13Z</dcterms:created>
  <dc:creator>Phyllis Dahl</dc:creator>
  <dc:description/>
  <dc:language>en-US</dc:language>
  <cp:lastModifiedBy>hallas</cp:lastModifiedBy>
  <cp:lastPrinted>2000-12-12T19:34:05Z</cp:lastPrinted>
  <dcterms:modified xsi:type="dcterms:W3CDTF">2008-05-14T15:35:15Z</dcterms:modified>
  <cp:revision>110</cp:revision>
  <dc:subject/>
  <dc:title>No Slide Title</dc:title>
</cp:coreProperties>
</file>