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22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31.png" ContentType="image/png"/>
  <Override PartName="/ppt/media/image7.png" ContentType="image/png"/>
  <Override PartName="/ppt/media/image34.jpeg" ContentType="image/jpeg"/>
  <Override PartName="/ppt/media/image35.wmf" ContentType="image/x-wmf"/>
  <Override PartName="/ppt/media/image37.jpeg" ContentType="image/jpeg"/>
  <Override PartName="/ppt/media/image3.jpeg" ContentType="image/jpeg"/>
  <Override PartName="/ppt/media/image30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7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6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7"/>
          </p:nvPr>
        </p:nvSpPr>
        <p:spPr>
          <a:xfrm>
            <a:off x="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8"/>
          </p:nvPr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97CC-306F-40CE-ABA3-EA641963A4A0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C338-F309-4BF3-A473-709A5DFCE2B3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3687-99F2-468C-AAB9-433875609A34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A10C-76D1-4E8B-B20F-2024C141E47D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04A6-D74E-4AEA-94D9-8D98CE51A953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9458-8A66-4990-B737-E34B85C0F855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A3DB-68A9-4080-B586-17DB0F69DED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E7CE-28D1-482F-B02D-9BF0AC687AC4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8B6E-724D-4C83-8284-068BBD0933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4277-E223-41B7-BBD8-39ADE164869C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049E-9E54-449E-BF85-E5F624C75CAE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F380-EB12-4B2E-BE55-1DE01A257E67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33C6-F2E1-4C8C-A9B5-D10E76142D00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E909-C1EA-4A72-B9C4-21E179C962EC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6BF7-08EA-440D-A08F-35F6084CA8CF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109D-0679-427F-8F63-60BEDF4B11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34B1-A436-4E71-9692-B6FB435D28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C3FC-B269-4E4C-9103-4ECCA73419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1820-F361-4D26-BAA4-D2256509B7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ABF4-A3E9-4DCF-9694-0147A5EBCEAD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42EB-EBF9-4FD8-9390-F16C22F9A810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A174-06FA-4925-B895-45C750BA093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A98D-8AD1-446A-BC48-28D96A55EC0A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78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90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1704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78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90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50607-5B33-441A-82A7-70AEDA8440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CC0ED-663E-4222-84D9-811A6ADE7E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849DA-C2DC-4B59-9A79-FE2BFB2731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5ED28-567F-4230-884B-42747AFAF4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3AE22-5FC2-488A-A982-E33405BC76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25BC3-2D49-464F-91B8-037D906A2B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DCF9-7C60-4C8A-9211-268E51D1E8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DE4A-F09C-41FF-88F0-60C6C821A7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ABA8-2154-41E0-A05A-D8FF7A29F3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C59DA-A443-4C8F-B6C1-7678D5259E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017F3-2217-44AA-90D9-BE28C1EBE8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78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90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1704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878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590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797B-2055-483B-BBA1-1D4B408679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878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590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1704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878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590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37A79-F5EA-4140-8EC8-06453ECD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C2276-5BA1-40F1-9959-5045FD92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286A5-8EB8-4042-BBA3-9739CA58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CDBDA-66ED-40C5-84C7-1DCDC16B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9CED2-E5F9-45F4-A9F5-EE98878F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E17F2-2DC2-4A10-96CF-386FE6D4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9F79D-8BC0-4875-B80F-E1D64A76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212E2-1914-49FD-B412-72EA9768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5EB7C-766F-4254-B9DA-ED4007CF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EC404-61A4-41E6-9110-B0C0FB5A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EA8F6-E593-4C35-8C24-5F80E0C1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878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590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1704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878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590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719C4-D9BF-48E5-A06F-A34AA879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878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590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1704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878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590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1" marL="723960" indent="-363600">
              <a:spcBef>
                <a:spcPts val="601"/>
              </a:spcBef>
              <a:buClr>
                <a:srgbClr val="4b4f5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3" marL="133344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4" marL="1727280" indent="-20340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5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6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" name="TextBox 11"/>
          <p:cNvSpPr/>
          <p:nvPr/>
        </p:nvSpPr>
        <p:spPr>
          <a:xfrm>
            <a:off x="1857240" y="6500880"/>
            <a:ext cx="7146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0" y="1303200"/>
            <a:ext cx="9144000" cy="4399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9" name="Rectangle 6"/>
          <p:cNvSpPr/>
          <p:nvPr/>
        </p:nvSpPr>
        <p:spPr>
          <a:xfrm>
            <a:off x="0" y="1303200"/>
            <a:ext cx="9144000" cy="4399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1" marL="723960" indent="-363600">
              <a:spcBef>
                <a:spcPts val="601"/>
              </a:spcBef>
              <a:buClr>
                <a:srgbClr val="4b4f5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3" marL="133344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4" marL="1727280" indent="-20340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5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6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1"/>
          </p:nvPr>
        </p:nvSpPr>
        <p:spPr>
          <a:xfrm>
            <a:off x="4571640" y="6500880"/>
            <a:ext cx="400068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© Imperial College Business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50976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EA64-0E19-421C-BF2A-74A9C935CB09}" type="slidenum">
              <a:rPr b="0" lang="en-GB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1" marL="723960" indent="-363600">
              <a:spcBef>
                <a:spcPts val="601"/>
              </a:spcBef>
              <a:buClr>
                <a:srgbClr val="4b4f5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3" marL="133344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4" marL="1727280" indent="-20340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5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6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1"/>
          <p:cNvSpPr/>
          <p:nvPr/>
        </p:nvSpPr>
        <p:spPr>
          <a:xfrm>
            <a:off x="1857240" y="6500880"/>
            <a:ext cx="7146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1" marL="723960" indent="-363600">
              <a:spcBef>
                <a:spcPts val="601"/>
              </a:spcBef>
              <a:buClr>
                <a:srgbClr val="4b4f5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3" marL="133344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4" marL="1727280" indent="-20340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5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6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5939-9D8E-4D99-82AE-F5D23B3D8AB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0" y="1054080"/>
            <a:ext cx="9144000" cy="580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1" marL="723960" indent="-363600">
              <a:spcBef>
                <a:spcPts val="601"/>
              </a:spcBef>
              <a:buClr>
                <a:srgbClr val="4b4f5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3" marL="133344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4" marL="1727280" indent="-20340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5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6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haciric.org/Default.aspx?base" TargetMode="External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Main_entrance_and_Tanaka_(3) copy.jpg"/>
          <p:cNvPicPr/>
          <p:nvPr/>
        </p:nvPicPr>
        <p:blipFill>
          <a:blip r:embed="rId1"/>
          <a:stretch/>
        </p:blipFill>
        <p:spPr>
          <a:xfrm>
            <a:off x="0" y="1746360"/>
            <a:ext cx="9144000" cy="51116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58320" y="4357440"/>
            <a:ext cx="63500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e Hendy, James Barlow, Theti Crysanthank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ay  2011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856800" y="2499840"/>
            <a:ext cx="75726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c0217"/>
                </a:solidFill>
                <a:latin typeface="Arial"/>
              </a:rPr>
              <a:t>Implementing remote care in the UK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1303200"/>
            <a:ext cx="9144000" cy="4399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2"/>
          <a:stretch/>
        </p:blipFill>
        <p:spPr>
          <a:xfrm>
            <a:off x="515880" y="165240"/>
            <a:ext cx="2062080" cy="1006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Master Logo"/>
          <p:cNvPicPr/>
          <p:nvPr/>
        </p:nvPicPr>
        <p:blipFill>
          <a:blip r:embed="rId3"/>
          <a:stretch/>
        </p:blipFill>
        <p:spPr>
          <a:xfrm>
            <a:off x="6300720" y="115920"/>
            <a:ext cx="24289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71960" y="1425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Geographical sprea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Group 15"/>
          <p:cNvGrpSpPr/>
          <p:nvPr/>
        </p:nvGrpSpPr>
        <p:grpSpPr>
          <a:xfrm>
            <a:off x="785880" y="192240"/>
            <a:ext cx="2405160" cy="3133800"/>
            <a:chOff x="785880" y="192240"/>
            <a:chExt cx="2405160" cy="3133800"/>
          </a:xfrm>
        </p:grpSpPr>
        <p:sp>
          <p:nvSpPr>
            <p:cNvPr id="272" name="TextBox 127"/>
            <p:cNvSpPr/>
            <p:nvPr/>
          </p:nvSpPr>
          <p:spPr>
            <a:xfrm>
              <a:off x="1713240" y="3143160"/>
              <a:ext cx="56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06-07</a:t>
              </a:r>
              <a:endParaRPr b="0" i="1" lang="en-US" sz="12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rcRect l="55237" t="21803" r="23595" b="25087"/>
            <a:stretch/>
          </p:blipFill>
          <p:spPr>
            <a:xfrm>
              <a:off x="785880" y="192240"/>
              <a:ext cx="2405160" cy="28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Group 18"/>
          <p:cNvGrpSpPr/>
          <p:nvPr/>
        </p:nvGrpSpPr>
        <p:grpSpPr>
          <a:xfrm>
            <a:off x="4276800" y="3511440"/>
            <a:ext cx="2405160" cy="3171600"/>
            <a:chOff x="4276800" y="3511440"/>
            <a:chExt cx="2405160" cy="3171600"/>
          </a:xfrm>
        </p:grpSpPr>
        <p:sp>
          <p:nvSpPr>
            <p:cNvPr id="275" name="TextBox 126"/>
            <p:cNvSpPr/>
            <p:nvPr/>
          </p:nvSpPr>
          <p:spPr>
            <a:xfrm>
              <a:off x="5428080" y="6500160"/>
              <a:ext cx="56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09-10</a:t>
              </a:r>
              <a:endParaRPr b="0" i="1" lang="en-US" sz="12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pic>
          <p:nvPicPr>
            <p:cNvPr id="276" name="Picture 12" descr=""/>
            <p:cNvPicPr/>
            <p:nvPr/>
          </p:nvPicPr>
          <p:blipFill>
            <a:blip r:embed="rId2"/>
            <a:srcRect l="54531" t="20985" r="23985" b="25248"/>
            <a:stretch/>
          </p:blipFill>
          <p:spPr>
            <a:xfrm>
              <a:off x="4276800" y="3511440"/>
              <a:ext cx="2405160" cy="288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TextBox 10"/>
          <p:cNvSpPr/>
          <p:nvPr/>
        </p:nvSpPr>
        <p:spPr>
          <a:xfrm>
            <a:off x="7286760" y="4857840"/>
            <a:ext cx="171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Based on CQC returns.</a:t>
            </a:r>
            <a:endParaRPr b="0" i="1" lang="en-US" sz="1000" spc="-1" strike="noStrike">
              <a:solidFill>
                <a:srgbClr val="6e6e6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Per 10,000 population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cludes LA and other agency services.</a:t>
            </a:r>
            <a:endParaRPr b="0" i="1" lang="en-US" sz="1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Another approach – how big is the </a:t>
            </a:r>
            <a:r>
              <a:rPr b="0" lang="en-GB" sz="2800" spc="-1" strike="noStrike" u="sng">
                <a:solidFill>
                  <a:srgbClr val="c00000"/>
                </a:solidFill>
                <a:uFillTx/>
                <a:latin typeface="Arial"/>
              </a:rPr>
              <a:t>potential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marke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26"/>
          <p:cNvGrpSpPr/>
          <p:nvPr/>
        </p:nvGrpSpPr>
        <p:grpSpPr>
          <a:xfrm>
            <a:off x="142920" y="642960"/>
            <a:ext cx="3000240" cy="3000240"/>
            <a:chOff x="142920" y="642960"/>
            <a:chExt cx="3000240" cy="3000240"/>
          </a:xfrm>
        </p:grpSpPr>
        <p:sp>
          <p:nvSpPr>
            <p:cNvPr id="280" name="Oval 24"/>
            <p:cNvSpPr/>
            <p:nvPr/>
          </p:nvSpPr>
          <p:spPr>
            <a:xfrm>
              <a:off x="142920" y="642960"/>
              <a:ext cx="3000240" cy="30002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281" name="TextBox 25"/>
            <p:cNvSpPr/>
            <p:nvPr/>
          </p:nvSpPr>
          <p:spPr>
            <a:xfrm>
              <a:off x="500040" y="1793520"/>
              <a:ext cx="2286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ff"/>
                  </a:solidFill>
                  <a:latin typeface="Verdana"/>
                </a:rPr>
                <a:t>Potential remote care market 2010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1,400,000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</p:grpSp>
      <p:pic>
        <p:nvPicPr>
          <p:cNvPr id="282" name="Group 26" descr=""/>
          <p:cNvPicPr/>
          <p:nvPr/>
        </p:nvPicPr>
        <p:blipFill>
          <a:blip r:embed="rId1"/>
          <a:stretch/>
        </p:blipFill>
        <p:spPr>
          <a:xfrm>
            <a:off x="4151160" y="1487520"/>
            <a:ext cx="1616400" cy="1620720"/>
          </a:xfrm>
          <a:prstGeom prst="rect">
            <a:avLst/>
          </a:prstGeom>
          <a:ln w="0">
            <a:noFill/>
          </a:ln>
        </p:spPr>
      </p:pic>
      <p:pic>
        <p:nvPicPr>
          <p:cNvPr id="283" name="Group 26" descr=""/>
          <p:cNvPicPr/>
          <p:nvPr/>
        </p:nvPicPr>
        <p:blipFill>
          <a:blip r:embed="rId2"/>
          <a:stretch/>
        </p:blipFill>
        <p:spPr>
          <a:xfrm>
            <a:off x="858960" y="3913200"/>
            <a:ext cx="1725480" cy="17319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26"/>
          <p:cNvGrpSpPr/>
          <p:nvPr/>
        </p:nvGrpSpPr>
        <p:grpSpPr>
          <a:xfrm>
            <a:off x="4948200" y="4535640"/>
            <a:ext cx="2195280" cy="639720"/>
            <a:chOff x="4948200" y="4535640"/>
            <a:chExt cx="2195280" cy="639720"/>
          </a:xfrm>
        </p:grpSpPr>
        <p:sp>
          <p:nvSpPr>
            <p:cNvPr id="285" name="Oval 40"/>
            <p:cNvSpPr/>
            <p:nvPr/>
          </p:nvSpPr>
          <p:spPr>
            <a:xfrm>
              <a:off x="4948200" y="4714560"/>
              <a:ext cx="324000" cy="323640"/>
            </a:xfrm>
            <a:prstGeom prst="ellipse">
              <a:avLst/>
            </a:prstGeom>
            <a:solidFill>
              <a:srgbClr val="f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286" name="TextBox 41"/>
            <p:cNvSpPr/>
            <p:nvPr/>
          </p:nvSpPr>
          <p:spPr>
            <a:xfrm flipV="1" rot="10800000">
              <a:off x="5104080" y="4535280"/>
              <a:ext cx="20394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Verdana"/>
                </a:rPr>
                <a:t>Actual telehealth market 2010</a:t>
              </a:r>
              <a:endParaRPr b="0" i="1" lang="en-US" sz="1400" spc="-1" strike="noStrike">
                <a:solidFill>
                  <a:srgbClr val="6e6e6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2,500</a:t>
              </a:r>
              <a:endParaRPr b="0" i="1" lang="en-US" sz="1400" spc="-1" strike="noStrike">
                <a:solidFill>
                  <a:srgbClr val="6e6e6f"/>
                </a:solidFill>
                <a:latin typeface="Verdana"/>
              </a:endParaRPr>
            </a:p>
          </p:txBody>
        </p:sp>
      </p:grpSp>
      <p:sp>
        <p:nvSpPr>
          <p:cNvPr id="287" name="Oval 15"/>
          <p:cNvSpPr/>
          <p:nvPr/>
        </p:nvSpPr>
        <p:spPr>
          <a:xfrm>
            <a:off x="142920" y="3714840"/>
            <a:ext cx="3000240" cy="300024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88" name="Oval 18"/>
          <p:cNvSpPr/>
          <p:nvPr/>
        </p:nvSpPr>
        <p:spPr>
          <a:xfrm>
            <a:off x="3448080" y="714240"/>
            <a:ext cx="3000240" cy="300060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89" name="Oval 20"/>
          <p:cNvSpPr/>
          <p:nvPr/>
        </p:nvSpPr>
        <p:spPr>
          <a:xfrm>
            <a:off x="4233960" y="4416480"/>
            <a:ext cx="1728720" cy="172728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90" name="TextBox 19"/>
          <p:cNvSpPr/>
          <p:nvPr/>
        </p:nvSpPr>
        <p:spPr>
          <a:xfrm>
            <a:off x="7286760" y="4651200"/>
            <a:ext cx="17143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based on CQC returns, JIT (Scotland) data, and authors’ research for WAG.  Telehealth figures from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Minutes of the Strategic Intelligence Monitor on Personal Health Systems [SIMPHS] meeting, Brussels, 17-18 November 2009.</a:t>
            </a:r>
            <a:endParaRPr b="0" i="1" lang="en-US" sz="1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91" name="TextBox 21"/>
          <p:cNvSpPr/>
          <p:nvPr/>
        </p:nvSpPr>
        <p:spPr>
          <a:xfrm>
            <a:off x="7000920" y="785880"/>
            <a:ext cx="2071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umptions: </a:t>
            </a: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K population aged 75+ rises from 4.9m  (2010) today to 11.4m by 2050</a:t>
            </a: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85% of older people wish to remain at home as long as possible</a:t>
            </a: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/3 needs remote care at any given time</a:t>
            </a: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617400" y="1285920"/>
          <a:ext cx="7899480" cy="4916520"/>
        </p:xfrm>
        <a:graphic>
          <a:graphicData uri="http://schemas.openxmlformats.org/drawingml/2006/table">
            <a:tbl>
              <a:tblPr/>
              <a:tblGrid>
                <a:gridCol w="3949920"/>
                <a:gridCol w="3949560"/>
              </a:tblGrid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emedicine </a:t>
                      </a:r>
                      <a:endParaRPr b="0" i="1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ecare / telehealth </a:t>
                      </a:r>
                      <a:endParaRPr b="0" i="1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281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med at </a:t>
                      </a: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diagnosis or referral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usually focusing on </a:t>
                      </a: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pecific conditions </a:t>
                      </a:r>
                      <a:endParaRPr b="0" i="1" lang="en-US" sz="16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ings </a:t>
                      </a: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care directly to the end-user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ly in a non-institutional setting like Hypertension monitoring in own home </a:t>
                      </a:r>
                      <a:endParaRPr b="0" i="1" lang="en-US" sz="16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69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s of </a:t>
                      </a: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‘tele-ologies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e.g. teledermatology, teleradiology)</a:t>
                      </a:r>
                      <a:endParaRPr b="0" i="1" lang="en-US" sz="16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us on </a:t>
                      </a: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monitoring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 prevention or safety and security, or </a:t>
                      </a: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advice and support</a:t>
                      </a:r>
                      <a:endParaRPr b="0" i="1" lang="en-US" sz="16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sentially a </a:t>
                      </a:r>
                      <a:r>
                        <a:rPr b="1" lang="en-GB" sz="20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B2B</a:t>
                      </a: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mode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patient may or may not be present)</a:t>
                      </a:r>
                      <a:endParaRPr b="0" i="1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ly a </a:t>
                      </a:r>
                      <a:r>
                        <a:rPr b="1" lang="en-GB" sz="20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B2C</a:t>
                      </a: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mode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atient always present)</a:t>
                      </a:r>
                      <a:endParaRPr b="0" i="1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Few stakeholder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 relatively easy to implement</a:t>
                      </a:r>
                      <a:endParaRPr b="0" i="1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any stakeholder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far more complex and inherently harder to implement</a:t>
                      </a:r>
                      <a:endParaRPr b="0" i="1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93" name="Title 7"/>
          <p:cNvSpPr/>
          <p:nvPr/>
        </p:nvSpPr>
        <p:spPr>
          <a:xfrm>
            <a:off x="5000760" y="357120"/>
            <a:ext cx="41432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94" name="Freeform 5"/>
          <p:cNvSpPr/>
          <p:nvPr/>
        </p:nvSpPr>
        <p:spPr>
          <a:xfrm>
            <a:off x="4286160" y="3787920"/>
            <a:ext cx="4643640" cy="2782800"/>
          </a:xfrm>
          <a:custGeom>
            <a:avLst/>
            <a:gdLst>
              <a:gd name="textAreaLeft" fmla="*/ 0 w 4643640"/>
              <a:gd name="textAreaRight" fmla="*/ 4644000 w 4643640"/>
              <a:gd name="textAreaTop" fmla="*/ 0 h 2782800"/>
              <a:gd name="textAreaBottom" fmla="*/ 2783160 h 2782800"/>
            </a:gdLst>
            <a:ahLst/>
            <a:rect l="textAreaLeft" t="textAreaTop" r="textAreaRight" b="textAreaBottom"/>
            <a:pathLst>
              <a:path w="5042263" h="2782388">
                <a:moveTo>
                  <a:pt x="4689566" y="222068"/>
                </a:moveTo>
                <a:cubicBezTo>
                  <a:pt x="4343487" y="245531"/>
                  <a:pt x="3846994" y="304212"/>
                  <a:pt x="3474720" y="261257"/>
                </a:cubicBezTo>
                <a:cubicBezTo>
                  <a:pt x="3393911" y="251933"/>
                  <a:pt x="3318997" y="213588"/>
                  <a:pt x="3239589" y="195942"/>
                </a:cubicBezTo>
                <a:lnTo>
                  <a:pt x="3122023" y="169817"/>
                </a:lnTo>
                <a:cubicBezTo>
                  <a:pt x="3087189" y="152400"/>
                  <a:pt x="3034937" y="152400"/>
                  <a:pt x="3017520" y="117565"/>
                </a:cubicBezTo>
                <a:cubicBezTo>
                  <a:pt x="3008812" y="100148"/>
                  <a:pt x="3006973" y="76998"/>
                  <a:pt x="2991395" y="65314"/>
                </a:cubicBezTo>
                <a:cubicBezTo>
                  <a:pt x="2943350" y="29280"/>
                  <a:pt x="2788005" y="28770"/>
                  <a:pt x="2756263" y="26125"/>
                </a:cubicBezTo>
                <a:cubicBezTo>
                  <a:pt x="2736107" y="21086"/>
                  <a:pt x="2655287" y="0"/>
                  <a:pt x="2638698" y="0"/>
                </a:cubicBezTo>
                <a:cubicBezTo>
                  <a:pt x="2542805" y="0"/>
                  <a:pt x="2447109" y="8708"/>
                  <a:pt x="2351315" y="13062"/>
                </a:cubicBezTo>
                <a:cubicBezTo>
                  <a:pt x="2316481" y="17416"/>
                  <a:pt x="2280869" y="17611"/>
                  <a:pt x="2246812" y="26125"/>
                </a:cubicBezTo>
                <a:cubicBezTo>
                  <a:pt x="2141119" y="52548"/>
                  <a:pt x="2254124" y="69494"/>
                  <a:pt x="2103120" y="78377"/>
                </a:cubicBezTo>
                <a:cubicBezTo>
                  <a:pt x="1837825" y="93982"/>
                  <a:pt x="1571897" y="95794"/>
                  <a:pt x="1306286" y="104502"/>
                </a:cubicBezTo>
                <a:cubicBezTo>
                  <a:pt x="1284515" y="113211"/>
                  <a:pt x="1261945" y="120141"/>
                  <a:pt x="1240972" y="130628"/>
                </a:cubicBezTo>
                <a:cubicBezTo>
                  <a:pt x="1226930" y="137649"/>
                  <a:pt x="1216930" y="152623"/>
                  <a:pt x="1201783" y="156754"/>
                </a:cubicBezTo>
                <a:cubicBezTo>
                  <a:pt x="1167915" y="165991"/>
                  <a:pt x="1132114" y="165463"/>
                  <a:pt x="1097280" y="169817"/>
                </a:cubicBezTo>
                <a:cubicBezTo>
                  <a:pt x="1079863" y="174171"/>
                  <a:pt x="1062773" y="180150"/>
                  <a:pt x="1045029" y="182880"/>
                </a:cubicBezTo>
                <a:cubicBezTo>
                  <a:pt x="1006058" y="188875"/>
                  <a:pt x="965883" y="187076"/>
                  <a:pt x="927463" y="195942"/>
                </a:cubicBezTo>
                <a:cubicBezTo>
                  <a:pt x="908489" y="200321"/>
                  <a:pt x="893936" y="216718"/>
                  <a:pt x="875212" y="222068"/>
                </a:cubicBezTo>
                <a:cubicBezTo>
                  <a:pt x="832515" y="234267"/>
                  <a:pt x="787851" y="238209"/>
                  <a:pt x="744583" y="248194"/>
                </a:cubicBezTo>
                <a:cubicBezTo>
                  <a:pt x="690190" y="260746"/>
                  <a:pt x="656214" y="291379"/>
                  <a:pt x="600892" y="313508"/>
                </a:cubicBezTo>
                <a:cubicBezTo>
                  <a:pt x="566484" y="327272"/>
                  <a:pt x="515870" y="345420"/>
                  <a:pt x="483326" y="365760"/>
                </a:cubicBezTo>
                <a:cubicBezTo>
                  <a:pt x="460307" y="380147"/>
                  <a:pt x="409124" y="420004"/>
                  <a:pt x="391886" y="444137"/>
                </a:cubicBezTo>
                <a:cubicBezTo>
                  <a:pt x="281981" y="598002"/>
                  <a:pt x="480024" y="371399"/>
                  <a:pt x="313509" y="561702"/>
                </a:cubicBezTo>
                <a:cubicBezTo>
                  <a:pt x="213974" y="675456"/>
                  <a:pt x="342074" y="520074"/>
                  <a:pt x="222069" y="640080"/>
                </a:cubicBezTo>
                <a:cubicBezTo>
                  <a:pt x="198022" y="664127"/>
                  <a:pt x="178526" y="692331"/>
                  <a:pt x="156755" y="718457"/>
                </a:cubicBezTo>
                <a:cubicBezTo>
                  <a:pt x="132752" y="790464"/>
                  <a:pt x="159064" y="731002"/>
                  <a:pt x="91440" y="809897"/>
                </a:cubicBezTo>
                <a:cubicBezTo>
                  <a:pt x="55578" y="851736"/>
                  <a:pt x="72120" y="841915"/>
                  <a:pt x="52252" y="888274"/>
                </a:cubicBezTo>
                <a:cubicBezTo>
                  <a:pt x="44581" y="906172"/>
                  <a:pt x="33358" y="922445"/>
                  <a:pt x="26126" y="940525"/>
                </a:cubicBezTo>
                <a:cubicBezTo>
                  <a:pt x="15898" y="966094"/>
                  <a:pt x="0" y="1018902"/>
                  <a:pt x="0" y="1018902"/>
                </a:cubicBezTo>
                <a:cubicBezTo>
                  <a:pt x="4354" y="1227908"/>
                  <a:pt x="4871" y="1437029"/>
                  <a:pt x="13063" y="1645920"/>
                </a:cubicBezTo>
                <a:cubicBezTo>
                  <a:pt x="13603" y="1659679"/>
                  <a:pt x="22786" y="1671750"/>
                  <a:pt x="26126" y="1685108"/>
                </a:cubicBezTo>
                <a:cubicBezTo>
                  <a:pt x="31511" y="1706648"/>
                  <a:pt x="31393" y="1729633"/>
                  <a:pt x="39189" y="1750422"/>
                </a:cubicBezTo>
                <a:cubicBezTo>
                  <a:pt x="50101" y="1779520"/>
                  <a:pt x="84174" y="1808470"/>
                  <a:pt x="104503" y="1828800"/>
                </a:cubicBezTo>
                <a:cubicBezTo>
                  <a:pt x="150429" y="1966576"/>
                  <a:pt x="104099" y="1850501"/>
                  <a:pt x="182880" y="1985554"/>
                </a:cubicBezTo>
                <a:cubicBezTo>
                  <a:pt x="343338" y="2260625"/>
                  <a:pt x="90601" y="1858378"/>
                  <a:pt x="274320" y="2142308"/>
                </a:cubicBezTo>
                <a:cubicBezTo>
                  <a:pt x="479863" y="2459968"/>
                  <a:pt x="281847" y="2179394"/>
                  <a:pt x="418012" y="2338251"/>
                </a:cubicBezTo>
                <a:cubicBezTo>
                  <a:pt x="428229" y="2350171"/>
                  <a:pt x="431441" y="2368206"/>
                  <a:pt x="444138" y="2377440"/>
                </a:cubicBezTo>
                <a:cubicBezTo>
                  <a:pt x="517246" y="2430610"/>
                  <a:pt x="536526" y="2434362"/>
                  <a:pt x="600892" y="2455817"/>
                </a:cubicBezTo>
                <a:cubicBezTo>
                  <a:pt x="624307" y="2479232"/>
                  <a:pt x="688866" y="2547638"/>
                  <a:pt x="718458" y="2560320"/>
                </a:cubicBezTo>
                <a:cubicBezTo>
                  <a:pt x="755356" y="2576134"/>
                  <a:pt x="796970" y="2577147"/>
                  <a:pt x="836023" y="2586445"/>
                </a:cubicBezTo>
                <a:cubicBezTo>
                  <a:pt x="888418" y="2598920"/>
                  <a:pt x="941682" y="2608602"/>
                  <a:pt x="992778" y="2625634"/>
                </a:cubicBezTo>
                <a:cubicBezTo>
                  <a:pt x="1005841" y="2629988"/>
                  <a:pt x="1019650" y="2632539"/>
                  <a:pt x="1031966" y="2638697"/>
                </a:cubicBezTo>
                <a:cubicBezTo>
                  <a:pt x="1046008" y="2645718"/>
                  <a:pt x="1055528" y="2663310"/>
                  <a:pt x="1071155" y="2664822"/>
                </a:cubicBezTo>
                <a:cubicBezTo>
                  <a:pt x="1192585" y="2676573"/>
                  <a:pt x="1314995" y="2673531"/>
                  <a:pt x="1436915" y="2677885"/>
                </a:cubicBezTo>
                <a:cubicBezTo>
                  <a:pt x="1589315" y="2690948"/>
                  <a:pt x="1745723" y="2679975"/>
                  <a:pt x="1894115" y="2717074"/>
                </a:cubicBezTo>
                <a:cubicBezTo>
                  <a:pt x="1936985" y="2727792"/>
                  <a:pt x="2036904" y="2753259"/>
                  <a:pt x="2063932" y="2756262"/>
                </a:cubicBezTo>
                <a:cubicBezTo>
                  <a:pt x="2141950" y="2764931"/>
                  <a:pt x="2220595" y="2767145"/>
                  <a:pt x="2299063" y="2769325"/>
                </a:cubicBezTo>
                <a:lnTo>
                  <a:pt x="3004458" y="2782388"/>
                </a:lnTo>
                <a:cubicBezTo>
                  <a:pt x="3135086" y="2778034"/>
                  <a:pt x="3265881" y="2777232"/>
                  <a:pt x="3396343" y="2769325"/>
                </a:cubicBezTo>
                <a:cubicBezTo>
                  <a:pt x="3410087" y="2768492"/>
                  <a:pt x="3422639" y="2761097"/>
                  <a:pt x="3435532" y="2756262"/>
                </a:cubicBezTo>
                <a:cubicBezTo>
                  <a:pt x="3616326" y="2688465"/>
                  <a:pt x="3413777" y="2767141"/>
                  <a:pt x="3540035" y="2704011"/>
                </a:cubicBezTo>
                <a:cubicBezTo>
                  <a:pt x="3552351" y="2697853"/>
                  <a:pt x="3566907" y="2697106"/>
                  <a:pt x="3579223" y="2690948"/>
                </a:cubicBezTo>
                <a:cubicBezTo>
                  <a:pt x="3619320" y="2670899"/>
                  <a:pt x="3655165" y="2642283"/>
                  <a:pt x="3696789" y="2625634"/>
                </a:cubicBezTo>
                <a:cubicBezTo>
                  <a:pt x="3721381" y="2615797"/>
                  <a:pt x="3749194" y="2617765"/>
                  <a:pt x="3775166" y="2612571"/>
                </a:cubicBezTo>
                <a:cubicBezTo>
                  <a:pt x="3897342" y="2588136"/>
                  <a:pt x="3767003" y="2611346"/>
                  <a:pt x="3866606" y="2586445"/>
                </a:cubicBezTo>
                <a:cubicBezTo>
                  <a:pt x="3888146" y="2581060"/>
                  <a:pt x="3910149" y="2577736"/>
                  <a:pt x="3931920" y="2573382"/>
                </a:cubicBezTo>
                <a:cubicBezTo>
                  <a:pt x="3944983" y="2564674"/>
                  <a:pt x="3957067" y="2554278"/>
                  <a:pt x="3971109" y="2547257"/>
                </a:cubicBezTo>
                <a:cubicBezTo>
                  <a:pt x="3983425" y="2541099"/>
                  <a:pt x="4000561" y="2543931"/>
                  <a:pt x="4010298" y="2534194"/>
                </a:cubicBezTo>
                <a:cubicBezTo>
                  <a:pt x="4074070" y="2470422"/>
                  <a:pt x="4015606" y="2466245"/>
                  <a:pt x="4101738" y="2442754"/>
                </a:cubicBezTo>
                <a:cubicBezTo>
                  <a:pt x="4179198" y="2421628"/>
                  <a:pt x="4259180" y="2410769"/>
                  <a:pt x="4336869" y="2390502"/>
                </a:cubicBezTo>
                <a:cubicBezTo>
                  <a:pt x="4359558" y="2384583"/>
                  <a:pt x="4380228" y="2372610"/>
                  <a:pt x="4402183" y="2364377"/>
                </a:cubicBezTo>
                <a:cubicBezTo>
                  <a:pt x="4415076" y="2359542"/>
                  <a:pt x="4428309" y="2355668"/>
                  <a:pt x="4441372" y="2351314"/>
                </a:cubicBezTo>
                <a:cubicBezTo>
                  <a:pt x="4489269" y="2316480"/>
                  <a:pt x="4543185" y="2288689"/>
                  <a:pt x="4585063" y="2246811"/>
                </a:cubicBezTo>
                <a:cubicBezTo>
                  <a:pt x="4598126" y="2233748"/>
                  <a:pt x="4609473" y="2218706"/>
                  <a:pt x="4624252" y="2207622"/>
                </a:cubicBezTo>
                <a:cubicBezTo>
                  <a:pt x="4644564" y="2192388"/>
                  <a:pt x="4668441" y="2182517"/>
                  <a:pt x="4689566" y="2168434"/>
                </a:cubicBezTo>
                <a:cubicBezTo>
                  <a:pt x="4707681" y="2156357"/>
                  <a:pt x="4724102" y="2141899"/>
                  <a:pt x="4741818" y="2129245"/>
                </a:cubicBezTo>
                <a:cubicBezTo>
                  <a:pt x="4830041" y="2066229"/>
                  <a:pt x="4722331" y="2144625"/>
                  <a:pt x="4846320" y="2076994"/>
                </a:cubicBezTo>
                <a:cubicBezTo>
                  <a:pt x="4873885" y="2061958"/>
                  <a:pt x="4924698" y="2024742"/>
                  <a:pt x="4924698" y="2024742"/>
                </a:cubicBezTo>
                <a:cubicBezTo>
                  <a:pt x="4937761" y="1998616"/>
                  <a:pt x="4954649" y="1974075"/>
                  <a:pt x="4963886" y="1946365"/>
                </a:cubicBezTo>
                <a:cubicBezTo>
                  <a:pt x="4972262" y="1921238"/>
                  <a:pt x="4971203" y="1893843"/>
                  <a:pt x="4976949" y="1867988"/>
                </a:cubicBezTo>
                <a:cubicBezTo>
                  <a:pt x="4984637" y="1833392"/>
                  <a:pt x="5000165" y="1808495"/>
                  <a:pt x="5016138" y="1776548"/>
                </a:cubicBezTo>
                <a:cubicBezTo>
                  <a:pt x="5020492" y="1750422"/>
                  <a:pt x="5023455" y="1724026"/>
                  <a:pt x="5029200" y="1698171"/>
                </a:cubicBezTo>
                <a:cubicBezTo>
                  <a:pt x="5032187" y="1684729"/>
                  <a:pt x="5042263" y="1672752"/>
                  <a:pt x="5042263" y="1658982"/>
                </a:cubicBezTo>
                <a:cubicBezTo>
                  <a:pt x="5042263" y="1523929"/>
                  <a:pt x="5040114" y="1388645"/>
                  <a:pt x="5029200" y="1254034"/>
                </a:cubicBezTo>
                <a:cubicBezTo>
                  <a:pt x="5026974" y="1226585"/>
                  <a:pt x="5003075" y="1175657"/>
                  <a:pt x="5003075" y="1175657"/>
                </a:cubicBezTo>
                <a:cubicBezTo>
                  <a:pt x="4998721" y="1145177"/>
                  <a:pt x="4996050" y="1114409"/>
                  <a:pt x="4990012" y="1084217"/>
                </a:cubicBezTo>
                <a:cubicBezTo>
                  <a:pt x="4984606" y="1057188"/>
                  <a:pt x="4963570" y="1014022"/>
                  <a:pt x="4950823" y="992777"/>
                </a:cubicBezTo>
                <a:cubicBezTo>
                  <a:pt x="4934668" y="965853"/>
                  <a:pt x="4898572" y="914400"/>
                  <a:pt x="4898572" y="914400"/>
                </a:cubicBezTo>
                <a:cubicBezTo>
                  <a:pt x="4889863" y="866503"/>
                  <a:pt x="4884990" y="817747"/>
                  <a:pt x="4872446" y="770708"/>
                </a:cubicBezTo>
                <a:cubicBezTo>
                  <a:pt x="4867429" y="751893"/>
                  <a:pt x="4853991" y="736355"/>
                  <a:pt x="4846320" y="718457"/>
                </a:cubicBezTo>
                <a:cubicBezTo>
                  <a:pt x="4813870" y="642739"/>
                  <a:pt x="4857342" y="715393"/>
                  <a:pt x="4807132" y="640080"/>
                </a:cubicBezTo>
                <a:cubicBezTo>
                  <a:pt x="4802778" y="627017"/>
                  <a:pt x="4802523" y="611760"/>
                  <a:pt x="4794069" y="600891"/>
                </a:cubicBezTo>
                <a:cubicBezTo>
                  <a:pt x="4771386" y="571727"/>
                  <a:pt x="4715692" y="522514"/>
                  <a:pt x="4715692" y="522514"/>
                </a:cubicBezTo>
                <a:cubicBezTo>
                  <a:pt x="4711338" y="509451"/>
                  <a:pt x="4708787" y="495641"/>
                  <a:pt x="4702629" y="483325"/>
                </a:cubicBezTo>
                <a:cubicBezTo>
                  <a:pt x="4637032" y="352133"/>
                  <a:pt x="4719083" y="552200"/>
                  <a:pt x="4650378" y="391885"/>
                </a:cubicBezTo>
                <a:cubicBezTo>
                  <a:pt x="4644954" y="379229"/>
                  <a:pt x="4647051" y="362433"/>
                  <a:pt x="4637315" y="352697"/>
                </a:cubicBezTo>
                <a:cubicBezTo>
                  <a:pt x="4627578" y="342961"/>
                  <a:pt x="4611189" y="343988"/>
                  <a:pt x="4598126" y="339634"/>
                </a:cubicBezTo>
                <a:cubicBezTo>
                  <a:pt x="4485834" y="264771"/>
                  <a:pt x="4627901" y="354520"/>
                  <a:pt x="4519749" y="300445"/>
                </a:cubicBezTo>
                <a:cubicBezTo>
                  <a:pt x="4476695" y="278919"/>
                  <a:pt x="4488795" y="268553"/>
                  <a:pt x="4441372" y="261257"/>
                </a:cubicBezTo>
                <a:cubicBezTo>
                  <a:pt x="4398121" y="254603"/>
                  <a:pt x="4354286" y="252548"/>
                  <a:pt x="4310743" y="248194"/>
                </a:cubicBezTo>
                <a:cubicBezTo>
                  <a:pt x="4267424" y="233754"/>
                  <a:pt x="4285324" y="235131"/>
                  <a:pt x="4258492" y="235131"/>
                </a:cubicBezTo>
              </a:path>
            </a:pathLst>
          </a:custGeom>
          <a:noFill/>
          <a:ln w="540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Arial"/>
              </a:rPr>
              <a:t>Dealing with this ‘perfect storm’ will need innovative healthcare business mode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3840" y="1928520"/>
            <a:ext cx="442908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7480" indent="-7174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w configurations of </a:t>
            </a:r>
            <a:r>
              <a:rPr b="0" lang="en-GB" sz="4000" spc="-1" strike="noStrike">
                <a:solidFill>
                  <a:srgbClr val="c00000"/>
                </a:solidFill>
                <a:latin typeface="Arial"/>
              </a:rPr>
              <a:t>service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c00000"/>
                </a:solidFill>
                <a:latin typeface="Arial"/>
              </a:rPr>
              <a:t>technology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4000" spc="-1" strike="noStrike">
                <a:solidFill>
                  <a:srgbClr val="c00000"/>
                </a:solidFill>
                <a:latin typeface="Arial"/>
              </a:rPr>
              <a:t>infrastructure</a:t>
            </a:r>
            <a:endParaRPr b="0" lang="en-US" sz="4000" spc="-1" strike="noStrike">
              <a:solidFill>
                <a:srgbClr val="4b4f55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4786200" y="2052720"/>
            <a:ext cx="423072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33"/>
          <p:cNvGrpSpPr/>
          <p:nvPr/>
        </p:nvGrpSpPr>
        <p:grpSpPr>
          <a:xfrm>
            <a:off x="5072040" y="1428840"/>
            <a:ext cx="1857240" cy="4786200"/>
            <a:chOff x="5072040" y="1428840"/>
            <a:chExt cx="1857240" cy="4786200"/>
          </a:xfrm>
        </p:grpSpPr>
        <p:pic>
          <p:nvPicPr>
            <p:cNvPr id="299" name="Picture 4" descr="C:\Users\jgb\AppData\Local\Microsoft\Windows\Temporary Internet Files\Content.IE5\RSGWZHC5\MP900447675[1].jpg"/>
            <p:cNvPicPr/>
            <p:nvPr/>
          </p:nvPicPr>
          <p:blipFill>
            <a:blip r:embed="rId1"/>
            <a:stretch/>
          </p:blipFill>
          <p:spPr>
            <a:xfrm>
              <a:off x="5073840" y="1431360"/>
              <a:ext cx="1855440" cy="47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46"/>
            <p:cNvSpPr/>
            <p:nvPr/>
          </p:nvSpPr>
          <p:spPr>
            <a:xfrm>
              <a:off x="5072040" y="1428840"/>
              <a:ext cx="929520" cy="47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</p:grpSp>
      <p:sp>
        <p:nvSpPr>
          <p:cNvPr id="301" name="Freeform 69"/>
          <p:cNvSpPr/>
          <p:nvPr/>
        </p:nvSpPr>
        <p:spPr>
          <a:xfrm>
            <a:off x="1511280" y="1285920"/>
            <a:ext cx="7632720" cy="4567320"/>
          </a:xfrm>
          <a:custGeom>
            <a:avLst/>
            <a:gdLst/>
            <a:ahLst/>
            <a:rect l="l" t="t" r="r" b="b"/>
            <a:pathLst>
              <a:path w="7632700" h="4566920">
                <a:moveTo>
                  <a:pt x="0" y="4472940"/>
                </a:moveTo>
                <a:cubicBezTo>
                  <a:pt x="628650" y="4519930"/>
                  <a:pt x="1257300" y="4566920"/>
                  <a:pt x="1798320" y="4244340"/>
                </a:cubicBezTo>
                <a:cubicBezTo>
                  <a:pt x="2339340" y="3921760"/>
                  <a:pt x="2791460" y="3103880"/>
                  <a:pt x="3246120" y="2537460"/>
                </a:cubicBezTo>
                <a:cubicBezTo>
                  <a:pt x="3700780" y="1971040"/>
                  <a:pt x="3873500" y="1247140"/>
                  <a:pt x="4526280" y="845820"/>
                </a:cubicBezTo>
                <a:cubicBezTo>
                  <a:pt x="5179060" y="444500"/>
                  <a:pt x="6692900" y="259080"/>
                  <a:pt x="7162800" y="129540"/>
                </a:cubicBezTo>
                <a:cubicBezTo>
                  <a:pt x="7632700" y="0"/>
                  <a:pt x="7489190" y="34290"/>
                  <a:pt x="7345680" y="68580"/>
                </a:cubicBezTo>
              </a:path>
            </a:pathLst>
          </a:custGeom>
          <a:noFill/>
          <a:ln w="5400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8581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Key factors in moving towards a mainstream ado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Straight Arrow Connector 5"/>
          <p:cNvCxnSpPr/>
          <p:nvPr/>
        </p:nvCxnSpPr>
        <p:spPr>
          <a:xfrm flipV="1">
            <a:off x="1068840" y="1428120"/>
            <a:ext cx="2520" cy="471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4" name="Straight Arrow Connector 8"/>
          <p:cNvCxnSpPr/>
          <p:nvPr/>
        </p:nvCxnSpPr>
        <p:spPr>
          <a:xfrm>
            <a:off x="1071720" y="6154560"/>
            <a:ext cx="7644240" cy="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5" name="TextBox 38"/>
          <p:cNvSpPr/>
          <p:nvPr/>
        </p:nvSpPr>
        <p:spPr>
          <a:xfrm>
            <a:off x="1539720" y="1000080"/>
            <a:ext cx="14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doption</a:t>
            </a:r>
            <a:endParaRPr b="0" i="1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06" name="TextBox 39"/>
          <p:cNvSpPr/>
          <p:nvPr/>
        </p:nvSpPr>
        <p:spPr>
          <a:xfrm>
            <a:off x="4325760" y="1000080"/>
            <a:ext cx="14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i="1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07" name="TextBox 40"/>
          <p:cNvSpPr/>
          <p:nvPr/>
        </p:nvSpPr>
        <p:spPr>
          <a:xfrm>
            <a:off x="6858000" y="1000080"/>
            <a:ext cx="1785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instreaming</a:t>
            </a:r>
            <a:endParaRPr b="0" i="1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08" name="TextBox 51"/>
          <p:cNvSpPr/>
          <p:nvPr/>
        </p:nvSpPr>
        <p:spPr>
          <a:xfrm>
            <a:off x="5072040" y="6326280"/>
            <a:ext cx="128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09" name="TextBox 52"/>
          <p:cNvSpPr/>
          <p:nvPr/>
        </p:nvSpPr>
        <p:spPr>
          <a:xfrm>
            <a:off x="214200" y="3071880"/>
            <a:ext cx="8575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mote care adoption</a:t>
            </a: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10" name="Freeform 65"/>
          <p:cNvSpPr/>
          <p:nvPr/>
        </p:nvSpPr>
        <p:spPr>
          <a:xfrm>
            <a:off x="1571760" y="1428840"/>
            <a:ext cx="7572240" cy="4357440"/>
          </a:xfrm>
          <a:custGeom>
            <a:avLst/>
            <a:gdLst/>
            <a:ahLst/>
            <a:rect l="l" t="t" r="r" b="b"/>
            <a:pathLst>
              <a:path w="7678420" h="4239260">
                <a:moveTo>
                  <a:pt x="0" y="4208780"/>
                </a:moveTo>
                <a:cubicBezTo>
                  <a:pt x="492760" y="4224020"/>
                  <a:pt x="985520" y="4239260"/>
                  <a:pt x="1706880" y="4117340"/>
                </a:cubicBezTo>
                <a:cubicBezTo>
                  <a:pt x="2428240" y="3995420"/>
                  <a:pt x="3733800" y="4069080"/>
                  <a:pt x="4328160" y="3477260"/>
                </a:cubicBezTo>
                <a:cubicBezTo>
                  <a:pt x="4922520" y="2885440"/>
                  <a:pt x="4772660" y="1132840"/>
                  <a:pt x="5273040" y="566420"/>
                </a:cubicBezTo>
                <a:cubicBezTo>
                  <a:pt x="5773420" y="0"/>
                  <a:pt x="6982460" y="157480"/>
                  <a:pt x="7330440" y="78740"/>
                </a:cubicBezTo>
                <a:cubicBezTo>
                  <a:pt x="7678420" y="0"/>
                  <a:pt x="7519670" y="46990"/>
                  <a:pt x="7360920" y="93980"/>
                </a:cubicBezTo>
              </a:path>
            </a:pathLst>
          </a:custGeom>
          <a:noFill/>
          <a:ln w="475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grpSp>
        <p:nvGrpSpPr>
          <p:cNvPr id="311" name="Group 50"/>
          <p:cNvGrpSpPr/>
          <p:nvPr/>
        </p:nvGrpSpPr>
        <p:grpSpPr>
          <a:xfrm>
            <a:off x="1643040" y="2857680"/>
            <a:ext cx="4071960" cy="2212200"/>
            <a:chOff x="1643040" y="2857680"/>
            <a:chExt cx="4071960" cy="2212200"/>
          </a:xfrm>
        </p:grpSpPr>
        <p:sp>
          <p:nvSpPr>
            <p:cNvPr id="312" name="TextBox 41"/>
            <p:cNvSpPr/>
            <p:nvPr/>
          </p:nvSpPr>
          <p:spPr>
            <a:xfrm>
              <a:off x="1643040" y="4357800"/>
              <a:ext cx="1214280" cy="2437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Enthusiasts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313" name="TextBox 42"/>
            <p:cNvSpPr/>
            <p:nvPr/>
          </p:nvSpPr>
          <p:spPr>
            <a:xfrm>
              <a:off x="1795320" y="4826160"/>
              <a:ext cx="1285920" cy="2437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Grants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314" name="TextBox 43"/>
            <p:cNvSpPr/>
            <p:nvPr/>
          </p:nvSpPr>
          <p:spPr>
            <a:xfrm>
              <a:off x="3786120" y="4429080"/>
              <a:ext cx="1285920" cy="2437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Pump priming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315" name="TextBox 44"/>
            <p:cNvSpPr/>
            <p:nvPr/>
          </p:nvSpPr>
          <p:spPr>
            <a:xfrm>
              <a:off x="3786120" y="3897360"/>
              <a:ext cx="1214280" cy="2437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hampions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316" name="TextBox 45"/>
            <p:cNvSpPr/>
            <p:nvPr/>
          </p:nvSpPr>
          <p:spPr>
            <a:xfrm>
              <a:off x="4500720" y="3357720"/>
              <a:ext cx="1214280" cy="2437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Leadership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317" name="TextBox 25"/>
            <p:cNvSpPr/>
            <p:nvPr/>
          </p:nvSpPr>
          <p:spPr>
            <a:xfrm>
              <a:off x="2500200" y="3429000"/>
              <a:ext cx="1285920" cy="2437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Project mgt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318" name="TextBox 26"/>
            <p:cNvSpPr/>
            <p:nvPr/>
          </p:nvSpPr>
          <p:spPr>
            <a:xfrm>
              <a:off x="3286080" y="2857680"/>
              <a:ext cx="1285920" cy="2437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Awareness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</p:grpSp>
      <p:grpSp>
        <p:nvGrpSpPr>
          <p:cNvPr id="319" name="Group 53"/>
          <p:cNvGrpSpPr/>
          <p:nvPr/>
        </p:nvGrpSpPr>
        <p:grpSpPr>
          <a:xfrm>
            <a:off x="5143680" y="1643040"/>
            <a:ext cx="3857400" cy="1720800"/>
            <a:chOff x="5143680" y="1643040"/>
            <a:chExt cx="3857400" cy="1720800"/>
          </a:xfrm>
        </p:grpSpPr>
        <p:cxnSp>
          <p:nvCxnSpPr>
            <p:cNvPr id="320" name="Curved Connector 30"/>
            <p:cNvCxnSpPr/>
            <p:nvPr/>
          </p:nvCxnSpPr>
          <p:spPr>
            <a:xfrm flipV="1">
              <a:off x="7715160" y="1927800"/>
              <a:ext cx="929160" cy="643320"/>
            </a:xfrm>
            <a:prstGeom prst="curvedConnector5">
              <a:avLst>
                <a:gd name="adj1" fmla="val 83720"/>
                <a:gd name="adj2" fmla="val 50000"/>
                <a:gd name="adj3" fmla="val 83720"/>
              </a:avLst>
            </a:prstGeom>
            <a:ln cap="rnd" w="76320">
              <a:solidFill>
                <a:srgbClr val="7f7f7f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sp>
          <p:nvSpPr>
            <p:cNvPr id="321" name="TextBox 47"/>
            <p:cNvSpPr/>
            <p:nvPr/>
          </p:nvSpPr>
          <p:spPr>
            <a:xfrm>
              <a:off x="5143680" y="2643120"/>
              <a:ext cx="1285920" cy="4870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Local Evaluation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322" name="TextBox 48"/>
            <p:cNvSpPr/>
            <p:nvPr/>
          </p:nvSpPr>
          <p:spPr>
            <a:xfrm>
              <a:off x="7215120" y="2500200"/>
              <a:ext cx="1285920" cy="48708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Robust Evidence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323" name="TextBox 49"/>
            <p:cNvSpPr/>
            <p:nvPr/>
          </p:nvSpPr>
          <p:spPr>
            <a:xfrm>
              <a:off x="7429680" y="1643040"/>
              <a:ext cx="1571400" cy="243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Business case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cxnSp>
          <p:nvCxnSpPr>
            <p:cNvPr id="324" name="Curved Connector 28"/>
            <p:cNvCxnSpPr>
              <a:stCxn id="321" idx="2"/>
              <a:endCxn id="322" idx="2"/>
            </p:cNvCxnSpPr>
            <p:nvPr/>
          </p:nvCxnSpPr>
          <p:spPr>
            <a:xfrm flipH="1" flipV="1" rot="5400000">
              <a:off x="6750720" y="2027880"/>
              <a:ext cx="143280" cy="2071800"/>
            </a:xfrm>
            <a:prstGeom prst="curvedConnector5">
              <a:avLst>
                <a:gd name="adj1" fmla="val -159949"/>
                <a:gd name="adj2" fmla="val 50000"/>
                <a:gd name="adj3" fmla="val -159949"/>
              </a:avLst>
            </a:prstGeom>
            <a:ln cap="rnd" w="76320">
              <a:solidFill>
                <a:srgbClr val="7f7f7f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sp>
        <p:nvSpPr>
          <p:cNvPr id="325" name="Rectangle 29"/>
          <p:cNvSpPr/>
          <p:nvPr/>
        </p:nvSpPr>
        <p:spPr>
          <a:xfrm rot="20874000">
            <a:off x="8364600" y="1429920"/>
            <a:ext cx="714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Content Placeholder 4" descr=""/>
          <p:cNvPicPr/>
          <p:nvPr/>
        </p:nvPicPr>
        <p:blipFill>
          <a:blip r:embed="rId1"/>
          <a:stretch/>
        </p:blipFill>
        <p:spPr>
          <a:xfrm>
            <a:off x="689040" y="1785960"/>
            <a:ext cx="8186760" cy="4621320"/>
          </a:xfrm>
          <a:prstGeom prst="rect">
            <a:avLst/>
          </a:prstGeom>
          <a:ln w="0">
            <a:noFill/>
          </a:ln>
        </p:spPr>
      </p:pic>
      <p:sp>
        <p:nvSpPr>
          <p:cNvPr id="327" name="TextBox 3"/>
          <p:cNvSpPr/>
          <p:nvPr/>
        </p:nvSpPr>
        <p:spPr>
          <a:xfrm>
            <a:off x="67320" y="2000160"/>
            <a:ext cx="69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9297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Arial"/>
              </a:rPr>
              <a:t>The adoption – implementation journey </a:t>
            </a:r>
            <a:br>
              <a:rPr sz="2800"/>
            </a:b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organisational roles need to evolve to reflect the needs of each st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57120" y="120240"/>
            <a:ext cx="84297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The dangers of champ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69720" y="1000080"/>
            <a:ext cx="52149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2" marL="619200" indent="-40896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ampion’s identity - in contrast to traditional thinking - can cause </a:t>
            </a:r>
            <a:r>
              <a:rPr b="0" lang="en-GB" sz="2000" spc="-1" strike="noStrike">
                <a:solidFill>
                  <a:srgbClr val="dc0217"/>
                </a:solidFill>
                <a:latin typeface="Arial"/>
              </a:rPr>
              <a:t>knowledge to stic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in boundaries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lvl="2" marL="619200" indent="-40896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high identification with the work - any change to this role seen as a </a:t>
            </a:r>
            <a:r>
              <a:rPr b="0" lang="en-GB" sz="2000" spc="-1" strike="noStrike">
                <a:solidFill>
                  <a:srgbClr val="dc0217"/>
                </a:solidFill>
                <a:latin typeface="Arial"/>
              </a:rPr>
              <a:t>thre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lvl="2" marL="619200" indent="-40896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cause dysfunctional rigidities to settle within sub-groups 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lvl="2" marL="619200" indent="-40896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lp to sustain a culture of remote care ‘pilot necessity’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lvl="2" marL="619200" indent="-40896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th too </a:t>
            </a:r>
            <a:r>
              <a:rPr b="0" lang="en-GB" sz="2000" spc="-1" strike="noStrike">
                <a:solidFill>
                  <a:srgbClr val="dc0217"/>
                </a:solidFill>
                <a:latin typeface="Arial"/>
              </a:rPr>
              <a:t>mu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too </a:t>
            </a:r>
            <a:r>
              <a:rPr b="0" lang="en-GB" sz="2000" spc="-1" strike="noStrike">
                <a:solidFill>
                  <a:srgbClr val="dc0217"/>
                </a:solidFill>
                <a:latin typeface="Arial"/>
              </a:rPr>
              <a:t>litt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dentification is </a:t>
            </a:r>
            <a:r>
              <a:rPr b="0" lang="en-GB" sz="2000" spc="-1" strike="noStrike">
                <a:solidFill>
                  <a:srgbClr val="dc0217"/>
                </a:solidFill>
                <a:latin typeface="Arial"/>
              </a:rPr>
              <a:t>detriment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strategic change outcomes 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lvl="2" marL="619200" indent="-40896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lvl="1" marL="408960" indent="-40896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5715000" y="5143680"/>
            <a:ext cx="3000240" cy="1285560"/>
          </a:xfrm>
          <a:prstGeom prst="wedgeRoundRectCallout">
            <a:avLst>
              <a:gd name="adj1" fmla="val -70699"/>
              <a:gd name="adj2" fmla="val -82148"/>
              <a:gd name="adj3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4b4f55"/>
                </a:solidFill>
                <a:latin typeface="Arial"/>
              </a:rPr>
              <a:t> “</a:t>
            </a:r>
            <a:r>
              <a:rPr b="1" i="1" lang="en-GB" sz="1400" spc="-1" strike="noStrike">
                <a:solidFill>
                  <a:srgbClr val="4b4f55"/>
                </a:solidFill>
                <a:latin typeface="Arial"/>
              </a:rPr>
              <a:t>(they) have gone off and done their own little thing and no one else really knows about it. To be honest they like to hold on to their own </a:t>
            </a:r>
            <a:r>
              <a:rPr b="1" i="1" lang="en-GB" sz="1400" spc="-1" strike="noStrike">
                <a:solidFill>
                  <a:srgbClr val="c00000"/>
                </a:solidFill>
                <a:latin typeface="Arial"/>
              </a:rPr>
              <a:t>little kingdoms</a:t>
            </a:r>
            <a:r>
              <a:rPr b="1" i="1" lang="en-GB" sz="1400" spc="-1" strike="noStrike">
                <a:solidFill>
                  <a:srgbClr val="4b4f55"/>
                </a:solidFill>
                <a:latin typeface="Arial"/>
              </a:rPr>
              <a:t>.” </a:t>
            </a:r>
            <a:endParaRPr b="0" i="1" lang="en-US" sz="1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5715000" y="2143080"/>
            <a:ext cx="3143160" cy="2500200"/>
          </a:xfrm>
          <a:prstGeom prst="wedgeRoundRectCallout">
            <a:avLst>
              <a:gd name="adj1" fmla="val -70699"/>
              <a:gd name="adj2" fmla="val -82148"/>
              <a:gd name="adj3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4b4f55"/>
                </a:solidFill>
                <a:latin typeface="Arial"/>
              </a:rPr>
              <a:t> “</a:t>
            </a:r>
            <a:r>
              <a:rPr b="1" i="1" lang="en-GB" sz="1400" spc="-1" strike="noStrike">
                <a:solidFill>
                  <a:srgbClr val="4b4f55"/>
                </a:solidFill>
                <a:latin typeface="Arial"/>
              </a:rPr>
              <a:t>Sometime you have to be a lion, and </a:t>
            </a:r>
            <a:r>
              <a:rPr b="1" i="1" lang="en-GB" sz="1400" spc="-1" strike="noStrike">
                <a:solidFill>
                  <a:srgbClr val="c00000"/>
                </a:solidFill>
                <a:latin typeface="Arial"/>
              </a:rPr>
              <a:t>kill the little cuddle animals</a:t>
            </a:r>
            <a:r>
              <a:rPr b="1" i="1" lang="en-GB" sz="1400" spc="-1" strike="noStrike">
                <a:solidFill>
                  <a:srgbClr val="4b4f55"/>
                </a:solidFill>
                <a:latin typeface="Arial"/>
              </a:rPr>
              <a:t>. As I’ve said I won’t be cowed down to their bureaucracy, it’s my way or the high way. Top management, suddenly they want a hand in this, but I’m telling you I am here to decide. This is not a job; this is my life .” </a:t>
            </a:r>
            <a:endParaRPr b="0" i="1" lang="en-US" sz="14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7151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The dangers of pilo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85480" y="134280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671400" indent="-442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Embedd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practice - within the remit of a small enthusiastic group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71400" indent="-442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s group distinctiveness and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rivalries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71400" indent="-442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ck of scalability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71400" indent="-442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Normalis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actices, lessons not transferrable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71400" indent="-442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 to 5,000?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71400" indent="-442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 integrati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redesign of existing models needs to be integral from inception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71400" indent="-442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ade away’ = loss of engagement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pic>
        <p:nvPicPr>
          <p:cNvPr id="335" name="Picture 5" descr="Amie%2B&amp;Gem%2Bsmall"/>
          <p:cNvPicPr/>
          <p:nvPr/>
        </p:nvPicPr>
        <p:blipFill>
          <a:blip r:embed="rId1"/>
          <a:stretch/>
        </p:blipFill>
        <p:spPr>
          <a:xfrm>
            <a:off x="7983360" y="2357280"/>
            <a:ext cx="1017720" cy="744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Bedoccupancysensorsmall"/>
          <p:cNvPicPr/>
          <p:nvPr/>
        </p:nvPicPr>
        <p:blipFill>
          <a:blip r:embed="rId2"/>
          <a:stretch/>
        </p:blipFill>
        <p:spPr>
          <a:xfrm>
            <a:off x="8097840" y="1500120"/>
            <a:ext cx="760320" cy="614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5" descr="DocoboScreenShot"/>
          <p:cNvPicPr/>
          <p:nvPr/>
        </p:nvPicPr>
        <p:blipFill>
          <a:blip r:embed="rId3"/>
          <a:stretch/>
        </p:blipFill>
        <p:spPr>
          <a:xfrm>
            <a:off x="8101080" y="4898880"/>
            <a:ext cx="757080" cy="6987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"/>
          <p:cNvPicPr/>
          <p:nvPr/>
        </p:nvPicPr>
        <p:blipFill>
          <a:blip r:embed="rId4"/>
          <a:stretch/>
        </p:blipFill>
        <p:spPr>
          <a:xfrm>
            <a:off x="7899480" y="785880"/>
            <a:ext cx="1030320" cy="330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2" descr="Response centre"/>
          <p:cNvPicPr/>
          <p:nvPr/>
        </p:nvPicPr>
        <p:blipFill>
          <a:blip r:embed="rId5"/>
          <a:stretch/>
        </p:blipFill>
        <p:spPr>
          <a:xfrm>
            <a:off x="8072280" y="6040440"/>
            <a:ext cx="749520" cy="608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Product in situ - Patient with S21 telemedicine monitor"/>
          <p:cNvPicPr/>
          <p:nvPr/>
        </p:nvPicPr>
        <p:blipFill>
          <a:blip r:embed="rId6"/>
          <a:srcRect l="14222" t="9391" r="9104" b="47938"/>
          <a:stretch/>
        </p:blipFill>
        <p:spPr>
          <a:xfrm>
            <a:off x="8061480" y="3201840"/>
            <a:ext cx="868320" cy="7272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DCIM(T)"/>
          <p:cNvPicPr/>
          <p:nvPr/>
        </p:nvPicPr>
        <p:blipFill>
          <a:blip r:embed="rId7"/>
          <a:stretch/>
        </p:blipFill>
        <p:spPr>
          <a:xfrm>
            <a:off x="7850160" y="3929040"/>
            <a:ext cx="12225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79293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The dangers of RCTs for complex innov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85840" y="1714320"/>
            <a:ext cx="757224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lvl="2" marL="657720" indent="-433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WS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ue in the title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57720" indent="-433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sites with contextual differences charged with demonstrating WS integration and service redesign 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57720" indent="-433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aints of the trial required differences in local processes be flattened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57720" indent="-433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ust evidence – at what cost?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57720" indent="-433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resolved issues of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ownership and ident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the WSD trial ends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57720" indent="-433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57720" indent="-433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pic>
        <p:nvPicPr>
          <p:cNvPr id="344" name="Picture 5" descr="Amie%2B&amp;Gem%2Bsmall"/>
          <p:cNvPicPr/>
          <p:nvPr/>
        </p:nvPicPr>
        <p:blipFill>
          <a:blip r:embed="rId1"/>
          <a:stretch/>
        </p:blipFill>
        <p:spPr>
          <a:xfrm>
            <a:off x="7983360" y="2357280"/>
            <a:ext cx="1017720" cy="744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Bedoccupancysensorsmall"/>
          <p:cNvPicPr/>
          <p:nvPr/>
        </p:nvPicPr>
        <p:blipFill>
          <a:blip r:embed="rId2"/>
          <a:stretch/>
        </p:blipFill>
        <p:spPr>
          <a:xfrm>
            <a:off x="8097840" y="1500120"/>
            <a:ext cx="760320" cy="614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DocoboScreenShot"/>
          <p:cNvPicPr/>
          <p:nvPr/>
        </p:nvPicPr>
        <p:blipFill>
          <a:blip r:embed="rId3"/>
          <a:stretch/>
        </p:blipFill>
        <p:spPr>
          <a:xfrm>
            <a:off x="8101080" y="4898880"/>
            <a:ext cx="757080" cy="6987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4"/>
          <a:stretch/>
        </p:blipFill>
        <p:spPr>
          <a:xfrm>
            <a:off x="7899480" y="785880"/>
            <a:ext cx="1030320" cy="330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2" descr="Response centre"/>
          <p:cNvPicPr/>
          <p:nvPr/>
        </p:nvPicPr>
        <p:blipFill>
          <a:blip r:embed="rId5"/>
          <a:stretch/>
        </p:blipFill>
        <p:spPr>
          <a:xfrm>
            <a:off x="8072280" y="6040440"/>
            <a:ext cx="749520" cy="60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Product in situ - Patient with S21 telemedicine monitor"/>
          <p:cNvPicPr/>
          <p:nvPr/>
        </p:nvPicPr>
        <p:blipFill>
          <a:blip r:embed="rId6"/>
          <a:srcRect l="14222" t="9391" r="9104" b="47938"/>
          <a:stretch/>
        </p:blipFill>
        <p:spPr>
          <a:xfrm>
            <a:off x="8061480" y="3201840"/>
            <a:ext cx="868320" cy="727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3" descr="DCIM(T)"/>
          <p:cNvPicPr/>
          <p:nvPr/>
        </p:nvPicPr>
        <p:blipFill>
          <a:blip r:embed="rId7"/>
          <a:stretch/>
        </p:blipFill>
        <p:spPr>
          <a:xfrm>
            <a:off x="7850160" y="3929040"/>
            <a:ext cx="12225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Arial"/>
              </a:rPr>
              <a:t>Mainstream implementation will ne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78920" y="1341360"/>
            <a:ext cx="8029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7480" indent="-7174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w rules about governance </a:t>
            </a:r>
            <a:endParaRPr b="0" lang="en-US" sz="4000" spc="-1" strike="noStrike">
              <a:solidFill>
                <a:srgbClr val="4b4f55"/>
              </a:solidFill>
              <a:latin typeface="Arial"/>
            </a:endParaRPr>
          </a:p>
          <a:p>
            <a:pPr marL="717480" indent="-7174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w types of ownership</a:t>
            </a:r>
            <a:endParaRPr b="0" lang="en-US" sz="4000" spc="-1" strike="noStrike">
              <a:solidFill>
                <a:srgbClr val="4b4f55"/>
              </a:solidFill>
              <a:latin typeface="Arial"/>
            </a:endParaRPr>
          </a:p>
          <a:p>
            <a:pPr marL="717480" indent="-7174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w types of identity (patient &amp; professional)</a:t>
            </a:r>
            <a:endParaRPr b="0" lang="en-US" sz="4000" spc="-1" strike="noStrike">
              <a:solidFill>
                <a:srgbClr val="4b4f55"/>
              </a:solidFill>
              <a:latin typeface="Arial"/>
            </a:endParaRPr>
          </a:p>
          <a:p>
            <a:pPr marL="717480" indent="-7174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fferent cultural attitudes to self care  </a:t>
            </a:r>
            <a:endParaRPr b="0" lang="en-US" sz="40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000160" y="1428840"/>
            <a:ext cx="52675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7151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Arial"/>
              </a:rPr>
              <a:t>Blockers towards mainstream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85480" y="1342800"/>
            <a:ext cx="407196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42800" indent="-442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lack of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integration within and betwe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care providers from acute, primary and social care services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1" marL="442800" indent="-442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ion of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costs and benefit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ross the system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1" marL="442800" indent="-442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4427640" y="1428840"/>
            <a:ext cx="4716360" cy="2519280"/>
          </a:xfrm>
          <a:prstGeom prst="rect">
            <a:avLst/>
          </a:prstGeom>
          <a:ln w="0">
            <a:noFill/>
          </a:ln>
        </p:spPr>
      </p:pic>
      <p:sp>
        <p:nvSpPr>
          <p:cNvPr id="356" name="TextBox 6"/>
          <p:cNvSpPr/>
          <p:nvPr/>
        </p:nvSpPr>
        <p:spPr>
          <a:xfrm>
            <a:off x="285840" y="4429080"/>
            <a:ext cx="8501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44600" indent="-444600">
              <a:lnSpc>
                <a:spcPct val="100000"/>
              </a:lnSpc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scaling-up you need more than enthusiasts or champions, or organisational or financial support:</a:t>
            </a:r>
            <a:endParaRPr b="0" i="1" lang="en-US" sz="2400" spc="-1" strike="noStrike">
              <a:solidFill>
                <a:srgbClr val="6e6e6f"/>
              </a:solidFill>
              <a:latin typeface="Verdana"/>
            </a:endParaRPr>
          </a:p>
          <a:p>
            <a:pPr marL="444600" indent="-444600">
              <a:lnSpc>
                <a:spcPct val="100000"/>
              </a:lnSpc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e6e6f"/>
              </a:solidFill>
              <a:latin typeface="Verdana"/>
            </a:endParaRPr>
          </a:p>
          <a:p>
            <a:pPr marL="444600" indent="-444600">
              <a:lnSpc>
                <a:spcPct val="100000"/>
              </a:lnSpc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Benefits evidenc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business cas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essential but these must also be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scalable</a:t>
            </a:r>
            <a:r>
              <a:rPr b="0" lang="en-GB" sz="2800" spc="-1" strike="noStrike">
                <a:solidFill>
                  <a:srgbClr val="dc0217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6e6e6f"/>
              </a:solidFill>
              <a:latin typeface="Verdana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Picture (Device Independent Bitmap)"/>
          <p:cNvPicPr/>
          <p:nvPr/>
        </p:nvPicPr>
        <p:blipFill>
          <a:blip r:embed="rId1"/>
          <a:stretch/>
        </p:blipFill>
        <p:spPr>
          <a:xfrm>
            <a:off x="176040" y="1447920"/>
            <a:ext cx="8896680" cy="483876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4"/>
          <p:cNvSpPr/>
          <p:nvPr/>
        </p:nvSpPr>
        <p:spPr>
          <a:xfrm>
            <a:off x="6786720" y="285840"/>
            <a:ext cx="2071440" cy="1714320"/>
          </a:xfrm>
          <a:prstGeom prst="wedgeRoundRectCallout">
            <a:avLst>
              <a:gd name="adj1" fmla="val -129037"/>
              <a:gd name="adj2" fmla="val 150875"/>
              <a:gd name="adj3" fmla="val 16667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o finally I can reveal the solution to mainstreaming remote care </a:t>
            </a:r>
            <a:endParaRPr b="0" i="1" lang="en-US" sz="18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5357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Arial"/>
              </a:rPr>
              <a:t>WSD legacy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00040" y="5357880"/>
            <a:ext cx="8072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ge success - enabled remote care to be delivered to thousands of people and their carers and roll-out will continue… 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2143080" y="1428840"/>
            <a:ext cx="4929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30280" y="1856880"/>
            <a:ext cx="71848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additional thanks to: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ritini Stavropoulou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rah Jasim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pic>
        <p:nvPicPr>
          <p:cNvPr id="363" name="Picture 3" descr="">
            <a:hlinkClick r:id="rId1"/>
          </p:cNvPr>
          <p:cNvPicPr/>
          <p:nvPr/>
        </p:nvPicPr>
        <p:blipFill>
          <a:blip r:embed="rId2"/>
          <a:srcRect l="0" t="4449" r="0" b="12220"/>
          <a:stretch/>
        </p:blipFill>
        <p:spPr>
          <a:xfrm>
            <a:off x="7072200" y="182520"/>
            <a:ext cx="1914480" cy="817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0" y="6237360"/>
            <a:ext cx="9161640" cy="620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4"/>
          <a:stretch/>
        </p:blipFill>
        <p:spPr>
          <a:xfrm>
            <a:off x="133200" y="195120"/>
            <a:ext cx="193860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4280" y="356760"/>
            <a:ext cx="568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Arial"/>
              </a:rPr>
              <a:t>Currently there is a strong UK policy push for telemonitoring (remote car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85480" y="2357280"/>
            <a:ext cx="50720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2800" indent="-4428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Over 25 UK government report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ince 1998 have called for remote care</a:t>
            </a:r>
            <a:endParaRPr b="0" lang="en-US" sz="2800" spc="-1" strike="noStrike">
              <a:solidFill>
                <a:srgbClr val="4b4f55"/>
              </a:solidFill>
              <a:latin typeface="Arial"/>
            </a:endParaRPr>
          </a:p>
          <a:p>
            <a:pPr marL="442800" indent="-4428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Financ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£170m+ since 2006) via Preventative Technology Grant, POP, Whole System Demonstrators and other regional initiatives</a:t>
            </a:r>
            <a:endParaRPr b="0" lang="en-US" sz="2800" spc="-1" strike="noStrike">
              <a:solidFill>
                <a:srgbClr val="4b4f55"/>
              </a:solidFill>
              <a:latin typeface="Arial"/>
            </a:endParaRPr>
          </a:p>
        </p:txBody>
      </p:sp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6143760" y="1214280"/>
            <a:ext cx="1145880" cy="1594080"/>
          </a:xfrm>
          <a:prstGeom prst="rect">
            <a:avLst/>
          </a:prstGeom>
          <a:ln w="1440">
            <a:solidFill>
              <a:srgbClr val="7f7f7f"/>
            </a:solidFill>
            <a:miter/>
          </a:ln>
        </p:spPr>
      </p:pic>
      <p:pic>
        <p:nvPicPr>
          <p:cNvPr id="213" name="Picture 8" descr=""/>
          <p:cNvPicPr/>
          <p:nvPr/>
        </p:nvPicPr>
        <p:blipFill>
          <a:blip r:embed="rId2"/>
          <a:stretch/>
        </p:blipFill>
        <p:spPr>
          <a:xfrm>
            <a:off x="6858000" y="2000160"/>
            <a:ext cx="1144440" cy="1595520"/>
          </a:xfrm>
          <a:prstGeom prst="rect">
            <a:avLst/>
          </a:prstGeom>
          <a:ln w="1440">
            <a:solidFill>
              <a:srgbClr val="7f7f7f"/>
            </a:solidFill>
            <a:miter/>
          </a:ln>
        </p:spPr>
      </p:pic>
      <p:pic>
        <p:nvPicPr>
          <p:cNvPr id="214" name="Picture 5" descr=""/>
          <p:cNvPicPr/>
          <p:nvPr/>
        </p:nvPicPr>
        <p:blipFill>
          <a:blip r:embed="rId3"/>
          <a:stretch/>
        </p:blipFill>
        <p:spPr>
          <a:xfrm>
            <a:off x="7929720" y="2428920"/>
            <a:ext cx="1144440" cy="1614600"/>
          </a:xfrm>
          <a:prstGeom prst="rect">
            <a:avLst/>
          </a:prstGeom>
          <a:ln w="1440">
            <a:solidFill>
              <a:srgbClr val="7f7f7f"/>
            </a:solidFill>
            <a:miter/>
          </a:ln>
        </p:spPr>
      </p:pic>
      <p:pic>
        <p:nvPicPr>
          <p:cNvPr id="215" name="Picture 6" descr=""/>
          <p:cNvPicPr/>
          <p:nvPr/>
        </p:nvPicPr>
        <p:blipFill>
          <a:blip r:embed="rId4"/>
          <a:stretch/>
        </p:blipFill>
        <p:spPr>
          <a:xfrm>
            <a:off x="7572240" y="3429000"/>
            <a:ext cx="1144800" cy="1698480"/>
          </a:xfrm>
          <a:prstGeom prst="rect">
            <a:avLst/>
          </a:prstGeom>
          <a:ln w="1440">
            <a:solidFill>
              <a:srgbClr val="7f7f7f"/>
            </a:solidFill>
            <a:miter/>
          </a:ln>
        </p:spPr>
      </p:pic>
      <p:pic>
        <p:nvPicPr>
          <p:cNvPr id="216" name="Picture 10" descr=""/>
          <p:cNvPicPr/>
          <p:nvPr/>
        </p:nvPicPr>
        <p:blipFill>
          <a:blip r:embed="rId5"/>
          <a:stretch/>
        </p:blipFill>
        <p:spPr>
          <a:xfrm>
            <a:off x="6929280" y="4357800"/>
            <a:ext cx="1567080" cy="1090440"/>
          </a:xfrm>
          <a:prstGeom prst="rect">
            <a:avLst/>
          </a:prstGeom>
          <a:ln w="1440">
            <a:solidFill>
              <a:srgbClr val="7f7f7f"/>
            </a:solidFill>
            <a:miter/>
          </a:ln>
        </p:spPr>
      </p:pic>
      <p:pic>
        <p:nvPicPr>
          <p:cNvPr id="217" name="Picture 1" descr=""/>
          <p:cNvPicPr/>
          <p:nvPr/>
        </p:nvPicPr>
        <p:blipFill>
          <a:blip r:embed="rId6"/>
          <a:stretch/>
        </p:blipFill>
        <p:spPr>
          <a:xfrm>
            <a:off x="6529320" y="5000760"/>
            <a:ext cx="1208160" cy="171432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pic>
        <p:nvPicPr>
          <p:cNvPr id="218" name="Picture 2" descr=""/>
          <p:cNvPicPr/>
          <p:nvPr/>
        </p:nvPicPr>
        <p:blipFill>
          <a:blip r:embed="rId7"/>
          <a:stretch/>
        </p:blipFill>
        <p:spPr>
          <a:xfrm>
            <a:off x="7176960" y="285840"/>
            <a:ext cx="1109880" cy="15606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4297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Why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14200" y="1428840"/>
            <a:ext cx="65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4600" indent="-4446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care (telecare / telehealth) can potentially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1" marL="825480" indent="-4446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shift healthcar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 of expensive settings – hospital to home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1" marL="825480" indent="-4446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e more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preventative model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care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marL="444600" indent="-4446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research focuses on the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organisational  challen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achieving large scale transformational change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grpSp>
        <p:nvGrpSpPr>
          <p:cNvPr id="221" name="Group 15"/>
          <p:cNvGrpSpPr/>
          <p:nvPr/>
        </p:nvGrpSpPr>
        <p:grpSpPr>
          <a:xfrm>
            <a:off x="6716880" y="695160"/>
            <a:ext cx="2212920" cy="3519720"/>
            <a:chOff x="6716880" y="695160"/>
            <a:chExt cx="2212920" cy="3519720"/>
          </a:xfrm>
        </p:grpSpPr>
        <p:pic>
          <p:nvPicPr>
            <p:cNvPr id="222" name="Picture 1" descr=""/>
            <p:cNvPicPr/>
            <p:nvPr/>
          </p:nvPicPr>
          <p:blipFill>
            <a:blip r:embed="rId1"/>
            <a:stretch/>
          </p:blipFill>
          <p:spPr>
            <a:xfrm>
              <a:off x="6716880" y="695160"/>
              <a:ext cx="865080" cy="1325160"/>
            </a:xfrm>
            <a:prstGeom prst="rect">
              <a:avLst/>
            </a:prstGeom>
            <a:ln w="1440">
              <a:solidFill>
                <a:srgbClr val="7f7f7f"/>
              </a:solidFill>
              <a:miter/>
            </a:ln>
          </p:spPr>
        </p:pic>
        <p:pic>
          <p:nvPicPr>
            <p:cNvPr id="223" name="Picture 11" descr=""/>
            <p:cNvPicPr/>
            <p:nvPr/>
          </p:nvPicPr>
          <p:blipFill>
            <a:blip r:embed="rId2"/>
            <a:stretch/>
          </p:blipFill>
          <p:spPr>
            <a:xfrm>
              <a:off x="7256160" y="1348200"/>
              <a:ext cx="864360" cy="1325520"/>
            </a:xfrm>
            <a:prstGeom prst="rect">
              <a:avLst/>
            </a:prstGeom>
            <a:ln w="1440">
              <a:solidFill>
                <a:srgbClr val="7f7f7f"/>
              </a:solidFill>
              <a:miter/>
            </a:ln>
          </p:spPr>
        </p:pic>
        <p:pic>
          <p:nvPicPr>
            <p:cNvPr id="224" name="Picture 12" descr=""/>
            <p:cNvPicPr/>
            <p:nvPr/>
          </p:nvPicPr>
          <p:blipFill>
            <a:blip r:embed="rId3"/>
            <a:stretch/>
          </p:blipFill>
          <p:spPr>
            <a:xfrm>
              <a:off x="8065440" y="1704600"/>
              <a:ext cx="864360" cy="1342440"/>
            </a:xfrm>
            <a:prstGeom prst="rect">
              <a:avLst/>
            </a:prstGeom>
            <a:ln w="1440">
              <a:solidFill>
                <a:srgbClr val="7f7f7f"/>
              </a:solidFill>
              <a:miter/>
            </a:ln>
          </p:spPr>
        </p:pic>
        <p:pic>
          <p:nvPicPr>
            <p:cNvPr id="225" name="Picture 13" descr=""/>
            <p:cNvPicPr/>
            <p:nvPr/>
          </p:nvPicPr>
          <p:blipFill>
            <a:blip r:embed="rId4"/>
            <a:stretch/>
          </p:blipFill>
          <p:spPr>
            <a:xfrm>
              <a:off x="7795800" y="2535840"/>
              <a:ext cx="864360" cy="1411200"/>
            </a:xfrm>
            <a:prstGeom prst="rect">
              <a:avLst/>
            </a:prstGeom>
            <a:ln w="1440">
              <a:solidFill>
                <a:srgbClr val="7f7f7f"/>
              </a:solidFill>
              <a:miter/>
            </a:ln>
          </p:spPr>
        </p:pic>
        <p:pic>
          <p:nvPicPr>
            <p:cNvPr id="226" name="Picture 10" descr=""/>
            <p:cNvPicPr/>
            <p:nvPr/>
          </p:nvPicPr>
          <p:blipFill>
            <a:blip r:embed="rId5"/>
            <a:stretch/>
          </p:blipFill>
          <p:spPr>
            <a:xfrm>
              <a:off x="7310160" y="3308040"/>
              <a:ext cx="1183320" cy="906840"/>
            </a:xfrm>
            <a:prstGeom prst="rect">
              <a:avLst/>
            </a:prstGeom>
            <a:ln w="1440">
              <a:solidFill>
                <a:srgbClr val="7f7f7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Two projects (plus a sub-projec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56760" y="1143000"/>
            <a:ext cx="8215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44600" indent="-4446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 EPSRC funded research focused on the £170m  spend – remote care adoption involving 5 cases across England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marL="444600" indent="-4446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sterial led DH funded £30m RCT study - the WSD - involving 3 cases in England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marL="444600" indent="-4446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al money received for a third project on 3 non-WSD sites and 3 sites in the Kings Fund LAN (also DH funded)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marL="444600" indent="-4446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marL="444600" indent="-4446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5214960" y="4827600"/>
            <a:ext cx="3797280" cy="1387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Documents and Settings\tchrysan\My Documents\My Pictures\dhlogo.gif"/>
          <p:cNvPicPr/>
          <p:nvPr/>
        </p:nvPicPr>
        <p:blipFill>
          <a:blip r:embed="rId2"/>
          <a:stretch/>
        </p:blipFill>
        <p:spPr>
          <a:xfrm>
            <a:off x="3486240" y="5010120"/>
            <a:ext cx="1420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00080" y="1357200"/>
            <a:ext cx="621504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AutoNum type="arabicParenR"/>
              <a:tabLst>
                <a:tab algn="l" pos="18030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xplore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organisational factor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facilitate or inhibit the successful adoption, implementation and potential mainstreaming of remote care services at a local level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AutoNum type="arabicParenR"/>
              <a:tabLst>
                <a:tab algn="l" pos="18030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current and future possible impacts of implementation at both local and national levels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AutoNum type="arabicParenR"/>
              <a:tabLst>
                <a:tab algn="l" pos="18030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and disseminate the lessons learnt, for improving the future implementation of remote care nationwide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marL="4572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03096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929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Our research ai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Amie%2B&amp;Gem%2Bsmall"/>
          <p:cNvPicPr/>
          <p:nvPr/>
        </p:nvPicPr>
        <p:blipFill>
          <a:blip r:embed="rId1"/>
          <a:stretch/>
        </p:blipFill>
        <p:spPr>
          <a:xfrm>
            <a:off x="7929720" y="1928880"/>
            <a:ext cx="928440" cy="744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Bedoccupancysensorsmall"/>
          <p:cNvPicPr/>
          <p:nvPr/>
        </p:nvPicPr>
        <p:blipFill>
          <a:blip r:embed="rId2"/>
          <a:stretch/>
        </p:blipFill>
        <p:spPr>
          <a:xfrm>
            <a:off x="8001000" y="1143000"/>
            <a:ext cx="760320" cy="614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5" descr="DocoboScreenShot"/>
          <p:cNvPicPr/>
          <p:nvPr/>
        </p:nvPicPr>
        <p:blipFill>
          <a:blip r:embed="rId3"/>
          <a:stretch/>
        </p:blipFill>
        <p:spPr>
          <a:xfrm>
            <a:off x="8101080" y="4898880"/>
            <a:ext cx="757080" cy="698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4"/>
          <a:stretch/>
        </p:blipFill>
        <p:spPr>
          <a:xfrm>
            <a:off x="7858080" y="428760"/>
            <a:ext cx="1030320" cy="330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2" descr="Response centre"/>
          <p:cNvPicPr/>
          <p:nvPr/>
        </p:nvPicPr>
        <p:blipFill>
          <a:blip r:embed="rId5"/>
          <a:stretch/>
        </p:blipFill>
        <p:spPr>
          <a:xfrm>
            <a:off x="8072280" y="6040440"/>
            <a:ext cx="749520" cy="608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Product in situ - Patient with S21 telemedicine monitor"/>
          <p:cNvPicPr/>
          <p:nvPr/>
        </p:nvPicPr>
        <p:blipFill>
          <a:blip r:embed="rId6"/>
          <a:srcRect l="14222" t="9391" r="9104" b="47938"/>
          <a:stretch/>
        </p:blipFill>
        <p:spPr>
          <a:xfrm>
            <a:off x="8072280" y="3000240"/>
            <a:ext cx="868680" cy="727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DCIM(T)"/>
          <p:cNvPicPr/>
          <p:nvPr/>
        </p:nvPicPr>
        <p:blipFill>
          <a:blip r:embed="rId7"/>
          <a:stretch/>
        </p:blipFill>
        <p:spPr>
          <a:xfrm>
            <a:off x="7850160" y="3929040"/>
            <a:ext cx="12225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8643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85840" y="1285560"/>
            <a:ext cx="721512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2" marL="474480" indent="-31932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40404"/>
                </a:solidFill>
                <a:latin typeface="Arial"/>
              </a:rPr>
              <a:t>Dense ethnographic shadowing and mapping of the adoption and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implementation </a:t>
            </a:r>
            <a:r>
              <a:rPr b="0" lang="en-GB" sz="2800" spc="-1" strike="noStrike">
                <a:solidFill>
                  <a:srgbClr val="040404"/>
                </a:solidFill>
                <a:latin typeface="Arial"/>
              </a:rPr>
              <a:t>of remote care</a:t>
            </a:r>
            <a:endParaRPr b="0" lang="en-US" sz="2800" spc="-1" strike="noStrike">
              <a:solidFill>
                <a:srgbClr val="4b4f55"/>
              </a:solidFill>
              <a:latin typeface="Arial"/>
            </a:endParaRPr>
          </a:p>
          <a:p>
            <a:pPr lvl="2" marL="474480" indent="-31932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40404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40404"/>
                </a:solidFill>
                <a:latin typeface="Arial"/>
              </a:rPr>
              <a:t>Case based approach</a:t>
            </a:r>
            <a:endParaRPr b="0" lang="en-US" sz="2300" spc="-1" strike="noStrike">
              <a:solidFill>
                <a:srgbClr val="4b4f55"/>
              </a:solidFill>
              <a:latin typeface="Arial"/>
            </a:endParaRPr>
          </a:p>
          <a:p>
            <a:pPr lvl="2" marL="474480" indent="-31932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40404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40404"/>
                </a:solidFill>
                <a:latin typeface="Arial"/>
              </a:rPr>
              <a:t>Purposive sampling / interviewing</a:t>
            </a:r>
            <a:endParaRPr b="0" lang="en-US" sz="2300" spc="-1" strike="noStrike">
              <a:solidFill>
                <a:srgbClr val="4b4f55"/>
              </a:solidFill>
              <a:latin typeface="Arial"/>
            </a:endParaRPr>
          </a:p>
          <a:p>
            <a:pPr lvl="3" marL="813600" indent="-31932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290 semi-structured interviews with key stakeholders in health and social care organisations across 9 sites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lvl="3" marL="813600" indent="-31932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80 hours of observations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lvl="3" marL="813600" indent="-31932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itudinal (2006 – 2011 with possibility of continued monitoring)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lvl="3" marL="813600" indent="-31932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</p:txBody>
      </p:sp>
      <p:pic>
        <p:nvPicPr>
          <p:cNvPr id="242" name="Picture 5" descr="Amie%2B&amp;Gem%2Bsmall"/>
          <p:cNvPicPr/>
          <p:nvPr/>
        </p:nvPicPr>
        <p:blipFill>
          <a:blip r:embed="rId1"/>
          <a:stretch/>
        </p:blipFill>
        <p:spPr>
          <a:xfrm>
            <a:off x="7983360" y="2357280"/>
            <a:ext cx="1017720" cy="744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Bedoccupancysensorsmall"/>
          <p:cNvPicPr/>
          <p:nvPr/>
        </p:nvPicPr>
        <p:blipFill>
          <a:blip r:embed="rId2"/>
          <a:stretch/>
        </p:blipFill>
        <p:spPr>
          <a:xfrm>
            <a:off x="8097840" y="1500120"/>
            <a:ext cx="760320" cy="614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DocoboScreenShot"/>
          <p:cNvPicPr/>
          <p:nvPr/>
        </p:nvPicPr>
        <p:blipFill>
          <a:blip r:embed="rId3"/>
          <a:stretch/>
        </p:blipFill>
        <p:spPr>
          <a:xfrm>
            <a:off x="8101080" y="4898880"/>
            <a:ext cx="757080" cy="698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4"/>
          <a:stretch/>
        </p:blipFill>
        <p:spPr>
          <a:xfrm>
            <a:off x="7899480" y="785880"/>
            <a:ext cx="1030320" cy="330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2" descr="Response centre"/>
          <p:cNvPicPr/>
          <p:nvPr/>
        </p:nvPicPr>
        <p:blipFill>
          <a:blip r:embed="rId5"/>
          <a:stretch/>
        </p:blipFill>
        <p:spPr>
          <a:xfrm>
            <a:off x="8072280" y="6040440"/>
            <a:ext cx="749520" cy="608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Product in situ - Patient with S21 telemedicine monitor"/>
          <p:cNvPicPr/>
          <p:nvPr/>
        </p:nvPicPr>
        <p:blipFill>
          <a:blip r:embed="rId6"/>
          <a:srcRect l="14222" t="9391" r="9104" b="47938"/>
          <a:stretch/>
        </p:blipFill>
        <p:spPr>
          <a:xfrm>
            <a:off x="8061480" y="3201840"/>
            <a:ext cx="868320" cy="72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DCIM(T)"/>
          <p:cNvPicPr/>
          <p:nvPr/>
        </p:nvPicPr>
        <p:blipFill>
          <a:blip r:embed="rId7"/>
          <a:stretch/>
        </p:blipFill>
        <p:spPr>
          <a:xfrm>
            <a:off x="7850160" y="3929040"/>
            <a:ext cx="12225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13"/>
          <p:cNvGrpSpPr/>
          <p:nvPr/>
        </p:nvGrpSpPr>
        <p:grpSpPr>
          <a:xfrm>
            <a:off x="5072040" y="1428840"/>
            <a:ext cx="1857240" cy="4786200"/>
            <a:chOff x="5072040" y="1428840"/>
            <a:chExt cx="1857240" cy="4786200"/>
          </a:xfrm>
        </p:grpSpPr>
        <p:pic>
          <p:nvPicPr>
            <p:cNvPr id="250" name="Picture 4" descr="C:\Users\jgb\AppData\Local\Microsoft\Windows\Temporary Internet Files\Content.IE5\RSGWZHC5\MP900447675[1].jpg"/>
            <p:cNvPicPr/>
            <p:nvPr/>
          </p:nvPicPr>
          <p:blipFill>
            <a:blip r:embed="rId1"/>
            <a:stretch/>
          </p:blipFill>
          <p:spPr>
            <a:xfrm>
              <a:off x="5073840" y="1431360"/>
              <a:ext cx="1855440" cy="47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15"/>
            <p:cNvSpPr/>
            <p:nvPr/>
          </p:nvSpPr>
          <p:spPr>
            <a:xfrm>
              <a:off x="5072040" y="1428840"/>
              <a:ext cx="929520" cy="47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</p:grpSp>
      <p:sp>
        <p:nvSpPr>
          <p:cNvPr id="252" name="Freeform 69"/>
          <p:cNvSpPr/>
          <p:nvPr/>
        </p:nvSpPr>
        <p:spPr>
          <a:xfrm>
            <a:off x="1511280" y="1285920"/>
            <a:ext cx="7632720" cy="4567320"/>
          </a:xfrm>
          <a:custGeom>
            <a:avLst/>
            <a:gdLst/>
            <a:ahLst/>
            <a:rect l="l" t="t" r="r" b="b"/>
            <a:pathLst>
              <a:path w="7632700" h="4566920">
                <a:moveTo>
                  <a:pt x="0" y="4472940"/>
                </a:moveTo>
                <a:cubicBezTo>
                  <a:pt x="628650" y="4519930"/>
                  <a:pt x="1257300" y="4566920"/>
                  <a:pt x="1798320" y="4244340"/>
                </a:cubicBezTo>
                <a:cubicBezTo>
                  <a:pt x="2339340" y="3921760"/>
                  <a:pt x="2791460" y="3103880"/>
                  <a:pt x="3246120" y="2537460"/>
                </a:cubicBezTo>
                <a:cubicBezTo>
                  <a:pt x="3700780" y="1971040"/>
                  <a:pt x="3873500" y="1247140"/>
                  <a:pt x="4526280" y="845820"/>
                </a:cubicBezTo>
                <a:cubicBezTo>
                  <a:pt x="5179060" y="444500"/>
                  <a:pt x="6692900" y="259080"/>
                  <a:pt x="7162800" y="129540"/>
                </a:cubicBezTo>
                <a:cubicBezTo>
                  <a:pt x="7632700" y="0"/>
                  <a:pt x="7489190" y="34290"/>
                  <a:pt x="7345680" y="68580"/>
                </a:cubicBezTo>
              </a:path>
            </a:pathLst>
          </a:custGeom>
          <a:noFill/>
          <a:ln w="5400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5840" y="709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Remote care adoption curve in the UK ... and elsewher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4" name="Straight Arrow Connector 5"/>
          <p:cNvCxnSpPr/>
          <p:nvPr/>
        </p:nvCxnSpPr>
        <p:spPr>
          <a:xfrm flipV="1">
            <a:off x="1068840" y="1428120"/>
            <a:ext cx="2520" cy="471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Straight Arrow Connector 8"/>
          <p:cNvCxnSpPr/>
          <p:nvPr/>
        </p:nvCxnSpPr>
        <p:spPr>
          <a:xfrm>
            <a:off x="1071720" y="6154560"/>
            <a:ext cx="7644240" cy="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38"/>
          <p:cNvSpPr/>
          <p:nvPr/>
        </p:nvSpPr>
        <p:spPr>
          <a:xfrm>
            <a:off x="1539720" y="1000080"/>
            <a:ext cx="14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doption</a:t>
            </a:r>
            <a:endParaRPr b="0" i="1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57" name="TextBox 39"/>
          <p:cNvSpPr/>
          <p:nvPr/>
        </p:nvSpPr>
        <p:spPr>
          <a:xfrm>
            <a:off x="4325760" y="1000080"/>
            <a:ext cx="14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i="1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58" name="TextBox 40"/>
          <p:cNvSpPr/>
          <p:nvPr/>
        </p:nvSpPr>
        <p:spPr>
          <a:xfrm>
            <a:off x="6858000" y="1000080"/>
            <a:ext cx="1785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instreaming</a:t>
            </a:r>
            <a:endParaRPr b="0" i="1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59" name="TextBox 51"/>
          <p:cNvSpPr/>
          <p:nvPr/>
        </p:nvSpPr>
        <p:spPr>
          <a:xfrm>
            <a:off x="5072040" y="6326280"/>
            <a:ext cx="128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0" name="TextBox 52"/>
          <p:cNvSpPr/>
          <p:nvPr/>
        </p:nvSpPr>
        <p:spPr>
          <a:xfrm>
            <a:off x="214200" y="3071880"/>
            <a:ext cx="8575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mote care adoption</a:t>
            </a: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1" name="Freeform 65"/>
          <p:cNvSpPr/>
          <p:nvPr/>
        </p:nvSpPr>
        <p:spPr>
          <a:xfrm>
            <a:off x="1571760" y="1428840"/>
            <a:ext cx="7572240" cy="4357440"/>
          </a:xfrm>
          <a:custGeom>
            <a:avLst/>
            <a:gdLst/>
            <a:ahLst/>
            <a:rect l="l" t="t" r="r" b="b"/>
            <a:pathLst>
              <a:path w="7678420" h="4239260">
                <a:moveTo>
                  <a:pt x="0" y="4208780"/>
                </a:moveTo>
                <a:cubicBezTo>
                  <a:pt x="492760" y="4224020"/>
                  <a:pt x="985520" y="4239260"/>
                  <a:pt x="1706880" y="4117340"/>
                </a:cubicBezTo>
                <a:cubicBezTo>
                  <a:pt x="2428240" y="3995420"/>
                  <a:pt x="3733800" y="4069080"/>
                  <a:pt x="4328160" y="3477260"/>
                </a:cubicBezTo>
                <a:cubicBezTo>
                  <a:pt x="4922520" y="2885440"/>
                  <a:pt x="4772660" y="1132840"/>
                  <a:pt x="5273040" y="566420"/>
                </a:cubicBezTo>
                <a:cubicBezTo>
                  <a:pt x="5773420" y="0"/>
                  <a:pt x="6982460" y="157480"/>
                  <a:pt x="7330440" y="78740"/>
                </a:cubicBezTo>
                <a:cubicBezTo>
                  <a:pt x="7678420" y="0"/>
                  <a:pt x="7519670" y="46990"/>
                  <a:pt x="7360920" y="93980"/>
                </a:cubicBezTo>
              </a:path>
            </a:pathLst>
          </a:custGeom>
          <a:noFill/>
          <a:ln w="475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2" name="Rectangle 29"/>
          <p:cNvSpPr/>
          <p:nvPr/>
        </p:nvSpPr>
        <p:spPr>
          <a:xfrm rot="20874000">
            <a:off x="8364600" y="1429920"/>
            <a:ext cx="714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val 6"/>
          <p:cNvSpPr/>
          <p:nvPr/>
        </p:nvSpPr>
        <p:spPr>
          <a:xfrm>
            <a:off x="4000680" y="4929120"/>
            <a:ext cx="357120" cy="357120"/>
          </a:xfrm>
          <a:prstGeom prst="ellipse">
            <a:avLst/>
          </a:prstGeom>
          <a:solidFill>
            <a:srgbClr val="ff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Growth in remote care users in England ... with many assump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6357960" y="785880"/>
            <a:ext cx="2587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Based on CQC returns, JIT (Scotland) data, and authors’ research for WAG. </a:t>
            </a:r>
            <a:endParaRPr b="0" i="1" lang="en-US" sz="1000" spc="-1" strike="noStrike">
              <a:solidFill>
                <a:srgbClr val="6e6e6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6e6e6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cludes LA and other agency services.</a:t>
            </a:r>
            <a:endParaRPr b="0" i="1" lang="en-US" sz="1000" spc="-1" strike="noStrike">
              <a:solidFill>
                <a:srgbClr val="6e6e6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umes 30% drop-out rate each year</a:t>
            </a:r>
            <a:endParaRPr b="0" i="1" lang="en-US" sz="1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6" name="Oval 5"/>
          <p:cNvSpPr/>
          <p:nvPr/>
        </p:nvSpPr>
        <p:spPr>
          <a:xfrm>
            <a:off x="6215040" y="2071800"/>
            <a:ext cx="357120" cy="3571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7" name="Rounded Rectangular Callout 7"/>
          <p:cNvSpPr/>
          <p:nvPr/>
        </p:nvSpPr>
        <p:spPr>
          <a:xfrm>
            <a:off x="7286760" y="2286000"/>
            <a:ext cx="1571400" cy="428760"/>
          </a:xfrm>
          <a:prstGeom prst="wedgeRoundRectCallout">
            <a:avLst>
              <a:gd name="adj1" fmla="val -93648"/>
              <a:gd name="adj2" fmla="val -44166"/>
              <a:gd name="adj3" fmla="val 1666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ith Scotland &amp; Wales</a:t>
            </a:r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268" name="Chart 13" descr=""/>
          <p:cNvPicPr/>
          <p:nvPr/>
        </p:nvPicPr>
        <p:blipFill>
          <a:blip r:embed="rId1"/>
          <a:stretch/>
        </p:blipFill>
        <p:spPr>
          <a:xfrm>
            <a:off x="639720" y="2066760"/>
            <a:ext cx="6145200" cy="4449960"/>
          </a:xfrm>
          <a:prstGeom prst="rect">
            <a:avLst/>
          </a:prstGeom>
          <a:ln w="0">
            <a:noFill/>
          </a:ln>
        </p:spPr>
      </p:pic>
      <p:sp>
        <p:nvSpPr>
          <p:cNvPr id="269" name="Rounded Rectangular Callout 8"/>
          <p:cNvSpPr/>
          <p:nvPr/>
        </p:nvSpPr>
        <p:spPr>
          <a:xfrm>
            <a:off x="5643720" y="4500720"/>
            <a:ext cx="2643120" cy="642960"/>
          </a:xfrm>
          <a:prstGeom prst="wedgeRoundRectCallout">
            <a:avLst>
              <a:gd name="adj1" fmla="val -101388"/>
              <a:gd name="adj2" fmla="val 40152"/>
              <a:gd name="adj3" fmla="val 1666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ssumes 15,000 remote care users (2005) and 5000 users (2000)</a:t>
            </a:r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31:32Z</dcterms:created>
  <dc:creator>Barlow</dc:creator>
  <dc:description/>
  <dc:language>en-US</dc:language>
  <cp:lastModifiedBy>Administrator</cp:lastModifiedBy>
  <dcterms:modified xsi:type="dcterms:W3CDTF">2011-06-22T15:35:04Z</dcterms:modified>
  <cp:revision>1041</cp:revision>
  <dc:subject/>
  <dc:title>Slide 1</dc:title>
</cp:coreProperties>
</file>