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29.png" ContentType="image/png"/>
  <Override PartName="/ppt/media/image27.png" ContentType="image/png"/>
  <Override PartName="/ppt/media/image26.png" ContentType="image/png"/>
  <Override PartName="/ppt/media/image25.jpeg" ContentType="image/jpeg"/>
  <Override PartName="/ppt/media/image32.png" ContentType="image/png"/>
  <Override PartName="/ppt/media/image24.png" ContentType="image/png"/>
  <Override PartName="/ppt/media/image21.png" ContentType="image/png"/>
  <Override PartName="/ppt/media/image20.png" ContentType="image/png"/>
  <Override PartName="/ppt/media/image2.jpeg" ContentType="image/jpeg"/>
  <Override PartName="/ppt/media/image22.jpeg" ContentType="image/jpeg"/>
  <Override PartName="/ppt/media/image9.png" ContentType="image/png"/>
  <Override PartName="/ppt/media/image19.jpeg" ContentType="image/jpeg"/>
  <Override PartName="/ppt/media/image11.png" ContentType="image/png"/>
  <Override PartName="/ppt/media/image8.png" ContentType="image/png"/>
  <Override PartName="/ppt/media/image33.png" ContentType="image/png"/>
  <Override PartName="/ppt/media/image13.png" ContentType="image/png"/>
  <Override PartName="/ppt/media/image6.wmf" ContentType="image/x-wmf"/>
  <Override PartName="/ppt/media/image36.wmf" ContentType="image/x-wmf"/>
  <Override PartName="/ppt/media/image16.png" ContentType="image/png"/>
  <Override PartName="/ppt/media/image31.png" ContentType="image/png"/>
  <Override PartName="/ppt/media/image7.png" ContentType="image/png"/>
  <Override PartName="/ppt/media/image34.jpeg" ContentType="image/jpeg"/>
  <Override PartName="/ppt/media/image35.wmf" ContentType="image/x-wmf"/>
  <Override PartName="/ppt/media/image37.jpeg" ContentType="image/jpeg"/>
  <Override PartName="/ppt/media/image3.jpeg" ContentType="image/jpeg"/>
  <Override PartName="/ppt/media/image30.png" ContentType="image/png"/>
  <Override PartName="/ppt/media/image5.png" ContentType="image/png"/>
  <Override PartName="/ppt/media/image38.jpeg" ContentType="image/jpeg"/>
  <Override PartName="/ppt/media/image28.png" ContentType="image/png"/>
  <Override PartName="/ppt/media/image12.png" ContentType="image/png"/>
  <Override PartName="/ppt/media/image23.jpeg" ContentType="image/jpeg"/>
  <Override PartName="/ppt/media/image1.jpeg" ContentType="image/jpeg"/>
  <Override PartName="/ppt/media/image10.png" ContentType="image/png"/>
  <Override PartName="/ppt/media/image4.wmf" ContentType="image/x-wmf"/>
  <Override PartName="/ppt/media/image14.png" ContentType="image/png"/>
  <Override PartName="/ppt/media/image17.png" ContentType="image/png"/>
  <Override PartName="/ppt/media/image15.png" ContentType="image/png"/>
  <Override PartName="/ppt/media/image1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0" y="0"/>
            <a:ext cx="6782400" cy="991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i="1" lang="en-US" sz="16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383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dt" idx="6"/>
          </p:nvPr>
        </p:nvSpPr>
        <p:spPr>
          <a:xfrm>
            <a:off x="3843360" y="0"/>
            <a:ext cx="29383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sldImg"/>
          </p:nvPr>
        </p:nvSpPr>
        <p:spPr>
          <a:xfrm>
            <a:off x="912960" y="744480"/>
            <a:ext cx="4959360" cy="37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 type="body"/>
          </p:nvPr>
        </p:nvSpPr>
        <p:spPr>
          <a:xfrm>
            <a:off x="903240" y="4711680"/>
            <a:ext cx="497520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 type="ftr" idx="7"/>
          </p:nvPr>
        </p:nvSpPr>
        <p:spPr>
          <a:xfrm>
            <a:off x="0" y="9421920"/>
            <a:ext cx="29383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 type="sldNum" idx="8"/>
          </p:nvPr>
        </p:nvSpPr>
        <p:spPr>
          <a:xfrm>
            <a:off x="3843360" y="9421920"/>
            <a:ext cx="29383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93600-CF7E-4DBB-BBDB-78E75449195D}" type="slidenum">
              <a:rPr b="0" lang="da-DK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9129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903240" y="4711680"/>
            <a:ext cx="497520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Slide Number Placeholder 3"/>
          <p:cNvSpPr/>
          <p:nvPr/>
        </p:nvSpPr>
        <p:spPr>
          <a:xfrm>
            <a:off x="3843360" y="942192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9D274-58D2-4816-87B5-ACCBEC93953A}" type="slidenum">
              <a:rPr b="0" lang="da-DK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6e6e6f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9129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903240" y="4711680"/>
            <a:ext cx="497520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Slide Number Placeholder 3"/>
          <p:cNvSpPr/>
          <p:nvPr/>
        </p:nvSpPr>
        <p:spPr>
          <a:xfrm>
            <a:off x="3843360" y="942192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AE6F6-DF8B-43D5-9222-2C7E42BF16C2}" type="slidenum">
              <a:rPr b="0" lang="da-DK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6e6e6f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9129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903240" y="4711680"/>
            <a:ext cx="497520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Slide Number Placeholder 3"/>
          <p:cNvSpPr/>
          <p:nvPr/>
        </p:nvSpPr>
        <p:spPr>
          <a:xfrm>
            <a:off x="3843360" y="942192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8D0F3-0F7E-4144-8644-A3746D6BAFC3}" type="slidenum">
              <a:rPr b="0" lang="da-DK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6e6e6f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9129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903240" y="4711680"/>
            <a:ext cx="497520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Slide Number Placeholder 3"/>
          <p:cNvSpPr/>
          <p:nvPr/>
        </p:nvSpPr>
        <p:spPr>
          <a:xfrm>
            <a:off x="3843360" y="942192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29D74-57E7-449F-AAFF-20CE62A42155}" type="slidenum">
              <a:rPr b="0" lang="da-DK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6e6e6f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9129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903240" y="4711680"/>
            <a:ext cx="497520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3843360" y="942192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F0C99-AFC3-4C5E-ABE2-67A38233AB00}" type="slidenum">
              <a:rPr b="0" lang="da-DK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6e6e6f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9129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903240" y="4711680"/>
            <a:ext cx="497520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Slide Number Placeholder 3"/>
          <p:cNvSpPr/>
          <p:nvPr/>
        </p:nvSpPr>
        <p:spPr>
          <a:xfrm>
            <a:off x="3843360" y="942192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983C0-F3D2-47C0-B160-48EDE6B7659F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6e6e6f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9129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903240" y="4711680"/>
            <a:ext cx="497520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Slide Number Placeholder 3"/>
          <p:cNvSpPr/>
          <p:nvPr/>
        </p:nvSpPr>
        <p:spPr>
          <a:xfrm>
            <a:off x="3843360" y="942192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CBD62-9502-4E16-B018-E3A28AC997D5}" type="slidenum">
              <a:rPr b="0" lang="da-DK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6e6e6f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9129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903240" y="4711680"/>
            <a:ext cx="497520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Slide Number Placeholder 3"/>
          <p:cNvSpPr/>
          <p:nvPr/>
        </p:nvSpPr>
        <p:spPr>
          <a:xfrm>
            <a:off x="3843360" y="942192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9D480-3179-4718-BFEC-773586D1032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6e6e6f"/>
              </a:solidFill>
              <a:latin typeface="Verdan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9129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03240" y="4711680"/>
            <a:ext cx="497520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Slide Number Placeholder 3"/>
          <p:cNvSpPr/>
          <p:nvPr/>
        </p:nvSpPr>
        <p:spPr>
          <a:xfrm>
            <a:off x="3843360" y="942192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4259E-04A0-4DB4-AE23-1A312B03DF8B}" type="slidenum">
              <a:rPr b="0" lang="da-DK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6e6e6f"/>
              </a:solidFill>
              <a:latin typeface="Verdan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9129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903240" y="4711680"/>
            <a:ext cx="497520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Slide Number Placeholder 3"/>
          <p:cNvSpPr/>
          <p:nvPr/>
        </p:nvSpPr>
        <p:spPr>
          <a:xfrm>
            <a:off x="3843360" y="942192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E6B19-6D93-4A5A-950C-257D23F4D144}" type="slidenum">
              <a:rPr b="0" lang="da-DK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6e6e6f"/>
              </a:solidFill>
              <a:latin typeface="Verdan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9129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903240" y="4711680"/>
            <a:ext cx="497520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Slide Number Placeholder 3"/>
          <p:cNvSpPr/>
          <p:nvPr/>
        </p:nvSpPr>
        <p:spPr>
          <a:xfrm>
            <a:off x="3843360" y="942192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856DB-4843-4B96-BCC8-1206B212AFF7}" type="slidenum">
              <a:rPr b="0" lang="da-DK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6e6e6f"/>
              </a:solidFill>
              <a:latin typeface="Verdan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9129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903240" y="4711680"/>
            <a:ext cx="497520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Slide Number Placeholder 3"/>
          <p:cNvSpPr/>
          <p:nvPr/>
        </p:nvSpPr>
        <p:spPr>
          <a:xfrm>
            <a:off x="3843360" y="942192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09BD5-0CB4-4BBF-B1D6-9B243CE8E399}" type="slidenum">
              <a:rPr b="0" lang="da-DK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6e6e6f"/>
              </a:solidFill>
              <a:latin typeface="Verdan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9129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903240" y="4711680"/>
            <a:ext cx="497520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Slide Number Placeholder 3"/>
          <p:cNvSpPr/>
          <p:nvPr/>
        </p:nvSpPr>
        <p:spPr>
          <a:xfrm>
            <a:off x="3843360" y="942192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21E8E-C288-4129-B867-F67E24A8A943}" type="slidenum">
              <a:rPr b="0" lang="da-DK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6e6e6f"/>
              </a:solidFill>
              <a:latin typeface="Verdan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9129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903240" y="4711680"/>
            <a:ext cx="497520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Slide Number Placeholder 3"/>
          <p:cNvSpPr/>
          <p:nvPr/>
        </p:nvSpPr>
        <p:spPr>
          <a:xfrm>
            <a:off x="3843360" y="942192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E0B64-5CDA-4B00-81FD-389DBAE49E28}" type="slidenum">
              <a:rPr b="0" lang="da-DK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6e6e6f"/>
              </a:solidFill>
              <a:latin typeface="Verdan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9129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903240" y="4711680"/>
            <a:ext cx="497520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Slide Number Placeholder 3"/>
          <p:cNvSpPr/>
          <p:nvPr/>
        </p:nvSpPr>
        <p:spPr>
          <a:xfrm>
            <a:off x="3843360" y="942192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B5008-A1BF-408A-99E6-9FC2CFBCA35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6e6e6f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43360" y="942192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84705-A7B8-4EF9-891E-342F880103A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9129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903240" y="4711680"/>
            <a:ext cx="497520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9129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903240" y="4711680"/>
            <a:ext cx="497520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Slide Number Placeholder 3"/>
          <p:cNvSpPr/>
          <p:nvPr/>
        </p:nvSpPr>
        <p:spPr>
          <a:xfrm>
            <a:off x="3843360" y="942192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F68A4-A5B2-4719-B818-BEBA2F0D800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6e6e6f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9129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903240" y="4711680"/>
            <a:ext cx="497520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Slide Number Placeholder 3"/>
          <p:cNvSpPr/>
          <p:nvPr/>
        </p:nvSpPr>
        <p:spPr>
          <a:xfrm>
            <a:off x="3843360" y="942192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DFB08-B656-4279-BF68-DB758E627F4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6e6e6f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9129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903240" y="4711680"/>
            <a:ext cx="497520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Slide Number Placeholder 3"/>
          <p:cNvSpPr/>
          <p:nvPr/>
        </p:nvSpPr>
        <p:spPr>
          <a:xfrm>
            <a:off x="3843360" y="942192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53E4E-3DAF-4DA6-8263-07E12F4F8FAA}" type="slidenum">
              <a:rPr b="0" lang="da-DK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6e6e6f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9129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903240" y="4711680"/>
            <a:ext cx="497520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Slide Number Placeholder 3"/>
          <p:cNvSpPr/>
          <p:nvPr/>
        </p:nvSpPr>
        <p:spPr>
          <a:xfrm>
            <a:off x="3843360" y="942192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8A049-65FF-4B1A-AD07-EE790592AD1F}" type="slidenum">
              <a:rPr b="0" lang="da-DK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6e6e6f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9129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903240" y="4711680"/>
            <a:ext cx="497520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Slide Number Placeholder 3"/>
          <p:cNvSpPr/>
          <p:nvPr/>
        </p:nvSpPr>
        <p:spPr>
          <a:xfrm>
            <a:off x="3843360" y="942192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9E49D-9365-4A6D-B81F-EBA13C8D1F31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6e6e6f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9129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903240" y="4711680"/>
            <a:ext cx="497520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Slide Number Placeholder 3"/>
          <p:cNvSpPr/>
          <p:nvPr/>
        </p:nvSpPr>
        <p:spPr>
          <a:xfrm>
            <a:off x="3843360" y="942192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D6885-1F45-4BD8-8FB5-72592EEBA9D9}" type="slidenum">
              <a:rPr b="0" lang="da-DK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6e6e6f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17040" y="1981080"/>
            <a:ext cx="7899480" cy="201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f55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17040" y="4190040"/>
            <a:ext cx="7899480" cy="201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f55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17040" y="1981080"/>
            <a:ext cx="3854880" cy="201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f55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4880" y="1981080"/>
            <a:ext cx="3854880" cy="201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f55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17040" y="4190040"/>
            <a:ext cx="3854880" cy="201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f55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64880" y="4190040"/>
            <a:ext cx="3854880" cy="201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f55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7040" y="1981080"/>
            <a:ext cx="2543400" cy="201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f55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87880" y="1981080"/>
            <a:ext cx="2543400" cy="201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f55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59080" y="1981080"/>
            <a:ext cx="2543400" cy="201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f55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17040" y="4190040"/>
            <a:ext cx="2543400" cy="201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f55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87880" y="4190040"/>
            <a:ext cx="2543400" cy="201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f55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59080" y="4190040"/>
            <a:ext cx="2543400" cy="201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f55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D6F1F8-A249-4C29-B19C-176C3B9913F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17040" y="1981080"/>
            <a:ext cx="7899480" cy="422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f5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4F2F0A-30C2-4EFE-A1BE-32C330E30BB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17040" y="1981080"/>
            <a:ext cx="7899480" cy="422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f5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BD3E18-5BC1-4CD1-9888-9898154CDC3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17040" y="1981080"/>
            <a:ext cx="3854880" cy="422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f55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64880" y="1981080"/>
            <a:ext cx="3854880" cy="422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f5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68AD05-5E3F-449C-A910-7C63D5EFA59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3A9881-4B5C-4FD8-833C-E5355F31836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f5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6E25DF-6BA1-4227-A868-7217896D32D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17040" y="1981080"/>
            <a:ext cx="3854880" cy="201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f55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4880" y="1981080"/>
            <a:ext cx="3854880" cy="422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f55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17040" y="4190040"/>
            <a:ext cx="3854880" cy="201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f5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6A7257-B5CE-4564-9F13-B8081F81E61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17040" y="1981080"/>
            <a:ext cx="7899480" cy="422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f55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7040" y="1981080"/>
            <a:ext cx="3854880" cy="422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f55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4880" y="1981080"/>
            <a:ext cx="3854880" cy="201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f55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64880" y="4190040"/>
            <a:ext cx="3854880" cy="201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f5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C850F5-19AE-4EC8-98BA-708A21E7890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17040" y="1981080"/>
            <a:ext cx="3854880" cy="201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f55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4880" y="1981080"/>
            <a:ext cx="3854880" cy="201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f55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17040" y="4190040"/>
            <a:ext cx="7899480" cy="201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f5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1C5A39-B917-4261-9C25-ABC766C6D89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17040" y="1981080"/>
            <a:ext cx="7899480" cy="201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f55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17040" y="4190040"/>
            <a:ext cx="7899480" cy="201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f5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7B38CD-BDE3-4525-BDCB-A5B2A6B482E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17040" y="1981080"/>
            <a:ext cx="3854880" cy="201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f55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4880" y="1981080"/>
            <a:ext cx="3854880" cy="201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f55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17040" y="4190040"/>
            <a:ext cx="3854880" cy="201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f55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64880" y="4190040"/>
            <a:ext cx="3854880" cy="201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f55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B40C6B-DF5C-4420-B3D9-EB85E0F5725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17040" y="1981080"/>
            <a:ext cx="2543400" cy="201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f55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87880" y="1981080"/>
            <a:ext cx="2543400" cy="201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f55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59080" y="1981080"/>
            <a:ext cx="2543400" cy="201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f55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17040" y="4190040"/>
            <a:ext cx="2543400" cy="201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f55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87880" y="4190040"/>
            <a:ext cx="2543400" cy="201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f55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59080" y="4190040"/>
            <a:ext cx="2543400" cy="201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f55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511859-DBC6-45E5-AD07-CF50BD986A05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17040" y="1981080"/>
            <a:ext cx="7899480" cy="422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f55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17040" y="1981080"/>
            <a:ext cx="7899480" cy="422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f55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17040" y="1981080"/>
            <a:ext cx="3854880" cy="422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f55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64880" y="1981080"/>
            <a:ext cx="3854880" cy="422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f55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17040" y="1981080"/>
            <a:ext cx="7899480" cy="422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f55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f55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17040" y="1981080"/>
            <a:ext cx="3854880" cy="201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f55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4880" y="1981080"/>
            <a:ext cx="3854880" cy="422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f55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40" y="4190040"/>
            <a:ext cx="3854880" cy="201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f55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17040" y="1981080"/>
            <a:ext cx="3854880" cy="422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f55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4880" y="1981080"/>
            <a:ext cx="3854880" cy="201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f55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64880" y="4190040"/>
            <a:ext cx="3854880" cy="201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f55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7040" y="1981080"/>
            <a:ext cx="3854880" cy="201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f55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64880" y="1981080"/>
            <a:ext cx="3854880" cy="201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f55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17040" y="4190040"/>
            <a:ext cx="7899480" cy="201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f55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17040" y="1981080"/>
            <a:ext cx="7899480" cy="201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f55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17040" y="4190040"/>
            <a:ext cx="7899480" cy="201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f55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7040" y="1981080"/>
            <a:ext cx="3854880" cy="201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f55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4880" y="1981080"/>
            <a:ext cx="3854880" cy="201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f55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7040" y="4190040"/>
            <a:ext cx="3854880" cy="201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f55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64880" y="4190040"/>
            <a:ext cx="3854880" cy="201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f55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17040" y="1981080"/>
            <a:ext cx="2543400" cy="201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f55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87880" y="1981080"/>
            <a:ext cx="2543400" cy="201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f55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5959080" y="1981080"/>
            <a:ext cx="2543400" cy="201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f55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617040" y="4190040"/>
            <a:ext cx="2543400" cy="201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f55"/>
              </a:solidFill>
              <a:latin typeface="Aria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87880" y="4190040"/>
            <a:ext cx="2543400" cy="201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f55"/>
              </a:solidFill>
              <a:latin typeface="Arial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5959080" y="4190040"/>
            <a:ext cx="2543400" cy="201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f55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205FCC-92D2-4DF6-8848-342F8DCFD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17040" y="1981080"/>
            <a:ext cx="7899480" cy="422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f5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06BA32-78E4-4111-B326-0DF76E031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17040" y="1981080"/>
            <a:ext cx="7899480" cy="422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f5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9EF6DE-755F-495B-864F-B8B28C004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17040" y="1981080"/>
            <a:ext cx="3854880" cy="422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f55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64880" y="1981080"/>
            <a:ext cx="3854880" cy="422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f55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17040" y="1981080"/>
            <a:ext cx="3854880" cy="422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f55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64880" y="1981080"/>
            <a:ext cx="3854880" cy="422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f5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EC8DFA-FC17-49C8-A463-D1BCFAF0B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FDBAE2-8DCF-4FEA-9514-77DEC564E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f5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A95D22-E94E-4C53-8919-5D5A9A300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17040" y="1981080"/>
            <a:ext cx="3854880" cy="201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f55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4880" y="1981080"/>
            <a:ext cx="3854880" cy="422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f55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17040" y="4190040"/>
            <a:ext cx="3854880" cy="201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f5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6C8F71-5300-4E59-A6AC-5D41519C4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17040" y="1981080"/>
            <a:ext cx="3854880" cy="422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f55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64880" y="1981080"/>
            <a:ext cx="3854880" cy="201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f55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664880" y="4190040"/>
            <a:ext cx="3854880" cy="201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f5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C72468-547E-4FD7-876E-11D2E955D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17040" y="1981080"/>
            <a:ext cx="3854880" cy="201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f55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64880" y="1981080"/>
            <a:ext cx="3854880" cy="201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f55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17040" y="4190040"/>
            <a:ext cx="7899480" cy="201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f5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0C7BC1-7786-4CE9-9225-0392A6E7F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17040" y="1981080"/>
            <a:ext cx="7899480" cy="201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f55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17040" y="4190040"/>
            <a:ext cx="7899480" cy="201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f5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D59927-9162-4E44-88F5-02AD1F909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17040" y="1981080"/>
            <a:ext cx="3854880" cy="201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f55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64880" y="1981080"/>
            <a:ext cx="3854880" cy="201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f55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17040" y="4190040"/>
            <a:ext cx="3854880" cy="201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f55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664880" y="4190040"/>
            <a:ext cx="3854880" cy="201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f55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87688F-004A-43F3-8999-672056592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17040" y="1981080"/>
            <a:ext cx="2543400" cy="201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f55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287880" y="1981080"/>
            <a:ext cx="2543400" cy="201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f55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959080" y="1981080"/>
            <a:ext cx="2543400" cy="201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f55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17040" y="4190040"/>
            <a:ext cx="2543400" cy="201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f55"/>
              </a:solidFill>
              <a:latin typeface="Arial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287880" y="4190040"/>
            <a:ext cx="2543400" cy="201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f55"/>
              </a:solidFill>
              <a:latin typeface="Arial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5959080" y="4190040"/>
            <a:ext cx="2543400" cy="201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f55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89AABF-B904-46F3-9FD6-853E33CDE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617040" y="1981080"/>
            <a:ext cx="7899480" cy="422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f55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17040" y="1981080"/>
            <a:ext cx="7899480" cy="422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f55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7040" y="1981080"/>
            <a:ext cx="3854880" cy="422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f55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4880" y="1981080"/>
            <a:ext cx="3854880" cy="422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f55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f55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7040" y="1981080"/>
            <a:ext cx="3854880" cy="201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f55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64880" y="1981080"/>
            <a:ext cx="3854880" cy="422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f55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7040" y="4190040"/>
            <a:ext cx="3854880" cy="201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f55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17040" y="1981080"/>
            <a:ext cx="3854880" cy="422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f55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4880" y="1981080"/>
            <a:ext cx="3854880" cy="201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f55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664880" y="4190040"/>
            <a:ext cx="3854880" cy="201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f55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17040" y="1981080"/>
            <a:ext cx="3854880" cy="201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f55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64880" y="1981080"/>
            <a:ext cx="3854880" cy="201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f55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17040" y="4190040"/>
            <a:ext cx="7899480" cy="201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f55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17040" y="1981080"/>
            <a:ext cx="7899480" cy="201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f55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617040" y="4190040"/>
            <a:ext cx="7899480" cy="201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f55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17040" y="1981080"/>
            <a:ext cx="3854880" cy="201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f55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64880" y="1981080"/>
            <a:ext cx="3854880" cy="201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f55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17040" y="4190040"/>
            <a:ext cx="3854880" cy="201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f55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664880" y="4190040"/>
            <a:ext cx="3854880" cy="201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f55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f55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17040" y="1981080"/>
            <a:ext cx="2543400" cy="201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f55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287880" y="1981080"/>
            <a:ext cx="2543400" cy="201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f55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959080" y="1981080"/>
            <a:ext cx="2543400" cy="201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f55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617040" y="4190040"/>
            <a:ext cx="2543400" cy="201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f55"/>
              </a:solidFill>
              <a:latin typeface="Arial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3287880" y="4190040"/>
            <a:ext cx="2543400" cy="201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f55"/>
              </a:solidFill>
              <a:latin typeface="Arial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5959080" y="4190040"/>
            <a:ext cx="2543400" cy="201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f55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7040" y="1981080"/>
            <a:ext cx="3854880" cy="201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f55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4880" y="1981080"/>
            <a:ext cx="3854880" cy="422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f55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17040" y="4190040"/>
            <a:ext cx="3854880" cy="201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f55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17040" y="1981080"/>
            <a:ext cx="3854880" cy="422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f55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4880" y="1981080"/>
            <a:ext cx="3854880" cy="201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f55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64880" y="4190040"/>
            <a:ext cx="3854880" cy="201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f55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17040" y="1981080"/>
            <a:ext cx="3854880" cy="201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f55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4880" y="1981080"/>
            <a:ext cx="3854880" cy="201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f55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17040" y="4190040"/>
            <a:ext cx="7899480" cy="201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f55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17040" y="1981080"/>
            <a:ext cx="7899480" cy="422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4b4f5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f55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b4f55"/>
              </a:solidFill>
              <a:latin typeface="Arial"/>
            </a:endParaRPr>
          </a:p>
          <a:p>
            <a:pPr lvl="1" marL="723960" indent="-363600">
              <a:spcBef>
                <a:spcPts val="601"/>
              </a:spcBef>
              <a:buClr>
                <a:srgbClr val="4b4f5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f55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b4f55"/>
              </a:solidFill>
              <a:latin typeface="Arial"/>
            </a:endParaRPr>
          </a:p>
          <a:p>
            <a:pPr lvl="2" marL="952560" indent="-190440">
              <a:spcBef>
                <a:spcPts val="601"/>
              </a:spcBef>
              <a:buClr>
                <a:srgbClr val="4b4f5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f55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b4f55"/>
              </a:solidFill>
              <a:latin typeface="Arial"/>
            </a:endParaRPr>
          </a:p>
          <a:p>
            <a:pPr lvl="3" marL="1333440" indent="-190440">
              <a:spcBef>
                <a:spcPts val="601"/>
              </a:spcBef>
              <a:buClr>
                <a:srgbClr val="4b4f5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f55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b4f55"/>
              </a:solidFill>
              <a:latin typeface="Arial"/>
            </a:endParaRPr>
          </a:p>
          <a:p>
            <a:pPr lvl="4" marL="1727280" indent="-203400">
              <a:spcBef>
                <a:spcPts val="601"/>
              </a:spcBef>
              <a:buClr>
                <a:srgbClr val="4b4f5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f55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b4f55"/>
              </a:solidFill>
              <a:latin typeface="Arial"/>
            </a:endParaRPr>
          </a:p>
          <a:p>
            <a:pPr lvl="5" marL="1727280" indent="-20340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f55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b4f55"/>
              </a:solidFill>
              <a:latin typeface="Arial"/>
            </a:endParaRPr>
          </a:p>
          <a:p>
            <a:pPr lvl="6" marL="1727280" indent="-20340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f55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b4f55"/>
              </a:solidFill>
              <a:latin typeface="Arial"/>
            </a:endParaRPr>
          </a:p>
        </p:txBody>
      </p:sp>
      <p:sp>
        <p:nvSpPr>
          <p:cNvPr id="1" name="TextBox 11"/>
          <p:cNvSpPr/>
          <p:nvPr/>
        </p:nvSpPr>
        <p:spPr>
          <a:xfrm>
            <a:off x="1857240" y="6500880"/>
            <a:ext cx="71460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e6e6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3"/>
          <p:cNvSpPr/>
          <p:nvPr/>
        </p:nvSpPr>
        <p:spPr>
          <a:xfrm>
            <a:off x="0" y="1303200"/>
            <a:ext cx="9144000" cy="439920"/>
          </a:xfrm>
          <a:prstGeom prst="rect">
            <a:avLst/>
          </a:pr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39" name="Rectangle 6"/>
          <p:cNvSpPr/>
          <p:nvPr/>
        </p:nvSpPr>
        <p:spPr>
          <a:xfrm>
            <a:off x="0" y="1303200"/>
            <a:ext cx="9144000" cy="439920"/>
          </a:xfrm>
          <a:prstGeom prst="rect">
            <a:avLst/>
          </a:pr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617040" y="1981080"/>
            <a:ext cx="7899480" cy="422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4b4f5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f55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b4f55"/>
              </a:solidFill>
              <a:latin typeface="Arial"/>
            </a:endParaRPr>
          </a:p>
          <a:p>
            <a:pPr lvl="1" marL="723960" indent="-363600">
              <a:spcBef>
                <a:spcPts val="601"/>
              </a:spcBef>
              <a:buClr>
                <a:srgbClr val="4b4f5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f55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b4f55"/>
              </a:solidFill>
              <a:latin typeface="Arial"/>
            </a:endParaRPr>
          </a:p>
          <a:p>
            <a:pPr lvl="2" marL="952560" indent="-190440">
              <a:spcBef>
                <a:spcPts val="601"/>
              </a:spcBef>
              <a:buClr>
                <a:srgbClr val="4b4f5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f55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b4f55"/>
              </a:solidFill>
              <a:latin typeface="Arial"/>
            </a:endParaRPr>
          </a:p>
          <a:p>
            <a:pPr lvl="3" marL="1333440" indent="-190440">
              <a:spcBef>
                <a:spcPts val="601"/>
              </a:spcBef>
              <a:buClr>
                <a:srgbClr val="4b4f5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f55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b4f55"/>
              </a:solidFill>
              <a:latin typeface="Arial"/>
            </a:endParaRPr>
          </a:p>
          <a:p>
            <a:pPr lvl="4" marL="1727280" indent="-203400">
              <a:spcBef>
                <a:spcPts val="601"/>
              </a:spcBef>
              <a:buClr>
                <a:srgbClr val="4b4f5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f55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b4f55"/>
              </a:solidFill>
              <a:latin typeface="Arial"/>
            </a:endParaRPr>
          </a:p>
          <a:p>
            <a:pPr lvl="5" marL="1727280" indent="-20340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f55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b4f55"/>
              </a:solidFill>
              <a:latin typeface="Arial"/>
            </a:endParaRPr>
          </a:p>
          <a:p>
            <a:pPr lvl="6" marL="1727280" indent="-20340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f55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b4f55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ftr" idx="1"/>
          </p:nvPr>
        </p:nvSpPr>
        <p:spPr>
          <a:xfrm>
            <a:off x="4571640" y="6500880"/>
            <a:ext cx="4000680" cy="2253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© Imperial College Business Sch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Num" idx="2"/>
          </p:nvPr>
        </p:nvSpPr>
        <p:spPr>
          <a:xfrm>
            <a:off x="509760" y="642096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8A85D-C7AE-4365-8F50-30B657A561B7}" type="slidenum">
              <a:rPr b="0" lang="en-GB" sz="8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body"/>
          </p:nvPr>
        </p:nvSpPr>
        <p:spPr>
          <a:xfrm>
            <a:off x="617040" y="1981080"/>
            <a:ext cx="7899480" cy="422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4b4f5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f55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b4f55"/>
              </a:solidFill>
              <a:latin typeface="Arial"/>
            </a:endParaRPr>
          </a:p>
          <a:p>
            <a:pPr lvl="1" marL="723960" indent="-363600">
              <a:spcBef>
                <a:spcPts val="601"/>
              </a:spcBef>
              <a:buClr>
                <a:srgbClr val="4b4f5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f55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b4f55"/>
              </a:solidFill>
              <a:latin typeface="Arial"/>
            </a:endParaRPr>
          </a:p>
          <a:p>
            <a:pPr lvl="2" marL="952560" indent="-190440">
              <a:spcBef>
                <a:spcPts val="601"/>
              </a:spcBef>
              <a:buClr>
                <a:srgbClr val="4b4f5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f55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b4f55"/>
              </a:solidFill>
              <a:latin typeface="Arial"/>
            </a:endParaRPr>
          </a:p>
          <a:p>
            <a:pPr lvl="3" marL="1333440" indent="-190440">
              <a:spcBef>
                <a:spcPts val="601"/>
              </a:spcBef>
              <a:buClr>
                <a:srgbClr val="4b4f5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f55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b4f55"/>
              </a:solidFill>
              <a:latin typeface="Arial"/>
            </a:endParaRPr>
          </a:p>
          <a:p>
            <a:pPr lvl="4" marL="1727280" indent="-203400">
              <a:spcBef>
                <a:spcPts val="601"/>
              </a:spcBef>
              <a:buClr>
                <a:srgbClr val="4b4f5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f55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b4f55"/>
              </a:solidFill>
              <a:latin typeface="Arial"/>
            </a:endParaRPr>
          </a:p>
          <a:p>
            <a:pPr lvl="5" marL="1727280" indent="-20340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f55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b4f55"/>
              </a:solidFill>
              <a:latin typeface="Arial"/>
            </a:endParaRPr>
          </a:p>
          <a:p>
            <a:pPr lvl="6" marL="1727280" indent="-20340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f55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b4f55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Box 11"/>
          <p:cNvSpPr/>
          <p:nvPr/>
        </p:nvSpPr>
        <p:spPr>
          <a:xfrm>
            <a:off x="1857240" y="6500880"/>
            <a:ext cx="71460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body"/>
          </p:nvPr>
        </p:nvSpPr>
        <p:spPr>
          <a:xfrm>
            <a:off x="617040" y="1981080"/>
            <a:ext cx="7899480" cy="422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4b4f5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f55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b4f55"/>
              </a:solidFill>
              <a:latin typeface="Arial"/>
            </a:endParaRPr>
          </a:p>
          <a:p>
            <a:pPr lvl="1" marL="723960" indent="-363600">
              <a:spcBef>
                <a:spcPts val="601"/>
              </a:spcBef>
              <a:buClr>
                <a:srgbClr val="4b4f5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f55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b4f55"/>
              </a:solidFill>
              <a:latin typeface="Arial"/>
            </a:endParaRPr>
          </a:p>
          <a:p>
            <a:pPr lvl="2" marL="952560" indent="-190440">
              <a:spcBef>
                <a:spcPts val="601"/>
              </a:spcBef>
              <a:buClr>
                <a:srgbClr val="4b4f5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f55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b4f55"/>
              </a:solidFill>
              <a:latin typeface="Arial"/>
            </a:endParaRPr>
          </a:p>
          <a:p>
            <a:pPr lvl="3" marL="1333440" indent="-190440">
              <a:spcBef>
                <a:spcPts val="601"/>
              </a:spcBef>
              <a:buClr>
                <a:srgbClr val="4b4f5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f55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b4f55"/>
              </a:solidFill>
              <a:latin typeface="Arial"/>
            </a:endParaRPr>
          </a:p>
          <a:p>
            <a:pPr lvl="4" marL="1727280" indent="-203400">
              <a:spcBef>
                <a:spcPts val="601"/>
              </a:spcBef>
              <a:buClr>
                <a:srgbClr val="4b4f5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f55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b4f55"/>
              </a:solidFill>
              <a:latin typeface="Arial"/>
            </a:endParaRPr>
          </a:p>
          <a:p>
            <a:pPr lvl="5" marL="1727280" indent="-20340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f55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b4f55"/>
              </a:solidFill>
              <a:latin typeface="Arial"/>
            </a:endParaRPr>
          </a:p>
          <a:p>
            <a:pPr lvl="6" marL="1727280" indent="-20340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f55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b4f55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dt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ftr" idx="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 type="sldNum" idx="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1804A-A769-4F52-A339-6A8B0A50618F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3"/>
          <p:cNvSpPr/>
          <p:nvPr/>
        </p:nvSpPr>
        <p:spPr>
          <a:xfrm>
            <a:off x="0" y="1054080"/>
            <a:ext cx="9144000" cy="580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617040" y="1981080"/>
            <a:ext cx="7899480" cy="422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4b4f5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f55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b4f55"/>
              </a:solidFill>
              <a:latin typeface="Arial"/>
            </a:endParaRPr>
          </a:p>
          <a:p>
            <a:pPr lvl="1" marL="723960" indent="-363600">
              <a:spcBef>
                <a:spcPts val="601"/>
              </a:spcBef>
              <a:buClr>
                <a:srgbClr val="4b4f5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f55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b4f55"/>
              </a:solidFill>
              <a:latin typeface="Arial"/>
            </a:endParaRPr>
          </a:p>
          <a:p>
            <a:pPr lvl="2" marL="952560" indent="-190440">
              <a:spcBef>
                <a:spcPts val="601"/>
              </a:spcBef>
              <a:buClr>
                <a:srgbClr val="4b4f5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f55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b4f55"/>
              </a:solidFill>
              <a:latin typeface="Arial"/>
            </a:endParaRPr>
          </a:p>
          <a:p>
            <a:pPr lvl="3" marL="1333440" indent="-190440">
              <a:spcBef>
                <a:spcPts val="601"/>
              </a:spcBef>
              <a:buClr>
                <a:srgbClr val="4b4f5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f55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b4f55"/>
              </a:solidFill>
              <a:latin typeface="Arial"/>
            </a:endParaRPr>
          </a:p>
          <a:p>
            <a:pPr lvl="4" marL="1727280" indent="-203400">
              <a:spcBef>
                <a:spcPts val="601"/>
              </a:spcBef>
              <a:buClr>
                <a:srgbClr val="4b4f5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f55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b4f55"/>
              </a:solidFill>
              <a:latin typeface="Arial"/>
            </a:endParaRPr>
          </a:p>
          <a:p>
            <a:pPr lvl="5" marL="1727280" indent="-20340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f55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b4f55"/>
              </a:solidFill>
              <a:latin typeface="Arial"/>
            </a:endParaRPr>
          </a:p>
          <a:p>
            <a:pPr lvl="6" marL="1727280" indent="-20340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f55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b4f5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image" Target="../media/image24.png"/><Relationship Id="rId8" Type="http://schemas.openxmlformats.org/officeDocument/2006/relationships/slideLayout" Target="../slideLayouts/slideLayout25.xml"/><Relationship Id="rId9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image" Target="../media/image24.png"/><Relationship Id="rId8" Type="http://schemas.openxmlformats.org/officeDocument/2006/relationships/slideLayout" Target="../slideLayouts/slideLayout25.xml"/><Relationship Id="rId9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haciric.org/Default.aspx?base" TargetMode="External"/><Relationship Id="rId2" Type="http://schemas.openxmlformats.org/officeDocument/2006/relationships/image" Target="../media/image36.wmf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25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6.wmf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image" Target="../media/image24.png"/><Relationship Id="rId8" Type="http://schemas.openxmlformats.org/officeDocument/2006/relationships/slideLayout" Target="../slideLayouts/slideLayout25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image" Target="../media/image24.png"/><Relationship Id="rId8" Type="http://schemas.openxmlformats.org/officeDocument/2006/relationships/slideLayout" Target="../slideLayouts/slideLayout25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4" descr="Main_entrance_and_Tanaka_(3) copy.jpg"/>
          <p:cNvPicPr/>
          <p:nvPr/>
        </p:nvPicPr>
        <p:blipFill>
          <a:blip r:embed="rId1"/>
          <a:stretch/>
        </p:blipFill>
        <p:spPr>
          <a:xfrm>
            <a:off x="0" y="1746360"/>
            <a:ext cx="9144000" cy="5111640"/>
          </a:xfrm>
          <a:prstGeom prst="rect">
            <a:avLst/>
          </a:prstGeom>
          <a:ln w="0">
            <a:noFill/>
          </a:ln>
        </p:spPr>
      </p:pic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958320" y="4357440"/>
            <a:ext cx="6350040" cy="57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Jane Hendy, James Barlow, Theti Crysanthanki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4b4f55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b4f55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b4f55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b4f55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May  2011</a:t>
            </a:r>
            <a:endParaRPr b="0" lang="en-US" sz="2000" spc="-1" strike="noStrike">
              <a:solidFill>
                <a:srgbClr val="4b4f55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title"/>
          </p:nvPr>
        </p:nvSpPr>
        <p:spPr>
          <a:xfrm>
            <a:off x="856800" y="2499840"/>
            <a:ext cx="7572600" cy="10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dc0217"/>
                </a:solidFill>
                <a:latin typeface="Arial"/>
              </a:rPr>
              <a:t>Implementing remote care in the UK</a:t>
            </a:r>
            <a:br>
              <a:rPr sz="3200"/>
            </a:b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Rectangle 6"/>
          <p:cNvSpPr/>
          <p:nvPr/>
        </p:nvSpPr>
        <p:spPr>
          <a:xfrm>
            <a:off x="0" y="1303200"/>
            <a:ext cx="9144000" cy="439920"/>
          </a:xfrm>
          <a:prstGeom prst="rect">
            <a:avLst/>
          </a:pr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e6e6f"/>
              </a:solidFill>
              <a:latin typeface="Verdana"/>
            </a:endParaRPr>
          </a:p>
        </p:txBody>
      </p:sp>
      <p:pic>
        <p:nvPicPr>
          <p:cNvPr id="207" name="Picture 7" descr=""/>
          <p:cNvPicPr/>
          <p:nvPr/>
        </p:nvPicPr>
        <p:blipFill>
          <a:blip r:embed="rId2"/>
          <a:stretch/>
        </p:blipFill>
        <p:spPr>
          <a:xfrm>
            <a:off x="515880" y="165240"/>
            <a:ext cx="2062080" cy="100620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7" descr="Master Logo"/>
          <p:cNvPicPr/>
          <p:nvPr/>
        </p:nvPicPr>
        <p:blipFill>
          <a:blip r:embed="rId3"/>
          <a:stretch/>
        </p:blipFill>
        <p:spPr>
          <a:xfrm>
            <a:off x="6300720" y="115920"/>
            <a:ext cx="242892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071960" y="142560"/>
            <a:ext cx="457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a50021"/>
                </a:solidFill>
                <a:latin typeface="Arial"/>
              </a:rPr>
              <a:t>Geographical sprea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1" name="Group 15"/>
          <p:cNvGrpSpPr/>
          <p:nvPr/>
        </p:nvGrpSpPr>
        <p:grpSpPr>
          <a:xfrm>
            <a:off x="785880" y="192240"/>
            <a:ext cx="2405160" cy="3133800"/>
            <a:chOff x="785880" y="192240"/>
            <a:chExt cx="2405160" cy="3133800"/>
          </a:xfrm>
        </p:grpSpPr>
        <p:sp>
          <p:nvSpPr>
            <p:cNvPr id="272" name="TextBox 127"/>
            <p:cNvSpPr/>
            <p:nvPr/>
          </p:nvSpPr>
          <p:spPr>
            <a:xfrm>
              <a:off x="1713240" y="3143160"/>
              <a:ext cx="563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2006-07</a:t>
              </a:r>
              <a:endParaRPr b="0" i="1" lang="en-US" sz="1200" spc="-1" strike="noStrike">
                <a:solidFill>
                  <a:srgbClr val="6e6e6f"/>
                </a:solidFill>
                <a:latin typeface="Verdana"/>
              </a:endParaRPr>
            </a:p>
          </p:txBody>
        </p:sp>
        <p:pic>
          <p:nvPicPr>
            <p:cNvPr id="273" name="Picture 11" descr=""/>
            <p:cNvPicPr/>
            <p:nvPr/>
          </p:nvPicPr>
          <p:blipFill>
            <a:blip r:embed="rId1"/>
            <a:srcRect l="55237" t="21803" r="23595" b="25087"/>
            <a:stretch/>
          </p:blipFill>
          <p:spPr>
            <a:xfrm>
              <a:off x="785880" y="192240"/>
              <a:ext cx="2405160" cy="2879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74" name="Group 18"/>
          <p:cNvGrpSpPr/>
          <p:nvPr/>
        </p:nvGrpSpPr>
        <p:grpSpPr>
          <a:xfrm>
            <a:off x="4276800" y="3511440"/>
            <a:ext cx="2405160" cy="3171600"/>
            <a:chOff x="4276800" y="3511440"/>
            <a:chExt cx="2405160" cy="3171600"/>
          </a:xfrm>
        </p:grpSpPr>
        <p:sp>
          <p:nvSpPr>
            <p:cNvPr id="275" name="TextBox 126"/>
            <p:cNvSpPr/>
            <p:nvPr/>
          </p:nvSpPr>
          <p:spPr>
            <a:xfrm>
              <a:off x="5428080" y="6500160"/>
              <a:ext cx="563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2009-10</a:t>
              </a:r>
              <a:endParaRPr b="0" i="1" lang="en-US" sz="1200" spc="-1" strike="noStrike">
                <a:solidFill>
                  <a:srgbClr val="6e6e6f"/>
                </a:solidFill>
                <a:latin typeface="Verdana"/>
              </a:endParaRPr>
            </a:p>
          </p:txBody>
        </p:sp>
        <p:pic>
          <p:nvPicPr>
            <p:cNvPr id="276" name="Picture 12" descr=""/>
            <p:cNvPicPr/>
            <p:nvPr/>
          </p:nvPicPr>
          <p:blipFill>
            <a:blip r:embed="rId2"/>
            <a:srcRect l="54531" t="20985" r="23985" b="25248"/>
            <a:stretch/>
          </p:blipFill>
          <p:spPr>
            <a:xfrm>
              <a:off x="4276800" y="3511440"/>
              <a:ext cx="2405160" cy="2880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7" name="TextBox 10"/>
          <p:cNvSpPr/>
          <p:nvPr/>
        </p:nvSpPr>
        <p:spPr>
          <a:xfrm>
            <a:off x="7286760" y="4857840"/>
            <a:ext cx="171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ource: Based on CQC returns.</a:t>
            </a:r>
            <a:endParaRPr b="0" i="1" lang="en-US" sz="1000" spc="-1" strike="noStrike">
              <a:solidFill>
                <a:srgbClr val="6e6e6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Per 10,000 population.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Includes LA and other agency services.</a:t>
            </a:r>
            <a:endParaRPr b="0" i="1" lang="en-US" sz="1000" spc="-1" strike="noStrike">
              <a:solidFill>
                <a:srgbClr val="6e6e6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13840" y="70920"/>
            <a:ext cx="88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00000"/>
                </a:solidFill>
                <a:latin typeface="Arial"/>
              </a:rPr>
              <a:t>Another approach – how big is the </a:t>
            </a:r>
            <a:r>
              <a:rPr b="0" lang="en-GB" sz="2800" spc="-1" strike="noStrike" u="sng">
                <a:solidFill>
                  <a:srgbClr val="c00000"/>
                </a:solidFill>
                <a:uFillTx/>
                <a:latin typeface="Arial"/>
              </a:rPr>
              <a:t>potential </a:t>
            </a:r>
            <a:r>
              <a:rPr b="0" lang="en-GB" sz="2800" spc="-1" strike="noStrike">
                <a:solidFill>
                  <a:srgbClr val="c00000"/>
                </a:solidFill>
                <a:latin typeface="Arial"/>
              </a:rPr>
              <a:t>market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9" name="Group 26"/>
          <p:cNvGrpSpPr/>
          <p:nvPr/>
        </p:nvGrpSpPr>
        <p:grpSpPr>
          <a:xfrm>
            <a:off x="142920" y="642960"/>
            <a:ext cx="3000240" cy="3000240"/>
            <a:chOff x="142920" y="642960"/>
            <a:chExt cx="3000240" cy="3000240"/>
          </a:xfrm>
        </p:grpSpPr>
        <p:sp>
          <p:nvSpPr>
            <p:cNvPr id="280" name="Oval 24"/>
            <p:cNvSpPr/>
            <p:nvPr/>
          </p:nvSpPr>
          <p:spPr>
            <a:xfrm>
              <a:off x="142920" y="642960"/>
              <a:ext cx="3000240" cy="3000240"/>
            </a:xfrm>
            <a:prstGeom prst="ellipse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600" spc="-1" strike="noStrike">
                <a:solidFill>
                  <a:srgbClr val="6e6e6f"/>
                </a:solidFill>
                <a:latin typeface="Verdana"/>
              </a:endParaRPr>
            </a:p>
          </p:txBody>
        </p:sp>
        <p:sp>
          <p:nvSpPr>
            <p:cNvPr id="281" name="TextBox 25"/>
            <p:cNvSpPr/>
            <p:nvPr/>
          </p:nvSpPr>
          <p:spPr>
            <a:xfrm>
              <a:off x="500040" y="1793520"/>
              <a:ext cx="2286000" cy="73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600" spc="-1" strike="noStrike">
                  <a:solidFill>
                    <a:srgbClr val="ffffff"/>
                  </a:solidFill>
                  <a:latin typeface="Verdana"/>
                </a:rPr>
                <a:t>Potential remote care market 2010</a:t>
              </a:r>
              <a:endParaRPr b="0" i="1" lang="en-US" sz="1600" spc="-1" strike="noStrike">
                <a:solidFill>
                  <a:srgbClr val="6e6e6f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Arial"/>
                </a:rPr>
                <a:t>1,400,000</a:t>
              </a:r>
              <a:endParaRPr b="0" i="1" lang="en-US" sz="1600" spc="-1" strike="noStrike">
                <a:solidFill>
                  <a:srgbClr val="6e6e6f"/>
                </a:solidFill>
                <a:latin typeface="Verdana"/>
              </a:endParaRPr>
            </a:p>
          </p:txBody>
        </p:sp>
      </p:grpSp>
      <p:pic>
        <p:nvPicPr>
          <p:cNvPr id="282" name="Group 26" descr=""/>
          <p:cNvPicPr/>
          <p:nvPr/>
        </p:nvPicPr>
        <p:blipFill>
          <a:blip r:embed="rId1"/>
          <a:stretch/>
        </p:blipFill>
        <p:spPr>
          <a:xfrm>
            <a:off x="4151160" y="1487520"/>
            <a:ext cx="1616400" cy="1620720"/>
          </a:xfrm>
          <a:prstGeom prst="rect">
            <a:avLst/>
          </a:prstGeom>
          <a:ln w="0">
            <a:noFill/>
          </a:ln>
        </p:spPr>
      </p:pic>
      <p:pic>
        <p:nvPicPr>
          <p:cNvPr id="283" name="Group 26" descr=""/>
          <p:cNvPicPr/>
          <p:nvPr/>
        </p:nvPicPr>
        <p:blipFill>
          <a:blip r:embed="rId2"/>
          <a:stretch/>
        </p:blipFill>
        <p:spPr>
          <a:xfrm>
            <a:off x="858960" y="3913200"/>
            <a:ext cx="1725480" cy="1731960"/>
          </a:xfrm>
          <a:prstGeom prst="rect">
            <a:avLst/>
          </a:prstGeom>
          <a:ln w="0">
            <a:noFill/>
          </a:ln>
        </p:spPr>
      </p:pic>
      <p:grpSp>
        <p:nvGrpSpPr>
          <p:cNvPr id="284" name="Group 26"/>
          <p:cNvGrpSpPr/>
          <p:nvPr/>
        </p:nvGrpSpPr>
        <p:grpSpPr>
          <a:xfrm>
            <a:off x="4948200" y="4535640"/>
            <a:ext cx="2195280" cy="639720"/>
            <a:chOff x="4948200" y="4535640"/>
            <a:chExt cx="2195280" cy="639720"/>
          </a:xfrm>
        </p:grpSpPr>
        <p:sp>
          <p:nvSpPr>
            <p:cNvPr id="285" name="Oval 40"/>
            <p:cNvSpPr/>
            <p:nvPr/>
          </p:nvSpPr>
          <p:spPr>
            <a:xfrm>
              <a:off x="4948200" y="4714560"/>
              <a:ext cx="324000" cy="323640"/>
            </a:xfrm>
            <a:prstGeom prst="ellipse">
              <a:avLst/>
            </a:prstGeom>
            <a:solidFill>
              <a:srgbClr val="ff69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600" spc="-1" strike="noStrike">
                <a:solidFill>
                  <a:srgbClr val="6e6e6f"/>
                </a:solidFill>
                <a:latin typeface="Verdana"/>
              </a:endParaRPr>
            </a:p>
          </p:txBody>
        </p:sp>
        <p:sp>
          <p:nvSpPr>
            <p:cNvPr id="286" name="TextBox 41"/>
            <p:cNvSpPr/>
            <p:nvPr/>
          </p:nvSpPr>
          <p:spPr>
            <a:xfrm flipV="1" rot="10800000">
              <a:off x="5104080" y="4535280"/>
              <a:ext cx="203940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Verdana"/>
                </a:rPr>
                <a:t>Actual telehealth market 2010</a:t>
              </a:r>
              <a:endParaRPr b="0" i="1" lang="en-US" sz="1400" spc="-1" strike="noStrike">
                <a:solidFill>
                  <a:srgbClr val="6e6e6f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22,500</a:t>
              </a:r>
              <a:endParaRPr b="0" i="1" lang="en-US" sz="1400" spc="-1" strike="noStrike">
                <a:solidFill>
                  <a:srgbClr val="6e6e6f"/>
                </a:solidFill>
                <a:latin typeface="Verdana"/>
              </a:endParaRPr>
            </a:p>
          </p:txBody>
        </p:sp>
      </p:grpSp>
      <p:sp>
        <p:nvSpPr>
          <p:cNvPr id="287" name="Oval 15"/>
          <p:cNvSpPr/>
          <p:nvPr/>
        </p:nvSpPr>
        <p:spPr>
          <a:xfrm>
            <a:off x="142920" y="3714840"/>
            <a:ext cx="3000240" cy="3000240"/>
          </a:xfrm>
          <a:prstGeom prst="ellipse">
            <a:avLst/>
          </a:prstGeom>
          <a:noFill/>
          <a:ln w="1584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288" name="Oval 18"/>
          <p:cNvSpPr/>
          <p:nvPr/>
        </p:nvSpPr>
        <p:spPr>
          <a:xfrm>
            <a:off x="3448080" y="714240"/>
            <a:ext cx="3000240" cy="3000600"/>
          </a:xfrm>
          <a:prstGeom prst="ellipse">
            <a:avLst/>
          </a:prstGeom>
          <a:noFill/>
          <a:ln w="1584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289" name="Oval 20"/>
          <p:cNvSpPr/>
          <p:nvPr/>
        </p:nvSpPr>
        <p:spPr>
          <a:xfrm>
            <a:off x="4233960" y="4416480"/>
            <a:ext cx="1728720" cy="1727280"/>
          </a:xfrm>
          <a:prstGeom prst="ellipse">
            <a:avLst/>
          </a:prstGeom>
          <a:noFill/>
          <a:ln w="1584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290" name="TextBox 19"/>
          <p:cNvSpPr/>
          <p:nvPr/>
        </p:nvSpPr>
        <p:spPr>
          <a:xfrm>
            <a:off x="7286760" y="4651200"/>
            <a:ext cx="1714320" cy="13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ource: based on CQC returns, JIT (Scotland) data, and authors’ research for WAG.  Telehealth figures from </a:t>
            </a: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Minutes of the Strategic Intelligence Monitor on Personal Health Systems [SIMPHS] meeting, Brussels, 17-18 November 2009.</a:t>
            </a:r>
            <a:endParaRPr b="0" i="1" lang="en-US" sz="10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291" name="TextBox 21"/>
          <p:cNvSpPr/>
          <p:nvPr/>
        </p:nvSpPr>
        <p:spPr>
          <a:xfrm>
            <a:off x="7000920" y="785880"/>
            <a:ext cx="2071800" cy="29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ssumptions: </a:t>
            </a:r>
            <a:endParaRPr b="0" i="1" lang="en-US" sz="1600" spc="-1" strike="noStrike">
              <a:solidFill>
                <a:srgbClr val="6e6e6f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UK population aged 75+ rises from 4.9m  (2010) today to 11.4m by 2050</a:t>
            </a:r>
            <a:endParaRPr b="0" i="1" lang="en-US" sz="1600" spc="-1" strike="noStrike">
              <a:solidFill>
                <a:srgbClr val="6e6e6f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85% of older people wish to remain at home as long as possible</a:t>
            </a:r>
            <a:endParaRPr b="0" i="1" lang="en-US" sz="1600" spc="-1" strike="noStrike">
              <a:solidFill>
                <a:srgbClr val="6e6e6f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1/3 needs remote care at any given time</a:t>
            </a:r>
            <a:endParaRPr b="0" i="1" lang="en-US" sz="1600" spc="-1" strike="noStrike">
              <a:solidFill>
                <a:srgbClr val="6e6e6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e6e6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2" name=""/>
          <p:cNvGraphicFramePr/>
          <p:nvPr/>
        </p:nvGraphicFramePr>
        <p:xfrm>
          <a:off x="617400" y="1285920"/>
          <a:ext cx="7899480" cy="4916520"/>
        </p:xfrm>
        <a:graphic>
          <a:graphicData uri="http://schemas.openxmlformats.org/drawingml/2006/table">
            <a:tbl>
              <a:tblPr/>
              <a:tblGrid>
                <a:gridCol w="3949920"/>
                <a:gridCol w="3949560"/>
              </a:tblGrid>
              <a:tr h="648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lemedicine </a:t>
                      </a:r>
                      <a:endParaRPr b="0" i="1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lecare / telehealth </a:t>
                      </a:r>
                      <a:endParaRPr b="0" i="1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28160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imed at </a:t>
                      </a:r>
                      <a:r>
                        <a:rPr b="0" lang="en-GB" sz="16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diagnosis or referral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, usually focusing on </a:t>
                      </a:r>
                      <a:r>
                        <a:rPr b="0" lang="en-GB" sz="16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specific conditions </a:t>
                      </a:r>
                      <a:endParaRPr b="0" i="1" lang="en-US" sz="16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rings </a:t>
                      </a:r>
                      <a:r>
                        <a:rPr b="0" lang="en-GB" sz="16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care directly to the end-user 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enerally in a non-institutional setting like Hypertension monitoring in own home </a:t>
                      </a:r>
                      <a:endParaRPr b="0" i="1" lang="en-US" sz="16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lvl="1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6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96948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ots of </a:t>
                      </a:r>
                      <a:r>
                        <a:rPr b="0" lang="en-GB" sz="16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‘tele-ologies’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(e.g. teledermatology, teleradiology)</a:t>
                      </a:r>
                      <a:endParaRPr b="0" i="1" lang="en-US" sz="16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6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ocus on </a:t>
                      </a:r>
                      <a:r>
                        <a:rPr b="1" lang="en-GB" sz="18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monitoring</a:t>
                      </a: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or prevention or safety and security, or </a:t>
                      </a:r>
                      <a:r>
                        <a:rPr b="0" lang="en-GB" sz="16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advice and support</a:t>
                      </a:r>
                      <a:endParaRPr b="0" i="1" lang="en-US" sz="16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lvl="1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6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ssentially a </a:t>
                      </a:r>
                      <a:r>
                        <a:rPr b="1" lang="en-GB" sz="2000" spc="-1" strike="noStrike" u="sng">
                          <a:solidFill>
                            <a:srgbClr val="c00000"/>
                          </a:solidFill>
                          <a:uFillTx/>
                          <a:latin typeface="Arial"/>
                          <a:ea typeface="Times New Roman"/>
                        </a:rPr>
                        <a:t>B2B</a:t>
                      </a:r>
                      <a:r>
                        <a:rPr b="1" lang="en-GB" sz="2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 model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(patient may or may not be present)</a:t>
                      </a:r>
                      <a:endParaRPr b="0" i="1" lang="en-US" sz="20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sentially a </a:t>
                      </a:r>
                      <a:r>
                        <a:rPr b="1" lang="en-GB" sz="2000" spc="-1" strike="noStrike" u="sng">
                          <a:solidFill>
                            <a:srgbClr val="c00000"/>
                          </a:solidFill>
                          <a:uFillTx/>
                          <a:latin typeface="Arial"/>
                        </a:rPr>
                        <a:t>B2C</a:t>
                      </a:r>
                      <a:r>
                        <a:rPr b="1" lang="en-GB" sz="20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 model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patient always present)</a:t>
                      </a:r>
                      <a:endParaRPr b="0" i="1" lang="en-US" sz="20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0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Few stakeholders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so relatively easy to implement</a:t>
                      </a:r>
                      <a:endParaRPr b="0" i="1" lang="en-US" sz="20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Many stakeholders 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 far more complex and inherently harder to implement</a:t>
                      </a:r>
                      <a:endParaRPr b="0" i="1" lang="en-US" sz="20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  <p:sp>
        <p:nvSpPr>
          <p:cNvPr id="293" name="Title 7"/>
          <p:cNvSpPr/>
          <p:nvPr/>
        </p:nvSpPr>
        <p:spPr>
          <a:xfrm>
            <a:off x="5000760" y="357120"/>
            <a:ext cx="41432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294" name="Freeform 5"/>
          <p:cNvSpPr/>
          <p:nvPr/>
        </p:nvSpPr>
        <p:spPr>
          <a:xfrm>
            <a:off x="4286160" y="3787920"/>
            <a:ext cx="4643640" cy="2782800"/>
          </a:xfrm>
          <a:custGeom>
            <a:avLst/>
            <a:gdLst>
              <a:gd name="textAreaLeft" fmla="*/ 0 w 4643640"/>
              <a:gd name="textAreaRight" fmla="*/ 4644000 w 4643640"/>
              <a:gd name="textAreaTop" fmla="*/ 0 h 2782800"/>
              <a:gd name="textAreaBottom" fmla="*/ 2783160 h 2782800"/>
            </a:gdLst>
            <a:ahLst/>
            <a:rect l="textAreaLeft" t="textAreaTop" r="textAreaRight" b="textAreaBottom"/>
            <a:pathLst>
              <a:path w="5042263" h="2782388">
                <a:moveTo>
                  <a:pt x="4689566" y="222068"/>
                </a:moveTo>
                <a:cubicBezTo>
                  <a:pt x="4343487" y="245531"/>
                  <a:pt x="3846994" y="304212"/>
                  <a:pt x="3474720" y="261257"/>
                </a:cubicBezTo>
                <a:cubicBezTo>
                  <a:pt x="3393911" y="251933"/>
                  <a:pt x="3318997" y="213588"/>
                  <a:pt x="3239589" y="195942"/>
                </a:cubicBezTo>
                <a:lnTo>
                  <a:pt x="3122023" y="169817"/>
                </a:lnTo>
                <a:cubicBezTo>
                  <a:pt x="3087189" y="152400"/>
                  <a:pt x="3034937" y="152400"/>
                  <a:pt x="3017520" y="117565"/>
                </a:cubicBezTo>
                <a:cubicBezTo>
                  <a:pt x="3008812" y="100148"/>
                  <a:pt x="3006973" y="76998"/>
                  <a:pt x="2991395" y="65314"/>
                </a:cubicBezTo>
                <a:cubicBezTo>
                  <a:pt x="2943350" y="29280"/>
                  <a:pt x="2788005" y="28770"/>
                  <a:pt x="2756263" y="26125"/>
                </a:cubicBezTo>
                <a:cubicBezTo>
                  <a:pt x="2736107" y="21086"/>
                  <a:pt x="2655287" y="0"/>
                  <a:pt x="2638698" y="0"/>
                </a:cubicBezTo>
                <a:cubicBezTo>
                  <a:pt x="2542805" y="0"/>
                  <a:pt x="2447109" y="8708"/>
                  <a:pt x="2351315" y="13062"/>
                </a:cubicBezTo>
                <a:cubicBezTo>
                  <a:pt x="2316481" y="17416"/>
                  <a:pt x="2280869" y="17611"/>
                  <a:pt x="2246812" y="26125"/>
                </a:cubicBezTo>
                <a:cubicBezTo>
                  <a:pt x="2141119" y="52548"/>
                  <a:pt x="2254124" y="69494"/>
                  <a:pt x="2103120" y="78377"/>
                </a:cubicBezTo>
                <a:cubicBezTo>
                  <a:pt x="1837825" y="93982"/>
                  <a:pt x="1571897" y="95794"/>
                  <a:pt x="1306286" y="104502"/>
                </a:cubicBezTo>
                <a:cubicBezTo>
                  <a:pt x="1284515" y="113211"/>
                  <a:pt x="1261945" y="120141"/>
                  <a:pt x="1240972" y="130628"/>
                </a:cubicBezTo>
                <a:cubicBezTo>
                  <a:pt x="1226930" y="137649"/>
                  <a:pt x="1216930" y="152623"/>
                  <a:pt x="1201783" y="156754"/>
                </a:cubicBezTo>
                <a:cubicBezTo>
                  <a:pt x="1167915" y="165991"/>
                  <a:pt x="1132114" y="165463"/>
                  <a:pt x="1097280" y="169817"/>
                </a:cubicBezTo>
                <a:cubicBezTo>
                  <a:pt x="1079863" y="174171"/>
                  <a:pt x="1062773" y="180150"/>
                  <a:pt x="1045029" y="182880"/>
                </a:cubicBezTo>
                <a:cubicBezTo>
                  <a:pt x="1006058" y="188875"/>
                  <a:pt x="965883" y="187076"/>
                  <a:pt x="927463" y="195942"/>
                </a:cubicBezTo>
                <a:cubicBezTo>
                  <a:pt x="908489" y="200321"/>
                  <a:pt x="893936" y="216718"/>
                  <a:pt x="875212" y="222068"/>
                </a:cubicBezTo>
                <a:cubicBezTo>
                  <a:pt x="832515" y="234267"/>
                  <a:pt x="787851" y="238209"/>
                  <a:pt x="744583" y="248194"/>
                </a:cubicBezTo>
                <a:cubicBezTo>
                  <a:pt x="690190" y="260746"/>
                  <a:pt x="656214" y="291379"/>
                  <a:pt x="600892" y="313508"/>
                </a:cubicBezTo>
                <a:cubicBezTo>
                  <a:pt x="566484" y="327272"/>
                  <a:pt x="515870" y="345420"/>
                  <a:pt x="483326" y="365760"/>
                </a:cubicBezTo>
                <a:cubicBezTo>
                  <a:pt x="460307" y="380147"/>
                  <a:pt x="409124" y="420004"/>
                  <a:pt x="391886" y="444137"/>
                </a:cubicBezTo>
                <a:cubicBezTo>
                  <a:pt x="281981" y="598002"/>
                  <a:pt x="480024" y="371399"/>
                  <a:pt x="313509" y="561702"/>
                </a:cubicBezTo>
                <a:cubicBezTo>
                  <a:pt x="213974" y="675456"/>
                  <a:pt x="342074" y="520074"/>
                  <a:pt x="222069" y="640080"/>
                </a:cubicBezTo>
                <a:cubicBezTo>
                  <a:pt x="198022" y="664127"/>
                  <a:pt x="178526" y="692331"/>
                  <a:pt x="156755" y="718457"/>
                </a:cubicBezTo>
                <a:cubicBezTo>
                  <a:pt x="132752" y="790464"/>
                  <a:pt x="159064" y="731002"/>
                  <a:pt x="91440" y="809897"/>
                </a:cubicBezTo>
                <a:cubicBezTo>
                  <a:pt x="55578" y="851736"/>
                  <a:pt x="72120" y="841915"/>
                  <a:pt x="52252" y="888274"/>
                </a:cubicBezTo>
                <a:cubicBezTo>
                  <a:pt x="44581" y="906172"/>
                  <a:pt x="33358" y="922445"/>
                  <a:pt x="26126" y="940525"/>
                </a:cubicBezTo>
                <a:cubicBezTo>
                  <a:pt x="15898" y="966094"/>
                  <a:pt x="0" y="1018902"/>
                  <a:pt x="0" y="1018902"/>
                </a:cubicBezTo>
                <a:cubicBezTo>
                  <a:pt x="4354" y="1227908"/>
                  <a:pt x="4871" y="1437029"/>
                  <a:pt x="13063" y="1645920"/>
                </a:cubicBezTo>
                <a:cubicBezTo>
                  <a:pt x="13603" y="1659679"/>
                  <a:pt x="22786" y="1671750"/>
                  <a:pt x="26126" y="1685108"/>
                </a:cubicBezTo>
                <a:cubicBezTo>
                  <a:pt x="31511" y="1706648"/>
                  <a:pt x="31393" y="1729633"/>
                  <a:pt x="39189" y="1750422"/>
                </a:cubicBezTo>
                <a:cubicBezTo>
                  <a:pt x="50101" y="1779520"/>
                  <a:pt x="84174" y="1808470"/>
                  <a:pt x="104503" y="1828800"/>
                </a:cubicBezTo>
                <a:cubicBezTo>
                  <a:pt x="150429" y="1966576"/>
                  <a:pt x="104099" y="1850501"/>
                  <a:pt x="182880" y="1985554"/>
                </a:cubicBezTo>
                <a:cubicBezTo>
                  <a:pt x="343338" y="2260625"/>
                  <a:pt x="90601" y="1858378"/>
                  <a:pt x="274320" y="2142308"/>
                </a:cubicBezTo>
                <a:cubicBezTo>
                  <a:pt x="479863" y="2459968"/>
                  <a:pt x="281847" y="2179394"/>
                  <a:pt x="418012" y="2338251"/>
                </a:cubicBezTo>
                <a:cubicBezTo>
                  <a:pt x="428229" y="2350171"/>
                  <a:pt x="431441" y="2368206"/>
                  <a:pt x="444138" y="2377440"/>
                </a:cubicBezTo>
                <a:cubicBezTo>
                  <a:pt x="517246" y="2430610"/>
                  <a:pt x="536526" y="2434362"/>
                  <a:pt x="600892" y="2455817"/>
                </a:cubicBezTo>
                <a:cubicBezTo>
                  <a:pt x="624307" y="2479232"/>
                  <a:pt x="688866" y="2547638"/>
                  <a:pt x="718458" y="2560320"/>
                </a:cubicBezTo>
                <a:cubicBezTo>
                  <a:pt x="755356" y="2576134"/>
                  <a:pt x="796970" y="2577147"/>
                  <a:pt x="836023" y="2586445"/>
                </a:cubicBezTo>
                <a:cubicBezTo>
                  <a:pt x="888418" y="2598920"/>
                  <a:pt x="941682" y="2608602"/>
                  <a:pt x="992778" y="2625634"/>
                </a:cubicBezTo>
                <a:cubicBezTo>
                  <a:pt x="1005841" y="2629988"/>
                  <a:pt x="1019650" y="2632539"/>
                  <a:pt x="1031966" y="2638697"/>
                </a:cubicBezTo>
                <a:cubicBezTo>
                  <a:pt x="1046008" y="2645718"/>
                  <a:pt x="1055528" y="2663310"/>
                  <a:pt x="1071155" y="2664822"/>
                </a:cubicBezTo>
                <a:cubicBezTo>
                  <a:pt x="1192585" y="2676573"/>
                  <a:pt x="1314995" y="2673531"/>
                  <a:pt x="1436915" y="2677885"/>
                </a:cubicBezTo>
                <a:cubicBezTo>
                  <a:pt x="1589315" y="2690948"/>
                  <a:pt x="1745723" y="2679975"/>
                  <a:pt x="1894115" y="2717074"/>
                </a:cubicBezTo>
                <a:cubicBezTo>
                  <a:pt x="1936985" y="2727792"/>
                  <a:pt x="2036904" y="2753259"/>
                  <a:pt x="2063932" y="2756262"/>
                </a:cubicBezTo>
                <a:cubicBezTo>
                  <a:pt x="2141950" y="2764931"/>
                  <a:pt x="2220595" y="2767145"/>
                  <a:pt x="2299063" y="2769325"/>
                </a:cubicBezTo>
                <a:lnTo>
                  <a:pt x="3004458" y="2782388"/>
                </a:lnTo>
                <a:cubicBezTo>
                  <a:pt x="3135086" y="2778034"/>
                  <a:pt x="3265881" y="2777232"/>
                  <a:pt x="3396343" y="2769325"/>
                </a:cubicBezTo>
                <a:cubicBezTo>
                  <a:pt x="3410087" y="2768492"/>
                  <a:pt x="3422639" y="2761097"/>
                  <a:pt x="3435532" y="2756262"/>
                </a:cubicBezTo>
                <a:cubicBezTo>
                  <a:pt x="3616326" y="2688465"/>
                  <a:pt x="3413777" y="2767141"/>
                  <a:pt x="3540035" y="2704011"/>
                </a:cubicBezTo>
                <a:cubicBezTo>
                  <a:pt x="3552351" y="2697853"/>
                  <a:pt x="3566907" y="2697106"/>
                  <a:pt x="3579223" y="2690948"/>
                </a:cubicBezTo>
                <a:cubicBezTo>
                  <a:pt x="3619320" y="2670899"/>
                  <a:pt x="3655165" y="2642283"/>
                  <a:pt x="3696789" y="2625634"/>
                </a:cubicBezTo>
                <a:cubicBezTo>
                  <a:pt x="3721381" y="2615797"/>
                  <a:pt x="3749194" y="2617765"/>
                  <a:pt x="3775166" y="2612571"/>
                </a:cubicBezTo>
                <a:cubicBezTo>
                  <a:pt x="3897342" y="2588136"/>
                  <a:pt x="3767003" y="2611346"/>
                  <a:pt x="3866606" y="2586445"/>
                </a:cubicBezTo>
                <a:cubicBezTo>
                  <a:pt x="3888146" y="2581060"/>
                  <a:pt x="3910149" y="2577736"/>
                  <a:pt x="3931920" y="2573382"/>
                </a:cubicBezTo>
                <a:cubicBezTo>
                  <a:pt x="3944983" y="2564674"/>
                  <a:pt x="3957067" y="2554278"/>
                  <a:pt x="3971109" y="2547257"/>
                </a:cubicBezTo>
                <a:cubicBezTo>
                  <a:pt x="3983425" y="2541099"/>
                  <a:pt x="4000561" y="2543931"/>
                  <a:pt x="4010298" y="2534194"/>
                </a:cubicBezTo>
                <a:cubicBezTo>
                  <a:pt x="4074070" y="2470422"/>
                  <a:pt x="4015606" y="2466245"/>
                  <a:pt x="4101738" y="2442754"/>
                </a:cubicBezTo>
                <a:cubicBezTo>
                  <a:pt x="4179198" y="2421628"/>
                  <a:pt x="4259180" y="2410769"/>
                  <a:pt x="4336869" y="2390502"/>
                </a:cubicBezTo>
                <a:cubicBezTo>
                  <a:pt x="4359558" y="2384583"/>
                  <a:pt x="4380228" y="2372610"/>
                  <a:pt x="4402183" y="2364377"/>
                </a:cubicBezTo>
                <a:cubicBezTo>
                  <a:pt x="4415076" y="2359542"/>
                  <a:pt x="4428309" y="2355668"/>
                  <a:pt x="4441372" y="2351314"/>
                </a:cubicBezTo>
                <a:cubicBezTo>
                  <a:pt x="4489269" y="2316480"/>
                  <a:pt x="4543185" y="2288689"/>
                  <a:pt x="4585063" y="2246811"/>
                </a:cubicBezTo>
                <a:cubicBezTo>
                  <a:pt x="4598126" y="2233748"/>
                  <a:pt x="4609473" y="2218706"/>
                  <a:pt x="4624252" y="2207622"/>
                </a:cubicBezTo>
                <a:cubicBezTo>
                  <a:pt x="4644564" y="2192388"/>
                  <a:pt x="4668441" y="2182517"/>
                  <a:pt x="4689566" y="2168434"/>
                </a:cubicBezTo>
                <a:cubicBezTo>
                  <a:pt x="4707681" y="2156357"/>
                  <a:pt x="4724102" y="2141899"/>
                  <a:pt x="4741818" y="2129245"/>
                </a:cubicBezTo>
                <a:cubicBezTo>
                  <a:pt x="4830041" y="2066229"/>
                  <a:pt x="4722331" y="2144625"/>
                  <a:pt x="4846320" y="2076994"/>
                </a:cubicBezTo>
                <a:cubicBezTo>
                  <a:pt x="4873885" y="2061958"/>
                  <a:pt x="4924698" y="2024742"/>
                  <a:pt x="4924698" y="2024742"/>
                </a:cubicBezTo>
                <a:cubicBezTo>
                  <a:pt x="4937761" y="1998616"/>
                  <a:pt x="4954649" y="1974075"/>
                  <a:pt x="4963886" y="1946365"/>
                </a:cubicBezTo>
                <a:cubicBezTo>
                  <a:pt x="4972262" y="1921238"/>
                  <a:pt x="4971203" y="1893843"/>
                  <a:pt x="4976949" y="1867988"/>
                </a:cubicBezTo>
                <a:cubicBezTo>
                  <a:pt x="4984637" y="1833392"/>
                  <a:pt x="5000165" y="1808495"/>
                  <a:pt x="5016138" y="1776548"/>
                </a:cubicBezTo>
                <a:cubicBezTo>
                  <a:pt x="5020492" y="1750422"/>
                  <a:pt x="5023455" y="1724026"/>
                  <a:pt x="5029200" y="1698171"/>
                </a:cubicBezTo>
                <a:cubicBezTo>
                  <a:pt x="5032187" y="1684729"/>
                  <a:pt x="5042263" y="1672752"/>
                  <a:pt x="5042263" y="1658982"/>
                </a:cubicBezTo>
                <a:cubicBezTo>
                  <a:pt x="5042263" y="1523929"/>
                  <a:pt x="5040114" y="1388645"/>
                  <a:pt x="5029200" y="1254034"/>
                </a:cubicBezTo>
                <a:cubicBezTo>
                  <a:pt x="5026974" y="1226585"/>
                  <a:pt x="5003075" y="1175657"/>
                  <a:pt x="5003075" y="1175657"/>
                </a:cubicBezTo>
                <a:cubicBezTo>
                  <a:pt x="4998721" y="1145177"/>
                  <a:pt x="4996050" y="1114409"/>
                  <a:pt x="4990012" y="1084217"/>
                </a:cubicBezTo>
                <a:cubicBezTo>
                  <a:pt x="4984606" y="1057188"/>
                  <a:pt x="4963570" y="1014022"/>
                  <a:pt x="4950823" y="992777"/>
                </a:cubicBezTo>
                <a:cubicBezTo>
                  <a:pt x="4934668" y="965853"/>
                  <a:pt x="4898572" y="914400"/>
                  <a:pt x="4898572" y="914400"/>
                </a:cubicBezTo>
                <a:cubicBezTo>
                  <a:pt x="4889863" y="866503"/>
                  <a:pt x="4884990" y="817747"/>
                  <a:pt x="4872446" y="770708"/>
                </a:cubicBezTo>
                <a:cubicBezTo>
                  <a:pt x="4867429" y="751893"/>
                  <a:pt x="4853991" y="736355"/>
                  <a:pt x="4846320" y="718457"/>
                </a:cubicBezTo>
                <a:cubicBezTo>
                  <a:pt x="4813870" y="642739"/>
                  <a:pt x="4857342" y="715393"/>
                  <a:pt x="4807132" y="640080"/>
                </a:cubicBezTo>
                <a:cubicBezTo>
                  <a:pt x="4802778" y="627017"/>
                  <a:pt x="4802523" y="611760"/>
                  <a:pt x="4794069" y="600891"/>
                </a:cubicBezTo>
                <a:cubicBezTo>
                  <a:pt x="4771386" y="571727"/>
                  <a:pt x="4715692" y="522514"/>
                  <a:pt x="4715692" y="522514"/>
                </a:cubicBezTo>
                <a:cubicBezTo>
                  <a:pt x="4711338" y="509451"/>
                  <a:pt x="4708787" y="495641"/>
                  <a:pt x="4702629" y="483325"/>
                </a:cubicBezTo>
                <a:cubicBezTo>
                  <a:pt x="4637032" y="352133"/>
                  <a:pt x="4719083" y="552200"/>
                  <a:pt x="4650378" y="391885"/>
                </a:cubicBezTo>
                <a:cubicBezTo>
                  <a:pt x="4644954" y="379229"/>
                  <a:pt x="4647051" y="362433"/>
                  <a:pt x="4637315" y="352697"/>
                </a:cubicBezTo>
                <a:cubicBezTo>
                  <a:pt x="4627578" y="342961"/>
                  <a:pt x="4611189" y="343988"/>
                  <a:pt x="4598126" y="339634"/>
                </a:cubicBezTo>
                <a:cubicBezTo>
                  <a:pt x="4485834" y="264771"/>
                  <a:pt x="4627901" y="354520"/>
                  <a:pt x="4519749" y="300445"/>
                </a:cubicBezTo>
                <a:cubicBezTo>
                  <a:pt x="4476695" y="278919"/>
                  <a:pt x="4488795" y="268553"/>
                  <a:pt x="4441372" y="261257"/>
                </a:cubicBezTo>
                <a:cubicBezTo>
                  <a:pt x="4398121" y="254603"/>
                  <a:pt x="4354286" y="252548"/>
                  <a:pt x="4310743" y="248194"/>
                </a:cubicBezTo>
                <a:cubicBezTo>
                  <a:pt x="4267424" y="233754"/>
                  <a:pt x="4285324" y="235131"/>
                  <a:pt x="4258492" y="235131"/>
                </a:cubicBezTo>
              </a:path>
            </a:pathLst>
          </a:custGeom>
          <a:noFill/>
          <a:ln w="5400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6e6e6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00000"/>
                </a:solidFill>
                <a:latin typeface="Arial"/>
              </a:rPr>
              <a:t>Dealing with this ‘perfect storm’ will need innovative healthcare business mode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213840" y="1928520"/>
            <a:ext cx="4429080" cy="42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717480" indent="-717480">
              <a:spcBef>
                <a:spcPts val="601"/>
              </a:spcBef>
              <a:spcAft>
                <a:spcPts val="601"/>
              </a:spcAft>
              <a:buClr>
                <a:srgbClr val="c00000"/>
              </a:buClr>
              <a:buFont typeface="Arial"/>
              <a:buChar char="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New configurations of </a:t>
            </a:r>
            <a:r>
              <a:rPr b="0" lang="en-GB" sz="4000" spc="-1" strike="noStrike">
                <a:solidFill>
                  <a:srgbClr val="c00000"/>
                </a:solidFill>
                <a:latin typeface="Arial"/>
              </a:rPr>
              <a:t>services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GB" sz="4000" spc="-1" strike="noStrike">
                <a:solidFill>
                  <a:srgbClr val="c00000"/>
                </a:solidFill>
                <a:latin typeface="Arial"/>
              </a:rPr>
              <a:t>technology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GB" sz="4000" spc="-1" strike="noStrike">
                <a:solidFill>
                  <a:srgbClr val="c00000"/>
                </a:solidFill>
                <a:latin typeface="Arial"/>
              </a:rPr>
              <a:t>infrastructure</a:t>
            </a:r>
            <a:endParaRPr b="0" lang="en-US" sz="4000" spc="-1" strike="noStrike">
              <a:solidFill>
                <a:srgbClr val="4b4f55"/>
              </a:solidFill>
              <a:latin typeface="Arial"/>
            </a:endParaRPr>
          </a:p>
        </p:txBody>
      </p:sp>
      <p:pic>
        <p:nvPicPr>
          <p:cNvPr id="297" name="Picture 2" descr=""/>
          <p:cNvPicPr/>
          <p:nvPr/>
        </p:nvPicPr>
        <p:blipFill>
          <a:blip r:embed="rId1"/>
          <a:stretch/>
        </p:blipFill>
        <p:spPr>
          <a:xfrm>
            <a:off x="4786200" y="2052720"/>
            <a:ext cx="4230720" cy="32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8" name="Group 33"/>
          <p:cNvGrpSpPr/>
          <p:nvPr/>
        </p:nvGrpSpPr>
        <p:grpSpPr>
          <a:xfrm>
            <a:off x="5072040" y="1428840"/>
            <a:ext cx="1857240" cy="4786200"/>
            <a:chOff x="5072040" y="1428840"/>
            <a:chExt cx="1857240" cy="4786200"/>
          </a:xfrm>
        </p:grpSpPr>
        <p:pic>
          <p:nvPicPr>
            <p:cNvPr id="299" name="Picture 4" descr="C:\Users\jgb\AppData\Local\Microsoft\Windows\Temporary Internet Files\Content.IE5\RSGWZHC5\MP900447675[1].jpg"/>
            <p:cNvPicPr/>
            <p:nvPr/>
          </p:nvPicPr>
          <p:blipFill>
            <a:blip r:embed="rId1"/>
            <a:stretch/>
          </p:blipFill>
          <p:spPr>
            <a:xfrm>
              <a:off x="5073840" y="1431360"/>
              <a:ext cx="1855440" cy="478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0" name="Rectangle 46"/>
            <p:cNvSpPr/>
            <p:nvPr/>
          </p:nvSpPr>
          <p:spPr>
            <a:xfrm>
              <a:off x="5072040" y="1428840"/>
              <a:ext cx="929520" cy="4786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600" spc="-1" strike="noStrike">
                <a:solidFill>
                  <a:srgbClr val="6e6e6f"/>
                </a:solidFill>
                <a:latin typeface="Verdana"/>
              </a:endParaRPr>
            </a:p>
          </p:txBody>
        </p:sp>
      </p:grpSp>
      <p:sp>
        <p:nvSpPr>
          <p:cNvPr id="301" name="Freeform 69"/>
          <p:cNvSpPr/>
          <p:nvPr/>
        </p:nvSpPr>
        <p:spPr>
          <a:xfrm>
            <a:off x="1511280" y="1285920"/>
            <a:ext cx="7632720" cy="4567320"/>
          </a:xfrm>
          <a:custGeom>
            <a:avLst/>
            <a:gdLst/>
            <a:ahLst/>
            <a:rect l="l" t="t" r="r" b="b"/>
            <a:pathLst>
              <a:path w="7632700" h="4566920">
                <a:moveTo>
                  <a:pt x="0" y="4472940"/>
                </a:moveTo>
                <a:cubicBezTo>
                  <a:pt x="628650" y="4519930"/>
                  <a:pt x="1257300" y="4566920"/>
                  <a:pt x="1798320" y="4244340"/>
                </a:cubicBezTo>
                <a:cubicBezTo>
                  <a:pt x="2339340" y="3921760"/>
                  <a:pt x="2791460" y="3103880"/>
                  <a:pt x="3246120" y="2537460"/>
                </a:cubicBezTo>
                <a:cubicBezTo>
                  <a:pt x="3700780" y="1971040"/>
                  <a:pt x="3873500" y="1247140"/>
                  <a:pt x="4526280" y="845820"/>
                </a:cubicBezTo>
                <a:cubicBezTo>
                  <a:pt x="5179060" y="444500"/>
                  <a:pt x="6692900" y="259080"/>
                  <a:pt x="7162800" y="129540"/>
                </a:cubicBezTo>
                <a:cubicBezTo>
                  <a:pt x="7632700" y="0"/>
                  <a:pt x="7489190" y="34290"/>
                  <a:pt x="7345680" y="68580"/>
                </a:cubicBezTo>
              </a:path>
            </a:pathLst>
          </a:custGeom>
          <a:noFill/>
          <a:ln w="54000">
            <a:solidFill>
              <a:srgbClr val="c00000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i="1" lang="en-US" sz="16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85840" y="214200"/>
            <a:ext cx="885816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00000"/>
                </a:solidFill>
                <a:latin typeface="Arial"/>
              </a:rPr>
              <a:t>Key factors in moving towards a mainstream adop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03" name="Straight Arrow Connector 5"/>
          <p:cNvCxnSpPr/>
          <p:nvPr/>
        </p:nvCxnSpPr>
        <p:spPr>
          <a:xfrm flipV="1">
            <a:off x="1068840" y="1428120"/>
            <a:ext cx="2520" cy="471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04" name="Straight Arrow Connector 8"/>
          <p:cNvCxnSpPr/>
          <p:nvPr/>
        </p:nvCxnSpPr>
        <p:spPr>
          <a:xfrm>
            <a:off x="1071720" y="6154560"/>
            <a:ext cx="7644240" cy="61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05" name="TextBox 38"/>
          <p:cNvSpPr/>
          <p:nvPr/>
        </p:nvSpPr>
        <p:spPr>
          <a:xfrm>
            <a:off x="1539720" y="1000080"/>
            <a:ext cx="14605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Adoption</a:t>
            </a:r>
            <a:endParaRPr b="0" i="1" lang="en-US" sz="20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306" name="TextBox 39"/>
          <p:cNvSpPr/>
          <p:nvPr/>
        </p:nvSpPr>
        <p:spPr>
          <a:xfrm>
            <a:off x="4325760" y="1000080"/>
            <a:ext cx="14605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Spread</a:t>
            </a:r>
            <a:endParaRPr b="0" i="1" lang="en-US" sz="20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307" name="TextBox 40"/>
          <p:cNvSpPr/>
          <p:nvPr/>
        </p:nvSpPr>
        <p:spPr>
          <a:xfrm>
            <a:off x="6858000" y="1000080"/>
            <a:ext cx="17859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Mainstreaming</a:t>
            </a:r>
            <a:endParaRPr b="0" i="1" lang="en-US" sz="20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308" name="TextBox 51"/>
          <p:cNvSpPr/>
          <p:nvPr/>
        </p:nvSpPr>
        <p:spPr>
          <a:xfrm>
            <a:off x="5072040" y="6326280"/>
            <a:ext cx="1285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i="1" lang="en-US" sz="16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309" name="TextBox 52"/>
          <p:cNvSpPr/>
          <p:nvPr/>
        </p:nvSpPr>
        <p:spPr>
          <a:xfrm>
            <a:off x="214200" y="3071880"/>
            <a:ext cx="85752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emote care adoption</a:t>
            </a:r>
            <a:endParaRPr b="0" i="1" lang="en-US" sz="16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310" name="Freeform 65"/>
          <p:cNvSpPr/>
          <p:nvPr/>
        </p:nvSpPr>
        <p:spPr>
          <a:xfrm>
            <a:off x="1571760" y="1428840"/>
            <a:ext cx="7572240" cy="4357440"/>
          </a:xfrm>
          <a:custGeom>
            <a:avLst/>
            <a:gdLst/>
            <a:ahLst/>
            <a:rect l="l" t="t" r="r" b="b"/>
            <a:pathLst>
              <a:path w="7678420" h="4239260">
                <a:moveTo>
                  <a:pt x="0" y="4208780"/>
                </a:moveTo>
                <a:cubicBezTo>
                  <a:pt x="492760" y="4224020"/>
                  <a:pt x="985520" y="4239260"/>
                  <a:pt x="1706880" y="4117340"/>
                </a:cubicBezTo>
                <a:cubicBezTo>
                  <a:pt x="2428240" y="3995420"/>
                  <a:pt x="3733800" y="4069080"/>
                  <a:pt x="4328160" y="3477260"/>
                </a:cubicBezTo>
                <a:cubicBezTo>
                  <a:pt x="4922520" y="2885440"/>
                  <a:pt x="4772660" y="1132840"/>
                  <a:pt x="5273040" y="566420"/>
                </a:cubicBezTo>
                <a:cubicBezTo>
                  <a:pt x="5773420" y="0"/>
                  <a:pt x="6982460" y="157480"/>
                  <a:pt x="7330440" y="78740"/>
                </a:cubicBezTo>
                <a:cubicBezTo>
                  <a:pt x="7678420" y="0"/>
                  <a:pt x="7519670" y="46990"/>
                  <a:pt x="7360920" y="93980"/>
                </a:cubicBezTo>
              </a:path>
            </a:pathLst>
          </a:custGeom>
          <a:noFill/>
          <a:ln w="4752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i="1" lang="en-US" sz="1600" spc="-1" strike="noStrike">
              <a:solidFill>
                <a:srgbClr val="6e6e6f"/>
              </a:solidFill>
              <a:latin typeface="Verdana"/>
            </a:endParaRPr>
          </a:p>
        </p:txBody>
      </p:sp>
      <p:grpSp>
        <p:nvGrpSpPr>
          <p:cNvPr id="311" name="Group 50"/>
          <p:cNvGrpSpPr/>
          <p:nvPr/>
        </p:nvGrpSpPr>
        <p:grpSpPr>
          <a:xfrm>
            <a:off x="1643040" y="2857680"/>
            <a:ext cx="4071960" cy="2212200"/>
            <a:chOff x="1643040" y="2857680"/>
            <a:chExt cx="4071960" cy="2212200"/>
          </a:xfrm>
        </p:grpSpPr>
        <p:sp>
          <p:nvSpPr>
            <p:cNvPr id="312" name="TextBox 41"/>
            <p:cNvSpPr/>
            <p:nvPr/>
          </p:nvSpPr>
          <p:spPr>
            <a:xfrm>
              <a:off x="1643040" y="4357800"/>
              <a:ext cx="1214280" cy="243720"/>
            </a:xfrm>
            <a:prstGeom prst="rect">
              <a:avLst/>
            </a:prstGeom>
            <a:solidFill>
              <a:srgbClr val="7f7f7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Arial"/>
                </a:rPr>
                <a:t>Enthusiasts</a:t>
              </a:r>
              <a:endParaRPr b="0" i="1" lang="en-US" sz="1600" spc="-1" strike="noStrike">
                <a:solidFill>
                  <a:srgbClr val="6e6e6f"/>
                </a:solidFill>
                <a:latin typeface="Verdana"/>
              </a:endParaRPr>
            </a:p>
          </p:txBody>
        </p:sp>
        <p:sp>
          <p:nvSpPr>
            <p:cNvPr id="313" name="TextBox 42"/>
            <p:cNvSpPr/>
            <p:nvPr/>
          </p:nvSpPr>
          <p:spPr>
            <a:xfrm>
              <a:off x="1795320" y="4826160"/>
              <a:ext cx="1285920" cy="243720"/>
            </a:xfrm>
            <a:prstGeom prst="rect">
              <a:avLst/>
            </a:prstGeom>
            <a:solidFill>
              <a:srgbClr val="7f7f7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Arial"/>
                </a:rPr>
                <a:t>Grants</a:t>
              </a:r>
              <a:endParaRPr b="0" i="1" lang="en-US" sz="1600" spc="-1" strike="noStrike">
                <a:solidFill>
                  <a:srgbClr val="6e6e6f"/>
                </a:solidFill>
                <a:latin typeface="Verdana"/>
              </a:endParaRPr>
            </a:p>
          </p:txBody>
        </p:sp>
        <p:sp>
          <p:nvSpPr>
            <p:cNvPr id="314" name="TextBox 43"/>
            <p:cNvSpPr/>
            <p:nvPr/>
          </p:nvSpPr>
          <p:spPr>
            <a:xfrm>
              <a:off x="3786120" y="4429080"/>
              <a:ext cx="1285920" cy="243720"/>
            </a:xfrm>
            <a:prstGeom prst="rect">
              <a:avLst/>
            </a:prstGeom>
            <a:solidFill>
              <a:srgbClr val="7f7f7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Arial"/>
                </a:rPr>
                <a:t>Pump priming</a:t>
              </a:r>
              <a:endParaRPr b="0" i="1" lang="en-US" sz="1600" spc="-1" strike="noStrike">
                <a:solidFill>
                  <a:srgbClr val="6e6e6f"/>
                </a:solidFill>
                <a:latin typeface="Verdana"/>
              </a:endParaRPr>
            </a:p>
          </p:txBody>
        </p:sp>
        <p:sp>
          <p:nvSpPr>
            <p:cNvPr id="315" name="TextBox 44"/>
            <p:cNvSpPr/>
            <p:nvPr/>
          </p:nvSpPr>
          <p:spPr>
            <a:xfrm>
              <a:off x="3786120" y="3897360"/>
              <a:ext cx="1214280" cy="243720"/>
            </a:xfrm>
            <a:prstGeom prst="rect">
              <a:avLst/>
            </a:prstGeom>
            <a:solidFill>
              <a:srgbClr val="7f7f7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Arial"/>
                </a:rPr>
                <a:t>Champions</a:t>
              </a:r>
              <a:endParaRPr b="0" i="1" lang="en-US" sz="1600" spc="-1" strike="noStrike">
                <a:solidFill>
                  <a:srgbClr val="6e6e6f"/>
                </a:solidFill>
                <a:latin typeface="Verdana"/>
              </a:endParaRPr>
            </a:p>
          </p:txBody>
        </p:sp>
        <p:sp>
          <p:nvSpPr>
            <p:cNvPr id="316" name="TextBox 45"/>
            <p:cNvSpPr/>
            <p:nvPr/>
          </p:nvSpPr>
          <p:spPr>
            <a:xfrm>
              <a:off x="4500720" y="3357720"/>
              <a:ext cx="1214280" cy="243720"/>
            </a:xfrm>
            <a:prstGeom prst="rect">
              <a:avLst/>
            </a:prstGeom>
            <a:solidFill>
              <a:srgbClr val="7f7f7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Arial"/>
                </a:rPr>
                <a:t>Leadership</a:t>
              </a:r>
              <a:endParaRPr b="0" i="1" lang="en-US" sz="1600" spc="-1" strike="noStrike">
                <a:solidFill>
                  <a:srgbClr val="6e6e6f"/>
                </a:solidFill>
                <a:latin typeface="Verdana"/>
              </a:endParaRPr>
            </a:p>
          </p:txBody>
        </p:sp>
        <p:sp>
          <p:nvSpPr>
            <p:cNvPr id="317" name="TextBox 25"/>
            <p:cNvSpPr/>
            <p:nvPr/>
          </p:nvSpPr>
          <p:spPr>
            <a:xfrm>
              <a:off x="2500200" y="3429000"/>
              <a:ext cx="1285920" cy="243720"/>
            </a:xfrm>
            <a:prstGeom prst="rect">
              <a:avLst/>
            </a:prstGeom>
            <a:solidFill>
              <a:srgbClr val="7f7f7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Arial"/>
                </a:rPr>
                <a:t>Project mgt</a:t>
              </a:r>
              <a:endParaRPr b="0" i="1" lang="en-US" sz="1600" spc="-1" strike="noStrike">
                <a:solidFill>
                  <a:srgbClr val="6e6e6f"/>
                </a:solidFill>
                <a:latin typeface="Verdana"/>
              </a:endParaRPr>
            </a:p>
          </p:txBody>
        </p:sp>
        <p:sp>
          <p:nvSpPr>
            <p:cNvPr id="318" name="TextBox 26"/>
            <p:cNvSpPr/>
            <p:nvPr/>
          </p:nvSpPr>
          <p:spPr>
            <a:xfrm>
              <a:off x="3286080" y="2857680"/>
              <a:ext cx="1285920" cy="243720"/>
            </a:xfrm>
            <a:prstGeom prst="rect">
              <a:avLst/>
            </a:prstGeom>
            <a:solidFill>
              <a:srgbClr val="7f7f7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Arial"/>
                </a:rPr>
                <a:t>Awareness</a:t>
              </a:r>
              <a:endParaRPr b="0" i="1" lang="en-US" sz="1600" spc="-1" strike="noStrike">
                <a:solidFill>
                  <a:srgbClr val="6e6e6f"/>
                </a:solidFill>
                <a:latin typeface="Verdana"/>
              </a:endParaRPr>
            </a:p>
          </p:txBody>
        </p:sp>
      </p:grpSp>
      <p:grpSp>
        <p:nvGrpSpPr>
          <p:cNvPr id="319" name="Group 53"/>
          <p:cNvGrpSpPr/>
          <p:nvPr/>
        </p:nvGrpSpPr>
        <p:grpSpPr>
          <a:xfrm>
            <a:off x="5143680" y="1643040"/>
            <a:ext cx="3857400" cy="1720800"/>
            <a:chOff x="5143680" y="1643040"/>
            <a:chExt cx="3857400" cy="1720800"/>
          </a:xfrm>
        </p:grpSpPr>
        <p:cxnSp>
          <p:nvCxnSpPr>
            <p:cNvPr id="320" name="Curved Connector 30"/>
            <p:cNvCxnSpPr/>
            <p:nvPr/>
          </p:nvCxnSpPr>
          <p:spPr>
            <a:xfrm flipV="1">
              <a:off x="7715160" y="1927800"/>
              <a:ext cx="929160" cy="643320"/>
            </a:xfrm>
            <a:prstGeom prst="curvedConnector5">
              <a:avLst>
                <a:gd name="adj1" fmla="val 83720"/>
                <a:gd name="adj2" fmla="val 50000"/>
                <a:gd name="adj3" fmla="val 83720"/>
              </a:avLst>
            </a:prstGeom>
            <a:ln cap="rnd" w="76320">
              <a:solidFill>
                <a:srgbClr val="7f7f7f"/>
              </a:solidFill>
              <a:custDash>
                <a:ds d="100000" sp="1000"/>
              </a:custDash>
              <a:miter/>
              <a:tailEnd len="med" type="triangle" w="med"/>
            </a:ln>
          </p:spPr>
        </p:cxnSp>
        <p:sp>
          <p:nvSpPr>
            <p:cNvPr id="321" name="TextBox 47"/>
            <p:cNvSpPr/>
            <p:nvPr/>
          </p:nvSpPr>
          <p:spPr>
            <a:xfrm>
              <a:off x="5143680" y="2643120"/>
              <a:ext cx="1285920" cy="487080"/>
            </a:xfrm>
            <a:prstGeom prst="rect">
              <a:avLst/>
            </a:prstGeom>
            <a:solidFill>
              <a:srgbClr val="7f7f7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Arial"/>
                </a:rPr>
                <a:t>Local Evaluation</a:t>
              </a:r>
              <a:endParaRPr b="0" i="1" lang="en-US" sz="1600" spc="-1" strike="noStrike">
                <a:solidFill>
                  <a:srgbClr val="6e6e6f"/>
                </a:solidFill>
                <a:latin typeface="Verdana"/>
              </a:endParaRPr>
            </a:p>
          </p:txBody>
        </p:sp>
        <p:sp>
          <p:nvSpPr>
            <p:cNvPr id="322" name="TextBox 48"/>
            <p:cNvSpPr/>
            <p:nvPr/>
          </p:nvSpPr>
          <p:spPr>
            <a:xfrm>
              <a:off x="7215120" y="2500200"/>
              <a:ext cx="1285920" cy="487080"/>
            </a:xfrm>
            <a:prstGeom prst="rect">
              <a:avLst/>
            </a:prstGeom>
            <a:solidFill>
              <a:srgbClr val="007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Arial"/>
                </a:rPr>
                <a:t>Robust Evidence</a:t>
              </a:r>
              <a:endParaRPr b="0" i="1" lang="en-US" sz="1600" spc="-1" strike="noStrike">
                <a:solidFill>
                  <a:srgbClr val="6e6e6f"/>
                </a:solidFill>
                <a:latin typeface="Verdana"/>
              </a:endParaRPr>
            </a:p>
          </p:txBody>
        </p:sp>
        <p:sp>
          <p:nvSpPr>
            <p:cNvPr id="323" name="TextBox 49"/>
            <p:cNvSpPr/>
            <p:nvPr/>
          </p:nvSpPr>
          <p:spPr>
            <a:xfrm>
              <a:off x="7429680" y="1643040"/>
              <a:ext cx="1571400" cy="2437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Arial"/>
                </a:rPr>
                <a:t>Business case</a:t>
              </a:r>
              <a:endParaRPr b="0" i="1" lang="en-US" sz="1600" spc="-1" strike="noStrike">
                <a:solidFill>
                  <a:srgbClr val="6e6e6f"/>
                </a:solidFill>
                <a:latin typeface="Verdana"/>
              </a:endParaRPr>
            </a:p>
          </p:txBody>
        </p:sp>
        <p:cxnSp>
          <p:nvCxnSpPr>
            <p:cNvPr id="324" name="Curved Connector 28"/>
            <p:cNvCxnSpPr>
              <a:stCxn id="321" idx="2"/>
              <a:endCxn id="322" idx="2"/>
            </p:cNvCxnSpPr>
            <p:nvPr/>
          </p:nvCxnSpPr>
          <p:spPr>
            <a:xfrm flipH="1" flipV="1" rot="5400000">
              <a:off x="6750720" y="2027880"/>
              <a:ext cx="143280" cy="2071800"/>
            </a:xfrm>
            <a:prstGeom prst="curvedConnector5">
              <a:avLst>
                <a:gd name="adj1" fmla="val -159949"/>
                <a:gd name="adj2" fmla="val 50000"/>
                <a:gd name="adj3" fmla="val -159949"/>
              </a:avLst>
            </a:prstGeom>
            <a:ln cap="rnd" w="76320">
              <a:solidFill>
                <a:srgbClr val="7f7f7f"/>
              </a:solidFill>
              <a:custDash>
                <a:ds d="100000" sp="1000"/>
              </a:custDash>
              <a:miter/>
              <a:tailEnd len="med" type="triangle" w="med"/>
            </a:ln>
          </p:spPr>
        </p:cxnSp>
      </p:grpSp>
      <p:sp>
        <p:nvSpPr>
          <p:cNvPr id="325" name="Rectangle 29"/>
          <p:cNvSpPr/>
          <p:nvPr/>
        </p:nvSpPr>
        <p:spPr>
          <a:xfrm rot="20874000">
            <a:off x="8364600" y="1429920"/>
            <a:ext cx="714240" cy="14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e6e6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Content Placeholder 4" descr=""/>
          <p:cNvPicPr/>
          <p:nvPr/>
        </p:nvPicPr>
        <p:blipFill>
          <a:blip r:embed="rId1"/>
          <a:stretch/>
        </p:blipFill>
        <p:spPr>
          <a:xfrm>
            <a:off x="689040" y="1785960"/>
            <a:ext cx="8186760" cy="4621320"/>
          </a:xfrm>
          <a:prstGeom prst="rect">
            <a:avLst/>
          </a:prstGeom>
          <a:ln w="0">
            <a:noFill/>
          </a:ln>
        </p:spPr>
      </p:pic>
      <p:sp>
        <p:nvSpPr>
          <p:cNvPr id="327" name="TextBox 3"/>
          <p:cNvSpPr/>
          <p:nvPr/>
        </p:nvSpPr>
        <p:spPr>
          <a:xfrm>
            <a:off x="67320" y="2000160"/>
            <a:ext cx="698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TAGE</a:t>
            </a:r>
            <a:endParaRPr b="0" i="1" lang="en-US" sz="16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99680" y="356760"/>
            <a:ext cx="792972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00000"/>
                </a:solidFill>
                <a:latin typeface="Arial"/>
              </a:rPr>
              <a:t>The adoption – implementation journey </a:t>
            </a:r>
            <a:br>
              <a:rPr sz="2800"/>
            </a:br>
            <a:r>
              <a:rPr b="1" lang="en-GB" sz="2000" spc="-1" strike="noStrike">
                <a:solidFill>
                  <a:srgbClr val="c00000"/>
                </a:solidFill>
                <a:latin typeface="Arial"/>
              </a:rPr>
              <a:t>organisational roles need to evolve to reflect the needs of each stag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57120" y="120240"/>
            <a:ext cx="842976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a50021"/>
                </a:solidFill>
                <a:latin typeface="Arial"/>
              </a:rPr>
              <a:t>The dangers of champ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369720" y="1000080"/>
            <a:ext cx="5214960" cy="422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lvl="2" marL="619200" indent="-408960">
              <a:spcBef>
                <a:spcPts val="1199"/>
              </a:spcBef>
              <a:spcAft>
                <a:spcPts val="1199"/>
              </a:spcAft>
              <a:buClr>
                <a:srgbClr val="c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champion’s identity - in contrast to traditional thinking - can cause </a:t>
            </a:r>
            <a:r>
              <a:rPr b="0" lang="en-GB" sz="2000" spc="-1" strike="noStrike">
                <a:solidFill>
                  <a:srgbClr val="dc0217"/>
                </a:solidFill>
                <a:latin typeface="Arial"/>
              </a:rPr>
              <a:t>knowledge to stick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ithin boundaries</a:t>
            </a:r>
            <a:endParaRPr b="0" lang="en-US" sz="2000" spc="-1" strike="noStrike">
              <a:solidFill>
                <a:srgbClr val="4b4f55"/>
              </a:solidFill>
              <a:latin typeface="Arial"/>
            </a:endParaRPr>
          </a:p>
          <a:p>
            <a:pPr lvl="2" marL="619200" indent="-408960">
              <a:spcBef>
                <a:spcPts val="1199"/>
              </a:spcBef>
              <a:spcAft>
                <a:spcPts val="1199"/>
              </a:spcAft>
              <a:buClr>
                <a:srgbClr val="c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Very high identification with the work - any change to this role seen as a </a:t>
            </a:r>
            <a:r>
              <a:rPr b="0" lang="en-GB" sz="2000" spc="-1" strike="noStrike">
                <a:solidFill>
                  <a:srgbClr val="dc0217"/>
                </a:solidFill>
                <a:latin typeface="Arial"/>
              </a:rPr>
              <a:t>threat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4b4f55"/>
              </a:solidFill>
              <a:latin typeface="Arial"/>
            </a:endParaRPr>
          </a:p>
          <a:p>
            <a:pPr lvl="2" marL="619200" indent="-408960">
              <a:spcBef>
                <a:spcPts val="1199"/>
              </a:spcBef>
              <a:spcAft>
                <a:spcPts val="1199"/>
              </a:spcAft>
              <a:buClr>
                <a:srgbClr val="c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n cause dysfunctional rigidities to settle within sub-groups </a:t>
            </a:r>
            <a:endParaRPr b="0" lang="en-US" sz="2000" spc="-1" strike="noStrike">
              <a:solidFill>
                <a:srgbClr val="4b4f55"/>
              </a:solidFill>
              <a:latin typeface="Arial"/>
            </a:endParaRPr>
          </a:p>
          <a:p>
            <a:pPr lvl="2" marL="619200" indent="-408960">
              <a:spcBef>
                <a:spcPts val="1199"/>
              </a:spcBef>
              <a:spcAft>
                <a:spcPts val="1199"/>
              </a:spcAft>
              <a:buClr>
                <a:srgbClr val="c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lp to sustain a culture of remote care ‘pilot necessity’</a:t>
            </a:r>
            <a:endParaRPr b="0" lang="en-US" sz="2000" spc="-1" strike="noStrike">
              <a:solidFill>
                <a:srgbClr val="4b4f55"/>
              </a:solidFill>
              <a:latin typeface="Arial"/>
            </a:endParaRPr>
          </a:p>
          <a:p>
            <a:pPr lvl="2" marL="619200" indent="-408960">
              <a:spcBef>
                <a:spcPts val="1199"/>
              </a:spcBef>
              <a:spcAft>
                <a:spcPts val="1199"/>
              </a:spcAft>
              <a:buClr>
                <a:srgbClr val="c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oth too </a:t>
            </a:r>
            <a:r>
              <a:rPr b="0" lang="en-GB" sz="2000" spc="-1" strike="noStrike">
                <a:solidFill>
                  <a:srgbClr val="dc0217"/>
                </a:solidFill>
                <a:latin typeface="Arial"/>
              </a:rPr>
              <a:t>much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too </a:t>
            </a:r>
            <a:r>
              <a:rPr b="0" lang="en-GB" sz="2000" spc="-1" strike="noStrike">
                <a:solidFill>
                  <a:srgbClr val="dc0217"/>
                </a:solidFill>
                <a:latin typeface="Arial"/>
              </a:rPr>
              <a:t>littl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identification is </a:t>
            </a:r>
            <a:r>
              <a:rPr b="0" lang="en-GB" sz="2000" spc="-1" strike="noStrike">
                <a:solidFill>
                  <a:srgbClr val="dc0217"/>
                </a:solidFill>
                <a:latin typeface="Arial"/>
              </a:rPr>
              <a:t>detrimental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to strategic change outcomes </a:t>
            </a:r>
            <a:endParaRPr b="0" lang="en-US" sz="2000" spc="-1" strike="noStrike">
              <a:solidFill>
                <a:srgbClr val="4b4f55"/>
              </a:solidFill>
              <a:latin typeface="Arial"/>
            </a:endParaRPr>
          </a:p>
          <a:p>
            <a:pPr lvl="2" marL="619200" indent="-408960">
              <a:spcBef>
                <a:spcPts val="1199"/>
              </a:spcBef>
              <a:spcAft>
                <a:spcPts val="1199"/>
              </a:spcAft>
              <a:buClr>
                <a:srgbClr val="c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b4f55"/>
              </a:solidFill>
              <a:latin typeface="Arial"/>
            </a:endParaRPr>
          </a:p>
          <a:p>
            <a:pPr lvl="1" marL="408960" indent="-408960"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b4f55"/>
              </a:solidFill>
              <a:latin typeface="Arial"/>
            </a:endParaRPr>
          </a:p>
        </p:txBody>
      </p:sp>
      <p:sp>
        <p:nvSpPr>
          <p:cNvPr id="331" name="AutoShape 4"/>
          <p:cNvSpPr/>
          <p:nvPr/>
        </p:nvSpPr>
        <p:spPr>
          <a:xfrm>
            <a:off x="5715000" y="5143680"/>
            <a:ext cx="3000240" cy="1285560"/>
          </a:xfrm>
          <a:prstGeom prst="wedgeRoundRectCallout">
            <a:avLst>
              <a:gd name="adj1" fmla="val -70699"/>
              <a:gd name="adj2" fmla="val -82148"/>
              <a:gd name="adj3" fmla="val 16667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4b4f55"/>
                </a:solidFill>
                <a:latin typeface="Arial"/>
              </a:rPr>
              <a:t> “</a:t>
            </a:r>
            <a:r>
              <a:rPr b="1" i="1" lang="en-GB" sz="1400" spc="-1" strike="noStrike">
                <a:solidFill>
                  <a:srgbClr val="4b4f55"/>
                </a:solidFill>
                <a:latin typeface="Arial"/>
              </a:rPr>
              <a:t>(they) have gone off and done their own little thing and no one else really knows about it. To be honest they like to hold on to their own </a:t>
            </a:r>
            <a:r>
              <a:rPr b="1" i="1" lang="en-GB" sz="1400" spc="-1" strike="noStrike">
                <a:solidFill>
                  <a:srgbClr val="c00000"/>
                </a:solidFill>
                <a:latin typeface="Arial"/>
              </a:rPr>
              <a:t>little kingdoms</a:t>
            </a:r>
            <a:r>
              <a:rPr b="1" i="1" lang="en-GB" sz="1400" spc="-1" strike="noStrike">
                <a:solidFill>
                  <a:srgbClr val="4b4f55"/>
                </a:solidFill>
                <a:latin typeface="Arial"/>
              </a:rPr>
              <a:t>.” </a:t>
            </a:r>
            <a:endParaRPr b="0" i="1" lang="en-US" sz="14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332" name="AutoShape 4"/>
          <p:cNvSpPr/>
          <p:nvPr/>
        </p:nvSpPr>
        <p:spPr>
          <a:xfrm>
            <a:off x="5715000" y="2143080"/>
            <a:ext cx="3143160" cy="2500200"/>
          </a:xfrm>
          <a:prstGeom prst="wedgeRoundRectCallout">
            <a:avLst>
              <a:gd name="adj1" fmla="val -70699"/>
              <a:gd name="adj2" fmla="val -82148"/>
              <a:gd name="adj3" fmla="val 16667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4b4f55"/>
                </a:solidFill>
                <a:latin typeface="Arial"/>
              </a:rPr>
              <a:t> “</a:t>
            </a:r>
            <a:r>
              <a:rPr b="1" i="1" lang="en-GB" sz="1400" spc="-1" strike="noStrike">
                <a:solidFill>
                  <a:srgbClr val="4b4f55"/>
                </a:solidFill>
                <a:latin typeface="Arial"/>
              </a:rPr>
              <a:t>Sometime you have to be a lion, and </a:t>
            </a:r>
            <a:r>
              <a:rPr b="1" i="1" lang="en-GB" sz="1400" spc="-1" strike="noStrike">
                <a:solidFill>
                  <a:srgbClr val="c00000"/>
                </a:solidFill>
                <a:latin typeface="Arial"/>
              </a:rPr>
              <a:t>kill the little cuddle animals</a:t>
            </a:r>
            <a:r>
              <a:rPr b="1" i="1" lang="en-GB" sz="1400" spc="-1" strike="noStrike">
                <a:solidFill>
                  <a:srgbClr val="4b4f55"/>
                </a:solidFill>
                <a:latin typeface="Arial"/>
              </a:rPr>
              <a:t>. As I’ve said I won’t be cowed down to their bureaucracy, it’s my way or the high way. Top management, suddenly they want a hand in this, but I’m telling you I am here to decide. This is not a job; this is my life .” </a:t>
            </a:r>
            <a:endParaRPr b="0" i="1" lang="en-US" sz="1400" spc="-1" strike="noStrike">
              <a:solidFill>
                <a:srgbClr val="6e6e6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99680" y="356760"/>
            <a:ext cx="771516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a50021"/>
                </a:solidFill>
                <a:latin typeface="Arial"/>
              </a:rPr>
              <a:t>The dangers of pilot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285480" y="1342800"/>
            <a:ext cx="77151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2" marL="671400" indent="-442800">
              <a:spcBef>
                <a:spcPts val="601"/>
              </a:spcBef>
              <a:spcAft>
                <a:spcPts val="601"/>
              </a:spcAft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00000"/>
                </a:solidFill>
                <a:latin typeface="Arial"/>
              </a:rPr>
              <a:t>Embedding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ew practice - within the remit of a small enthusiastic group</a:t>
            </a:r>
            <a:endParaRPr b="0" lang="en-US" sz="2400" spc="-1" strike="noStrike">
              <a:solidFill>
                <a:srgbClr val="4b4f55"/>
              </a:solidFill>
              <a:latin typeface="Arial"/>
            </a:endParaRPr>
          </a:p>
          <a:p>
            <a:pPr lvl="2" marL="671400" indent="-442800">
              <a:spcBef>
                <a:spcPts val="601"/>
              </a:spcBef>
              <a:spcAft>
                <a:spcPts val="601"/>
              </a:spcAft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eates group distinctiveness and </a:t>
            </a:r>
            <a:r>
              <a:rPr b="0" lang="en-GB" sz="2400" spc="-1" strike="noStrike">
                <a:solidFill>
                  <a:srgbClr val="c00000"/>
                </a:solidFill>
                <a:latin typeface="Arial"/>
              </a:rPr>
              <a:t>rivalries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4b4f55"/>
              </a:solidFill>
              <a:latin typeface="Arial"/>
            </a:endParaRPr>
          </a:p>
          <a:p>
            <a:pPr lvl="2" marL="671400" indent="-442800">
              <a:spcBef>
                <a:spcPts val="601"/>
              </a:spcBef>
              <a:spcAft>
                <a:spcPts val="601"/>
              </a:spcAft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ack of scalability</a:t>
            </a:r>
            <a:endParaRPr b="0" lang="en-US" sz="2400" spc="-1" strike="noStrike">
              <a:solidFill>
                <a:srgbClr val="4b4f55"/>
              </a:solidFill>
              <a:latin typeface="Arial"/>
            </a:endParaRPr>
          </a:p>
          <a:p>
            <a:pPr lvl="2" marL="671400" indent="-442800">
              <a:spcBef>
                <a:spcPts val="601"/>
              </a:spcBef>
              <a:spcAft>
                <a:spcPts val="601"/>
              </a:spcAft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00000"/>
                </a:solidFill>
                <a:latin typeface="Arial"/>
              </a:rPr>
              <a:t>Normalising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practices, lessons not transferrable </a:t>
            </a:r>
            <a:endParaRPr b="0" lang="en-US" sz="2400" spc="-1" strike="noStrike">
              <a:solidFill>
                <a:srgbClr val="4b4f55"/>
              </a:solidFill>
              <a:latin typeface="Arial"/>
            </a:endParaRPr>
          </a:p>
          <a:p>
            <a:pPr lvl="2" marL="671400" indent="-44280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5 to 5,000? </a:t>
            </a:r>
            <a:endParaRPr b="0" lang="en-US" sz="2400" spc="-1" strike="noStrike">
              <a:solidFill>
                <a:srgbClr val="4b4f55"/>
              </a:solidFill>
              <a:latin typeface="Arial"/>
            </a:endParaRPr>
          </a:p>
          <a:p>
            <a:pPr lvl="2" marL="671400" indent="-442800">
              <a:spcBef>
                <a:spcPts val="601"/>
              </a:spcBef>
              <a:spcAft>
                <a:spcPts val="601"/>
              </a:spcAft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</a:t>
            </a:r>
            <a:r>
              <a:rPr b="0" lang="en-GB" sz="2400" spc="-1" strike="noStrike">
                <a:solidFill>
                  <a:srgbClr val="c00000"/>
                </a:solidFill>
                <a:latin typeface="Arial"/>
              </a:rPr>
              <a:t> integration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d redesign of existing models needs to be integral from inception</a:t>
            </a:r>
            <a:endParaRPr b="0" lang="en-US" sz="2400" spc="-1" strike="noStrike">
              <a:solidFill>
                <a:srgbClr val="4b4f55"/>
              </a:solidFill>
              <a:latin typeface="Arial"/>
            </a:endParaRPr>
          </a:p>
          <a:p>
            <a:pPr lvl="2" marL="671400" indent="-442800">
              <a:spcBef>
                <a:spcPts val="601"/>
              </a:spcBef>
              <a:spcAft>
                <a:spcPts val="601"/>
              </a:spcAft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fade away’ = loss of engagement </a:t>
            </a:r>
            <a:endParaRPr b="0" lang="en-US" sz="2400" spc="-1" strike="noStrike">
              <a:solidFill>
                <a:srgbClr val="4b4f55"/>
              </a:solidFill>
              <a:latin typeface="Arial"/>
            </a:endParaRPr>
          </a:p>
        </p:txBody>
      </p:sp>
      <p:pic>
        <p:nvPicPr>
          <p:cNvPr id="335" name="Picture 5" descr="Amie%2B&amp;Gem%2Bsmall"/>
          <p:cNvPicPr/>
          <p:nvPr/>
        </p:nvPicPr>
        <p:blipFill>
          <a:blip r:embed="rId1"/>
          <a:stretch/>
        </p:blipFill>
        <p:spPr>
          <a:xfrm>
            <a:off x="7983360" y="2357280"/>
            <a:ext cx="1017720" cy="74484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6" descr="Bedoccupancysensorsmall"/>
          <p:cNvPicPr/>
          <p:nvPr/>
        </p:nvPicPr>
        <p:blipFill>
          <a:blip r:embed="rId2"/>
          <a:stretch/>
        </p:blipFill>
        <p:spPr>
          <a:xfrm>
            <a:off x="8097840" y="1500120"/>
            <a:ext cx="760320" cy="61452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15" descr="DocoboScreenShot"/>
          <p:cNvPicPr/>
          <p:nvPr/>
        </p:nvPicPr>
        <p:blipFill>
          <a:blip r:embed="rId3"/>
          <a:stretch/>
        </p:blipFill>
        <p:spPr>
          <a:xfrm>
            <a:off x="8101080" y="4898880"/>
            <a:ext cx="757080" cy="69876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6" descr=""/>
          <p:cNvPicPr/>
          <p:nvPr/>
        </p:nvPicPr>
        <p:blipFill>
          <a:blip r:embed="rId4"/>
          <a:stretch/>
        </p:blipFill>
        <p:spPr>
          <a:xfrm>
            <a:off x="7899480" y="785880"/>
            <a:ext cx="1030320" cy="33012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22" descr="Response centre"/>
          <p:cNvPicPr/>
          <p:nvPr/>
        </p:nvPicPr>
        <p:blipFill>
          <a:blip r:embed="rId5"/>
          <a:stretch/>
        </p:blipFill>
        <p:spPr>
          <a:xfrm>
            <a:off x="8072280" y="6040440"/>
            <a:ext cx="749520" cy="60804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3" descr="Product in situ - Patient with S21 telemedicine monitor"/>
          <p:cNvPicPr/>
          <p:nvPr/>
        </p:nvPicPr>
        <p:blipFill>
          <a:blip r:embed="rId6"/>
          <a:srcRect l="14222" t="9391" r="9104" b="47938"/>
          <a:stretch/>
        </p:blipFill>
        <p:spPr>
          <a:xfrm>
            <a:off x="8061480" y="3201840"/>
            <a:ext cx="868320" cy="72720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13" descr="DCIM(T)"/>
          <p:cNvPicPr/>
          <p:nvPr/>
        </p:nvPicPr>
        <p:blipFill>
          <a:blip r:embed="rId7"/>
          <a:stretch/>
        </p:blipFill>
        <p:spPr>
          <a:xfrm>
            <a:off x="7850160" y="3929040"/>
            <a:ext cx="122256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285840" y="356760"/>
            <a:ext cx="792936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a50021"/>
                </a:solidFill>
                <a:latin typeface="Arial"/>
              </a:rPr>
              <a:t>The dangers of RCTs for complex innov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285840" y="1714320"/>
            <a:ext cx="7572240" cy="38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lvl="2" marL="657720" indent="-433800">
              <a:spcBef>
                <a:spcPts val="601"/>
              </a:spcBef>
              <a:spcAft>
                <a:spcPts val="601"/>
              </a:spcAft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00000"/>
                </a:solidFill>
                <a:latin typeface="Arial"/>
              </a:rPr>
              <a:t>WSD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lue in the title</a:t>
            </a:r>
            <a:r>
              <a:rPr b="0" lang="en-GB" sz="24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4b4f55"/>
              </a:solidFill>
              <a:latin typeface="Arial"/>
            </a:endParaRPr>
          </a:p>
          <a:p>
            <a:pPr lvl="2" marL="657720" indent="-433800">
              <a:spcBef>
                <a:spcPts val="601"/>
              </a:spcBef>
              <a:spcAft>
                <a:spcPts val="601"/>
              </a:spcAft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 sites with contextual differences charged with demonstrating WS integration and service redesign  </a:t>
            </a:r>
            <a:endParaRPr b="0" lang="en-US" sz="2400" spc="-1" strike="noStrike">
              <a:solidFill>
                <a:srgbClr val="4b4f55"/>
              </a:solidFill>
              <a:latin typeface="Arial"/>
            </a:endParaRPr>
          </a:p>
          <a:p>
            <a:pPr lvl="2" marL="657720" indent="-433800">
              <a:spcBef>
                <a:spcPts val="601"/>
              </a:spcBef>
              <a:spcAft>
                <a:spcPts val="601"/>
              </a:spcAft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straints of the trial required differences in local processes be flattened</a:t>
            </a:r>
            <a:endParaRPr b="0" lang="en-US" sz="2400" spc="-1" strike="noStrike">
              <a:solidFill>
                <a:srgbClr val="4b4f55"/>
              </a:solidFill>
              <a:latin typeface="Arial"/>
            </a:endParaRPr>
          </a:p>
          <a:p>
            <a:pPr lvl="2" marL="657720" indent="-433800">
              <a:spcBef>
                <a:spcPts val="601"/>
              </a:spcBef>
              <a:spcAft>
                <a:spcPts val="601"/>
              </a:spcAft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obust evidence – at what cost? </a:t>
            </a:r>
            <a:endParaRPr b="0" lang="en-US" sz="2400" spc="-1" strike="noStrike">
              <a:solidFill>
                <a:srgbClr val="4b4f55"/>
              </a:solidFill>
              <a:latin typeface="Arial"/>
            </a:endParaRPr>
          </a:p>
          <a:p>
            <a:pPr lvl="2" marL="657720" indent="-433800">
              <a:spcBef>
                <a:spcPts val="601"/>
              </a:spcBef>
              <a:spcAft>
                <a:spcPts val="601"/>
              </a:spcAft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nresolved issues of </a:t>
            </a:r>
            <a:r>
              <a:rPr b="0" lang="en-GB" sz="2400" spc="-1" strike="noStrike">
                <a:solidFill>
                  <a:srgbClr val="c00000"/>
                </a:solidFill>
                <a:latin typeface="Arial"/>
              </a:rPr>
              <a:t>ownership and identity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fter the WSD trial ends</a:t>
            </a:r>
            <a:endParaRPr b="0" lang="en-US" sz="2400" spc="-1" strike="noStrike">
              <a:solidFill>
                <a:srgbClr val="4b4f55"/>
              </a:solidFill>
              <a:latin typeface="Arial"/>
            </a:endParaRPr>
          </a:p>
          <a:p>
            <a:pPr lvl="2" marL="657720" indent="-433800">
              <a:spcBef>
                <a:spcPts val="601"/>
              </a:spcBef>
              <a:spcAft>
                <a:spcPts val="601"/>
              </a:spcAft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f55"/>
              </a:solidFill>
              <a:latin typeface="Arial"/>
            </a:endParaRPr>
          </a:p>
          <a:p>
            <a:pPr lvl="2" marL="657720" indent="-433800">
              <a:spcBef>
                <a:spcPts val="601"/>
              </a:spcBef>
              <a:spcAft>
                <a:spcPts val="601"/>
              </a:spcAft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f55"/>
              </a:solidFill>
              <a:latin typeface="Arial"/>
            </a:endParaRPr>
          </a:p>
        </p:txBody>
      </p:sp>
      <p:pic>
        <p:nvPicPr>
          <p:cNvPr id="344" name="Picture 5" descr="Amie%2B&amp;Gem%2Bsmall"/>
          <p:cNvPicPr/>
          <p:nvPr/>
        </p:nvPicPr>
        <p:blipFill>
          <a:blip r:embed="rId1"/>
          <a:stretch/>
        </p:blipFill>
        <p:spPr>
          <a:xfrm>
            <a:off x="7983360" y="2357280"/>
            <a:ext cx="1017720" cy="74484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6" descr="Bedoccupancysensorsmall"/>
          <p:cNvPicPr/>
          <p:nvPr/>
        </p:nvPicPr>
        <p:blipFill>
          <a:blip r:embed="rId2"/>
          <a:stretch/>
        </p:blipFill>
        <p:spPr>
          <a:xfrm>
            <a:off x="8097840" y="1500120"/>
            <a:ext cx="760320" cy="61452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15" descr="DocoboScreenShot"/>
          <p:cNvPicPr/>
          <p:nvPr/>
        </p:nvPicPr>
        <p:blipFill>
          <a:blip r:embed="rId3"/>
          <a:stretch/>
        </p:blipFill>
        <p:spPr>
          <a:xfrm>
            <a:off x="8101080" y="4898880"/>
            <a:ext cx="757080" cy="69876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6" descr=""/>
          <p:cNvPicPr/>
          <p:nvPr/>
        </p:nvPicPr>
        <p:blipFill>
          <a:blip r:embed="rId4"/>
          <a:stretch/>
        </p:blipFill>
        <p:spPr>
          <a:xfrm>
            <a:off x="7899480" y="785880"/>
            <a:ext cx="1030320" cy="33012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22" descr="Response centre"/>
          <p:cNvPicPr/>
          <p:nvPr/>
        </p:nvPicPr>
        <p:blipFill>
          <a:blip r:embed="rId5"/>
          <a:stretch/>
        </p:blipFill>
        <p:spPr>
          <a:xfrm>
            <a:off x="8072280" y="6040440"/>
            <a:ext cx="749520" cy="60804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3" descr="Product in situ - Patient with S21 telemedicine monitor"/>
          <p:cNvPicPr/>
          <p:nvPr/>
        </p:nvPicPr>
        <p:blipFill>
          <a:blip r:embed="rId6"/>
          <a:srcRect l="14222" t="9391" r="9104" b="47938"/>
          <a:stretch/>
        </p:blipFill>
        <p:spPr>
          <a:xfrm>
            <a:off x="8061480" y="3201840"/>
            <a:ext cx="868320" cy="72720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13" descr="DCIM(T)"/>
          <p:cNvPicPr/>
          <p:nvPr/>
        </p:nvPicPr>
        <p:blipFill>
          <a:blip r:embed="rId7"/>
          <a:stretch/>
        </p:blipFill>
        <p:spPr>
          <a:xfrm>
            <a:off x="7850160" y="3929040"/>
            <a:ext cx="122256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c00000"/>
                </a:solidFill>
                <a:latin typeface="Arial"/>
              </a:rPr>
              <a:t>Mainstream implementation will ne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178920" y="1341360"/>
            <a:ext cx="8029800" cy="422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717480" indent="-717480">
              <a:spcBef>
                <a:spcPts val="601"/>
              </a:spcBef>
              <a:spcAft>
                <a:spcPts val="601"/>
              </a:spcAft>
              <a:buClr>
                <a:srgbClr val="c00000"/>
              </a:buClr>
              <a:buFont typeface="Arial"/>
              <a:buChar char="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New rules about governance </a:t>
            </a:r>
            <a:endParaRPr b="0" lang="en-US" sz="4000" spc="-1" strike="noStrike">
              <a:solidFill>
                <a:srgbClr val="4b4f55"/>
              </a:solidFill>
              <a:latin typeface="Arial"/>
            </a:endParaRPr>
          </a:p>
          <a:p>
            <a:pPr marL="717480" indent="-717480">
              <a:spcBef>
                <a:spcPts val="601"/>
              </a:spcBef>
              <a:spcAft>
                <a:spcPts val="601"/>
              </a:spcAft>
              <a:buClr>
                <a:srgbClr val="c00000"/>
              </a:buClr>
              <a:buFont typeface="Arial"/>
              <a:buChar char="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New types of ownership</a:t>
            </a:r>
            <a:endParaRPr b="0" lang="en-US" sz="4000" spc="-1" strike="noStrike">
              <a:solidFill>
                <a:srgbClr val="4b4f55"/>
              </a:solidFill>
              <a:latin typeface="Arial"/>
            </a:endParaRPr>
          </a:p>
          <a:p>
            <a:pPr marL="717480" indent="-717480">
              <a:spcBef>
                <a:spcPts val="601"/>
              </a:spcBef>
              <a:spcAft>
                <a:spcPts val="601"/>
              </a:spcAft>
              <a:buClr>
                <a:srgbClr val="c00000"/>
              </a:buClr>
              <a:buFont typeface="Arial"/>
              <a:buChar char="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New types of identity (patient &amp; professional)</a:t>
            </a:r>
            <a:endParaRPr b="0" lang="en-US" sz="4000" spc="-1" strike="noStrike">
              <a:solidFill>
                <a:srgbClr val="4b4f55"/>
              </a:solidFill>
              <a:latin typeface="Arial"/>
            </a:endParaRPr>
          </a:p>
          <a:p>
            <a:pPr marL="717480" indent="-717480">
              <a:spcBef>
                <a:spcPts val="601"/>
              </a:spcBef>
              <a:spcAft>
                <a:spcPts val="601"/>
              </a:spcAft>
              <a:buClr>
                <a:srgbClr val="c00000"/>
              </a:buClr>
              <a:buFont typeface="Arial"/>
              <a:buChar char="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Different cultural attitudes to self care  </a:t>
            </a:r>
            <a:endParaRPr b="0" lang="en-US" sz="4000" spc="-1" strike="noStrike">
              <a:solidFill>
                <a:srgbClr val="4b4f5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2" descr=""/>
          <p:cNvPicPr/>
          <p:nvPr/>
        </p:nvPicPr>
        <p:blipFill>
          <a:blip r:embed="rId1"/>
          <a:stretch/>
        </p:blipFill>
        <p:spPr>
          <a:xfrm>
            <a:off x="2000160" y="1428840"/>
            <a:ext cx="5267520" cy="37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99680" y="356760"/>
            <a:ext cx="771516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00000"/>
                </a:solidFill>
                <a:latin typeface="Arial"/>
              </a:rPr>
              <a:t>Blockers towards mainstreaming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285480" y="1342800"/>
            <a:ext cx="4071960" cy="42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42800" indent="-442800">
              <a:spcBef>
                <a:spcPts val="601"/>
              </a:spcBef>
              <a:spcAft>
                <a:spcPts val="601"/>
              </a:spcAft>
              <a:buClr>
                <a:srgbClr val="c00000"/>
              </a:buClr>
              <a:buFont typeface="Arial"/>
              <a:buChar char="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Current lack of </a:t>
            </a:r>
            <a:r>
              <a:rPr b="0" lang="en-GB" sz="2400" spc="-1" strike="noStrike">
                <a:solidFill>
                  <a:srgbClr val="c00000"/>
                </a:solidFill>
                <a:latin typeface="Arial"/>
                <a:ea typeface="Arial"/>
              </a:rPr>
              <a:t>integration within and betwee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care providers from acute, primary and social care services</a:t>
            </a:r>
            <a:endParaRPr b="0" lang="en-US" sz="2400" spc="-1" strike="noStrike">
              <a:solidFill>
                <a:srgbClr val="4b4f55"/>
              </a:solidFill>
              <a:latin typeface="Arial"/>
            </a:endParaRPr>
          </a:p>
          <a:p>
            <a:pPr lvl="1" marL="442800" indent="-442800">
              <a:spcBef>
                <a:spcPts val="601"/>
              </a:spcBef>
              <a:spcAft>
                <a:spcPts val="601"/>
              </a:spcAft>
              <a:buClr>
                <a:srgbClr val="c00000"/>
              </a:buClr>
              <a:buFont typeface="Arial"/>
              <a:buChar char="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Distribution of </a:t>
            </a:r>
            <a:r>
              <a:rPr b="0" lang="en-GB" sz="2400" spc="-1" strike="noStrike">
                <a:solidFill>
                  <a:srgbClr val="c00000"/>
                </a:solidFill>
                <a:latin typeface="Arial"/>
                <a:ea typeface="Arial"/>
              </a:rPr>
              <a:t>costs and benefits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across the system</a:t>
            </a:r>
            <a:endParaRPr b="0" lang="en-US" sz="2400" spc="-1" strike="noStrike">
              <a:solidFill>
                <a:srgbClr val="4b4f55"/>
              </a:solidFill>
              <a:latin typeface="Arial"/>
            </a:endParaRPr>
          </a:p>
          <a:p>
            <a:pPr lvl="1" marL="442800" indent="-442800">
              <a:spcBef>
                <a:spcPts val="601"/>
              </a:spcBef>
              <a:spcAft>
                <a:spcPts val="601"/>
              </a:spcAft>
              <a:buClr>
                <a:srgbClr val="c00000"/>
              </a:buClr>
              <a:buFont typeface="Arial"/>
              <a:buChar char="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f55"/>
              </a:solidFill>
              <a:latin typeface="Arial"/>
            </a:endParaRPr>
          </a:p>
        </p:txBody>
      </p:sp>
      <p:pic>
        <p:nvPicPr>
          <p:cNvPr id="355" name="Picture 4" descr=""/>
          <p:cNvPicPr/>
          <p:nvPr/>
        </p:nvPicPr>
        <p:blipFill>
          <a:blip r:embed="rId1"/>
          <a:stretch/>
        </p:blipFill>
        <p:spPr>
          <a:xfrm>
            <a:off x="4427640" y="1428840"/>
            <a:ext cx="4716360" cy="2519280"/>
          </a:xfrm>
          <a:prstGeom prst="rect">
            <a:avLst/>
          </a:prstGeom>
          <a:ln w="0">
            <a:noFill/>
          </a:ln>
        </p:spPr>
      </p:pic>
      <p:sp>
        <p:nvSpPr>
          <p:cNvPr id="356" name="TextBox 6"/>
          <p:cNvSpPr/>
          <p:nvPr/>
        </p:nvSpPr>
        <p:spPr>
          <a:xfrm>
            <a:off x="285840" y="4429080"/>
            <a:ext cx="850104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44600" indent="-444600">
              <a:lnSpc>
                <a:spcPct val="100000"/>
              </a:lnSpc>
              <a:buClr>
                <a:srgbClr val="c00000"/>
              </a:buClr>
              <a:buFont typeface="Arial"/>
              <a:buChar char="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 scaling-up you need more than enthusiasts or champions, or organisational or financial support:</a:t>
            </a:r>
            <a:endParaRPr b="0" i="1" lang="en-US" sz="2400" spc="-1" strike="noStrike">
              <a:solidFill>
                <a:srgbClr val="6e6e6f"/>
              </a:solidFill>
              <a:latin typeface="Verdana"/>
            </a:endParaRPr>
          </a:p>
          <a:p>
            <a:pPr marL="444600" indent="-444600">
              <a:lnSpc>
                <a:spcPct val="100000"/>
              </a:lnSpc>
              <a:buClr>
                <a:srgbClr val="c00000"/>
              </a:buClr>
              <a:buFont typeface="Arial"/>
              <a:buChar char="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6e6e6f"/>
              </a:solidFill>
              <a:latin typeface="Verdana"/>
            </a:endParaRPr>
          </a:p>
          <a:p>
            <a:pPr marL="444600" indent="-444600">
              <a:lnSpc>
                <a:spcPct val="100000"/>
              </a:lnSpc>
              <a:buClr>
                <a:srgbClr val="c00000"/>
              </a:buClr>
              <a:buFont typeface="Arial"/>
              <a:buChar char="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00000"/>
                </a:solidFill>
                <a:latin typeface="Arial"/>
              </a:rPr>
              <a:t>Benefits evidence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d a </a:t>
            </a:r>
            <a:r>
              <a:rPr b="0" lang="en-GB" sz="2800" spc="-1" strike="noStrike">
                <a:solidFill>
                  <a:srgbClr val="c00000"/>
                </a:solidFill>
                <a:latin typeface="Arial"/>
              </a:rPr>
              <a:t>business case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re essential but these must also be </a:t>
            </a:r>
            <a:r>
              <a:rPr b="0" lang="en-GB" sz="2800" spc="-1" strike="noStrike">
                <a:solidFill>
                  <a:srgbClr val="c00000"/>
                </a:solidFill>
                <a:latin typeface="Arial"/>
              </a:rPr>
              <a:t>scalable</a:t>
            </a:r>
            <a:r>
              <a:rPr b="0" lang="en-GB" sz="2800" spc="-1" strike="noStrike">
                <a:solidFill>
                  <a:srgbClr val="dc0217"/>
                </a:solidFill>
                <a:latin typeface="Arial"/>
              </a:rPr>
              <a:t> </a:t>
            </a:r>
            <a:endParaRPr b="0" i="1" lang="en-US" sz="2800" spc="-1" strike="noStrike">
              <a:solidFill>
                <a:srgbClr val="6e6e6f"/>
              </a:solidFill>
              <a:latin typeface="Verdana"/>
            </a:endParaRPr>
          </a:p>
          <a:p>
            <a:pPr marL="444600" indent="-444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6e6e6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Picture 2" descr="Picture (Device Independent Bitmap)"/>
          <p:cNvPicPr/>
          <p:nvPr/>
        </p:nvPicPr>
        <p:blipFill>
          <a:blip r:embed="rId1"/>
          <a:stretch/>
        </p:blipFill>
        <p:spPr>
          <a:xfrm>
            <a:off x="176040" y="1447920"/>
            <a:ext cx="8896680" cy="4838760"/>
          </a:xfrm>
          <a:prstGeom prst="rect">
            <a:avLst/>
          </a:prstGeom>
          <a:ln w="0">
            <a:noFill/>
          </a:ln>
        </p:spPr>
      </p:pic>
      <p:sp>
        <p:nvSpPr>
          <p:cNvPr id="358" name="AutoShape 4"/>
          <p:cNvSpPr/>
          <p:nvPr/>
        </p:nvSpPr>
        <p:spPr>
          <a:xfrm>
            <a:off x="6786720" y="285840"/>
            <a:ext cx="2071440" cy="1714320"/>
          </a:xfrm>
          <a:prstGeom prst="wedgeRoundRectCallout">
            <a:avLst>
              <a:gd name="adj1" fmla="val -129037"/>
              <a:gd name="adj2" fmla="val 150875"/>
              <a:gd name="adj3" fmla="val 16667"/>
            </a:avLst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So finally I can reveal the solution to mainstreaming remote care </a:t>
            </a:r>
            <a:endParaRPr b="0" i="1" lang="en-US" sz="1800" spc="-1" strike="noStrike">
              <a:solidFill>
                <a:srgbClr val="6e6e6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071720" y="428760"/>
            <a:ext cx="5357520" cy="78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00000"/>
                </a:solidFill>
                <a:latin typeface="Arial"/>
              </a:rPr>
              <a:t>WSD legacy…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500040" y="5357880"/>
            <a:ext cx="807264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marL="312120" indent="-312120"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uge success - enabled remote care to be delivered to thousands of people and their carers and roll-out will continue…  </a:t>
            </a:r>
            <a:endParaRPr b="0" lang="en-US" sz="2400" spc="-1" strike="noStrike">
              <a:solidFill>
                <a:srgbClr val="4b4f55"/>
              </a:solidFill>
              <a:latin typeface="Arial"/>
            </a:endParaRPr>
          </a:p>
        </p:txBody>
      </p:sp>
      <p:pic>
        <p:nvPicPr>
          <p:cNvPr id="361" name="Picture 2" descr=""/>
          <p:cNvPicPr/>
          <p:nvPr/>
        </p:nvPicPr>
        <p:blipFill>
          <a:blip r:embed="rId1"/>
          <a:stretch/>
        </p:blipFill>
        <p:spPr>
          <a:xfrm>
            <a:off x="2143080" y="1428840"/>
            <a:ext cx="492912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 txBox="1"/>
          <p:nvPr/>
        </p:nvSpPr>
        <p:spPr>
          <a:xfrm>
            <a:off x="530280" y="1856880"/>
            <a:ext cx="7184880" cy="20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10000"/>
              </a:lnSpc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ith additional thanks to:</a:t>
            </a:r>
            <a:endParaRPr b="0" lang="en-US" sz="2400" spc="-1" strike="noStrike">
              <a:solidFill>
                <a:srgbClr val="4b4f55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haritini Stavropoulou</a:t>
            </a:r>
            <a:endParaRPr b="0" lang="en-US" sz="2400" spc="-1" strike="noStrike">
              <a:solidFill>
                <a:srgbClr val="4b4f55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arah Jasim </a:t>
            </a:r>
            <a:endParaRPr b="0" lang="en-US" sz="2400" spc="-1" strike="noStrike">
              <a:solidFill>
                <a:srgbClr val="4b4f55"/>
              </a:solidFill>
              <a:latin typeface="Arial"/>
            </a:endParaRPr>
          </a:p>
        </p:txBody>
      </p:sp>
      <p:pic>
        <p:nvPicPr>
          <p:cNvPr id="363" name="Picture 3" descr="">
            <a:hlinkClick r:id="rId1"/>
          </p:cNvPr>
          <p:cNvPicPr/>
          <p:nvPr/>
        </p:nvPicPr>
        <p:blipFill>
          <a:blip r:embed="rId2"/>
          <a:srcRect l="0" t="4449" r="0" b="12220"/>
          <a:stretch/>
        </p:blipFill>
        <p:spPr>
          <a:xfrm>
            <a:off x="7072200" y="182520"/>
            <a:ext cx="1914480" cy="81756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4" descr=""/>
          <p:cNvPicPr/>
          <p:nvPr/>
        </p:nvPicPr>
        <p:blipFill>
          <a:blip r:embed="rId3"/>
          <a:stretch/>
        </p:blipFill>
        <p:spPr>
          <a:xfrm>
            <a:off x="0" y="6237360"/>
            <a:ext cx="9161640" cy="62064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7" descr=""/>
          <p:cNvPicPr/>
          <p:nvPr/>
        </p:nvPicPr>
        <p:blipFill>
          <a:blip r:embed="rId4"/>
          <a:stretch/>
        </p:blipFill>
        <p:spPr>
          <a:xfrm>
            <a:off x="133200" y="195120"/>
            <a:ext cx="1938600" cy="94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14280" y="356760"/>
            <a:ext cx="568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00000"/>
                </a:solidFill>
                <a:latin typeface="Arial"/>
              </a:rPr>
              <a:t>Currently there is a strong UK policy push for telemonitoring (remote care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285480" y="2357280"/>
            <a:ext cx="5072040" cy="453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42800" indent="-442800">
              <a:spcBef>
                <a:spcPts val="1199"/>
              </a:spcBef>
              <a:spcAft>
                <a:spcPts val="1199"/>
              </a:spcAft>
              <a:buClr>
                <a:srgbClr val="c00000"/>
              </a:buClr>
              <a:buFont typeface="Arial"/>
              <a:buChar char="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00000"/>
                </a:solidFill>
                <a:latin typeface="Arial"/>
                <a:ea typeface="Arial"/>
              </a:rPr>
              <a:t>Over 25 UK government reports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since 1998 have called for remote care</a:t>
            </a:r>
            <a:endParaRPr b="0" lang="en-US" sz="2800" spc="-1" strike="noStrike">
              <a:solidFill>
                <a:srgbClr val="4b4f55"/>
              </a:solidFill>
              <a:latin typeface="Arial"/>
            </a:endParaRPr>
          </a:p>
          <a:p>
            <a:pPr marL="442800" indent="-442800">
              <a:spcBef>
                <a:spcPts val="1199"/>
              </a:spcBef>
              <a:spcAft>
                <a:spcPts val="1199"/>
              </a:spcAft>
              <a:buClr>
                <a:srgbClr val="c00000"/>
              </a:buClr>
              <a:buFont typeface="Arial"/>
              <a:buChar char="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00000"/>
                </a:solidFill>
                <a:latin typeface="Arial"/>
                <a:ea typeface="Arial"/>
              </a:rPr>
              <a:t>Finance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(£170m+ since 2006) via Preventative Technology Grant, POP, Whole System Demonstrators and other regional initiatives</a:t>
            </a:r>
            <a:endParaRPr b="0" lang="en-US" sz="2800" spc="-1" strike="noStrike">
              <a:solidFill>
                <a:srgbClr val="4b4f55"/>
              </a:solidFill>
              <a:latin typeface="Arial"/>
            </a:endParaRPr>
          </a:p>
        </p:txBody>
      </p:sp>
      <p:pic>
        <p:nvPicPr>
          <p:cNvPr id="212" name="Picture 1" descr=""/>
          <p:cNvPicPr/>
          <p:nvPr/>
        </p:nvPicPr>
        <p:blipFill>
          <a:blip r:embed="rId1"/>
          <a:stretch/>
        </p:blipFill>
        <p:spPr>
          <a:xfrm>
            <a:off x="6143760" y="1214280"/>
            <a:ext cx="1145880" cy="1594080"/>
          </a:xfrm>
          <a:prstGeom prst="rect">
            <a:avLst/>
          </a:prstGeom>
          <a:ln w="1440">
            <a:solidFill>
              <a:srgbClr val="7f7f7f"/>
            </a:solidFill>
            <a:miter/>
          </a:ln>
        </p:spPr>
      </p:pic>
      <p:pic>
        <p:nvPicPr>
          <p:cNvPr id="213" name="Picture 8" descr=""/>
          <p:cNvPicPr/>
          <p:nvPr/>
        </p:nvPicPr>
        <p:blipFill>
          <a:blip r:embed="rId2"/>
          <a:stretch/>
        </p:blipFill>
        <p:spPr>
          <a:xfrm>
            <a:off x="6858000" y="2000160"/>
            <a:ext cx="1144440" cy="1595520"/>
          </a:xfrm>
          <a:prstGeom prst="rect">
            <a:avLst/>
          </a:prstGeom>
          <a:ln w="1440">
            <a:solidFill>
              <a:srgbClr val="7f7f7f"/>
            </a:solidFill>
            <a:miter/>
          </a:ln>
        </p:spPr>
      </p:pic>
      <p:pic>
        <p:nvPicPr>
          <p:cNvPr id="214" name="Picture 5" descr=""/>
          <p:cNvPicPr/>
          <p:nvPr/>
        </p:nvPicPr>
        <p:blipFill>
          <a:blip r:embed="rId3"/>
          <a:stretch/>
        </p:blipFill>
        <p:spPr>
          <a:xfrm>
            <a:off x="7929720" y="2428920"/>
            <a:ext cx="1144440" cy="1614600"/>
          </a:xfrm>
          <a:prstGeom prst="rect">
            <a:avLst/>
          </a:prstGeom>
          <a:ln w="1440">
            <a:solidFill>
              <a:srgbClr val="7f7f7f"/>
            </a:solidFill>
            <a:miter/>
          </a:ln>
        </p:spPr>
      </p:pic>
      <p:pic>
        <p:nvPicPr>
          <p:cNvPr id="215" name="Picture 6" descr=""/>
          <p:cNvPicPr/>
          <p:nvPr/>
        </p:nvPicPr>
        <p:blipFill>
          <a:blip r:embed="rId4"/>
          <a:stretch/>
        </p:blipFill>
        <p:spPr>
          <a:xfrm>
            <a:off x="7572240" y="3429000"/>
            <a:ext cx="1144800" cy="1698480"/>
          </a:xfrm>
          <a:prstGeom prst="rect">
            <a:avLst/>
          </a:prstGeom>
          <a:ln w="1440">
            <a:solidFill>
              <a:srgbClr val="7f7f7f"/>
            </a:solidFill>
            <a:miter/>
          </a:ln>
        </p:spPr>
      </p:pic>
      <p:pic>
        <p:nvPicPr>
          <p:cNvPr id="216" name="Picture 10" descr=""/>
          <p:cNvPicPr/>
          <p:nvPr/>
        </p:nvPicPr>
        <p:blipFill>
          <a:blip r:embed="rId5"/>
          <a:stretch/>
        </p:blipFill>
        <p:spPr>
          <a:xfrm>
            <a:off x="6929280" y="4357800"/>
            <a:ext cx="1567080" cy="1090440"/>
          </a:xfrm>
          <a:prstGeom prst="rect">
            <a:avLst/>
          </a:prstGeom>
          <a:ln w="1440">
            <a:solidFill>
              <a:srgbClr val="7f7f7f"/>
            </a:solidFill>
            <a:miter/>
          </a:ln>
        </p:spPr>
      </p:pic>
      <p:pic>
        <p:nvPicPr>
          <p:cNvPr id="217" name="Picture 1" descr=""/>
          <p:cNvPicPr/>
          <p:nvPr/>
        </p:nvPicPr>
        <p:blipFill>
          <a:blip r:embed="rId6"/>
          <a:stretch/>
        </p:blipFill>
        <p:spPr>
          <a:xfrm>
            <a:off x="6529320" y="5000760"/>
            <a:ext cx="1208160" cy="1714320"/>
          </a:xfrm>
          <a:prstGeom prst="rect">
            <a:avLst/>
          </a:prstGeom>
          <a:ln w="9360">
            <a:solidFill>
              <a:srgbClr val="a6a6a6"/>
            </a:solidFill>
            <a:miter/>
          </a:ln>
        </p:spPr>
      </p:pic>
      <p:pic>
        <p:nvPicPr>
          <p:cNvPr id="218" name="Picture 2" descr=""/>
          <p:cNvPicPr/>
          <p:nvPr/>
        </p:nvPicPr>
        <p:blipFill>
          <a:blip r:embed="rId7"/>
          <a:stretch/>
        </p:blipFill>
        <p:spPr>
          <a:xfrm>
            <a:off x="7176960" y="285840"/>
            <a:ext cx="1109880" cy="1560600"/>
          </a:xfrm>
          <a:prstGeom prst="rect">
            <a:avLst/>
          </a:prstGeom>
          <a:ln w="9360">
            <a:solidFill>
              <a:srgbClr val="7f7f7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4297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a50021"/>
                </a:solidFill>
                <a:latin typeface="Arial"/>
              </a:rPr>
              <a:t>Why?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214200" y="1428840"/>
            <a:ext cx="65008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44600" indent="-444600">
              <a:spcBef>
                <a:spcPts val="1199"/>
              </a:spcBef>
              <a:spcAft>
                <a:spcPts val="1199"/>
              </a:spcAft>
              <a:buClr>
                <a:srgbClr val="c00000"/>
              </a:buClr>
              <a:buFont typeface="Arial"/>
              <a:buChar char="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mote care (telecare / telehealth) can potentially </a:t>
            </a:r>
            <a:endParaRPr b="0" lang="en-US" sz="2400" spc="-1" strike="noStrike">
              <a:solidFill>
                <a:srgbClr val="4b4f55"/>
              </a:solidFill>
              <a:latin typeface="Arial"/>
            </a:endParaRPr>
          </a:p>
          <a:p>
            <a:pPr lvl="1" marL="825480" indent="-444600">
              <a:spcBef>
                <a:spcPts val="1199"/>
              </a:spcBef>
              <a:spcAft>
                <a:spcPts val="1199"/>
              </a:spcAft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00000"/>
                </a:solidFill>
                <a:latin typeface="Arial"/>
              </a:rPr>
              <a:t>shift healthcare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ut of expensive settings – hospital to home</a:t>
            </a:r>
            <a:endParaRPr b="0" lang="en-US" sz="2400" spc="-1" strike="noStrike">
              <a:solidFill>
                <a:srgbClr val="4b4f55"/>
              </a:solidFill>
              <a:latin typeface="Arial"/>
            </a:endParaRPr>
          </a:p>
          <a:p>
            <a:pPr lvl="1" marL="825480" indent="-444600">
              <a:spcBef>
                <a:spcPts val="1199"/>
              </a:spcBef>
              <a:spcAft>
                <a:spcPts val="1199"/>
              </a:spcAft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troduce more </a:t>
            </a:r>
            <a:r>
              <a:rPr b="0" lang="en-GB" sz="2400" spc="-1" strike="noStrike">
                <a:solidFill>
                  <a:srgbClr val="c00000"/>
                </a:solidFill>
                <a:latin typeface="Arial"/>
              </a:rPr>
              <a:t>preventative models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f care</a:t>
            </a:r>
            <a:endParaRPr b="0" lang="en-US" sz="2400" spc="-1" strike="noStrike">
              <a:solidFill>
                <a:srgbClr val="4b4f55"/>
              </a:solidFill>
              <a:latin typeface="Arial"/>
            </a:endParaRPr>
          </a:p>
          <a:p>
            <a:pPr marL="444600" indent="-444600">
              <a:spcBef>
                <a:spcPts val="1199"/>
              </a:spcBef>
              <a:spcAft>
                <a:spcPts val="1199"/>
              </a:spcAft>
              <a:buClr>
                <a:srgbClr val="c00000"/>
              </a:buClr>
              <a:buFont typeface="Arial"/>
              <a:buChar char="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ur research focuses on the </a:t>
            </a:r>
            <a:r>
              <a:rPr b="0" lang="en-GB" sz="2400" spc="-1" strike="noStrike">
                <a:solidFill>
                  <a:srgbClr val="c00000"/>
                </a:solidFill>
                <a:latin typeface="Arial"/>
              </a:rPr>
              <a:t>organisational  challenge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in achieving large scale transformational change</a:t>
            </a:r>
            <a:endParaRPr b="0" lang="en-US" sz="2400" spc="-1" strike="noStrike">
              <a:solidFill>
                <a:srgbClr val="4b4f55"/>
              </a:solidFill>
              <a:latin typeface="Arial"/>
            </a:endParaRPr>
          </a:p>
        </p:txBody>
      </p:sp>
      <p:grpSp>
        <p:nvGrpSpPr>
          <p:cNvPr id="221" name="Group 15"/>
          <p:cNvGrpSpPr/>
          <p:nvPr/>
        </p:nvGrpSpPr>
        <p:grpSpPr>
          <a:xfrm>
            <a:off x="6716880" y="695160"/>
            <a:ext cx="2212920" cy="3519720"/>
            <a:chOff x="6716880" y="695160"/>
            <a:chExt cx="2212920" cy="3519720"/>
          </a:xfrm>
        </p:grpSpPr>
        <p:pic>
          <p:nvPicPr>
            <p:cNvPr id="222" name="Picture 1" descr=""/>
            <p:cNvPicPr/>
            <p:nvPr/>
          </p:nvPicPr>
          <p:blipFill>
            <a:blip r:embed="rId1"/>
            <a:stretch/>
          </p:blipFill>
          <p:spPr>
            <a:xfrm>
              <a:off x="6716880" y="695160"/>
              <a:ext cx="865080" cy="1325160"/>
            </a:xfrm>
            <a:prstGeom prst="rect">
              <a:avLst/>
            </a:prstGeom>
            <a:ln w="1440">
              <a:solidFill>
                <a:srgbClr val="7f7f7f"/>
              </a:solidFill>
              <a:miter/>
            </a:ln>
          </p:spPr>
        </p:pic>
        <p:pic>
          <p:nvPicPr>
            <p:cNvPr id="223" name="Picture 11" descr=""/>
            <p:cNvPicPr/>
            <p:nvPr/>
          </p:nvPicPr>
          <p:blipFill>
            <a:blip r:embed="rId2"/>
            <a:stretch/>
          </p:blipFill>
          <p:spPr>
            <a:xfrm>
              <a:off x="7256160" y="1348200"/>
              <a:ext cx="864360" cy="1325520"/>
            </a:xfrm>
            <a:prstGeom prst="rect">
              <a:avLst/>
            </a:prstGeom>
            <a:ln w="1440">
              <a:solidFill>
                <a:srgbClr val="7f7f7f"/>
              </a:solidFill>
              <a:miter/>
            </a:ln>
          </p:spPr>
        </p:pic>
        <p:pic>
          <p:nvPicPr>
            <p:cNvPr id="224" name="Picture 12" descr=""/>
            <p:cNvPicPr/>
            <p:nvPr/>
          </p:nvPicPr>
          <p:blipFill>
            <a:blip r:embed="rId3"/>
            <a:stretch/>
          </p:blipFill>
          <p:spPr>
            <a:xfrm>
              <a:off x="8065440" y="1704600"/>
              <a:ext cx="864360" cy="1342440"/>
            </a:xfrm>
            <a:prstGeom prst="rect">
              <a:avLst/>
            </a:prstGeom>
            <a:ln w="1440">
              <a:solidFill>
                <a:srgbClr val="7f7f7f"/>
              </a:solidFill>
              <a:miter/>
            </a:ln>
          </p:spPr>
        </p:pic>
        <p:pic>
          <p:nvPicPr>
            <p:cNvPr id="225" name="Picture 13" descr=""/>
            <p:cNvPicPr/>
            <p:nvPr/>
          </p:nvPicPr>
          <p:blipFill>
            <a:blip r:embed="rId4"/>
            <a:stretch/>
          </p:blipFill>
          <p:spPr>
            <a:xfrm>
              <a:off x="7795800" y="2535840"/>
              <a:ext cx="864360" cy="1411200"/>
            </a:xfrm>
            <a:prstGeom prst="rect">
              <a:avLst/>
            </a:prstGeom>
            <a:ln w="1440">
              <a:solidFill>
                <a:srgbClr val="7f7f7f"/>
              </a:solidFill>
              <a:miter/>
            </a:ln>
          </p:spPr>
        </p:pic>
        <p:pic>
          <p:nvPicPr>
            <p:cNvPr id="226" name="Picture 10" descr=""/>
            <p:cNvPicPr/>
            <p:nvPr/>
          </p:nvPicPr>
          <p:blipFill>
            <a:blip r:embed="rId5"/>
            <a:stretch/>
          </p:blipFill>
          <p:spPr>
            <a:xfrm>
              <a:off x="7310160" y="3308040"/>
              <a:ext cx="1183320" cy="906840"/>
            </a:xfrm>
            <a:prstGeom prst="rect">
              <a:avLst/>
            </a:prstGeom>
            <a:ln w="1440">
              <a:solidFill>
                <a:srgbClr val="7f7f7f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57120" y="285480"/>
            <a:ext cx="842976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00000"/>
                </a:solidFill>
                <a:latin typeface="Arial"/>
              </a:rPr>
              <a:t>Two projects (plus a sub-project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356760" y="1143000"/>
            <a:ext cx="82155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44600" indent="-444600">
              <a:spcBef>
                <a:spcPts val="1199"/>
              </a:spcBef>
              <a:spcAft>
                <a:spcPts val="1199"/>
              </a:spcAft>
              <a:buClr>
                <a:srgbClr val="c00000"/>
              </a:buClr>
              <a:buFont typeface="Arial"/>
              <a:buChar char="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itial EPSRC funded research focused on the £170m  spend – remote care adoption involving 5 cases across England</a:t>
            </a:r>
            <a:endParaRPr b="0" lang="en-US" sz="2400" spc="-1" strike="noStrike">
              <a:solidFill>
                <a:srgbClr val="4b4f55"/>
              </a:solidFill>
              <a:latin typeface="Arial"/>
            </a:endParaRPr>
          </a:p>
          <a:p>
            <a:pPr marL="444600" indent="-444600">
              <a:spcBef>
                <a:spcPts val="1199"/>
              </a:spcBef>
              <a:spcAft>
                <a:spcPts val="1199"/>
              </a:spcAft>
              <a:buClr>
                <a:srgbClr val="c00000"/>
              </a:buClr>
              <a:buFont typeface="Arial"/>
              <a:buChar char="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inisterial led DH funded £30m RCT study - the WSD - involving 3 cases in England</a:t>
            </a:r>
            <a:endParaRPr b="0" lang="en-US" sz="2400" spc="-1" strike="noStrike">
              <a:solidFill>
                <a:srgbClr val="4b4f55"/>
              </a:solidFill>
              <a:latin typeface="Arial"/>
            </a:endParaRPr>
          </a:p>
          <a:p>
            <a:pPr marL="444600" indent="-444600">
              <a:spcBef>
                <a:spcPts val="1199"/>
              </a:spcBef>
              <a:spcAft>
                <a:spcPts val="1199"/>
              </a:spcAft>
              <a:buClr>
                <a:srgbClr val="c00000"/>
              </a:buClr>
              <a:buFont typeface="Arial"/>
              <a:buChar char="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dditional money received for a third project on 3 non-WSD sites and 3 sites in the Kings Fund LAN (also DH funded)</a:t>
            </a:r>
            <a:endParaRPr b="0" lang="en-US" sz="2400" spc="-1" strike="noStrike">
              <a:solidFill>
                <a:srgbClr val="4b4f55"/>
              </a:solidFill>
              <a:latin typeface="Arial"/>
            </a:endParaRPr>
          </a:p>
          <a:p>
            <a:pPr marL="444600" indent="-444600">
              <a:spcBef>
                <a:spcPts val="1199"/>
              </a:spcBef>
              <a:spcAft>
                <a:spcPts val="1199"/>
              </a:spcAft>
              <a:buClr>
                <a:srgbClr val="c00000"/>
              </a:buClr>
              <a:buFont typeface="Arial"/>
              <a:buChar char="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b4f55"/>
              </a:solidFill>
              <a:latin typeface="Arial"/>
            </a:endParaRPr>
          </a:p>
          <a:p>
            <a:pPr marL="444600" indent="-444600">
              <a:spcBef>
                <a:spcPts val="1199"/>
              </a:spcBef>
              <a:spcAft>
                <a:spcPts val="1199"/>
              </a:spcAft>
              <a:buClr>
                <a:srgbClr val="c00000"/>
              </a:buClr>
              <a:buFont typeface="Arial"/>
              <a:buChar char="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b4f55"/>
              </a:solidFill>
              <a:latin typeface="Arial"/>
            </a:endParaRPr>
          </a:p>
        </p:txBody>
      </p:sp>
      <p:pic>
        <p:nvPicPr>
          <p:cNvPr id="229" name="Picture 6" descr=""/>
          <p:cNvPicPr/>
          <p:nvPr/>
        </p:nvPicPr>
        <p:blipFill>
          <a:blip r:embed="rId1"/>
          <a:stretch/>
        </p:blipFill>
        <p:spPr>
          <a:xfrm>
            <a:off x="5214960" y="4827600"/>
            <a:ext cx="3797280" cy="138744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2" descr="C:\Documents and Settings\tchrysan\My Documents\My Pictures\dhlogo.gif"/>
          <p:cNvPicPr/>
          <p:nvPr/>
        </p:nvPicPr>
        <p:blipFill>
          <a:blip r:embed="rId2"/>
          <a:stretch/>
        </p:blipFill>
        <p:spPr>
          <a:xfrm>
            <a:off x="3486240" y="5010120"/>
            <a:ext cx="1420560" cy="9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1000080" y="1357200"/>
            <a:ext cx="6215040" cy="478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-457200">
              <a:spcBef>
                <a:spcPts val="1199"/>
              </a:spcBef>
              <a:spcAft>
                <a:spcPts val="601"/>
              </a:spcAft>
              <a:buClr>
                <a:srgbClr val="c00000"/>
              </a:buClr>
              <a:buFont typeface="Arial"/>
              <a:buAutoNum type="arabicParenR"/>
              <a:tabLst>
                <a:tab algn="l" pos="180309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 explore </a:t>
            </a:r>
            <a:r>
              <a:rPr b="0" lang="en-GB" sz="2400" spc="-1" strike="noStrike">
                <a:solidFill>
                  <a:srgbClr val="c00000"/>
                </a:solidFill>
                <a:latin typeface="Arial"/>
              </a:rPr>
              <a:t>organisational factors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at facilitate or inhibit the successful adoption, implementation and potential mainstreaming of remote care services at a local level </a:t>
            </a:r>
            <a:endParaRPr b="0" lang="en-US" sz="2400" spc="-1" strike="noStrike">
              <a:solidFill>
                <a:srgbClr val="4b4f55"/>
              </a:solidFill>
              <a:latin typeface="Arial"/>
            </a:endParaRPr>
          </a:p>
          <a:p>
            <a:pPr marL="457200" indent="-457200">
              <a:spcBef>
                <a:spcPts val="1199"/>
              </a:spcBef>
              <a:spcAft>
                <a:spcPts val="601"/>
              </a:spcAft>
              <a:buClr>
                <a:srgbClr val="c00000"/>
              </a:buClr>
              <a:buFont typeface="Arial"/>
              <a:buAutoNum type="arabicParenR"/>
              <a:tabLst>
                <a:tab algn="l" pos="180309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ssess current and future possible impacts of implementation at both local and national levels </a:t>
            </a:r>
            <a:endParaRPr b="0" lang="en-US" sz="2400" spc="-1" strike="noStrike">
              <a:solidFill>
                <a:srgbClr val="4b4f55"/>
              </a:solidFill>
              <a:latin typeface="Arial"/>
            </a:endParaRPr>
          </a:p>
          <a:p>
            <a:pPr marL="457200" indent="-457200">
              <a:spcBef>
                <a:spcPts val="1199"/>
              </a:spcBef>
              <a:spcAft>
                <a:spcPts val="601"/>
              </a:spcAft>
              <a:buClr>
                <a:srgbClr val="c00000"/>
              </a:buClr>
              <a:buFont typeface="Arial"/>
              <a:buAutoNum type="arabicParenR"/>
              <a:tabLst>
                <a:tab algn="l" pos="180309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dentify and disseminate the lessons learnt, for improving the future implementation of remote care nationwide </a:t>
            </a:r>
            <a:endParaRPr b="0" lang="en-US" sz="2400" spc="-1" strike="noStrike">
              <a:solidFill>
                <a:srgbClr val="4b4f55"/>
              </a:solidFill>
              <a:latin typeface="Arial"/>
            </a:endParaRPr>
          </a:p>
          <a:p>
            <a:pPr marL="457200" indent="0">
              <a:spcBef>
                <a:spcPts val="1199"/>
              </a:spcBef>
              <a:spcAft>
                <a:spcPts val="601"/>
              </a:spcAft>
              <a:buNone/>
              <a:tabLst>
                <a:tab algn="l" pos="0"/>
                <a:tab algn="l" pos="18030960"/>
              </a:tabLst>
            </a:pPr>
            <a:endParaRPr b="0" lang="en-US" sz="2400" spc="-1" strike="noStrike">
              <a:solidFill>
                <a:srgbClr val="4b4f55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title"/>
          </p:nvPr>
        </p:nvSpPr>
        <p:spPr>
          <a:xfrm>
            <a:off x="500040" y="571680"/>
            <a:ext cx="592920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00000"/>
                </a:solidFill>
                <a:latin typeface="Arial"/>
              </a:rPr>
              <a:t>Our research aim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3" name="Picture 5" descr="Amie%2B&amp;Gem%2Bsmall"/>
          <p:cNvPicPr/>
          <p:nvPr/>
        </p:nvPicPr>
        <p:blipFill>
          <a:blip r:embed="rId1"/>
          <a:stretch/>
        </p:blipFill>
        <p:spPr>
          <a:xfrm>
            <a:off x="7929720" y="1928880"/>
            <a:ext cx="928440" cy="74448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6" descr="Bedoccupancysensorsmall"/>
          <p:cNvPicPr/>
          <p:nvPr/>
        </p:nvPicPr>
        <p:blipFill>
          <a:blip r:embed="rId2"/>
          <a:stretch/>
        </p:blipFill>
        <p:spPr>
          <a:xfrm>
            <a:off x="8001000" y="1143000"/>
            <a:ext cx="760320" cy="61452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15" descr="DocoboScreenShot"/>
          <p:cNvPicPr/>
          <p:nvPr/>
        </p:nvPicPr>
        <p:blipFill>
          <a:blip r:embed="rId3"/>
          <a:stretch/>
        </p:blipFill>
        <p:spPr>
          <a:xfrm>
            <a:off x="8101080" y="4898880"/>
            <a:ext cx="757080" cy="69876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7" descr=""/>
          <p:cNvPicPr/>
          <p:nvPr/>
        </p:nvPicPr>
        <p:blipFill>
          <a:blip r:embed="rId4"/>
          <a:stretch/>
        </p:blipFill>
        <p:spPr>
          <a:xfrm>
            <a:off x="7858080" y="428760"/>
            <a:ext cx="1030320" cy="33012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22" descr="Response centre"/>
          <p:cNvPicPr/>
          <p:nvPr/>
        </p:nvPicPr>
        <p:blipFill>
          <a:blip r:embed="rId5"/>
          <a:stretch/>
        </p:blipFill>
        <p:spPr>
          <a:xfrm>
            <a:off x="8072280" y="6040440"/>
            <a:ext cx="749520" cy="60804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3" descr="Product in situ - Patient with S21 telemedicine monitor"/>
          <p:cNvPicPr/>
          <p:nvPr/>
        </p:nvPicPr>
        <p:blipFill>
          <a:blip r:embed="rId6"/>
          <a:srcRect l="14222" t="9391" r="9104" b="47938"/>
          <a:stretch/>
        </p:blipFill>
        <p:spPr>
          <a:xfrm>
            <a:off x="8072280" y="3000240"/>
            <a:ext cx="868680" cy="72720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13" descr="DCIM(T)"/>
          <p:cNvPicPr/>
          <p:nvPr/>
        </p:nvPicPr>
        <p:blipFill>
          <a:blip r:embed="rId7"/>
          <a:stretch/>
        </p:blipFill>
        <p:spPr>
          <a:xfrm>
            <a:off x="7850160" y="3929040"/>
            <a:ext cx="122256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85480" y="285480"/>
            <a:ext cx="864396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00000"/>
                </a:solidFill>
                <a:latin typeface="Arial"/>
              </a:rPr>
              <a:t>Methodolog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85840" y="1285560"/>
            <a:ext cx="7215120" cy="39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lvl="2" marL="474480" indent="-319320">
              <a:spcBef>
                <a:spcPts val="1199"/>
              </a:spcBef>
              <a:spcAft>
                <a:spcPts val="601"/>
              </a:spcAft>
              <a:buClr>
                <a:srgbClr val="c00000"/>
              </a:buClr>
              <a:buFont typeface="Arial"/>
              <a:buChar char="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40404"/>
                </a:solidFill>
                <a:latin typeface="Arial"/>
              </a:rPr>
              <a:t>Dense ethnographic shadowing and mapping of the adoption and </a:t>
            </a:r>
            <a:r>
              <a:rPr b="0" lang="en-GB" sz="2800" spc="-1" strike="noStrike">
                <a:solidFill>
                  <a:srgbClr val="c00000"/>
                </a:solidFill>
                <a:latin typeface="Arial"/>
              </a:rPr>
              <a:t>implementation </a:t>
            </a:r>
            <a:r>
              <a:rPr b="0" lang="en-GB" sz="2800" spc="-1" strike="noStrike">
                <a:solidFill>
                  <a:srgbClr val="040404"/>
                </a:solidFill>
                <a:latin typeface="Arial"/>
              </a:rPr>
              <a:t>of remote care</a:t>
            </a:r>
            <a:endParaRPr b="0" lang="en-US" sz="2800" spc="-1" strike="noStrike">
              <a:solidFill>
                <a:srgbClr val="4b4f55"/>
              </a:solidFill>
              <a:latin typeface="Arial"/>
            </a:endParaRPr>
          </a:p>
          <a:p>
            <a:pPr lvl="2" marL="474480" indent="-319320">
              <a:spcBef>
                <a:spcPts val="1199"/>
              </a:spcBef>
              <a:spcAft>
                <a:spcPts val="601"/>
              </a:spcAft>
              <a:buClr>
                <a:srgbClr val="c00000"/>
              </a:buClr>
              <a:buFont typeface="Arial"/>
              <a:buChar char="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40404"/>
                </a:solidFill>
                <a:latin typeface="Arial"/>
              </a:rPr>
              <a:t> </a:t>
            </a:r>
            <a:r>
              <a:rPr b="0" lang="en-GB" sz="2300" spc="-1" strike="noStrike">
                <a:solidFill>
                  <a:srgbClr val="040404"/>
                </a:solidFill>
                <a:latin typeface="Arial"/>
              </a:rPr>
              <a:t>Case based approach</a:t>
            </a:r>
            <a:endParaRPr b="0" lang="en-US" sz="2300" spc="-1" strike="noStrike">
              <a:solidFill>
                <a:srgbClr val="4b4f55"/>
              </a:solidFill>
              <a:latin typeface="Arial"/>
            </a:endParaRPr>
          </a:p>
          <a:p>
            <a:pPr lvl="2" marL="474480" indent="-319320">
              <a:spcBef>
                <a:spcPts val="1199"/>
              </a:spcBef>
              <a:spcAft>
                <a:spcPts val="601"/>
              </a:spcAft>
              <a:buClr>
                <a:srgbClr val="c00000"/>
              </a:buClr>
              <a:buFont typeface="Arial"/>
              <a:buChar char="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40404"/>
                </a:solidFill>
                <a:latin typeface="Arial"/>
              </a:rPr>
              <a:t> </a:t>
            </a:r>
            <a:r>
              <a:rPr b="0" lang="en-GB" sz="2300" spc="-1" strike="noStrike">
                <a:solidFill>
                  <a:srgbClr val="040404"/>
                </a:solidFill>
                <a:latin typeface="Arial"/>
              </a:rPr>
              <a:t>Purposive sampling / interviewing</a:t>
            </a:r>
            <a:endParaRPr b="0" lang="en-US" sz="2300" spc="-1" strike="noStrike">
              <a:solidFill>
                <a:srgbClr val="4b4f55"/>
              </a:solidFill>
              <a:latin typeface="Arial"/>
            </a:endParaRPr>
          </a:p>
          <a:p>
            <a:pPr lvl="3" marL="813600" indent="-319320">
              <a:spcBef>
                <a:spcPts val="1199"/>
              </a:spcBef>
              <a:spcAft>
                <a:spcPts val="601"/>
              </a:spcAft>
              <a:buClr>
                <a:srgbClr val="c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290 semi-structured interviews with key stakeholders in health and social care organisations across 9 sites</a:t>
            </a:r>
            <a:endParaRPr b="0" lang="en-US" sz="2000" spc="-1" strike="noStrike">
              <a:solidFill>
                <a:srgbClr val="4b4f55"/>
              </a:solidFill>
              <a:latin typeface="Arial"/>
            </a:endParaRPr>
          </a:p>
          <a:p>
            <a:pPr lvl="3" marL="813600" indent="-319320">
              <a:spcBef>
                <a:spcPts val="1199"/>
              </a:spcBef>
              <a:spcAft>
                <a:spcPts val="601"/>
              </a:spcAft>
              <a:buClr>
                <a:srgbClr val="c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380 hours of observations</a:t>
            </a:r>
            <a:endParaRPr b="0" lang="en-US" sz="2000" spc="-1" strike="noStrike">
              <a:solidFill>
                <a:srgbClr val="4b4f55"/>
              </a:solidFill>
              <a:latin typeface="Arial"/>
            </a:endParaRPr>
          </a:p>
          <a:p>
            <a:pPr lvl="3" marL="813600" indent="-319320">
              <a:spcBef>
                <a:spcPts val="1199"/>
              </a:spcBef>
              <a:spcAft>
                <a:spcPts val="601"/>
              </a:spcAft>
              <a:buClr>
                <a:srgbClr val="c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ngitudinal (2006 – 2011 with possibility of continued monitoring)</a:t>
            </a:r>
            <a:endParaRPr b="0" lang="en-US" sz="2000" spc="-1" strike="noStrike">
              <a:solidFill>
                <a:srgbClr val="4b4f55"/>
              </a:solidFill>
              <a:latin typeface="Arial"/>
            </a:endParaRPr>
          </a:p>
          <a:p>
            <a:pPr lvl="3" marL="813600" indent="-319320">
              <a:spcBef>
                <a:spcPts val="1199"/>
              </a:spcBef>
              <a:spcAft>
                <a:spcPts val="601"/>
              </a:spcAft>
              <a:buClr>
                <a:srgbClr val="c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b4f55"/>
              </a:solidFill>
              <a:latin typeface="Arial"/>
            </a:endParaRPr>
          </a:p>
        </p:txBody>
      </p:sp>
      <p:pic>
        <p:nvPicPr>
          <p:cNvPr id="242" name="Picture 5" descr="Amie%2B&amp;Gem%2Bsmall"/>
          <p:cNvPicPr/>
          <p:nvPr/>
        </p:nvPicPr>
        <p:blipFill>
          <a:blip r:embed="rId1"/>
          <a:stretch/>
        </p:blipFill>
        <p:spPr>
          <a:xfrm>
            <a:off x="7983360" y="2357280"/>
            <a:ext cx="1017720" cy="74484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6" descr="Bedoccupancysensorsmall"/>
          <p:cNvPicPr/>
          <p:nvPr/>
        </p:nvPicPr>
        <p:blipFill>
          <a:blip r:embed="rId2"/>
          <a:stretch/>
        </p:blipFill>
        <p:spPr>
          <a:xfrm>
            <a:off x="8097840" y="1500120"/>
            <a:ext cx="760320" cy="61452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15" descr="DocoboScreenShot"/>
          <p:cNvPicPr/>
          <p:nvPr/>
        </p:nvPicPr>
        <p:blipFill>
          <a:blip r:embed="rId3"/>
          <a:stretch/>
        </p:blipFill>
        <p:spPr>
          <a:xfrm>
            <a:off x="8101080" y="4898880"/>
            <a:ext cx="757080" cy="69876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7" descr=""/>
          <p:cNvPicPr/>
          <p:nvPr/>
        </p:nvPicPr>
        <p:blipFill>
          <a:blip r:embed="rId4"/>
          <a:stretch/>
        </p:blipFill>
        <p:spPr>
          <a:xfrm>
            <a:off x="7899480" y="785880"/>
            <a:ext cx="1030320" cy="33012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22" descr="Response centre"/>
          <p:cNvPicPr/>
          <p:nvPr/>
        </p:nvPicPr>
        <p:blipFill>
          <a:blip r:embed="rId5"/>
          <a:stretch/>
        </p:blipFill>
        <p:spPr>
          <a:xfrm>
            <a:off x="8072280" y="6040440"/>
            <a:ext cx="749520" cy="60804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3" descr="Product in situ - Patient with S21 telemedicine monitor"/>
          <p:cNvPicPr/>
          <p:nvPr/>
        </p:nvPicPr>
        <p:blipFill>
          <a:blip r:embed="rId6"/>
          <a:srcRect l="14222" t="9391" r="9104" b="47938"/>
          <a:stretch/>
        </p:blipFill>
        <p:spPr>
          <a:xfrm>
            <a:off x="8061480" y="3201840"/>
            <a:ext cx="868320" cy="72720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13" descr="DCIM(T)"/>
          <p:cNvPicPr/>
          <p:nvPr/>
        </p:nvPicPr>
        <p:blipFill>
          <a:blip r:embed="rId7"/>
          <a:stretch/>
        </p:blipFill>
        <p:spPr>
          <a:xfrm>
            <a:off x="7850160" y="3929040"/>
            <a:ext cx="122256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9" name="Group 13"/>
          <p:cNvGrpSpPr/>
          <p:nvPr/>
        </p:nvGrpSpPr>
        <p:grpSpPr>
          <a:xfrm>
            <a:off x="5072040" y="1428840"/>
            <a:ext cx="1857240" cy="4786200"/>
            <a:chOff x="5072040" y="1428840"/>
            <a:chExt cx="1857240" cy="4786200"/>
          </a:xfrm>
        </p:grpSpPr>
        <p:pic>
          <p:nvPicPr>
            <p:cNvPr id="250" name="Picture 4" descr="C:\Users\jgb\AppData\Local\Microsoft\Windows\Temporary Internet Files\Content.IE5\RSGWZHC5\MP900447675[1].jpg"/>
            <p:cNvPicPr/>
            <p:nvPr/>
          </p:nvPicPr>
          <p:blipFill>
            <a:blip r:embed="rId1"/>
            <a:stretch/>
          </p:blipFill>
          <p:spPr>
            <a:xfrm>
              <a:off x="5073840" y="1431360"/>
              <a:ext cx="1855440" cy="478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1" name="Rectangle 15"/>
            <p:cNvSpPr/>
            <p:nvPr/>
          </p:nvSpPr>
          <p:spPr>
            <a:xfrm>
              <a:off x="5072040" y="1428840"/>
              <a:ext cx="929520" cy="4786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600" spc="-1" strike="noStrike">
                <a:solidFill>
                  <a:srgbClr val="6e6e6f"/>
                </a:solidFill>
                <a:latin typeface="Verdana"/>
              </a:endParaRPr>
            </a:p>
          </p:txBody>
        </p:sp>
      </p:grpSp>
      <p:sp>
        <p:nvSpPr>
          <p:cNvPr id="252" name="Freeform 69"/>
          <p:cNvSpPr/>
          <p:nvPr/>
        </p:nvSpPr>
        <p:spPr>
          <a:xfrm>
            <a:off x="1511280" y="1285920"/>
            <a:ext cx="7632720" cy="4567320"/>
          </a:xfrm>
          <a:custGeom>
            <a:avLst/>
            <a:gdLst/>
            <a:ahLst/>
            <a:rect l="l" t="t" r="r" b="b"/>
            <a:pathLst>
              <a:path w="7632700" h="4566920">
                <a:moveTo>
                  <a:pt x="0" y="4472940"/>
                </a:moveTo>
                <a:cubicBezTo>
                  <a:pt x="628650" y="4519930"/>
                  <a:pt x="1257300" y="4566920"/>
                  <a:pt x="1798320" y="4244340"/>
                </a:cubicBezTo>
                <a:cubicBezTo>
                  <a:pt x="2339340" y="3921760"/>
                  <a:pt x="2791460" y="3103880"/>
                  <a:pt x="3246120" y="2537460"/>
                </a:cubicBezTo>
                <a:cubicBezTo>
                  <a:pt x="3700780" y="1971040"/>
                  <a:pt x="3873500" y="1247140"/>
                  <a:pt x="4526280" y="845820"/>
                </a:cubicBezTo>
                <a:cubicBezTo>
                  <a:pt x="5179060" y="444500"/>
                  <a:pt x="6692900" y="259080"/>
                  <a:pt x="7162800" y="129540"/>
                </a:cubicBezTo>
                <a:cubicBezTo>
                  <a:pt x="7632700" y="0"/>
                  <a:pt x="7489190" y="34290"/>
                  <a:pt x="7345680" y="68580"/>
                </a:cubicBezTo>
              </a:path>
            </a:pathLst>
          </a:custGeom>
          <a:noFill/>
          <a:ln w="54000">
            <a:solidFill>
              <a:srgbClr val="c00000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i="1" lang="en-US" sz="16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85840" y="70920"/>
            <a:ext cx="88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Arial"/>
              </a:rPr>
              <a:t>Remote care adoption curve in the UK ... and elsewhere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54" name="Straight Arrow Connector 5"/>
          <p:cNvCxnSpPr/>
          <p:nvPr/>
        </p:nvCxnSpPr>
        <p:spPr>
          <a:xfrm flipV="1">
            <a:off x="1068840" y="1428120"/>
            <a:ext cx="2520" cy="471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55" name="Straight Arrow Connector 8"/>
          <p:cNvCxnSpPr/>
          <p:nvPr/>
        </p:nvCxnSpPr>
        <p:spPr>
          <a:xfrm>
            <a:off x="1071720" y="6154560"/>
            <a:ext cx="7644240" cy="61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56" name="TextBox 38"/>
          <p:cNvSpPr/>
          <p:nvPr/>
        </p:nvSpPr>
        <p:spPr>
          <a:xfrm>
            <a:off x="1539720" y="1000080"/>
            <a:ext cx="14605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Adoption</a:t>
            </a:r>
            <a:endParaRPr b="0" i="1" lang="en-US" sz="20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257" name="TextBox 39"/>
          <p:cNvSpPr/>
          <p:nvPr/>
        </p:nvSpPr>
        <p:spPr>
          <a:xfrm>
            <a:off x="4325760" y="1000080"/>
            <a:ext cx="14605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Spread</a:t>
            </a:r>
            <a:endParaRPr b="0" i="1" lang="en-US" sz="20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258" name="TextBox 40"/>
          <p:cNvSpPr/>
          <p:nvPr/>
        </p:nvSpPr>
        <p:spPr>
          <a:xfrm>
            <a:off x="6858000" y="1000080"/>
            <a:ext cx="17859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Mainstreaming</a:t>
            </a:r>
            <a:endParaRPr b="0" i="1" lang="en-US" sz="20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259" name="TextBox 51"/>
          <p:cNvSpPr/>
          <p:nvPr/>
        </p:nvSpPr>
        <p:spPr>
          <a:xfrm>
            <a:off x="5072040" y="6326280"/>
            <a:ext cx="1285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i="1" lang="en-US" sz="16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260" name="TextBox 52"/>
          <p:cNvSpPr/>
          <p:nvPr/>
        </p:nvSpPr>
        <p:spPr>
          <a:xfrm>
            <a:off x="214200" y="3071880"/>
            <a:ext cx="85752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emote care adoption</a:t>
            </a:r>
            <a:endParaRPr b="0" i="1" lang="en-US" sz="16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261" name="Freeform 65"/>
          <p:cNvSpPr/>
          <p:nvPr/>
        </p:nvSpPr>
        <p:spPr>
          <a:xfrm>
            <a:off x="1571760" y="1428840"/>
            <a:ext cx="7572240" cy="4357440"/>
          </a:xfrm>
          <a:custGeom>
            <a:avLst/>
            <a:gdLst/>
            <a:ahLst/>
            <a:rect l="l" t="t" r="r" b="b"/>
            <a:pathLst>
              <a:path w="7678420" h="4239260">
                <a:moveTo>
                  <a:pt x="0" y="4208780"/>
                </a:moveTo>
                <a:cubicBezTo>
                  <a:pt x="492760" y="4224020"/>
                  <a:pt x="985520" y="4239260"/>
                  <a:pt x="1706880" y="4117340"/>
                </a:cubicBezTo>
                <a:cubicBezTo>
                  <a:pt x="2428240" y="3995420"/>
                  <a:pt x="3733800" y="4069080"/>
                  <a:pt x="4328160" y="3477260"/>
                </a:cubicBezTo>
                <a:cubicBezTo>
                  <a:pt x="4922520" y="2885440"/>
                  <a:pt x="4772660" y="1132840"/>
                  <a:pt x="5273040" y="566420"/>
                </a:cubicBezTo>
                <a:cubicBezTo>
                  <a:pt x="5773420" y="0"/>
                  <a:pt x="6982460" y="157480"/>
                  <a:pt x="7330440" y="78740"/>
                </a:cubicBezTo>
                <a:cubicBezTo>
                  <a:pt x="7678420" y="0"/>
                  <a:pt x="7519670" y="46990"/>
                  <a:pt x="7360920" y="93980"/>
                </a:cubicBezTo>
              </a:path>
            </a:pathLst>
          </a:custGeom>
          <a:noFill/>
          <a:ln w="4752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i="1" lang="en-US" sz="16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262" name="Rectangle 29"/>
          <p:cNvSpPr/>
          <p:nvPr/>
        </p:nvSpPr>
        <p:spPr>
          <a:xfrm rot="20874000">
            <a:off x="8364600" y="1429920"/>
            <a:ext cx="714240" cy="14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e6e6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Oval 6"/>
          <p:cNvSpPr/>
          <p:nvPr/>
        </p:nvSpPr>
        <p:spPr>
          <a:xfrm>
            <a:off x="4000680" y="4929120"/>
            <a:ext cx="357120" cy="357120"/>
          </a:xfrm>
          <a:prstGeom prst="ellipse">
            <a:avLst/>
          </a:prstGeom>
          <a:solidFill>
            <a:srgbClr val="ff69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70920"/>
            <a:ext cx="8400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00000"/>
                </a:solidFill>
                <a:latin typeface="Arial"/>
              </a:rPr>
              <a:t>Growth in remote care users in England ... with many assump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TextBox 10"/>
          <p:cNvSpPr/>
          <p:nvPr/>
        </p:nvSpPr>
        <p:spPr>
          <a:xfrm>
            <a:off x="6357960" y="785880"/>
            <a:ext cx="2587680" cy="9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ource: Based on CQC returns, JIT (Scotland) data, and authors’ research for WAG. </a:t>
            </a:r>
            <a:endParaRPr b="0" i="1" lang="en-US" sz="1000" spc="-1" strike="noStrike">
              <a:solidFill>
                <a:srgbClr val="6e6e6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6e6e6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Includes LA and other agency services.</a:t>
            </a:r>
            <a:endParaRPr b="0" i="1" lang="en-US" sz="1000" spc="-1" strike="noStrike">
              <a:solidFill>
                <a:srgbClr val="6e6e6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ssumes 30% drop-out rate each year</a:t>
            </a:r>
            <a:endParaRPr b="0" i="1" lang="en-US" sz="10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266" name="Oval 5"/>
          <p:cNvSpPr/>
          <p:nvPr/>
        </p:nvSpPr>
        <p:spPr>
          <a:xfrm>
            <a:off x="6215040" y="2071800"/>
            <a:ext cx="357120" cy="35712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267" name="Rounded Rectangular Callout 7"/>
          <p:cNvSpPr/>
          <p:nvPr/>
        </p:nvSpPr>
        <p:spPr>
          <a:xfrm>
            <a:off x="7286760" y="2286000"/>
            <a:ext cx="1571400" cy="428760"/>
          </a:xfrm>
          <a:prstGeom prst="wedgeRoundRectCallout">
            <a:avLst>
              <a:gd name="adj1" fmla="val -93648"/>
              <a:gd name="adj2" fmla="val -44166"/>
              <a:gd name="adj3" fmla="val 16667"/>
            </a:avLst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ith Scotland &amp; Wales</a:t>
            </a:r>
            <a:endParaRPr b="0" i="1" lang="en-US" sz="1200" spc="-1" strike="noStrike">
              <a:solidFill>
                <a:srgbClr val="6e6e6f"/>
              </a:solidFill>
              <a:latin typeface="Verdana"/>
            </a:endParaRPr>
          </a:p>
        </p:txBody>
      </p:sp>
      <p:pic>
        <p:nvPicPr>
          <p:cNvPr id="268" name="Chart 13" descr=""/>
          <p:cNvPicPr/>
          <p:nvPr/>
        </p:nvPicPr>
        <p:blipFill>
          <a:blip r:embed="rId1"/>
          <a:stretch/>
        </p:blipFill>
        <p:spPr>
          <a:xfrm>
            <a:off x="639720" y="2066760"/>
            <a:ext cx="6145200" cy="4449960"/>
          </a:xfrm>
          <a:prstGeom prst="rect">
            <a:avLst/>
          </a:prstGeom>
          <a:ln w="0">
            <a:noFill/>
          </a:ln>
        </p:spPr>
      </p:pic>
      <p:sp>
        <p:nvSpPr>
          <p:cNvPr id="269" name="Rounded Rectangular Callout 8"/>
          <p:cNvSpPr/>
          <p:nvPr/>
        </p:nvSpPr>
        <p:spPr>
          <a:xfrm>
            <a:off x="5643720" y="4500720"/>
            <a:ext cx="2643120" cy="642960"/>
          </a:xfrm>
          <a:prstGeom prst="wedgeRoundRectCallout">
            <a:avLst>
              <a:gd name="adj1" fmla="val -101388"/>
              <a:gd name="adj2" fmla="val 40152"/>
              <a:gd name="adj3" fmla="val 16667"/>
            </a:avLst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Assumes 15,000 remote care users (2005) and 5000 users (2000)</a:t>
            </a:r>
            <a:endParaRPr b="0" i="1" lang="en-US" sz="1200" spc="-1" strike="noStrike">
              <a:solidFill>
                <a:srgbClr val="6e6e6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3T07:31:32Z</dcterms:created>
  <dc:creator>Barlow</dc:creator>
  <dc:description/>
  <dc:language>en-US</dc:language>
  <cp:lastModifiedBy>Administrator</cp:lastModifiedBy>
  <dcterms:modified xsi:type="dcterms:W3CDTF">2011-06-22T15:35:04Z</dcterms:modified>
  <cp:revision>1041</cp:revision>
  <dc:subject/>
  <dc:title>Slide 1</dc:title>
</cp:coreProperties>
</file>