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FF0-6443-48B3-8B2A-A7038BA9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B95-AAC9-459B-BE91-063AFD4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1AB-7F7D-4CE5-B1E1-E08E2F99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21A-3224-4142-A075-D3565626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0F1-692C-4C07-91B0-DB761376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A34-5D11-4044-878D-207865A6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4AA-B14B-4C35-BE65-828CE0C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977-972D-47D2-9DC2-345DA1F6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B9E-F448-40A0-9553-7A0B2363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F4B-F0BB-4F62-B067-8BD28DB4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AA3-7F23-491C-BBB8-B006F61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C8B-028C-4300-9F9E-3274BE68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A81-D61E-485F-859D-57B8C689B8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07a"/>
                </a:solidFill>
                <a:latin typeface="Arial"/>
              </a:rPr>
              <a:t>HEALTH TECHNOLOGY ASSESSMENT</a:t>
            </a:r>
            <a:br>
              <a:rPr sz="4400"/>
            </a:br>
            <a:r>
              <a:rPr b="0" lang="en-US" sz="4400" spc="-1" strike="noStrike">
                <a:solidFill>
                  <a:srgbClr val="06007a"/>
                </a:solidFill>
                <a:latin typeface="Arial"/>
              </a:rPr>
              <a:t>Has the UK got it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864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Drum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 for Health 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6000" y="4903920"/>
            <a:ext cx="26398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lection of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England the Department of Health sets NICE’s 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cotland the SMC considers every new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CCHTA and NHS Methodology Programme consult widely on topics, but then commiss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on of Topics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ly to be cost-effective to assess every 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chanisms to select topics in England are not totally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he choices have been strange (e.g. appraisals when a major trial will report in 1-2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on of Topics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bservation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 are required to ensure appropriate use of technologies that are not appraised (e.g. drugs in the Netherlan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roach followed by NICE allows groups of similar technologies to be compared. (This has both advantages and disadvan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ssessing Drugs in the Same Clas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with NICE in the UK, although there are a few examples from elsewhere (e.g. Canad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problem is the lack of head-to-head clinic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the onus on manufacturers to demonstrate extra benefits to justify a premium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ICE’s Single Technology Apprai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‘fast track’ procedure introduced in response to concerns over the time taken by NICE’s standard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far applies to drugs, in the main cancer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place more emphasis on analyses submitted by the manufacturer and incorporate less external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ICE’s Single Technology Apprai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suffice in situations where the number of comparators is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s further questions about the methods for prioritising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s issues about burden of proof and responsibility for the results of the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ssment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HTA agencies undertake assessments in-house, although probably all commission some work outside (e.g. in Canada, CCOHTA spends 25% of its budget outs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ngland, NICE places considerable emphasis on independent review by acade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-and-large the independent review groups apply ‘Cochrane-style’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Is Independent Review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st-Effective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-affirms the ‘arms length’ nature of HTA (assessment ≠ apprais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transparent and may help resolve disputes when multiple products are being considered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cots claim they reach the same decisions at a fraction of the (assessment)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atic reviews place emphasis on RCTs as compared with other study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the economic model does not follow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rom the systematic review (‘a game of 2 halves’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of all TARs published between January 2003 and July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extract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AR topi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inical effectiveness mea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pproach to pool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asure of economic benef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use, or non-use, of the systematic review in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ul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8 TARs published in the period studied, all of which contained a systematic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of the economic evaluations were cost-utility analyses (32), reflecting NICE’s appraisal guide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ther studies were cost-effectiveness analyses (4) and cost-minimisation analyses (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closure of Inte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of the NICE Guidelines Review Panel on Primary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for Health Economics is one of the independent review groups for the NICE Technology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ient of grants from the NHS R and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nt for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ul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5 cases, the clinical data were not pooled in the systematic review, owing to: (a) heterogeneity; or (b) the limited number of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 cases, a new model was not constructed, because: (a) the cost implications were thought to be trivial; (b) lack of evidence; or (c) the existence of satisfactory models provided by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ul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cases where there was both a pooled estimate from the review and an economic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view was always used when survival was the endpoint (e.g. in the cost-effectiveness stud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was less often used when the endpoint was QALYs (e.g. in the cost-utility analy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asons For Not Using The Systematic Review In Cost-utility Analy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ference-based QoL measures are only occasionally used in clin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mmary measure of clinical effectiveness does not facilitate the calculation of QA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drugs for epilepsy (adul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effects assessed in terms of total or partial reduction in seiz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were classified as partial and total response and a utility value to each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ug therapy for attention-deficit hyperactivity disorder (ADH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 measure was points change on the Connors Hyperactivity Sc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evaluation used response/non-response and assigned a utility to each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keholder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s can include manufacturers, professional organisations, health authorities, academic groups and patient organis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HTA agencies have some stakeholder involvement, but NICE is probably at the all-inclusive end of the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 involvement is resource-intensive but may (i) lead to better assessments; (ii) reduce the number of appeals and (iii) lead to better implementation of H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e Cochrane-Style Reviews Always Help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ite care for frail older people: an appraisal of effectiveness and cost-effectiveness (Mason et al, in p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hits (in the literature revi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,9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pers retrie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3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. of potential studies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1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tial economic evalu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number of economic evaluations (EEs)         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umber of EEs of respite care meeting criteria for inclus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such studies undertaken in the 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hodologic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doubt that HTA processes in the UK have stimulated methodological development; e.g.: mixed treatment comparisons; probabilist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methodology 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HS Methodology Programme has a good track record in funding projects relevant to H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ing A Critical Mass Of Skilled 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eady funding for NICE TARs has enabled academic units to build a critical mass of skilled perso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fellowships are available from the MRC, ESRC and the NHS R and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K is probably better placed than most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intaining International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ould probably learn more from comparing and contrasting the different approaches for drugs in England and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international level, the UK seems to be fairly well-connected. After Canada, the UK has the most members of HTAi (the international socie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lementation of HTA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ealth care system does this particularly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the broader health care system greatly influence the opportunities for implementation, e.g. whether funding is largely general, or tied to the use of particular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in use (to most common guidance from NICE) pose more implementation challenges than simple yes/no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health technology assessment (HTA) in the United Kingdom (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 of the HT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vidence On The Implementation Of NICE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don et al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M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004; 329 (30 Octo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udit Commission Rep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Sept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, F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s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LSE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aily Ma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every is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8862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200400" cy="209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3480" y="1600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spital use of Paclitaxil &amp; Docetaxe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listat &amp; Alzheimer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6400800"/>
            <a:ext cx="21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Sheldon et al, BMJ, April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commissioned report on 28 guidance areas covering 33 (1/3 of all recommendations to start of 2005) recommendations to assess impact using IMS data and UK Hospital Pharmacy Audi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 recommended fo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 use; 57% recommended f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 use or specific patient groups; 12% (#4) rejected (but one entered a risk sharing agre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962160" cy="295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886200" cy="296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5280" y="6400800"/>
            <a:ext cx="373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NICE commissioned Report from Abacus International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200400" cy="251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200400" cy="242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352680" cy="2390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5280" y="6477120"/>
            <a:ext cx="373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NICE commissioned Report from Abacus International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lementation Of NICE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, by technology 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al requirement, to implement TAs within 3 months, probably has an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problem is finding funding within a resource-constrained system. (The new tariffs will not reflect NICE guid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lementation Of NICE Guidanc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rofessional involvement and good financial systems a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half of GPs are welcoming of 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s perceived (by GPs) as being independent of industry but not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lementation Of HTA Findings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can be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mplementation plan for each H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more advice on what to discontinue, as well as what to ad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funding streams more closely to guidance (although not easy in the N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monitoring of the adoption of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ansparency in Decision-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all HTA increases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s among the most transparent of HTA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commercial-in-confidence data in technology appraisals can reduce transparency (Drummo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ed Health Economics and Health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we do not do too badly in the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existing procedures for assessment, involvement of stakeholders and production of guidance could be streamlined, they are basicall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es for selection of topics and mechanisms of implementation of findings need mo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source-constrained systems, critics often confuse the message with the me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ucture of HTA in the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CCH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in Wes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ssions a wide range of empirical and theoretical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ers contracts for NICE Technology Assessment Reviews (TA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s in Technology Appraisals, Clinical Guidelines and Public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s evaluations of all new medicines launched in Scot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ther Players in HTA in the United King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S methodology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in Wales and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C and ESRC projects/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research fou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rs of drugs 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ey Features of the HTA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ey Features of the HTA Proces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critical mass of skill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interna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HTA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007a"/>
                </a:solidFill>
                <a:latin typeface="Arial"/>
              </a:rPr>
              <a:t>Cross-National Comparisons of </a:t>
            </a:r>
            <a:r>
              <a:rPr b="0" lang="en-US" sz="3900" spc="-1" strike="noStrike">
                <a:solidFill>
                  <a:srgbClr val="06007a"/>
                </a:solidFill>
                <a:latin typeface="Arial"/>
              </a:rPr>
              <a:t>Technology Assessment Processes</a:t>
            </a:r>
            <a:r>
              <a:rPr b="0" lang="en-US" sz="4400" spc="-1" strike="noStrike">
                <a:solidFill>
                  <a:srgbClr val="06007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ison of VATAP (USA), NICE (UK), CCOHTA (Canada) and AETS (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reasons for the choice of top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 the types of technologies assess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i)  the methods of assessmen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v)  the outcomes of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rcia–A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s et al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. J. Tech. Assess. Health 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6007a"/>
                </a:solidFill>
                <a:latin typeface="Arial"/>
              </a:rPr>
              <a:t>Health Policy Issues dealt with in the Assessm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557360"/>
          <a:ext cx="8229600" cy="4332240"/>
        </p:xfrm>
        <a:graphic>
          <a:graphicData uri="http://schemas.openxmlformats.org/drawingml/2006/table">
            <a:tbl>
              <a:tblPr/>
              <a:tblGrid>
                <a:gridCol w="4135320"/>
                <a:gridCol w="1023840"/>
                <a:gridCol w="889200"/>
                <a:gridCol w="1157400"/>
                <a:gridCol w="10238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T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O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the assessment the result of a formal prioritization proces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the assessment the result of a political decis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assessment include economic evaluation metho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any stakeholders participate in the assess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assessment include additional funding besides the own resources of the organiz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71600" y="6093000"/>
            <a:ext cx="687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Garcia–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 et a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. J. Tech. Assess. Health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47:40Z</dcterms:created>
  <dc:creator>gmr8</dc:creator>
  <dc:description/>
  <dc:language>en-US</dc:language>
  <cp:lastModifiedBy>Administrator</cp:lastModifiedBy>
  <dcterms:modified xsi:type="dcterms:W3CDTF">2006-03-13T08:20:14Z</dcterms:modified>
  <cp:revision>32</cp:revision>
  <dc:subject/>
  <dc:title>HEALTH TECHNOLOGY ASSESSMENT Has the UK got it righ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5292011</vt:r8>
  </property>
  <property fmtid="{D5CDD505-2E9C-101B-9397-08002B2CF9AE}" pid="3" name="_AuthorEmail">
    <vt:lpwstr>gmr8@york.ac.uk</vt:lpwstr>
  </property>
  <property fmtid="{D5CDD505-2E9C-101B-9397-08002B2CF9AE}" pid="4" name="_AuthorEmailDisplayName">
    <vt:lpwstr>gmr8@york.ac.uk</vt:lpwstr>
  </property>
  <property fmtid="{D5CDD505-2E9C-101B-9397-08002B2CF9AE}" pid="5" name="_EmailSubject">
    <vt:lpwstr>Merck lecture - M Drummond presentation attached</vt:lpwstr>
  </property>
  <property fmtid="{D5CDD505-2E9C-101B-9397-08002B2CF9AE}" pid="6" name="_ReviewingToolsShownOnce">
    <vt:lpwstr/>
  </property>
</Properties>
</file>