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A7A1-9E5A-4386-B422-5B9B22A7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2F25-8AAE-4273-ACDB-BDD529DE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DB63-B2AE-41E2-8C25-4A42ECA01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FEE0-111D-4550-9F21-8F7FD5B31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3C1B-34BA-4587-8DB8-401030B4E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3BE-374A-49BB-B8AF-8580D163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B6E-696B-4CCD-9B0A-026C48F4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187E-2E20-47A6-AF69-B84F6852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1E8-8F47-4B4A-B9E6-0110FB25A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5FC9-831A-4402-8D34-64C0BAA2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A134-BE33-4A13-85A3-C395A5D01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2A79-57DC-473E-A2C6-91B7ADA8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77B55-BD4F-4329-97B3-BB5A18B3980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007a"/>
                </a:solidFill>
                <a:latin typeface="Arial"/>
              </a:rPr>
              <a:t>HEALTH TECHNOLOGY ASSESSMENT</a:t>
            </a:r>
            <a:br>
              <a:rPr sz="4400"/>
            </a:br>
            <a:r>
              <a:rPr b="0" lang="en-US" sz="4400" spc="-1" strike="noStrike">
                <a:solidFill>
                  <a:srgbClr val="06007a"/>
                </a:solidFill>
                <a:latin typeface="Arial"/>
              </a:rPr>
              <a:t>Has the UK got it righ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5864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hael Drum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e for Health 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y of Y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ed King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796000" y="4903920"/>
            <a:ext cx="263988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lection of Top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England the Department of Health sets NICE’s agen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Scotland the SMC considers every new dru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CCHTA and NHS Methodology Programme consult widely on topics, but then commissio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election of Topics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ikely to be cost-effective to assess every new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echanisms to select topics in England are not totally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the choices have been strange (e.g. appraisals when a major trial will report in 1-2 yea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Selection of Topics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bservation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2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 are required to ensure appropriate use of technologies that are not appraised (e.g. drugs in the Netherland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pproach followed by NICE allows groups of similar technologies to be compared. (This has both advantages and disadvantage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ssessing Drugs in the Same Clas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common with NICE in the UK, although there are a few examples from elsewhere (e.g. Canad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problem is the lack of head-to-head clinical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s the onus on manufacturers to demonstrate extra benefits to justify a premium p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NICE’s Single Technology Apprai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ew ‘fast track’ procedure introduced in response to concerns over the time taken by NICE’s standard appro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 far applies to drugs, in the main cancer dru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ll place more emphasis on analyses submitted by the manufacturer and incorporate less external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NICE’s Single Technology Apprais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suffice in situations where the number of comparators is lim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s further questions about the methods for prioritising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s issues about burden of proof and responsibility for the results of the apprai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ssessment Proced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ajority of HTA agencies undertake assessments in-house, although probably all commission some work outside (e.g. in Canada, CCOHTA spends 25% of its budget outsid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England, NICE places considerable emphasis on independent review by academ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-and-large the independent review groups apply ‘Cochrane-style’ 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Is Independent Review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Cost-Effective</a:t>
            </a:r>
            <a:r>
              <a:rPr b="0" lang="en-US" sz="3700" spc="-1" strike="noStrike">
                <a:solidFill>
                  <a:srgbClr val="333399"/>
                </a:solidFill>
                <a:latin typeface="Arial"/>
              </a:rPr>
              <a:t>?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21844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-affirms the ‘arms length’ nature of HTA (assessment ≠ apprais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transparent and may help resolve disputes when multiple products are being considered,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cots claim they reach the same decisions at a fraction of the (assessment)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stematic reviews place emphasis on RCTs as compared with other study desig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the economic model does not follow </a:t>
            </a:r>
            <a:r>
              <a:rPr b="0" lang="en-GB" sz="2700" spc="-1" strike="noStrike">
                <a:solidFill>
                  <a:srgbClr val="000000"/>
                </a:solidFill>
                <a:latin typeface="Arial"/>
              </a:rPr>
              <a:t>from the systematic review (‘a game of 2 halves’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ho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ample of all TARs published between January 2003 and July 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a extracted 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TAR topic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clinical effectiveness measur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pproach to poolin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easure of economic benefi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use, or non-use, of the systematic review in the mod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ul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38 TARs published in the period studied, all of which contained a systematic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of the economic evaluations were cost-utility analyses (32), reflecting NICE’s appraisal guidel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other studies were cost-effectiveness analyses (4) and cost-minimisation analyses (2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sclosure of Inte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of the NICE Guidelines Review Panel on Primary 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e for Health Economics is one of the independent review groups for the NICE Technology Appraisal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ipient of grants from the NHS R and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ultant for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ul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5 cases, the clinical data were not pooled in the systematic review, owing to: (a) heterogeneity; or (b) the limited number of stud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5 cases, a new model was not constructed, because: (a) the cost implications were thought to be trivial; (b) lack of evidence; or (c) the existence of satisfactory models provided by indus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ult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 cases where there was both a pooled estimate from the review and an economic mod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view was always used when survival was the endpoint (e.g. in the cost-effectiveness studi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was less often used when the endpoint was QALYs (e.g. in the cost-utility analy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362800" cy="20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Reasons For Not Using The Systematic Review In Cost-utility Analy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314136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ference-based QoL measures are only occasionally used in clinical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ummary measure of clinical effectiveness does not facilitate the calculation of QAL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 drugs for epilepsy (adult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effects assessed in terms of total or partial reduction in seizu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were classified as partial and total response and a utility value to each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rug therapy for attention-deficit hyperactivity disorder (ADH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ness measure was points change on the Connors Hyperactivity Sc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evaluation used response/non-response and assigned a utility to each st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keholder Invol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keholders can include manufacturers, professional organisations, health authorities, academic groups and patient organis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l HTA agencies have some stakeholder involvement, but NICE is probably at the all-inclusive end of the spectr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keholder involvement is resource-intensive but may (i) lead to better assessments; (ii) reduce the number of appeals and (iii) lead to better implementation of H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Are Cochrane-Style Reviews Always Helpfu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ite care for frail older people: an appraisal of effectiveness and cost-effectiveness (Mason et al, in p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hits (in the literature review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2,9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apers retriev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3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. of potential studies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1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tential economic evaluat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                   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tual number of economic evaluations (EEs)         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Number of EEs of respite care meeting criteria for inclusio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umber of such studies undertaken in the U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thodologic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 doubt that HTA processes in the UK have stimulated methodological development; e.g.: mixed treatment comparisons; probabilistic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veral methodology T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NHS Methodology Programme has a good track record in funding projects relevant to H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1471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ing A Critical Mass Of Skilled 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eady funding for NICE TARs has enabled academic units to build a critical mass of skilled personn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fellowships are available from the MRC, ESRC and the NHS R and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UK is probably better placed than most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aintaining International L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could probably learn more from comparing and contrasting the different approaches for drugs in England and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 the international level, the UK seems to be fairly well-connected. After Canada, the UK has the most members of HTAi (the international societ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mplementation of HTA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health care system does this particularly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the broader health care system greatly influence the opportunities for implementation, e.g. whether funding is largely general, or tied to the use of particular technolo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tions in use (to most common guidance from NICE) pose more implementation challenges than simple yes/no deci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256500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 of health technology assessment (HTA) in the United Kingdom (U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features of the HTA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we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Evidence On The Implementation Of NICE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640" y="2133360"/>
            <a:ext cx="822960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eldon et al,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BMJ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2004; 329 (30 Octob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Audit Commission Repor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Sept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n, F.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Thesi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LSE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Daily Mai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– every issu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E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3886200" cy="4114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800600" y="2057400"/>
            <a:ext cx="3200400" cy="20923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03480" y="1600200"/>
            <a:ext cx="726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ospital use of Paclitaxil &amp; Docetaxe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Orlistat &amp; Alzheimer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00600" y="4191120"/>
            <a:ext cx="3200400" cy="2057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04920" y="6400800"/>
            <a:ext cx="21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Sheldon et al, BMJ, April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E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CE commissioned report on 28 guidance areas covering 33 (1/3 of all recommendations to start of 2005) recommendations to assess impact using IMS data and UK Hospital Pharmacy Audi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% recommended for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e use; 57% recommended for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ine use or specific patient groups; 12% (#4) rejected (but one entered a risk sharing agree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04920" y="3048120"/>
            <a:ext cx="3962160" cy="2950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76920" y="3048120"/>
            <a:ext cx="3886200" cy="2960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5280" y="6400800"/>
            <a:ext cx="373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NICE commissioned Report from Abacus International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CE Outc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3200400" cy="2511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343400" y="1219320"/>
            <a:ext cx="3276720" cy="2460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04920" y="3886200"/>
            <a:ext cx="3200400" cy="2424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3352680" cy="23907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5280" y="6477120"/>
            <a:ext cx="373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ource: NICE commissioned Report from Abacus International, 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mplementation Of NICE Guid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, by technology and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rmal requirement, to implement TAs within 3 months, probably has an 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gest problem is finding funding within a resource-constrained system. (The new tariffs will not reflect NICE guid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mplementation Of NICE Guidance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professional involvement and good financial systems are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half of GPs are welcoming of N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is perceived (by GPs) as being independent of industry but not of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Implementation Of HTA Findings: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what can be do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3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 implementation plan for each H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e more advice on what to discontinue, as well as what to ado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 funding streams more closely to guidance (although not easy in the N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the monitoring of the adoption of guid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ansparency in Decision-Ma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general all HTA increases transpa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CE is among the most transparent of HTA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commercial-in-confidence data in technology appraisals can reduce transparency (Drummond,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pplied Health Economics and Health Poli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20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 we do not do too badly in the U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hough existing procedures for assessment, involvement of stakeholders and production of guidance could be streamlined, they are basically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orities for selection of topics and mechanisms of implementation of findings need mo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resource-constrained systems, critics often confuse the message with the messe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ructure of HTA in the U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CCH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d in Wess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missions a wide range of empirical and theoretical pro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ers contracts for NICE Technology Assessment Reviews (TA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I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es in Technology Appraisals, Clinical Guidelines and Public Heal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M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es evaluations of all new medicines launched in Scotl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Other Players in HTA in the United Kingd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HS methodology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in Wales and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C and ESRC projects/fellow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research fou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facturers of drugs and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ey Features of the HTA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of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ess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keholder invol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ologic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Key Features of the HTA Proces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70792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ing a critical mass of skilled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ing internatio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ation of HTA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arency in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6007a"/>
                </a:solidFill>
                <a:latin typeface="Arial"/>
              </a:rPr>
              <a:t>Cross-National Comparisons of </a:t>
            </a:r>
            <a:r>
              <a:rPr b="0" lang="en-US" sz="3900" spc="-1" strike="noStrike">
                <a:solidFill>
                  <a:srgbClr val="06007a"/>
                </a:solidFill>
                <a:latin typeface="Arial"/>
              </a:rPr>
              <a:t>Technology Assessment Processes</a:t>
            </a:r>
            <a:r>
              <a:rPr b="0" lang="en-US" sz="4400" spc="-1" strike="noStrike">
                <a:solidFill>
                  <a:srgbClr val="06007a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2421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arison of VATAP (USA), NICE (UK), CCOHTA (Canada) and AETS (Spa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ider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) the reasons for the choice of topic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)  the types of technologies assessed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ii)  the methods of assessment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(iv)  the outcomes of 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rcia–A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és et al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nt. J. Tech. Assess. Health Ca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6007a"/>
                </a:solidFill>
                <a:latin typeface="Arial"/>
              </a:rPr>
              <a:t>Health Policy Issues dealt with in the Assessm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68360" y="1557360"/>
          <a:ext cx="8229600" cy="4332240"/>
        </p:xfrm>
        <a:graphic>
          <a:graphicData uri="http://schemas.openxmlformats.org/drawingml/2006/table">
            <a:tbl>
              <a:tblPr/>
              <a:tblGrid>
                <a:gridCol w="4135320"/>
                <a:gridCol w="1023840"/>
                <a:gridCol w="889200"/>
                <a:gridCol w="1157400"/>
                <a:gridCol w="1023840"/>
              </a:tblGrid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T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COH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the assessment the result of a formal prioritization proces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the assessment the result of a political decis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assessment include economic evaluation methods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any stakeholders participate in the assessment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assessment include additional funding besides the own resources of the organizatio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"/>
          <p:cNvSpPr/>
          <p:nvPr/>
        </p:nvSpPr>
        <p:spPr>
          <a:xfrm>
            <a:off x="471600" y="6093000"/>
            <a:ext cx="687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ource: Garcia–Al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s et al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t. J. Tech. Assess. Health Ca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12:47:40Z</dcterms:created>
  <dc:creator>gmr8</dc:creator>
  <dc:description/>
  <dc:language>en-US</dc:language>
  <cp:lastModifiedBy>Administrator</cp:lastModifiedBy>
  <dcterms:modified xsi:type="dcterms:W3CDTF">2006-03-13T08:20:14Z</dcterms:modified>
  <cp:revision>32</cp:revision>
  <dc:subject/>
  <dc:title>HEALTH TECHNOLOGY ASSESSMENT Has the UK got it right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75292011</vt:r8>
  </property>
  <property fmtid="{D5CDD505-2E9C-101B-9397-08002B2CF9AE}" pid="3" name="_AuthorEmail">
    <vt:lpwstr>gmr8@york.ac.uk</vt:lpwstr>
  </property>
  <property fmtid="{D5CDD505-2E9C-101B-9397-08002B2CF9AE}" pid="4" name="_AuthorEmailDisplayName">
    <vt:lpwstr>gmr8@york.ac.uk</vt:lpwstr>
  </property>
  <property fmtid="{D5CDD505-2E9C-101B-9397-08002B2CF9AE}" pid="5" name="_EmailSubject">
    <vt:lpwstr>Merck lecture - M Drummond presentation attached</vt:lpwstr>
  </property>
  <property fmtid="{D5CDD505-2E9C-101B-9397-08002B2CF9AE}" pid="6" name="_ReviewingToolsShownOnce">
    <vt:lpwstr/>
  </property>
</Properties>
</file>