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7880" y="736200"/>
            <a:ext cx="491328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5412-E384-4F98-9514-0881DED7343E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BBEA-B20A-410C-9271-CEB9E800AEB4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7560" y="4665240"/>
            <a:ext cx="4992840" cy="3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entury Gothic"/>
              <a:ea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C60D-1160-4D3E-9F4E-EB201642E10C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4D80-B193-411B-B477-677AFEE3C944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924F-A796-42A1-B33F-6133E321D2FA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07560" y="4665240"/>
            <a:ext cx="4992840" cy="3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entury Gothic"/>
              <a:ea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CE5-F80C-4152-901F-CCB65535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BB96-A2F8-4F8D-BDDF-BD0DFBC3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67A-CDF2-4818-BCB3-BB47CD96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3872-4728-4544-B900-69C9CF6D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9415-58AB-4826-9DDE-5766BC0E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A72-9AA6-48CD-91C4-C99A186D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9F2-8F33-4624-AD20-AD44D743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AF5-64B6-48BE-B942-F512153F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A406-F930-40DA-A752-61C7CCDB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33E-0281-4B8B-804C-395CF562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E33-87BF-49E0-86A4-46543C93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F9F-8F0C-47C4-A07C-714DB5FB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CC08-9C25-443B-B310-49FF7154B100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714240" y="1214280"/>
            <a:ext cx="7858440" cy="34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4"/>
          <p:cNvSpPr/>
          <p:nvPr/>
        </p:nvSpPr>
        <p:spPr>
          <a:xfrm>
            <a:off x="571680" y="1214280"/>
            <a:ext cx="80722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357720" y="1347840"/>
            <a:ext cx="542916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sv-SE" sz="2300" spc="-1" strike="noStrike">
                <a:solidFill>
                  <a:srgbClr val="000000"/>
                </a:solidFill>
                <a:latin typeface="Century Gothic"/>
              </a:rPr>
              <a:t>The role of Information and Communication Technology (ICT) support services to promote ageing </a:t>
            </a:r>
            <a:br>
              <a:rPr sz="2300"/>
            </a:br>
            <a:r>
              <a:rPr b="1" lang="sv-SE" sz="2300" spc="-1" strike="noStrike">
                <a:solidFill>
                  <a:srgbClr val="000000"/>
                </a:solidFill>
                <a:latin typeface="Century Gothic"/>
              </a:rPr>
              <a:t>in place – the ACTION serv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357720" y="2928960"/>
            <a:ext cx="5000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ELIZABETH HANSON AND LENNART MAGNUSSON,</a:t>
            </a:r>
            <a:br>
              <a:rPr sz="1600"/>
            </a:b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Swedish National Care Competence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Logotype - ACTION"/>
          <p:cNvPicPr/>
          <p:nvPr/>
        </p:nvPicPr>
        <p:blipFill>
          <a:blip r:embed="rId2"/>
          <a:stretch/>
        </p:blipFill>
        <p:spPr>
          <a:xfrm>
            <a:off x="2428920" y="6350040"/>
            <a:ext cx="1695240" cy="365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1" descr=""/>
          <p:cNvPicPr/>
          <p:nvPr/>
        </p:nvPicPr>
        <p:blipFill>
          <a:blip r:embed="rId3"/>
          <a:srcRect l="2631" t="3690" r="5262" b="7825"/>
          <a:stretch/>
        </p:blipFill>
        <p:spPr>
          <a:xfrm>
            <a:off x="714240" y="1214280"/>
            <a:ext cx="250056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Lnu_Wordmark_Symbol_Eng_150mm150dpi.jpg"/>
          <p:cNvPicPr/>
          <p:nvPr/>
        </p:nvPicPr>
        <p:blipFill>
          <a:blip r:embed="rId4"/>
          <a:stretch/>
        </p:blipFill>
        <p:spPr>
          <a:xfrm>
            <a:off x="6643800" y="6378480"/>
            <a:ext cx="1643040" cy="265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horiz_brons.jpg"/>
          <p:cNvPicPr/>
          <p:nvPr/>
        </p:nvPicPr>
        <p:blipFill>
          <a:blip r:embed="rId5"/>
          <a:stretch/>
        </p:blipFill>
        <p:spPr>
          <a:xfrm>
            <a:off x="4500720" y="6273720"/>
            <a:ext cx="1831680" cy="441360"/>
          </a:xfrm>
          <a:prstGeom prst="rect">
            <a:avLst/>
          </a:prstGeom>
          <a:ln w="0">
            <a:noFill/>
          </a:ln>
        </p:spPr>
      </p:pic>
      <p:sp>
        <p:nvSpPr>
          <p:cNvPr id="56" name="Straight Connector 21"/>
          <p:cNvSpPr/>
          <p:nvPr/>
        </p:nvSpPr>
        <p:spPr>
          <a:xfrm>
            <a:off x="3429000" y="2857680"/>
            <a:ext cx="4929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2"/>
          <p:cNvSpPr/>
          <p:nvPr/>
        </p:nvSpPr>
        <p:spPr>
          <a:xfrm flipH="1">
            <a:off x="3214800" y="1214280"/>
            <a:ext cx="1440" cy="3430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714240" y="1214280"/>
            <a:ext cx="7858440" cy="342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NkA_genomskinlig_for_webb.jpg"/>
          <p:cNvPicPr/>
          <p:nvPr/>
        </p:nvPicPr>
        <p:blipFill>
          <a:blip r:embed="rId6"/>
          <a:stretch/>
        </p:blipFill>
        <p:spPr>
          <a:xfrm>
            <a:off x="1087560" y="6164280"/>
            <a:ext cx="984240" cy="560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43160" y="35676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entury Gothic"/>
              </a:rPr>
              <a:t>What’s 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43160" y="1428840"/>
            <a:ext cx="5214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sisting Carers using Telematic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ventions to meet Older Persons’ Needs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A carer and self-care support service to make everyday life easier and to support ’ageing in plac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Based on relevant empirical research, practitioner ’know how’ and ’end-users’ experiences and p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rcRect l="8288" t="2682" r="4817" b="14173"/>
          <a:stretch/>
        </p:blipFill>
        <p:spPr>
          <a:xfrm>
            <a:off x="0" y="2571840"/>
            <a:ext cx="2928960" cy="2000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9" descr=""/>
          <p:cNvPicPr/>
          <p:nvPr/>
        </p:nvPicPr>
        <p:blipFill>
          <a:blip r:embed="rId2"/>
          <a:srcRect l="12282" t="6661" r="0" b="8012"/>
          <a:stretch/>
        </p:blipFill>
        <p:spPr>
          <a:xfrm>
            <a:off x="0" y="0"/>
            <a:ext cx="2928960" cy="249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Action-009175WEB.jpg"/>
          <p:cNvPicPr/>
          <p:nvPr/>
        </p:nvPicPr>
        <p:blipFill>
          <a:blip r:embed="rId3"/>
          <a:srcRect l="13501" t="6753" r="24998" b="23425"/>
          <a:stretch/>
        </p:blipFill>
        <p:spPr>
          <a:xfrm>
            <a:off x="0" y="4643280"/>
            <a:ext cx="2928960" cy="22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Annons-bild_cmykweb.jpg"/>
          <p:cNvPicPr/>
          <p:nvPr/>
        </p:nvPicPr>
        <p:blipFill>
          <a:blip r:embed="rId1"/>
          <a:srcRect l="7815" t="0" r="28126" b="0"/>
          <a:stretch/>
        </p:blipFill>
        <p:spPr>
          <a:xfrm>
            <a:off x="0" y="0"/>
            <a:ext cx="65912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57160" y="142560"/>
            <a:ext cx="5729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entury Gothic"/>
              </a:rPr>
              <a:t>Policies driving 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29120" y="1000080"/>
            <a:ext cx="3929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Promoting ageing i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Promoting social i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6"/>
          <p:cNvSpPr/>
          <p:nvPr/>
        </p:nvSpPr>
        <p:spPr>
          <a:xfrm>
            <a:off x="1714680" y="5732640"/>
            <a:ext cx="2571480" cy="26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4857840" y="5732640"/>
            <a:ext cx="2571840" cy="26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1714680" y="3303720"/>
            <a:ext cx="2571480" cy="26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4857840" y="3303720"/>
            <a:ext cx="2571840" cy="26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7280" y="713880"/>
            <a:ext cx="822960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080" bIns="46080" anchor="t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The ACTION service -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5"/>
          <p:cNvSpPr/>
          <p:nvPr/>
        </p:nvSpPr>
        <p:spPr>
          <a:xfrm>
            <a:off x="1928880" y="32860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ARING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8"/>
          <p:cNvSpPr/>
          <p:nvPr/>
        </p:nvSpPr>
        <p:spPr>
          <a:xfrm>
            <a:off x="1857240" y="571500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C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0"/>
          <p:cNvSpPr/>
          <p:nvPr/>
        </p:nvSpPr>
        <p:spPr>
          <a:xfrm>
            <a:off x="5357880" y="328608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CAL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Verdana"/>
              </a:rPr>
              <a:t> CEN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3"/>
          <p:cNvSpPr/>
          <p:nvPr/>
        </p:nvSpPr>
        <p:spPr>
          <a:xfrm>
            <a:off x="4500720" y="5715000"/>
            <a:ext cx="32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EDUCA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Verdana"/>
              </a:rPr>
              <a:t> &amp;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0" descr="Action-009175WEB.jpg"/>
          <p:cNvPicPr/>
          <p:nvPr/>
        </p:nvPicPr>
        <p:blipFill>
          <a:blip r:embed="rId1"/>
          <a:stretch/>
        </p:blipFill>
        <p:spPr>
          <a:xfrm>
            <a:off x="4857840" y="4000680"/>
            <a:ext cx="2571840" cy="167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3" descr="programWEB.jpg"/>
          <p:cNvPicPr/>
          <p:nvPr/>
        </p:nvPicPr>
        <p:blipFill>
          <a:blip r:embed="rId2"/>
          <a:stretch/>
        </p:blipFill>
        <p:spPr>
          <a:xfrm>
            <a:off x="1714680" y="1500120"/>
            <a:ext cx="2589120" cy="171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4" descr="FredrikWEB.jpg"/>
          <p:cNvPicPr/>
          <p:nvPr/>
        </p:nvPicPr>
        <p:blipFill>
          <a:blip r:embed="rId3"/>
          <a:stretch/>
        </p:blipFill>
        <p:spPr>
          <a:xfrm>
            <a:off x="4857840" y="1523880"/>
            <a:ext cx="2571840" cy="1712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5" descr="bildtelefonWEB.jpg"/>
          <p:cNvPicPr/>
          <p:nvPr/>
        </p:nvPicPr>
        <p:blipFill>
          <a:blip r:embed="rId4"/>
          <a:stretch/>
        </p:blipFill>
        <p:spPr>
          <a:xfrm>
            <a:off x="1714680" y="3986280"/>
            <a:ext cx="2608200" cy="165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71560" y="571320"/>
            <a:ext cx="53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entury Gothic"/>
              </a:rPr>
              <a:t>Partnership working with care providers and practitio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3571920" y="2003400"/>
            <a:ext cx="42148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wareness rai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roduction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ertification program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uper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mmunity of pract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ing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Picture2.jpg"/>
          <p:cNvPicPr/>
          <p:nvPr/>
        </p:nvPicPr>
        <p:blipFill>
          <a:blip r:embed="rId1">
            <a:lum contrast="10000"/>
          </a:blip>
          <a:srcRect l="0" t="3453" r="0" b="5079"/>
          <a:stretch/>
        </p:blipFill>
        <p:spPr>
          <a:xfrm>
            <a:off x="-268200" y="2421000"/>
            <a:ext cx="3643200" cy="443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Action-009268WEB.jpg"/>
          <p:cNvPicPr/>
          <p:nvPr/>
        </p:nvPicPr>
        <p:blipFill>
          <a:blip r:embed="rId2"/>
          <a:srcRect l="12856" t="11242" r="8930" b="13281"/>
          <a:stretch/>
        </p:blipFill>
        <p:spPr>
          <a:xfrm>
            <a:off x="-285840" y="0"/>
            <a:ext cx="366084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303120"/>
            <a:ext cx="760104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entury Gothic"/>
              </a:rPr>
              <a:t>Evaluation results: Qual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85480" y="1213920"/>
            <a:ext cx="87152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Arial"/>
                <a:ea typeface="Verdana"/>
              </a:rPr>
              <a:t> </a:t>
            </a:r>
            <a:r>
              <a:rPr b="1" i="1" lang="sv-SE" sz="1800" spc="-1" strike="noStrike">
                <a:solidFill>
                  <a:srgbClr val="000000"/>
                </a:solidFill>
                <a:latin typeface="Verdana"/>
                <a:ea typeface="Verdana"/>
              </a:rPr>
              <a:t>Both family carers and the older person they care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685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feel less isol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685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develop informal support networks with other famil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68560">
              <a:lnSpc>
                <a:spcPct val="100000"/>
              </a:lnSpc>
              <a:spcAft>
                <a:spcPts val="1063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consider that new technology is good to use providing it is easy to understand, use and is of direct benefit to them in their caring situ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i="1" lang="sv-SE" sz="1800" spc="-1" strike="noStrike">
                <a:solidFill>
                  <a:srgbClr val="000000"/>
                </a:solidFill>
                <a:latin typeface="Verdana"/>
                <a:ea typeface="Verdana"/>
              </a:rPr>
              <a:t>Family car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685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feel more  competent and secure in their caregiving ro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685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gain more control over their individual caring situ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68560">
              <a:lnSpc>
                <a:spcPct val="100000"/>
              </a:lnSpc>
              <a:spcAft>
                <a:spcPts val="1063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increase their self confidence in their ability to c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i="1" lang="sv-SE" sz="1800" spc="-1" strike="noStrike">
                <a:solidFill>
                  <a:srgbClr val="000000"/>
                </a:solidFill>
                <a:latin typeface="Verdana"/>
                <a:ea typeface="Verdana"/>
              </a:rPr>
              <a:t>Professional car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685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experience improved job satisfa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68560">
              <a:lnSpc>
                <a:spcPct val="100000"/>
              </a:lnSpc>
              <a:spcAft>
                <a:spcPts val="1063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see significant scope for future development in the are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i="1" lang="sv-SE" sz="1800" spc="-1" strike="noStrike">
                <a:solidFill>
                  <a:srgbClr val="000000"/>
                </a:solidFill>
                <a:latin typeface="Verdana"/>
                <a:ea typeface="Verdana"/>
              </a:rPr>
              <a:t>Care provid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685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Verdana"/>
                <a:ea typeface="Verdana"/>
              </a:rPr>
              <a:t>Reduced care costs with an average saving of 10.300 EUR/year </a:t>
            </a:r>
            <a:r>
              <a:rPr b="0" lang="sv-SE" sz="1200" spc="-1" strike="noStrike">
                <a:solidFill>
                  <a:srgbClr val="000000"/>
                </a:solidFill>
                <a:latin typeface="Verdana"/>
                <a:ea typeface="Verdana"/>
              </a:rPr>
              <a:t>(Magnusson et al, 2005; Magnusson &amp; Hanson 2005, Hanson et al 2007a,b; Bergström et al, 201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trad.jpg"/>
          <p:cNvPicPr/>
          <p:nvPr/>
        </p:nvPicPr>
        <p:blipFill>
          <a:blip r:embed="rId1"/>
          <a:srcRect l="0" t="37498" r="0" b="42593"/>
          <a:stretch/>
        </p:blipFill>
        <p:spPr>
          <a:xfrm>
            <a:off x="0" y="5643720"/>
            <a:ext cx="9144000" cy="121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4"/>
          <p:cNvSpPr/>
          <p:nvPr/>
        </p:nvSpPr>
        <p:spPr>
          <a:xfrm>
            <a:off x="1214280" y="1500120"/>
            <a:ext cx="6858000" cy="307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571920" y="1562040"/>
            <a:ext cx="3571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sv-SE" sz="2300" spc="-1" strike="noStrike">
                <a:solidFill>
                  <a:srgbClr val="000000"/>
                </a:solidFill>
                <a:latin typeface="Verdana"/>
              </a:rPr>
              <a:t>Contact detai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571920" y="2000160"/>
            <a:ext cx="4429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lizabeth Ha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e-mail: elizabeth.hanson@anhoriga.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tel: +467036148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nnart Magnus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e-mail:lennart.magnusson@anhoriga.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tel: +467063023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www.actioncaring.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Action-009175WEB.jpg"/>
          <p:cNvPicPr/>
          <p:nvPr/>
        </p:nvPicPr>
        <p:blipFill>
          <a:blip r:embed="rId2"/>
          <a:srcRect l="20999" t="0" r="31000" b="0"/>
          <a:stretch/>
        </p:blipFill>
        <p:spPr>
          <a:xfrm>
            <a:off x="1214280" y="1500120"/>
            <a:ext cx="2235240" cy="30718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5"/>
          <p:cNvSpPr/>
          <p:nvPr/>
        </p:nvSpPr>
        <p:spPr>
          <a:xfrm>
            <a:off x="1214280" y="1500120"/>
            <a:ext cx="6858000" cy="3071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Logotype - ACTION"/>
          <p:cNvPicPr/>
          <p:nvPr/>
        </p:nvPicPr>
        <p:blipFill>
          <a:blip r:embed="rId3"/>
          <a:stretch/>
        </p:blipFill>
        <p:spPr>
          <a:xfrm>
            <a:off x="2428920" y="6350040"/>
            <a:ext cx="1695240" cy="36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0" descr="Lnu_Wordmark_Symbol_Eng_150mm150dpi.jpg"/>
          <p:cNvPicPr/>
          <p:nvPr/>
        </p:nvPicPr>
        <p:blipFill>
          <a:blip r:embed="rId4"/>
          <a:stretch/>
        </p:blipFill>
        <p:spPr>
          <a:xfrm>
            <a:off x="6643800" y="6378480"/>
            <a:ext cx="1643040" cy="265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1" descr="horiz_brons.jpg"/>
          <p:cNvPicPr/>
          <p:nvPr/>
        </p:nvPicPr>
        <p:blipFill>
          <a:blip r:embed="rId5"/>
          <a:stretch/>
        </p:blipFill>
        <p:spPr>
          <a:xfrm>
            <a:off x="4500720" y="6273720"/>
            <a:ext cx="1831680" cy="441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NkA_genomskinlig_for_webb.jpg"/>
          <p:cNvPicPr/>
          <p:nvPr/>
        </p:nvPicPr>
        <p:blipFill>
          <a:blip r:embed="rId6"/>
          <a:stretch/>
        </p:blipFill>
        <p:spPr>
          <a:xfrm>
            <a:off x="1087560" y="6164280"/>
            <a:ext cx="984240" cy="560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9:58:08Z</dcterms:created>
  <dc:creator>qmale</dc:creator>
  <dc:description/>
  <dc:language>en-US</dc:language>
  <cp:lastModifiedBy>Administrator</cp:lastModifiedBy>
  <dcterms:modified xsi:type="dcterms:W3CDTF">2011-06-22T14:42:55Z</dcterms:modified>
  <cp:revision>178</cp:revision>
  <dc:subject/>
  <dc:title>Slide 1</dc:title>
</cp:coreProperties>
</file>