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0BA-D96D-40F7-AE99-97E7837C57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987-59C1-4863-BA8F-83EE20AD8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E21-DD34-4036-95AC-97ECC3CB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697-CB89-4CBB-AC62-84C888AC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959-5CDF-4E0B-AAA1-FCBEE814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D69-0F43-4D00-8B87-F7FC2039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B2D-70D7-4B1A-B3EB-27B9D5FD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507D-2588-4DE6-9136-C91C2E68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5D7-68F0-4C59-91E8-74386A1D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4A4-F02C-4703-A7D3-399B9E57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3484-FDE5-4F41-AB04-94F725D7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A83-314E-4A01-BFCA-8C1E6545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332D-7CE6-4E47-9FD4-E8E009A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94F-3A3E-491E-BB9C-94BC1596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1356-D13A-4FAF-B10D-75859BB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5C5-44C1-4625-BF05-9F060C8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6052-172B-4A2C-90F2-98B84707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04F5-9C66-4875-983F-9647B437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F7B-F5EF-4920-A58E-CDA598EF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ACB-0D64-4EF8-ABEB-25DC81F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967-157B-4D19-9192-BDDC11AD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F85-F9F5-4ACB-B393-672AA820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01A-EB5B-46D2-B3ED-7D770D8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315-27A7-40E8-828D-DFC02730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266-4AC1-40D1-BFA2-89E8361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41F-32BF-4572-8AD3-B41A474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94A-01DA-4E1D-828A-C88ED5A26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0E93-8C35-4300-AA9D-FAA9017E1102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pro.who.int/asia_pacific_observatory/hits/series/chn/e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67616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verview of China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 health care refor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n Chen, Ph.D., Profess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dan School of Public Heal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, 20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creasing Government Expenditure on Health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health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basic package and local extended pack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 insurance coverage and medical a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al subsidies for urban non-employed and rural farm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health instit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rastructure develop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idies for personnel sal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ides for specific reform initiatives, including implementing essential medicines system and public hospital re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 education and resear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A1F7-E99D-4E0E-B9B4-61C2E9E3CF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cial health insurance scheme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56C-9324-4184-B715-668362003A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图片 4" descr=""/>
          <p:cNvPicPr/>
          <p:nvPr/>
        </p:nvPicPr>
        <p:blipFill>
          <a:blip r:embed="rId2"/>
          <a:stretch/>
        </p:blipFill>
        <p:spPr>
          <a:xfrm>
            <a:off x="755640" y="1882800"/>
            <a:ext cx="8137440" cy="44989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5"/>
          <p:cNvSpPr/>
          <p:nvPr/>
        </p:nvSpPr>
        <p:spPr>
          <a:xfrm>
            <a:off x="-7920" y="660888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innie Yip, et al. Lancet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Universal health insurance coverage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2" name="内容占位符 4"/>
          <p:cNvGraphicFramePr/>
          <p:nvPr/>
        </p:nvGraphicFramePr>
        <p:xfrm>
          <a:off x="560520" y="2101680"/>
          <a:ext cx="4638600" cy="42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内容占位符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101680"/>
                    <a:ext cx="463860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A4F-643D-4600-866C-F2CD22CE6CC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Object 6" descr=""/>
          <p:cNvPicPr/>
          <p:nvPr/>
        </p:nvPicPr>
        <p:blipFill>
          <a:blip r:embed="rId3"/>
          <a:stretch/>
        </p:blipFill>
        <p:spPr>
          <a:xfrm>
            <a:off x="5097600" y="2112840"/>
            <a:ext cx="3628800" cy="4195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0" y="6608880"/>
            <a:ext cx="39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ng Q, et al. Lancet,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1547640" y="184464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opulation Cover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6084720" y="1773360"/>
            <a:ext cx="21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imbursement level of Hospitalization expendit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uccess attributed to …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1440" y="1903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mobi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ing government expenditure on health used for infrastructure development and subsidies for vulnerable pop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ing personal contributions on healthcare through developing social and private health insurance schem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entives establishment and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purchasing through governments and HI ag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 and efficiency concerns on public hospitals and suppli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and promotion of new technology and health system capacity buil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llenge to tradeoff between value and expe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06C-EE07-470C-B7FD-628CE9BEB21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2DC6-2C41-431E-BC6D-38A8FBA420A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Problems in health financing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6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fordable universal cover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l workers and migran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ntary enrolment in RHI and NC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ality in access to health care and financial protection, e.g. OOP as percentage of inco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ibution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nefits packag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ing medical expenditu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-for-service method adopted to pay for medical ca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ilure to integrate between primary care and tertiary ca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 of public hospitals towards quality and efficiency of health ca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13080" cy="3384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8"/>
          <p:cNvSpPr/>
          <p:nvPr/>
        </p:nvSpPr>
        <p:spPr>
          <a:xfrm>
            <a:off x="5796000" y="5445000"/>
            <a:ext cx="30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HO Health Report, 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ife expectancy at birth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by province, in 2010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84AA-6B3C-42CE-8DC2-2F2C49F3932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742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nancial risk protection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72" name="内容占位符 4" descr=""/>
          <p:cNvPicPr/>
          <p:nvPr/>
        </p:nvPicPr>
        <p:blipFill>
          <a:blip r:embed="rId1"/>
          <a:stretch/>
        </p:blipFill>
        <p:spPr>
          <a:xfrm>
            <a:off x="633240" y="2298600"/>
            <a:ext cx="4638960" cy="4216680"/>
          </a:xfrm>
          <a:prstGeom prst="rect">
            <a:avLst/>
          </a:prstGeom>
          <a:ln w="0">
            <a:noFill/>
          </a:ln>
        </p:spPr>
      </p:pic>
      <p:sp>
        <p:nvSpPr>
          <p:cNvPr id="173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17A8-F3BD-4058-8899-4C736C271CA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1476360" y="177336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portion of households with catastrophic health spending (&gt;40% family incom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Object 6" descr=""/>
          <p:cNvPicPr/>
          <p:nvPr/>
        </p:nvPicPr>
        <p:blipFill>
          <a:blip r:embed="rId2"/>
          <a:stretch/>
        </p:blipFill>
        <p:spPr>
          <a:xfrm>
            <a:off x="5025960" y="2287440"/>
            <a:ext cx="3845160" cy="42166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5651640" y="1844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portion of OOP relative to household spen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0" y="6608880"/>
            <a:ext cx="39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ng Q, et al. Lancet,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FAA-7EE9-4DEC-B598-E13C11E3418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 progress on achieving universal health insurance coverage and improving equity in financing and service uti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ll existing challenges and proble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s further reforms in payment and services delive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68360" y="5661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pro.who.int/asia_pacific_observatory/hits/series/chn/en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A113-A758-4AB4-B7EF-F1CA0AF37F4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Basic data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4427640" y="2505240"/>
            <a:ext cx="4444920" cy="3139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2122560"/>
            <a:ext cx="397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 (November 2010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.37 bill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land: 1.34 bill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ban: 0.666 billion (49.68%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ral: 0.674 billion (50.3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 above 65 years old(2012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.40 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 birth rate(2012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2.10 per 1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nal mortality(2012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4.5 per 100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692A-B43C-49BA-B5EA-EF1476AED5E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th Indicator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66640" y="2082960"/>
          <a:ext cx="777096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082960"/>
                    <a:ext cx="777096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0" y="6608880"/>
            <a:ext cx="53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HO. World Health Statistics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AAB1-4228-41B5-8893-BB53E60C258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ealth workforce and infrastructure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795240" y="2019240"/>
          <a:ext cx="8120160" cy="44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2019240"/>
                    <a:ext cx="812016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6"/>
          <p:cNvSpPr/>
          <p:nvPr/>
        </p:nvSpPr>
        <p:spPr>
          <a:xfrm>
            <a:off x="-36360" y="6608880"/>
            <a:ext cx="53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HO. World Health Statistics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EC7-3344-4114-A5BB-D83849B3D1F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ealth expenditure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830160" y="1989000"/>
          <a:ext cx="758844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989000"/>
                    <a:ext cx="758844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0" y="6508800"/>
            <a:ext cx="53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WHO. World Health Statistics 20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w Challenges for health system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BD3-1E7E-43E5-AC74-1B057F896DE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圆角矩形 4" descr=""/>
          <p:cNvPicPr/>
          <p:nvPr/>
        </p:nvPicPr>
        <p:blipFill>
          <a:blip r:embed="rId1"/>
          <a:stretch/>
        </p:blipFill>
        <p:spPr>
          <a:xfrm>
            <a:off x="785880" y="2030400"/>
            <a:ext cx="3755880" cy="2103480"/>
          </a:xfrm>
          <a:prstGeom prst="rect">
            <a:avLst/>
          </a:prstGeom>
          <a:ln w="0">
            <a:noFill/>
          </a:ln>
        </p:spPr>
      </p:pic>
      <p:pic>
        <p:nvPicPr>
          <p:cNvPr id="130" name="圆角矩形 5" descr=""/>
          <p:cNvPicPr/>
          <p:nvPr/>
        </p:nvPicPr>
        <p:blipFill>
          <a:blip r:embed="rId2"/>
          <a:stretch/>
        </p:blipFill>
        <p:spPr>
          <a:xfrm>
            <a:off x="4883040" y="2103480"/>
            <a:ext cx="3670560" cy="2030400"/>
          </a:xfrm>
          <a:prstGeom prst="rect">
            <a:avLst/>
          </a:prstGeom>
          <a:ln w="0">
            <a:noFill/>
          </a:ln>
        </p:spPr>
      </p:pic>
      <p:pic>
        <p:nvPicPr>
          <p:cNvPr id="131" name="圆角矩形 6" descr=""/>
          <p:cNvPicPr/>
          <p:nvPr/>
        </p:nvPicPr>
        <p:blipFill>
          <a:blip r:embed="rId3"/>
          <a:stretch/>
        </p:blipFill>
        <p:spPr>
          <a:xfrm>
            <a:off x="847800" y="4552920"/>
            <a:ext cx="3674880" cy="2023920"/>
          </a:xfrm>
          <a:prstGeom prst="rect">
            <a:avLst/>
          </a:prstGeom>
          <a:ln w="0">
            <a:noFill/>
          </a:ln>
        </p:spPr>
      </p:pic>
      <p:pic>
        <p:nvPicPr>
          <p:cNvPr id="132" name="圆角矩形 7" descr=""/>
          <p:cNvPicPr/>
          <p:nvPr/>
        </p:nvPicPr>
        <p:blipFill>
          <a:blip r:embed="rId4"/>
          <a:stretch/>
        </p:blipFill>
        <p:spPr>
          <a:xfrm>
            <a:off x="4883040" y="4552920"/>
            <a:ext cx="3670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CF0-20E7-4E32-B32F-489D27317DB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ces Driving Health Reform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ffordable access resulting from rising healthcare cost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ly increasing more rapidly than 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high level of economic burden by O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equalities in health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ross regions and socioeconomic population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urban and rural are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expec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2752-0B2B-4C62-AA78-35EE4DDBD6E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Out-of-pocket payment (%)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8" name="图片 6" descr=""/>
          <p:cNvPicPr/>
          <p:nvPr/>
        </p:nvPicPr>
        <p:blipFill>
          <a:blip r:embed="rId1"/>
          <a:stretch/>
        </p:blipFill>
        <p:spPr>
          <a:xfrm>
            <a:off x="1150920" y="1854360"/>
            <a:ext cx="6948360" cy="5003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7"/>
          <p:cNvSpPr/>
          <p:nvPr/>
        </p:nvSpPr>
        <p:spPr>
          <a:xfrm>
            <a:off x="30600" y="6576840"/>
            <a:ext cx="37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Report on China’s Health Account Study,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2DF-9529-4234-8E09-EFAE69131C1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ealth Care Reform Initiatives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m: guaranteed access for every Chinese resident to basic health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2011: to obviously improve accessibility and effectively reduce medical expenditure bu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expand health insurance cover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establish the National Essential Medicines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trengthen the primary health services delivery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promote basic public health progra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advance the public hospital reform pi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1:58:46Z</dcterms:created>
  <dc:creator>James</dc:creator>
  <dc:description/>
  <dc:language>en-US</dc:language>
  <cp:lastModifiedBy>James Chen</cp:lastModifiedBy>
  <dcterms:modified xsi:type="dcterms:W3CDTF">2016-03-21T16:41:44Z</dcterms:modified>
  <cp:revision>142</cp:revision>
  <dc:subject/>
  <dc:title>Overview of Health Care Reform in China</dc:title>
</cp:coreProperties>
</file>