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A82-975F-4A48-8877-FBB430A396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AC6E-5156-4739-BFAF-386BC9092E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3A1-6C64-46F8-8CC4-A9EBD2E8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BFE-64A7-428C-8649-F91650B7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D5D-8A92-4274-B33E-838C7C31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B33-2B72-416A-BA40-1314ED6B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8C86-14E9-4880-BFC0-0BB78E2F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D7C6-B95C-4660-B2C6-BF529304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FCD4-03AB-4356-AB0F-2E9C69E4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1620-9B50-40EF-BAFA-DAEF9DE7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DAF5-AF16-4BBE-83B7-C29870FE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B069-F682-402F-A0DF-F0FE638C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4F32-4077-462B-BE2E-AFDE3AE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36A-D2B4-482F-9F7B-6182D293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ED4-11E9-4ABE-984D-4856256B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70D0-1D97-42EF-816D-A248E85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8C1F-192F-4229-873F-032FB65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3A57-C21D-4A1A-A947-7F43867D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8A1C-B152-4402-A15E-FC38B191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8B1-E0C8-4A7A-B36B-20F3676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0B1-C1DC-4B9F-9B08-0189E785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1DC-5202-4DCC-9967-BC80E91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475-AC84-4A3F-AECF-ED044925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B73-1A0D-4B80-AFFE-13A6CE3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187-48ED-48A0-931D-1702410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17C-0CA5-44A1-9CFC-46B96EC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D061-D35E-4FD9-9889-DEFE4BA57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385-1CFF-446E-84CE-3FA0AF639CBC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pro.who.int/asia_pacific_observatory/hits/series/chn/e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676160"/>
            <a:ext cx="8207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verview of China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s health care reform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n Chen, Ph.D., Profess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dan School of Public Heal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, 201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creasing Government Expenditure on Health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health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e basic package and local extended pack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 insurance coverage and medical ai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ial subsidies for urban non-employed and rural farm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health instit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rastructure develop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idies for personnel sal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ides for specific reform initiatives, including implementing essential medicines system and public hospital refor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 education and resear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8F45-F0C3-4D89-A623-387EA59BA4E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cial health insurance scheme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3174-9374-464C-A537-9C4F7A1E33C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图片 4" descr=""/>
          <p:cNvPicPr/>
          <p:nvPr/>
        </p:nvPicPr>
        <p:blipFill>
          <a:blip r:embed="rId2"/>
          <a:stretch/>
        </p:blipFill>
        <p:spPr>
          <a:xfrm>
            <a:off x="755640" y="1882800"/>
            <a:ext cx="8137440" cy="449892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5"/>
          <p:cNvSpPr/>
          <p:nvPr/>
        </p:nvSpPr>
        <p:spPr>
          <a:xfrm>
            <a:off x="-7920" y="660888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innie Yip, et al. Lancet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Universal health insurance coverage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2" name="内容占位符 4"/>
          <p:cNvGraphicFramePr/>
          <p:nvPr/>
        </p:nvGraphicFramePr>
        <p:xfrm>
          <a:off x="560520" y="2101680"/>
          <a:ext cx="4638600" cy="42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内容占位符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2101680"/>
                    <a:ext cx="463860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80C4-D0E8-45EB-BA62-7775993CA55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Object 6" descr=""/>
          <p:cNvPicPr/>
          <p:nvPr/>
        </p:nvPicPr>
        <p:blipFill>
          <a:blip r:embed="rId3"/>
          <a:stretch/>
        </p:blipFill>
        <p:spPr>
          <a:xfrm>
            <a:off x="5097600" y="2112840"/>
            <a:ext cx="3628800" cy="4195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0" y="6608880"/>
            <a:ext cx="39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ng Q, et al. Lancet,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1547640" y="184464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opulation Cover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6084720" y="1773360"/>
            <a:ext cx="215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imbursement level of Hospitalization expendit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uccess attributed to …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1440" y="1903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mobi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ing government expenditure on health used for infrastructure development and subsidies for vulnerable popu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ing personal contributions on healthcare through developing social and private health insurance schem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entives establishment and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purchasing through governments and HI ag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 and efficiency concerns on public hospitals and suppli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and promotion of new technology and health system capacity buil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llenge to tradeoff between value and expen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79B-6115-4154-A593-2350D0AE335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B010-C4AC-434C-8959-3AF232350F2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Problems in health financing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6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fordable universal cover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l workers and migrant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ntary enrolment in RHI and NCM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ality in access to health care and financial protection, e.g. OOP as percentage of inco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ibution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nefits packag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ing medical expenditu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-for-service method adopted to pay for medical ca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ilure to integrate between primary care and tertiary ca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 of public hospitals towards quality and efficiency of health ca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13080" cy="3384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8"/>
          <p:cNvSpPr/>
          <p:nvPr/>
        </p:nvSpPr>
        <p:spPr>
          <a:xfrm>
            <a:off x="5796000" y="5445000"/>
            <a:ext cx="30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HO Health Report, 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Life expectancy at birth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by province, in 2010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5181-1DE2-45C1-A77F-06BFCB6CBD2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图片 4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742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nancial risk protection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72" name="内容占位符 4" descr=""/>
          <p:cNvPicPr/>
          <p:nvPr/>
        </p:nvPicPr>
        <p:blipFill>
          <a:blip r:embed="rId1"/>
          <a:stretch/>
        </p:blipFill>
        <p:spPr>
          <a:xfrm>
            <a:off x="633240" y="2298600"/>
            <a:ext cx="4638960" cy="4216680"/>
          </a:xfrm>
          <a:prstGeom prst="rect">
            <a:avLst/>
          </a:prstGeom>
          <a:ln w="0">
            <a:noFill/>
          </a:ln>
        </p:spPr>
      </p:pic>
      <p:sp>
        <p:nvSpPr>
          <p:cNvPr id="173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9465-9FA5-4368-B057-DCBAB7396FB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1476360" y="177336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roportion of households with catastrophic health spending (&gt;40% family incom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Object 6" descr=""/>
          <p:cNvPicPr/>
          <p:nvPr/>
        </p:nvPicPr>
        <p:blipFill>
          <a:blip r:embed="rId2"/>
          <a:stretch/>
        </p:blipFill>
        <p:spPr>
          <a:xfrm>
            <a:off x="5025960" y="2287440"/>
            <a:ext cx="3845160" cy="42166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5651640" y="1844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roportion of OOP relative to household spen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0" y="6608880"/>
            <a:ext cx="39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ng Q, et al. Lancet,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B8B6-FD39-4250-8594-6AB98285233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 progress on achieving universal health insurance coverage and improving equity in financing and service uti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ill existing challenges and proble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s further reforms in payment and services delive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68360" y="5661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n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pro.who.int/asia_pacific_observatory/hits/series/chn/en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E4E0-469B-4E01-9923-CE3399E3798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Basic data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0" name="图片 1" descr=""/>
          <p:cNvPicPr/>
          <p:nvPr/>
        </p:nvPicPr>
        <p:blipFill>
          <a:blip r:embed="rId1"/>
          <a:stretch/>
        </p:blipFill>
        <p:spPr>
          <a:xfrm>
            <a:off x="4427640" y="2505240"/>
            <a:ext cx="4444920" cy="3139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2122560"/>
            <a:ext cx="397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 (November 2010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.37 bill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land: 1.34 bill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ban: 0.666 billion (49.68%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ral: 0.674 billion (50.3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 above 65 years old(2012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9.40 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 birth rate(2012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2.10 per 1,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nal mortality(2012)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4.5 per 100,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CA83-1F87-44BF-90CF-1E349ED1632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th Indicator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566640" y="2082960"/>
          <a:ext cx="777096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082960"/>
                    <a:ext cx="777096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0" y="6608880"/>
            <a:ext cx="53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HO. World Health Statistics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630E-2F65-4A87-801B-4C788A3B713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ealth workforce and infrastructure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795240" y="2019240"/>
          <a:ext cx="8120160" cy="44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2019240"/>
                    <a:ext cx="812016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6"/>
          <p:cNvSpPr/>
          <p:nvPr/>
        </p:nvSpPr>
        <p:spPr>
          <a:xfrm>
            <a:off x="-36360" y="6608880"/>
            <a:ext cx="53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 WHO. World Health Statistics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6C3-BB64-45CC-8283-D6747836EBC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Health expenditure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830160" y="1989000"/>
          <a:ext cx="758844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989000"/>
                    <a:ext cx="758844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0" y="6508800"/>
            <a:ext cx="53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WHO. World Health Statistics 201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w Challenges for health system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EE68-D765-4D26-B23B-CEBDCA24737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圆角矩形 4" descr=""/>
          <p:cNvPicPr/>
          <p:nvPr/>
        </p:nvPicPr>
        <p:blipFill>
          <a:blip r:embed="rId1"/>
          <a:stretch/>
        </p:blipFill>
        <p:spPr>
          <a:xfrm>
            <a:off x="785880" y="2030400"/>
            <a:ext cx="3755880" cy="2103480"/>
          </a:xfrm>
          <a:prstGeom prst="rect">
            <a:avLst/>
          </a:prstGeom>
          <a:ln w="0">
            <a:noFill/>
          </a:ln>
        </p:spPr>
      </p:pic>
      <p:pic>
        <p:nvPicPr>
          <p:cNvPr id="130" name="圆角矩形 5" descr=""/>
          <p:cNvPicPr/>
          <p:nvPr/>
        </p:nvPicPr>
        <p:blipFill>
          <a:blip r:embed="rId2"/>
          <a:stretch/>
        </p:blipFill>
        <p:spPr>
          <a:xfrm>
            <a:off x="4883040" y="2103480"/>
            <a:ext cx="3670560" cy="2030400"/>
          </a:xfrm>
          <a:prstGeom prst="rect">
            <a:avLst/>
          </a:prstGeom>
          <a:ln w="0">
            <a:noFill/>
          </a:ln>
        </p:spPr>
      </p:pic>
      <p:pic>
        <p:nvPicPr>
          <p:cNvPr id="131" name="圆角矩形 6" descr=""/>
          <p:cNvPicPr/>
          <p:nvPr/>
        </p:nvPicPr>
        <p:blipFill>
          <a:blip r:embed="rId3"/>
          <a:stretch/>
        </p:blipFill>
        <p:spPr>
          <a:xfrm>
            <a:off x="847800" y="4552920"/>
            <a:ext cx="3674880" cy="2023920"/>
          </a:xfrm>
          <a:prstGeom prst="rect">
            <a:avLst/>
          </a:prstGeom>
          <a:ln w="0">
            <a:noFill/>
          </a:ln>
        </p:spPr>
      </p:pic>
      <p:pic>
        <p:nvPicPr>
          <p:cNvPr id="132" name="圆角矩形 7" descr=""/>
          <p:cNvPicPr/>
          <p:nvPr/>
        </p:nvPicPr>
        <p:blipFill>
          <a:blip r:embed="rId4"/>
          <a:stretch/>
        </p:blipFill>
        <p:spPr>
          <a:xfrm>
            <a:off x="4883040" y="4552920"/>
            <a:ext cx="36705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76D7-361A-454B-B1D7-F1FC7E5AB32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ces Driving Health Reform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affordable access resulting from rising healthcare cost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ly increasing more rapidly than 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high level of economic burden by OO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equalities in health c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ross regions and socioeconomic population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urban and rural are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er expec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2A5F-BC6D-4DC1-8210-AF3B20D535A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Out-of-pocket payment (%)</a:t>
            </a:r>
            <a:endParaRPr b="1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8" name="图片 6" descr=""/>
          <p:cNvPicPr/>
          <p:nvPr/>
        </p:nvPicPr>
        <p:blipFill>
          <a:blip r:embed="rId1"/>
          <a:stretch/>
        </p:blipFill>
        <p:spPr>
          <a:xfrm>
            <a:off x="1150920" y="1854360"/>
            <a:ext cx="6948360" cy="5003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7"/>
          <p:cNvSpPr/>
          <p:nvPr/>
        </p:nvSpPr>
        <p:spPr>
          <a:xfrm>
            <a:off x="30600" y="6576840"/>
            <a:ext cx="37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Report on China’s Health Account Study,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11DD-E712-45C0-A539-F9048FB8376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ealth Care Reform Initiatives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m: guaranteed access for every Chinese resident to basic health c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2011: to obviously improve accessibility and effectively reduce medical expenditure bu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expand health insurance covera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establish the National Essential Medicines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trengthen the primary health services delivery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promote basic public health progra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advance the public hospital reform pil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1:58:46Z</dcterms:created>
  <dc:creator>James</dc:creator>
  <dc:description/>
  <dc:language>en-US</dc:language>
  <cp:lastModifiedBy>James Chen</cp:lastModifiedBy>
  <dcterms:modified xsi:type="dcterms:W3CDTF">2016-03-21T16:41:44Z</dcterms:modified>
  <cp:revision>142</cp:revision>
  <dc:subject/>
  <dc:title>Overview of Health Care Reform in China</dc:title>
</cp:coreProperties>
</file>