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B165-6100-43E6-98FB-5CB1689DACE4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A822-4903-4254-95AE-FEC0E4551E35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017B-DA02-42C9-8C02-67FF002F080C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enate’s filibuster proced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llows individual senators to talk for as long as they like. This has become a much-used technique to halt the legislative process on issues where the senator in question opposes the proposed legislation but lacks the support to win a vote (in a simple majority of 51 votes). The Senate majority can end filibuster by adopting a cloture motion, which requires the support of a qualified majority of 3/5 of the senators (i.e., 60 of 100 senators). Thus, a minority of 41 senators can block a motion to invoke cloture and thus policy 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7D18-572F-40ED-B5F3-5A9827AE4E93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Border tax adjustment: Goods imported from countries without similar constraints on carbon emissions are taxed in accordance with market value of carbon emissions of production in the U.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161-7D6D-407E-A3CB-AE8916FAF4B4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Citation: Obama when he won the Democratic Party’s nomination for the presidential election, cited in The Economist 14 m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1E99-4B28-4B80-99BF-3FF57C125DAB}" type="slidenum">
              <a:rPr b="0" lang="nb-NO" sz="1200" spc="-1" strike="noStrike">
                <a:solidFill>
                  <a:srgbClr val="546d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040" y="385416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1472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5392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380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04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5392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380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040" y="337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1472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385416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1472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392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93800" y="173628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5392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93800" y="3854160"/>
            <a:ext cx="2513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040" y="33768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14720" y="385416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4720" y="1736280"/>
            <a:ext cx="380988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854160"/>
            <a:ext cx="7807320" cy="1933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cicero_jpg2-c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50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15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2" marL="1197000" indent="-239760">
              <a:spcBef>
                <a:spcPts val="1500"/>
              </a:spcBef>
              <a:buClr>
                <a:srgbClr val="667f9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3" marL="1676520" indent="-239760">
              <a:spcBef>
                <a:spcPts val="15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4" marL="2155680" indent="-239400">
              <a:spcBef>
                <a:spcPts val="1500"/>
              </a:spcBef>
              <a:buClr>
                <a:srgbClr val="667f90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5" marL="2155680" indent="-239400">
              <a:spcBef>
                <a:spcPts val="1500"/>
              </a:spcBef>
              <a:buClr>
                <a:srgbClr val="546d7f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6" marL="2155680" indent="-239400">
              <a:spcBef>
                <a:spcPts val="1500"/>
              </a:spcBef>
              <a:buClr>
                <a:srgbClr val="546d7f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  <p:sp>
        <p:nvSpPr>
          <p:cNvPr id="3" name="Text Box 20"/>
          <p:cNvSpPr/>
          <p:nvPr/>
        </p:nvSpPr>
        <p:spPr>
          <a:xfrm>
            <a:off x="8153280" y="6532200"/>
            <a:ext cx="838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64F7-9A1C-4086-B6ED-41EAC2CB238B}" type="slidenum">
              <a:rPr b="0" lang="nb-NO" sz="900" spc="-1" strike="noStrike">
                <a:solidFill>
                  <a:srgbClr val="667f90"/>
                </a:solidFill>
                <a:latin typeface="Lucida Grande"/>
              </a:rPr>
              <a:t>&lt;number&gt;</a:t>
            </a:fld>
            <a:endParaRPr b="0" lang="en-US" sz="9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cicero_jpg2-c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200" spc="-1" strike="noStrike">
                <a:solidFill>
                  <a:srgbClr val="4c4c4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1736280"/>
            <a:ext cx="7807320" cy="405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50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15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2" marL="1197000" indent="-239760">
              <a:spcBef>
                <a:spcPts val="1500"/>
              </a:spcBef>
              <a:buClr>
                <a:srgbClr val="667f90"/>
              </a:buClr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3" marL="1676520" indent="-239760">
              <a:spcBef>
                <a:spcPts val="15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4" marL="2155680" indent="-239400">
              <a:spcBef>
                <a:spcPts val="1500"/>
              </a:spcBef>
              <a:buClr>
                <a:srgbClr val="667f90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5" marL="2155680" indent="-239400">
              <a:spcBef>
                <a:spcPts val="1500"/>
              </a:spcBef>
              <a:buClr>
                <a:srgbClr val="000000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  <a:p>
            <a:pPr lvl="6" marL="2155680" indent="-239400">
              <a:spcBef>
                <a:spcPts val="1500"/>
              </a:spcBef>
              <a:buClr>
                <a:srgbClr val="000000"/>
              </a:buClr>
              <a:buFont typeface="Verdana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667f9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57200" y="1785600"/>
            <a:ext cx="7010640" cy="849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An agenda for change in U.S. climate policy? Presidential ambitions and Congressional power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560" y="3460680"/>
            <a:ext cx="7026120" cy="25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Tora Skodvin and Steinar Andresen (co-author)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(tora.skodvin@cicero.uio.no)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LSE Workshop: Carbon Markets 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London, May 5 2009.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338040"/>
            <a:ext cx="7807320" cy="876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Presidential ambitions: Key points in Obama’s climate policy program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8440" y="1642680"/>
            <a:ext cx="7807320" cy="4429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Make the United States a leader on climate change by rejoining the UN-based negotiation process with an aim to develop an international climate treaty.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0">
              <a:spcBef>
                <a:spcPts val="12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GHG emissions objectives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99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Stabilise GHG emissions at their 1990-levels by 2020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99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80% reduction in GHG emissions from 1990-levels by 2050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99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Economy-wide cap-and-trade, no free allocation of emission credits.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5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Congressional power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1143000"/>
            <a:ext cx="7807320" cy="4648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The president can negotiate international treaties, but only ”with the Advice and Consent of the Senate” (U.S. Constitution, Article II, Section 2);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International treaties require ratification by a 2/3 qualified majority of the Senate (67 votes) (Article II, Section 2);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When ratified, international treaties acquire the same status as federal law and are subjected to the same implementation regime (Article VI)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Implications: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The United States rarely joins international treaties that are not founded on existing federal law.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Ability to take on international leadership role depends on the adoption of  federal climate legislation.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Congress has a significant role to play in the realisation of Obama’s climate policy ambitions.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338040"/>
            <a:ext cx="7807320" cy="73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2008 Elections: Reinforced Democratic majority in both chambers of Congres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040" y="1356840"/>
            <a:ext cx="7807320" cy="443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2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House of Representatives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257 Democrats, 178 Republicans (218 required for majority)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Republicans lost 19 seats in the House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Senate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56 Democrats, 2 independent (that normally vote with the Democrats), 1 undecided (Minnesota)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1 switch from Republican to Democrat (Arlen Specter)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Democrats control a ”filibuster-proof” majority of 60 votes.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800" spc="-1" strike="noStrike">
                <a:solidFill>
                  <a:srgbClr val="4c4c4c"/>
                </a:solidFill>
                <a:latin typeface="Calibri"/>
              </a:rPr>
              <a:t>Ideological dimension important, but regional dimension also significan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95" name="Content Placeholder 11" descr="GHGtargets.gif"/>
          <p:cNvPicPr/>
          <p:nvPr/>
        </p:nvPicPr>
        <p:blipFill>
          <a:blip r:embed="rId1"/>
          <a:stretch/>
        </p:blipFill>
        <p:spPr>
          <a:xfrm>
            <a:off x="4929120" y="1643040"/>
            <a:ext cx="3699000" cy="2476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USA-kullstater.gif"/>
          <p:cNvPicPr/>
          <p:nvPr/>
        </p:nvPicPr>
        <p:blipFill>
          <a:blip r:embed="rId2"/>
          <a:stretch/>
        </p:blipFill>
        <p:spPr>
          <a:xfrm>
            <a:off x="714240" y="1643040"/>
            <a:ext cx="3805200" cy="2481120"/>
          </a:xfrm>
          <a:prstGeom prst="rect">
            <a:avLst/>
          </a:prstGeom>
          <a:ln w="0">
            <a:noFill/>
          </a:ln>
        </p:spPr>
      </p:pic>
      <p:sp>
        <p:nvSpPr>
          <p:cNvPr id="97" name="TextBox 9"/>
          <p:cNvSpPr/>
          <p:nvPr/>
        </p:nvSpPr>
        <p:spPr>
          <a:xfrm>
            <a:off x="720000" y="442908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546d7f"/>
                </a:solidFill>
                <a:latin typeface="Calibri"/>
              </a:rPr>
              <a:t>Coal-producing states</a:t>
            </a:r>
            <a:endParaRPr b="0" lang="en-US" sz="18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5143680" y="4429080"/>
            <a:ext cx="31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546d7f"/>
                </a:solidFill>
                <a:latin typeface="Verdana"/>
              </a:rPr>
              <a:t>States with GHG emissions targets</a:t>
            </a:r>
            <a:endParaRPr b="0" lang="en-US" sz="14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909360" y="4786200"/>
            <a:ext cx="27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546d7f"/>
                </a:solidFill>
                <a:latin typeface="Verdana"/>
              </a:rPr>
              <a:t>Source: Energy Information Administration,</a:t>
            </a:r>
            <a:endParaRPr b="0" lang="en-US" sz="1000" spc="-1" strike="noStrike">
              <a:solidFill>
                <a:srgbClr val="546d7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546d7f"/>
                </a:solidFill>
                <a:latin typeface="Verdana"/>
              </a:rPr>
              <a:t>http://www.eia.doe.gov/</a:t>
            </a:r>
            <a:endParaRPr b="0" lang="en-US" sz="1000" spc="-1" strike="noStrike">
              <a:solidFill>
                <a:srgbClr val="546d7f"/>
              </a:solidFill>
              <a:latin typeface="Verdana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5364000" y="5000760"/>
            <a:ext cx="294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546d7f"/>
                </a:solidFill>
                <a:latin typeface="Verdana"/>
              </a:rPr>
              <a:t>Source: Pew Center on Global Climate Change,</a:t>
            </a:r>
            <a:endParaRPr b="0" lang="en-US" sz="1000" spc="-1" strike="noStrike">
              <a:solidFill>
                <a:srgbClr val="546d7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546d7f"/>
                </a:solidFill>
                <a:latin typeface="Verdana"/>
              </a:rPr>
              <a:t>http://www.pewclimate.org/</a:t>
            </a:r>
            <a:endParaRPr b="0" lang="en-US" sz="1000" spc="-1" strike="noStrike">
              <a:solidFill>
                <a:srgbClr val="546d7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338040"/>
            <a:ext cx="7807320" cy="876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The regional conflict dimension in the Congressional climate policy debate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040" y="1285560"/>
            <a:ext cx="7807320" cy="4505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1720" indent="-3517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110th Congress: Group of 10+ Democratic senators signaled their opposition to the Warner-Lieberman proposal;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Coal-producing states strongly represented;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Support, in principle, mandatory GHG emissions regulations;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But do not support ambitious and costly measures (particularly short term).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marL="351720" indent="-3517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111th Congress: Observers have identified 43 undecided senators;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12: ”Probably yes”, 10: ”Probably no”, 21: ”Fence sitters”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62120" indent="-292320">
              <a:spcBef>
                <a:spcPts val="400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56% of the ”Fence sitters” are Democrats, 71% represent coal-producing states. </a:t>
            </a:r>
            <a:r>
              <a:rPr b="0" lang="nb-NO" sz="1600" spc="-1" strike="noStrike">
                <a:solidFill>
                  <a:srgbClr val="667f90"/>
                </a:solidFill>
                <a:latin typeface="Verdana"/>
              </a:rPr>
              <a:t>(Source: Environment &amp; Energy Publishing, www.eenews.net) </a:t>
            </a:r>
            <a:endParaRPr b="0" lang="en-US" sz="1600" spc="-1" strike="noStrike">
              <a:solidFill>
                <a:srgbClr val="667f90"/>
              </a:solidFill>
              <a:latin typeface="Verdana"/>
            </a:endParaRPr>
          </a:p>
          <a:p>
            <a:pPr marL="351720" indent="-3517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These senators will not vote for climate policy legislation that conflicts with the interests of their constituencies.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338040"/>
            <a:ext cx="7807320" cy="519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What could U.S. climate legislation look like?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040" y="1143000"/>
            <a:ext cx="7807320" cy="4648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Level of ambition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Most proposals less ambitious than, for instance, EU position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Short-term targets (2020) likely to be more controversial than long-term targets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Policy instruments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All proposals include cap-and-trade provisions, but acceptability linked to system design.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Notably, cost containment mechanism is likely: ”Safety valve” or ”Carbon market Efficiency Board”. A ”hybrid” system (trade </a:t>
            </a:r>
            <a:r>
              <a:rPr b="0" lang="nb-NO" sz="1700" spc="-1" strike="noStrike">
                <a:solidFill>
                  <a:srgbClr val="667f90"/>
                </a:solidFill>
                <a:latin typeface="Times New Roman"/>
              </a:rPr>
              <a:t>→ </a:t>
            </a: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tax) would imply incompatibility with the EU ETS.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250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000" spc="-1" strike="noStrike">
                <a:solidFill>
                  <a:srgbClr val="667f90"/>
                </a:solidFill>
                <a:latin typeface="Verdana"/>
              </a:rPr>
              <a:t>Concern about risk of ”carbon leakage”: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lvl="1" marL="777960" indent="-298440">
              <a:spcBef>
                <a:spcPts val="425"/>
              </a:spcBef>
              <a:buClr>
                <a:srgbClr val="667f90"/>
              </a:buClr>
              <a:buFont typeface="Verdana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700" spc="-1" strike="noStrike">
                <a:solidFill>
                  <a:srgbClr val="667f90"/>
                </a:solidFill>
                <a:latin typeface="Verdana"/>
              </a:rPr>
              <a:t>All proposals include ”border tax adjustment” or similar measure to protect competitiveness of U.S. industry.</a:t>
            </a:r>
            <a:endParaRPr b="0" lang="en-US" sz="17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590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New opportunities offered by the financial crisis: A ”Green New Deal”?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428840"/>
            <a:ext cx="7807320" cy="4362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Economic stimulus package of USD 700+ billion adopted in February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Key feature: linkage of economic, energy security and climate change issues. 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Energy-related provisions will have low impact on GHG emissions unless they are combined with comprehensive climate legislation that puts a price on carbon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lvl="1"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Educational effect: GHG measures can be economically profitable and serve other purposes linked to energy security. 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lvl="1"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But: Republicans sceptical of this argument. Congressional vote on stimulus reveals deep partisan (ideological) split. 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337680"/>
            <a:ext cx="7807320" cy="662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2400" spc="-1" strike="noStrike">
                <a:solidFill>
                  <a:srgbClr val="4c4c4c"/>
                </a:solidFill>
                <a:latin typeface="Verdana"/>
              </a:rPr>
              <a:t>Prospects for change in U.S. climate policy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999720"/>
            <a:ext cx="7807320" cy="528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12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nb-NO" sz="2000" spc="-1" strike="noStrike">
                <a:solidFill>
                  <a:srgbClr val="667f90"/>
                </a:solidFill>
                <a:latin typeface="Verdana"/>
              </a:rPr>
              <a:t>”</a:t>
            </a:r>
            <a:r>
              <a:rPr b="0" i="1" lang="nb-NO" sz="2000" spc="-1" strike="noStrike">
                <a:solidFill>
                  <a:srgbClr val="667f90"/>
                </a:solidFill>
                <a:latin typeface="Verdana"/>
              </a:rPr>
              <a:t>This was the moment when the rise of the oceans began to slow and our planet began to heal” </a:t>
            </a:r>
            <a:endParaRPr b="0" lang="en-US" sz="20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President Obama has embarked on a shift in U.S. climate policy both at the domestic and international levels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Mobilising sufficient Congessional support for  federal climate legislation will be challenging even with a reinforced democratic majority in Congress. 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Federal climate legislation may be adopted in 2010 at the earliest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Obama’s delegation will likely go to Copenhagen without a clear Congressional mandate. Important not to repeat the mistakes of the Clinton administration in Kyoto: U.S. commitments must be negotiated on the basis of status in the domestic decision-making process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  <a:p>
            <a:pPr marL="358920" indent="-358920">
              <a:spcBef>
                <a:spcPts val="1125"/>
              </a:spcBef>
              <a:buClr>
                <a:srgbClr val="667f90"/>
              </a:buClr>
              <a:buSzPct val="115000"/>
              <a:buFont typeface="Verdana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nb-NO" sz="1800" spc="-1" strike="noStrike">
                <a:solidFill>
                  <a:srgbClr val="667f90"/>
                </a:solidFill>
                <a:latin typeface="Verdana"/>
              </a:rPr>
              <a:t>Even with federal legislation in place, the stretch from 60 to 67 votes in the Senate may be a long one.</a:t>
            </a:r>
            <a:endParaRPr b="0" lang="en-US" sz="1800" spc="-1" strike="noStrike">
              <a:solidFill>
                <a:srgbClr val="667f9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0:17:27Z</dcterms:created>
  <dc:creator>torahe</dc:creator>
  <dc:description/>
  <dc:language>en-US</dc:language>
  <cp:lastModifiedBy>torahe</cp:lastModifiedBy>
  <dcterms:modified xsi:type="dcterms:W3CDTF">2009-05-07T13:11:11Z</dcterms:modified>
  <cp:revision>104</cp:revision>
  <dc:subject/>
  <dc:title>An agenda for change in U.S. climate policy? Presidential ambitions and Congressional powers</dc:title>
</cp:coreProperties>
</file>