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DB3-62CE-4803-9BF5-7671D535023C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22CA-58AC-4788-BDC9-44FD825FCB86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9395-A08D-407C-A3C8-CD41BFC4B1CB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enate’s filibuster proced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llows individual senators to talk for as long as they like. This has become a much-used technique to halt the legislative process on issues where the senator in question opposes the proposed legislation but lacks the support to win a vote (in a simple majority of 51 votes). The Senate majority can end filibuster by adopting a cloture motion, which requires the support of a qualified majority of 3/5 of the senators (i.e., 60 of 100 senators). Thus, a minority of 41 senators can block a motion to invoke cloture and thus policy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9D15-E8A4-498B-BCEF-179BAFA11104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Border tax adjustment: Goods imported from countries without similar constraints on carbon emissions are taxed in accordance with market value of carbon emissions of production in the U.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DDED-9316-4EA7-98FA-28568AD89D47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Citation: Obama when he won the Democratic Party’s nomination for the presidential election, cited in The Economist 14 m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7FB-5E88-46AE-A8B6-BE45A180DABB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380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04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380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040" y="337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92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9380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5392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9380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337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icero_jpg2-c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50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2" marL="1197000" indent="-239760">
              <a:spcBef>
                <a:spcPts val="1500"/>
              </a:spcBef>
              <a:buClr>
                <a:srgbClr val="667f9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3" marL="1676520" indent="-23976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4" marL="2155680" indent="-239400">
              <a:spcBef>
                <a:spcPts val="1500"/>
              </a:spcBef>
              <a:buClr>
                <a:srgbClr val="667f9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5" marL="2155680" indent="-239400">
              <a:spcBef>
                <a:spcPts val="1500"/>
              </a:spcBef>
              <a:buClr>
                <a:srgbClr val="546d7f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6" marL="2155680" indent="-239400">
              <a:spcBef>
                <a:spcPts val="1500"/>
              </a:spcBef>
              <a:buClr>
                <a:srgbClr val="546d7f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8153280" y="6532200"/>
            <a:ext cx="838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5B2-5292-47F1-AB71-A643DC8C1FEA}" type="slidenum">
              <a:rPr b="0" lang="nb-NO" sz="900" spc="-1" strike="noStrike">
                <a:solidFill>
                  <a:srgbClr val="667f90"/>
                </a:solidFill>
                <a:latin typeface="Lucida Grande"/>
              </a:rPr>
              <a:t>&lt;number&gt;</a:t>
            </a:fld>
            <a:endParaRPr b="0" lang="en-US" sz="9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cicero_jpg2-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50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2" marL="1197000" indent="-239760">
              <a:spcBef>
                <a:spcPts val="1500"/>
              </a:spcBef>
              <a:buClr>
                <a:srgbClr val="667f9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3" marL="1676520" indent="-23976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4" marL="2155680" indent="-239400">
              <a:spcBef>
                <a:spcPts val="1500"/>
              </a:spcBef>
              <a:buClr>
                <a:srgbClr val="667f9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5" marL="2155680" indent="-239400">
              <a:spcBef>
                <a:spcPts val="1500"/>
              </a:spcBef>
              <a:buClr>
                <a:srgbClr val="00000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6" marL="2155680" indent="-239400">
              <a:spcBef>
                <a:spcPts val="1500"/>
              </a:spcBef>
              <a:buClr>
                <a:srgbClr val="00000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57200" y="1785600"/>
            <a:ext cx="7010640" cy="849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An agenda for change in U.S. climate policy? Presidential ambitions and Congressional power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60680"/>
            <a:ext cx="7026120" cy="25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Tora Skodvin and Steinar Andresen (co-author)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(tora.skodvin@cicero.uio.no)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LSE Workshop: Carbon Markets 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London, May 5 2009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876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Presidential ambitions: Key points in Obama’s climate policy program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807320" cy="4429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Make the United States a leader on climate change by rejoining the UN-based negotiation process with an aim to develop an international climate treaty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0">
              <a:spcBef>
                <a:spcPts val="12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GHG emissions objective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Stabilise GHG emissions at their 1990-levels by 2020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80% reduction in GHG emissions from 1990-levels by 2050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Economy-wide cap-and-trade, no free allocation of emission credit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5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Congressional power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1143000"/>
            <a:ext cx="7807320" cy="4648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The president can negotiate international treaties, but only ”with the Advice and Consent of the Senate” (U.S. Constitution, Article II, Section 2);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International treaties require ratification by a 2/3 qualified majority of the Senate (67 votes) (Article II, Section 2);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When ratified, international treaties acquire the same status as federal law and are subjected to the same implementation regime (Article VI)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Implications: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The United States rarely joins international treaties that are not founded on existing federal law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Ability to take on international leadership role depends on the adoption of  federal climate legislation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Congress has a significant role to play in the realisation of Obama’s climate policy ambitions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73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2008 Elections: Reinforced Democratic majority in both chambers of Congres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1356840"/>
            <a:ext cx="7807320" cy="443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House of Representative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257 Democrats, 178 Republicans (218 required for majority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Republicans lost 19 seats in the House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Senate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56 Democrats, 2 independent (that normally vote with the Democrats), 1 undecided (Minnesota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 switch from Republican to Democrat (Arlen Specter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Democrats control a ”filibuster-proof” majority of 60 vote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800" spc="-1" strike="noStrike">
                <a:solidFill>
                  <a:srgbClr val="4c4c4c"/>
                </a:solidFill>
                <a:latin typeface="Calibri"/>
              </a:rPr>
              <a:t>Ideological dimension important, but regional dimension also significan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95" name="Content Placeholder 11" descr="GHGtargets.gif"/>
          <p:cNvPicPr/>
          <p:nvPr/>
        </p:nvPicPr>
        <p:blipFill>
          <a:blip r:embed="rId1"/>
          <a:stretch/>
        </p:blipFill>
        <p:spPr>
          <a:xfrm>
            <a:off x="4929120" y="1643040"/>
            <a:ext cx="3699000" cy="247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USA-kullstater.gif"/>
          <p:cNvPicPr/>
          <p:nvPr/>
        </p:nvPicPr>
        <p:blipFill>
          <a:blip r:embed="rId2"/>
          <a:stretch/>
        </p:blipFill>
        <p:spPr>
          <a:xfrm>
            <a:off x="714240" y="1643040"/>
            <a:ext cx="3805200" cy="2481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720000" y="442908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46d7f"/>
                </a:solidFill>
                <a:latin typeface="Calibri"/>
              </a:rPr>
              <a:t>Coal-producing states</a:t>
            </a:r>
            <a:endParaRPr b="0" lang="en-US" sz="18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143680" y="4429080"/>
            <a:ext cx="31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546d7f"/>
                </a:solidFill>
                <a:latin typeface="Verdana"/>
              </a:rPr>
              <a:t>States with GHG emissions targets</a:t>
            </a:r>
            <a:endParaRPr b="0" lang="en-US" sz="14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909360" y="4786200"/>
            <a:ext cx="27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Source: Energy Information Administration,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http://www.eia.doe.gov/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5364000" y="5000760"/>
            <a:ext cx="294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Source: Pew Center on Global Climate Change,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http://www.pewclimate.org/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876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The regional conflict dimension in the Congressional climate policy debate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285560"/>
            <a:ext cx="7807320" cy="450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10th Congress: Group of 10+ Democratic senators signaled their opposition to the Warner-Lieberman proposal;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Coal-producing states strongly represented;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Support, in principle, mandatory GHG emissions regulations;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But do not support ambitious and costly measures (particularly short term)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11th Congress: Observers have identified 43 undecided senators;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12: ”Probably yes”, 10: ”Probably no”, 21: ”Fence sitters”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56% of the ”Fence sitters” are Democrats, 71% represent coal-producing states. </a:t>
            </a: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(Source: Environment &amp; Energy Publishing, www.eenews.net) 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These senators will not vote for climate policy legislation that conflicts with the interests of their constituencie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519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What could U.S. climate legislation look like?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040" y="1143000"/>
            <a:ext cx="7807320" cy="4648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Level of ambition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Most proposals less ambitious than, for instance, EU position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Short-term targets (2020) likely to be more controversial than long-term targets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Policy instrument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All proposals include cap-and-trade provisions, but acceptability linked to system design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Notably, cost containment mechanism is likely: ”Safety valve” or ”Carbon market Efficiency Board”. A ”hybrid” system (trade </a:t>
            </a:r>
            <a:r>
              <a:rPr b="0" lang="nb-NO" sz="1700" spc="-1" strike="noStrike">
                <a:solidFill>
                  <a:srgbClr val="667f90"/>
                </a:solidFill>
                <a:latin typeface="Times New Roman"/>
              </a:rPr>
              <a:t>→ </a:t>
            </a: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tax) would imply incompatibility with the EU ETS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Concern about risk of ”carbon leakage”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All proposals include ”border tax adjustment” or similar measure to protect competitiveness of U.S. industry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5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New opportunities offered by the financial crisis: A ”Green New Deal”?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428840"/>
            <a:ext cx="7807320" cy="436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conomic stimulus package of USD 700+ billion adopted in February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Key feature: linkage of economic, energy security and climate change issues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nergy-related provisions will have low impact on GHG emissions unless they are combined with comprehensive climate legislation that puts a price on carbon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ducational effect: GHG measures can be economically profitable and serve other purposes linked to energy security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But: Republicans sceptical of this argument. Congressional vote on stimulus reveals deep partisan (ideological) split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Prospects for change in U.S. climate policy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999720"/>
            <a:ext cx="7807320" cy="528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nb-NO" sz="2000" spc="-1" strike="noStrike">
                <a:solidFill>
                  <a:srgbClr val="667f90"/>
                </a:solidFill>
                <a:latin typeface="Verdana"/>
              </a:rPr>
              <a:t>”</a:t>
            </a:r>
            <a:r>
              <a:rPr b="0" i="1" lang="nb-NO" sz="2000" spc="-1" strike="noStrike">
                <a:solidFill>
                  <a:srgbClr val="667f90"/>
                </a:solidFill>
                <a:latin typeface="Verdana"/>
              </a:rPr>
              <a:t>This was the moment when the rise of the oceans began to slow and our planet began to heal” 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President Obama has embarked on a shift in U.S. climate policy both at the domestic and international levels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Mobilising sufficient Congessional support for  federal climate legislation will be challenging even with a reinforced democratic majority in Congress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Federal climate legislation may be adopted in 2010 at the earliest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Obama’s delegation will likely go to Copenhagen without a clear Congressional mandate. Important not to repeat the mistakes of the Clinton administration in Kyoto: U.S. commitments must be negotiated on the basis of status in the domestic decision-making process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ven with federal legislation in place, the stretch from 60 to 67 votes in the Senate may be a long one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0:17:27Z</dcterms:created>
  <dc:creator>torahe</dc:creator>
  <dc:description/>
  <dc:language>en-US</dc:language>
  <cp:lastModifiedBy>torahe</cp:lastModifiedBy>
  <dcterms:modified xsi:type="dcterms:W3CDTF">2009-05-07T13:11:11Z</dcterms:modified>
  <cp:revision>104</cp:revision>
  <dc:subject/>
  <dc:title>An agenda for change in U.S. climate policy? Presidential ambitions and Congressional powers</dc:title>
</cp:coreProperties>
</file>