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6BA5-9764-4B80-B4CC-4AB4B6DED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C0BF-2724-426D-AF25-247909C94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ies rapid commercialization of CCS, many nuclear plants are replaced and new improved ones built – additional 30% capacity should be inst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wer and Heat contributed 40% of global C02 from fuel combustion. 70% of this from coal fire power sta. China builds 1 per week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ies rapid commercialization of CCS, many nuclear plants are replaced and new improved ones built – additional 30% capacity should be inst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ies rapid commercialization of CCS, many nuclear plants are replaced and new improved ones built – additional 30% capacity should be inst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4D3-8327-4E24-B261-BF18656F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840-D7E9-4AE8-8724-899AA44B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7E2-C035-4176-970E-59203A7D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C1D-F05E-4FC6-8D56-0FBCD96D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B3BE-3F9E-42C4-8994-143EE582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2CBF-F526-4B32-9E89-2109EA2E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4A2A-7C7D-4082-9A04-2B4B937B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AC45-F774-4EF1-8FB8-CF3E64BB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8E53-D9B6-4CF1-89CD-BC9EEE55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C89A-1270-4801-918C-25C516E0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A969-6683-490F-87C9-9692A5CB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D61-B4A8-4CA4-B0E0-37DBADA3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6A06-031A-40EA-B86F-05B26A4D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BB66-E5C5-48A5-93D0-447BA0C9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C2CF-319A-4EBA-8003-AABCACF3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4BDC-507C-49D8-A1E4-54FF2C72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9038-42DC-4663-9977-2111A906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E8691-D4ED-4F15-BB2E-7B88AFCF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EAF7B-FDD2-4951-81B7-AC19CD92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6DE9C-36CF-4D1B-BDAC-E571E217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58A70-D22C-4572-87F0-B23C46EC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12661-0F15-410B-894D-ED1EA0DE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4E7-9975-44F1-93A1-0D0B670B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50673-8618-4C84-8853-425387A6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B9E95-3AF7-441E-938B-C4C72CEB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EA338-D301-4448-B388-9E2C4E2C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623B1-3EB2-4255-A1F6-F3C6A86B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9D15D-4135-459E-B62A-6160D45C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158BF-492A-40B7-B243-8171FD52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498FE-EDDF-45D5-A98E-25889B2E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11D3E-BCAD-4A48-B4B6-E88CFB5B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0C1A3-20A0-41BF-94FC-94526FE9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38FED-3B65-426B-A549-37FA626E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652-5097-4A20-82CE-C3C0912A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5C93A-2864-4717-84B3-69B959E3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CE934-3991-4F7E-8C3C-F08FC9A6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2D4C9-0789-4808-BC05-C62E7305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7DC38C-CEDF-4C50-A1D5-9671D204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C8E5C-371B-4963-BF08-F261A480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F324E-A307-4F78-B836-2B1607C2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562909-1122-4A22-B1E3-E6BB4239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E641F-2C04-49F7-BD9B-C734B8ED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8A5AC-75FB-420F-938F-A4A4EAEF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7B0479-79CC-4DCD-8116-791EC75B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08A-9745-4F6C-B259-87C4DA45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8C786-8C80-4CD1-AD21-38E3A186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D8A0E-E29B-4A51-8F84-C1B28320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02D72-8AB8-42AF-BB49-A0687F23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51E46-DCC3-4D73-AEA8-48D098DD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C2110-109B-4785-A73C-9F051051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1667F-24E6-4237-A240-BEAA5E2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6D600-7030-4053-83CC-C2DF9517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D137E-CAE1-4811-B583-DB53E90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598BA-6B37-4872-B59B-79A933F0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FEBF97-9572-4862-B238-B6FF59FF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B88-BB4B-4D1C-ACF5-9FF4FF98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4EF057-D574-4125-BEB0-6D6D0C15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89344-62AC-432F-B1EA-A330A01E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775F2-D915-459D-80BC-9C37D77F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8759-9713-4EFC-998E-EF12B71A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FBC97-EA7F-40D9-A5AE-CE634E75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3F71F-27F4-412E-A7B0-B3864DBB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B70B-8741-4C96-91D9-E9133E55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EF09C-E1BF-4BEA-B932-0A1A5EC2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F728C-9BB9-46E5-A137-C6FE195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F859B-EFB2-4A46-969C-78E14C0A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42E-9822-435B-A592-B4A6925F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17F7A-55B0-4A44-BF0F-76C3A3F6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B556-A65D-42C3-BB16-272D6E3D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483B7-DF05-4D32-9114-A9FDBA27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A1E71-A785-4068-92A5-ADA37ADB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FE8C2-E105-46BD-897A-6C690889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0486FC-B1F4-45CD-A414-D865718B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90F90-231F-4F5E-81C3-1D1D1BC0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20128-1A58-47FC-A371-6AB1B7E2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26412-03EE-4E62-8B14-FB1F1BB5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26441-AA9A-459A-BABA-FE0DE781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7E5-24D0-4A6E-8BCD-B1192503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6D7D2-98FE-4A0D-97BE-550FCFD4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D823C-9B48-4DC3-9E2C-0E2FD1D9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6305C-835F-4DB6-A48E-F03C5E6A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0C13C-EF4F-4DF5-AAE3-BA56BF62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1E325-C8EC-41D2-AFFA-D75FA230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4B04B-617A-44A7-8EB9-695B96CF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86519-D94B-4796-B652-1DB2206D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2D566-AEE0-4DF1-8FCF-8324E56E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25ABF-71C5-439B-A4DF-A2CC0FEE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C492E-17DE-4EAA-AA34-B0713B77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5D2-F877-46A6-90BD-D9363E3F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F7835-66DF-401D-9BB5-F8ADC8EE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B28AF-DC5C-46F9-8BBE-943FF67A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E14B6-9DD4-40D1-A29A-A6BE5D7C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7F6C2-12F7-4CA8-A251-F5373D5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F0FB2-A438-49AE-AC2F-21C232C1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24486-52D8-49F3-83BA-A0B57587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4889D-804B-4ACA-8AF1-CF92FB06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1CD-458A-46D6-8227-1D235D6BE192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F0BF-6CD6-4D4B-A328-379F88D7622E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EB77-52F1-479A-86A4-32FE35F69429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D765-70C5-468A-A4D2-169998D503A0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A598-0233-4E20-A9E9-7126FA78E46F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AD87-210D-46CC-9AEB-C54157D73335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D21C-927E-4A4A-AFDA-2220C2E19DFE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B071-3F31-4CF5-8277-F79DED2A1BF0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ox.ac.uk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x.ac.uk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1848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bddc3"/>
                </a:solidFill>
                <a:latin typeface="Tw Cen MT"/>
              </a:rPr>
              <a:t>Governance Effects of Emerging Carbon Markets: </a:t>
            </a:r>
            <a:br>
              <a:rPr sz="3200"/>
            </a:br>
            <a:r>
              <a:rPr b="1" lang="en-GB" sz="3200" spc="-1" strike="noStrike">
                <a:solidFill>
                  <a:srgbClr val="ebddc3"/>
                </a:solidFill>
                <a:latin typeface="Tw Cen MT"/>
              </a:rPr>
              <a:t>Insights From UK-Listed Companies</a:t>
            </a:r>
            <a:endParaRPr b="0" lang="en-US" sz="3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000400" y="6049440"/>
            <a:ext cx="40669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Tw Cen MT"/>
              </a:rPr>
              <a:t>Chukwumerije Okerek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nl-NL" sz="2200" spc="-1" strike="noStrike">
                <a:solidFill>
                  <a:srgbClr val="ffffff"/>
                </a:solidFill>
                <a:latin typeface="Tw Cen MT"/>
              </a:rPr>
              <a:t>5th May 2009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8" descr="http://cache.eb.com/eb/image?id=91641&amp;rendTypeId=4"/>
          <p:cNvPicPr/>
          <p:nvPr/>
        </p:nvPicPr>
        <p:blipFill>
          <a:blip r:embed="rId1"/>
          <a:stretch/>
        </p:blipFill>
        <p:spPr>
          <a:xfrm>
            <a:off x="1835280" y="2708280"/>
            <a:ext cx="5130720" cy="28814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0" y="6164280"/>
            <a:ext cx="212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SMITH SCHOOL OF ENTERPRI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nd the ENVIRONMENT  (SSE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0" descr="University of Oxfor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57280" y="6072120"/>
            <a:ext cx="2462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6760" y="228600"/>
            <a:ext cx="857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Effect 3: Increased Efficiency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785920" y="1600200"/>
            <a:ext cx="29797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eady Growt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lobal Reac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http://www.americansforamericanenergy.org/Portals/AAE/images/Efficiency_light_bulb.JPG"/>
          <p:cNvPicPr/>
          <p:nvPr/>
        </p:nvPicPr>
        <p:blipFill>
          <a:blip r:embed="rId2"/>
          <a:stretch/>
        </p:blipFill>
        <p:spPr>
          <a:xfrm>
            <a:off x="714240" y="1495440"/>
            <a:ext cx="3357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14200"/>
            <a:ext cx="832032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Arial"/>
                <a:ea typeface="Arial"/>
              </a:rPr>
              <a:t>Effect 4: Reduced Effectiveness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8" name="Picture 2" descr="http://geology.com/news/images/climate-change-animation.jpg"/>
          <p:cNvPicPr/>
          <p:nvPr/>
        </p:nvPicPr>
        <p:blipFill>
          <a:blip r:embed="rId1"/>
          <a:stretch/>
        </p:blipFill>
        <p:spPr>
          <a:xfrm>
            <a:off x="214200" y="1571760"/>
            <a:ext cx="4429080" cy="5286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www.rushprnews.com/press/wp-content/2008/12/climate-change.jpg"/>
          <p:cNvPicPr/>
          <p:nvPr/>
        </p:nvPicPr>
        <p:blipFill>
          <a:blip r:embed="rId2"/>
          <a:stretch/>
        </p:blipFill>
        <p:spPr>
          <a:xfrm>
            <a:off x="4714920" y="4071960"/>
            <a:ext cx="4429080" cy="278604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6"/>
          <p:cNvSpPr/>
          <p:nvPr/>
        </p:nvSpPr>
        <p:spPr>
          <a:xfrm>
            <a:off x="4929120" y="1714680"/>
            <a:ext cx="38577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stion of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2" name="Picture 5" descr="GHG-by-Sector"/>
          <p:cNvPicPr/>
          <p:nvPr/>
        </p:nvPicPr>
        <p:blipFill>
          <a:blip r:embed="rId1"/>
          <a:stretch/>
        </p:blipFill>
        <p:spPr>
          <a:xfrm>
            <a:off x="1258920" y="411120"/>
            <a:ext cx="763416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8408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775f55"/>
                </a:solidFill>
                <a:latin typeface="Arial"/>
                <a:ea typeface="Arial"/>
              </a:rPr>
              <a:t>A 550ppm 2050 World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oal use grows by 50% comapre to 2002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ut half of gen. capapcity uses CC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tural Gas is largest fossil contributor to electricty ge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mplies 3ple 2002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ighly effeicnt coal and gas facilit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de deployment of CHP uni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uclear gen grows 3ple 2002 lev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Rapid Grwoth in Renewab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d increase 160-fold 911% p.a; Solar grows at ca. 205 p.a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57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Arial"/>
                <a:ea typeface="Arial"/>
              </a:rPr>
              <a:t>A 550ppm 2050 World Contd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a. 1 billion vehicles on worlds road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20% ghg Emiss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a. 2 billion 205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viation emissions will 3ble by 2050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  <a:ea typeface="Arial"/>
              </a:rPr>
              <a:t>High effeiciny hydrogen vehicl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  <a:ea typeface="Arial"/>
              </a:rPr>
              <a:t>Biomass fu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  <a:ea typeface="Arial"/>
              </a:rPr>
              <a:t>Hybrid ca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  <a:ea typeface="Arial"/>
              </a:rPr>
              <a:t>Wider use of dies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  <a:ea typeface="Arial"/>
              </a:rPr>
              <a:t>Rail transport (up by 7%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75f55"/>
                </a:solidFill>
                <a:latin typeface="Arial"/>
              </a:rPr>
              <a:t>Reduction Pathway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rcRect l="22176" t="31518" r="20604" b="14722"/>
          <a:stretch/>
        </p:blipFill>
        <p:spPr>
          <a:xfrm>
            <a:off x="468360" y="1844640"/>
            <a:ext cx="8496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42976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75f55"/>
                </a:solidFill>
                <a:latin typeface="Arial"/>
                <a:ea typeface="Arial"/>
              </a:rPr>
              <a:t>More Renewable Urgently Needed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6" name="Picture 5" descr="energycharts"/>
          <p:cNvPicPr/>
          <p:nvPr/>
        </p:nvPicPr>
        <p:blipFill>
          <a:blip r:embed="rId1"/>
          <a:srcRect l="0" t="0" r="0" b="47117"/>
          <a:stretch/>
        </p:blipFill>
        <p:spPr>
          <a:xfrm>
            <a:off x="468360" y="1484280"/>
            <a:ext cx="828036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75f55"/>
                </a:solidFill>
                <a:latin typeface="Arial"/>
              </a:rPr>
              <a:t>The Dominance of Co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rcRect l="20604" t="29834" r="20081" b="7999"/>
          <a:stretch/>
        </p:blipFill>
        <p:spPr>
          <a:xfrm>
            <a:off x="539640" y="1528920"/>
            <a:ext cx="8136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09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Conclus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he private sector matt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rket a useful compon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aution however requir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ate’s role very crucial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Strategic approach neede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he international dimension essenti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775f55"/>
                </a:solidFill>
                <a:latin typeface="Arial"/>
                <a:ea typeface="Arial"/>
              </a:rPr>
              <a:t>Outl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Contex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ample and Signific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natomy of Govern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4 Key Governance Impacts of Emerging Carbon Marke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Summary and Conclu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0" descr="University of Oxfor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1"/>
          <p:cNvSpPr/>
          <p:nvPr/>
        </p:nvSpPr>
        <p:spPr>
          <a:xfrm>
            <a:off x="142920" y="6301080"/>
            <a:ext cx="400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nd the ENVIRONMENT- S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75f55"/>
                </a:solidFill>
                <a:latin typeface="Arial"/>
                <a:ea typeface="Arial"/>
              </a:rPr>
              <a:t>Sampl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85840" y="1571760"/>
          <a:ext cx="8215200" cy="496872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h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chulmb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ining and 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HP Billi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cottish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ent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olar Centu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usiness Organis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K-BC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K-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oc. of Electricity Gen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ovt. Dep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nvironment A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F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R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ristian 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reen Pe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imate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bon Tr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bon Neu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Material Impac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Arial"/>
                <a:ea typeface="Arial"/>
              </a:rPr>
              <a:t>Greehouse Gas Emiss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% of UK Emiss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5 Companies accounted for over 67% of FTSE 10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hell, BP, BHP Billiton, Scottish Power, Coru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nual direct =304 million tonnes =Poland/Spai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nual indirect =2 billion =Canada+UK=Ind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6"/>
          <p:cNvSpPr/>
          <p:nvPr/>
        </p:nvSpPr>
        <p:spPr>
          <a:xfrm>
            <a:off x="250920" y="629856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 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Material Impac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50920" y="5733720"/>
            <a:ext cx="81532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Tw Cen MT"/>
              </a:rPr>
              <a:t>Source CDP 2008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6"/>
          <p:cNvSpPr/>
          <p:nvPr/>
        </p:nvSpPr>
        <p:spPr>
          <a:xfrm>
            <a:off x="250920" y="629856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 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468360" y="1773360"/>
          <a:ext cx="8280360" cy="3843360"/>
        </p:xfrm>
        <a:graphic>
          <a:graphicData uri="http://schemas.openxmlformats.org/drawingml/2006/table">
            <a:tbl>
              <a:tblPr/>
              <a:tblGrid>
                <a:gridCol w="1366920"/>
                <a:gridCol w="2305080"/>
                <a:gridCol w="2303280"/>
                <a:gridCol w="230508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99"/>
                          </a:solidFill>
                          <a:latin typeface="Tw Cen MT"/>
                        </a:rPr>
                        <a:t>FTSE 35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99"/>
                          </a:solidFill>
                          <a:latin typeface="Tw Cen MT"/>
                        </a:rPr>
                        <a:t>S&amp;P 5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99"/>
                          </a:solidFill>
                          <a:latin typeface="Tw Cen MT"/>
                        </a:rPr>
                        <a:t>Global 5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% Respons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cope 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5 MtCO2-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7 B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,690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cope 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dd8047"/>
                          </a:solidFill>
                          <a:latin typeface="Tw Cen MT"/>
                        </a:rPr>
                        <a:t>122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dd8047"/>
                          </a:solidFill>
                          <a:latin typeface="Tw Cen MT"/>
                        </a:rPr>
                        <a:t>253.7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dd8047"/>
                          </a:solidFill>
                          <a:latin typeface="Tw Cen MT"/>
                        </a:rPr>
                        <a:t>494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cope 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704404"/>
                          </a:solidFill>
                          <a:latin typeface="Tw Cen MT"/>
                        </a:rPr>
                        <a:t>2,573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704404"/>
                          </a:solidFill>
                          <a:latin typeface="Tw Cen MT"/>
                        </a:rPr>
                        <a:t>237.1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704404"/>
                          </a:solidFill>
                          <a:latin typeface="Tw Cen MT"/>
                        </a:rPr>
                        <a:t>4,175 MtCO2-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775f55"/>
                </a:solidFill>
                <a:latin typeface="Arial"/>
                <a:ea typeface="Arial"/>
              </a:rPr>
              <a:t>Resul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ctivit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trategy; risk, infancy; increment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Drivers and Barri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st saving, profit, CA, regul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Poli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ational level; level playing field; secto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Governa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0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1"/>
          <p:cNvSpPr/>
          <p:nvPr/>
        </p:nvSpPr>
        <p:spPr>
          <a:xfrm>
            <a:off x="142920" y="6301080"/>
            <a:ext cx="400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nd the ENVIRONMENT- S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Anatomy of Governa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428760" y="1571760"/>
            <a:ext cx="7643520" cy="5072040"/>
            <a:chOff x="428760" y="1571760"/>
            <a:chExt cx="7643520" cy="5072040"/>
          </a:xfrm>
        </p:grpSpPr>
        <p:sp>
          <p:nvSpPr>
            <p:cNvPr id="388" name="Rectangle 3"/>
            <p:cNvSpPr/>
            <p:nvPr/>
          </p:nvSpPr>
          <p:spPr>
            <a:xfrm>
              <a:off x="428760" y="1571760"/>
              <a:ext cx="7643520" cy="507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Isosceles Triangle 4"/>
            <p:cNvSpPr/>
            <p:nvPr/>
          </p:nvSpPr>
          <p:spPr>
            <a:xfrm rot="16200000">
              <a:off x="5369400" y="3012120"/>
              <a:ext cx="2928960" cy="2190600"/>
            </a:xfrm>
            <a:prstGeom prst="triangle">
              <a:avLst>
                <a:gd name="adj" fmla="val 50000"/>
              </a:avLst>
            </a:prstGeom>
            <a:solidFill>
              <a:srgbClr val="94b6d2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5"/>
            <p:cNvSpPr/>
            <p:nvPr/>
          </p:nvSpPr>
          <p:spPr>
            <a:xfrm>
              <a:off x="857160" y="1714320"/>
              <a:ext cx="1071360" cy="4643640"/>
            </a:xfrm>
            <a:prstGeom prst="rect">
              <a:avLst/>
            </a:prstGeom>
            <a:solidFill>
              <a:srgbClr val="404040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w Cen MT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2000160" y="1714320"/>
              <a:ext cx="3643200" cy="642960"/>
            </a:xfrm>
            <a:prstGeom prst="rect">
              <a:avLst/>
            </a:prstGeom>
            <a:solidFill>
              <a:srgbClr val="00b050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w Cen MT"/>
                </a:rPr>
                <a:t>A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7"/>
            <p:cNvSpPr/>
            <p:nvPr/>
          </p:nvSpPr>
          <p:spPr>
            <a:xfrm>
              <a:off x="2000160" y="2500200"/>
              <a:ext cx="3643200" cy="500040"/>
            </a:xfrm>
            <a:prstGeom prst="rect">
              <a:avLst/>
            </a:prstGeom>
            <a:solidFill>
              <a:srgbClr val="ba8f2d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w Cen MT"/>
                </a:rPr>
                <a:t>INSTITU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"/>
            <p:cNvSpPr/>
            <p:nvPr/>
          </p:nvSpPr>
          <p:spPr>
            <a:xfrm>
              <a:off x="2023920" y="3286080"/>
              <a:ext cx="3619440" cy="500040"/>
            </a:xfrm>
            <a:prstGeom prst="rect">
              <a:avLst/>
            </a:prstGeom>
            <a:solidFill>
              <a:srgbClr val="b39d94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w Cen MT"/>
                </a:rPr>
                <a:t>PROCES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2000160" y="4857840"/>
              <a:ext cx="3738240" cy="571320"/>
            </a:xfrm>
            <a:prstGeom prst="rect">
              <a:avLst/>
            </a:prstGeom>
            <a:solidFill>
              <a:srgbClr val="578279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w Cen MT"/>
                </a:rPr>
                <a:t>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2000160" y="5715360"/>
              <a:ext cx="3738240" cy="642960"/>
            </a:xfrm>
            <a:prstGeom prst="rect">
              <a:avLst/>
            </a:prstGeom>
            <a:solidFill>
              <a:srgbClr val="355d7e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w Cen MT"/>
                </a:rPr>
                <a:t>RU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1"/>
            <p:cNvSpPr/>
            <p:nvPr/>
          </p:nvSpPr>
          <p:spPr>
            <a:xfrm>
              <a:off x="2023920" y="4000680"/>
              <a:ext cx="3619440" cy="561960"/>
            </a:xfrm>
            <a:prstGeom prst="rect">
              <a:avLst/>
            </a:prstGeom>
            <a:solidFill>
              <a:srgbClr val="595959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w Cen MT"/>
                </a:rPr>
                <a:t>IDE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Isosceles Triangle 12"/>
            <p:cNvSpPr/>
            <p:nvPr/>
          </p:nvSpPr>
          <p:spPr>
            <a:xfrm rot="5400000">
              <a:off x="3893040" y="3655080"/>
              <a:ext cx="4643640" cy="761760"/>
            </a:xfrm>
            <a:prstGeom prst="triangle">
              <a:avLst>
                <a:gd name="adj" fmla="val 50000"/>
              </a:avLst>
            </a:prstGeom>
            <a:solidFill>
              <a:srgbClr val="94b6d2"/>
            </a:solidFill>
            <a:ln w="19080">
              <a:solidFill>
                <a:srgbClr val="6b85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3"/>
            <p:cNvSpPr/>
            <p:nvPr/>
          </p:nvSpPr>
          <p:spPr>
            <a:xfrm>
              <a:off x="6215040" y="3786120"/>
              <a:ext cx="1643040" cy="571320"/>
            </a:xfrm>
            <a:prstGeom prst="rect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w Cen MT"/>
                </a:rPr>
                <a:t>OUTCO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6760" y="228600"/>
            <a:ext cx="857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Effect 1: Increased Private Ro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85840" y="1600200"/>
            <a:ext cx="8480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dust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ntreprenu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Collaborative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http://www6.miami.edu/ethics/main/images/environmental_conference.gif"/>
          <p:cNvPicPr/>
          <p:nvPr/>
        </p:nvPicPr>
        <p:blipFill>
          <a:blip r:embed="rId2"/>
          <a:srcRect l="0" t="53278" r="5645" b="4314"/>
          <a:stretch/>
        </p:blipFill>
        <p:spPr>
          <a:xfrm>
            <a:off x="3000240" y="2143080"/>
            <a:ext cx="5924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56760" y="228600"/>
            <a:ext cx="857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775f55"/>
                </a:solidFill>
                <a:latin typeface="Arial"/>
                <a:ea typeface="Arial"/>
              </a:rPr>
              <a:t>Effect 2: Promote Voluntarism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785920" y="1600200"/>
            <a:ext cx="29797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rk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Rechte verbindingslijn 4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0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5" descr="University of Oxford"/>
          <p:cNvPicPr/>
          <p:nvPr/>
        </p:nvPicPr>
        <p:blipFill>
          <a:blip r:embed="rId1"/>
          <a:stretch/>
        </p:blipFill>
        <p:spPr>
          <a:xfrm>
            <a:off x="6227640" y="6237360"/>
            <a:ext cx="2751120" cy="6206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6"/>
          <p:cNvSpPr/>
          <p:nvPr/>
        </p:nvSpPr>
        <p:spPr>
          <a:xfrm>
            <a:off x="250920" y="6301080"/>
            <a:ext cx="38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MITH SCHOOL OF ENTERPR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nd the ENVIRONMENT -SSE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http://southofmarkethomes.files.wordpress.com/2008/01/stock-market-istock_000005068080xsmall.jpg"/>
          <p:cNvPicPr/>
          <p:nvPr/>
        </p:nvPicPr>
        <p:blipFill>
          <a:blip r:embed="rId2"/>
          <a:stretch/>
        </p:blipFill>
        <p:spPr>
          <a:xfrm>
            <a:off x="428760" y="15717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3:47:17Z</dcterms:created>
  <dc:creator>Jens</dc:creator>
  <dc:description/>
  <dc:language>en-US</dc:language>
  <cp:lastModifiedBy>chuks</cp:lastModifiedBy>
  <dcterms:modified xsi:type="dcterms:W3CDTF">2009-05-11T16:05:27Z</dcterms:modified>
  <cp:revision>133</cp:revision>
  <dc:subject/>
  <dc:title>Sustainability and corporate environmentalism:  exploring the logics of business carbon management</dc:title>
</cp:coreProperties>
</file>