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80FE-E80F-41BF-8BCB-32D54096D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3D48-74B1-4B02-8591-1B36A878C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plies rapid commercialization of CCS, many nuclear plants are replaced and new improved ones built – additional 30% capacity should be instal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wer and Heat contributed 40% of global C02 from fuel combustion. 70% of this from coal fire power sta. China builds 1 per week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plies rapid commercialization of CCS, many nuclear plants are replaced and new improved ones built – additional 30% capacity should be instal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plies rapid commercialization of CCS, many nuclear plants are replaced and new improved ones built – additional 30% capacity should be instal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7E8B-7219-4C58-816E-EC44BAF3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5B7C-E341-4701-BEFA-07304952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E46B-70AB-47E8-AB1C-C3723A2C3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70F9-6FFF-41CB-970D-EA5653A0D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35F8-7FB6-4068-8ADF-1FFB0CFA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A543-5F68-4877-8C01-BD6B23D8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84AF-A2C8-42E9-8321-27C4C089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F31F-BC2B-48A4-8CD7-F2C2D027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8E4C-7CDB-4227-B817-A87A008C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920D-56FE-4D8A-BC93-E0A5C974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412A-5774-493F-B99E-8BE776F4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4A30-0EF1-4B7F-80C5-A5D86320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5D28-C054-420E-B077-E66DD3D4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B82F-6D71-4293-AC42-C9B23FDE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9E39-6FC7-4280-8DFF-F805C975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DD3D-1F91-4E1E-88FD-943CF058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C039-9F2E-44A4-8259-CD7473E8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1085A9-D8C3-48E2-9FD9-03CC250CA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D0ED38-A0A5-492F-8380-98A03337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4D6351-5507-4A10-B446-AFC90223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7EBD3A-3B53-4C9A-AD58-3BA2199A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3ED302-3B36-4730-8A67-AA7AC50A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E053-ABBA-4828-9045-B70C2F87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D632F4-7CC0-4991-AACE-FF97537D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8C05EA-E0DD-4CB5-9A94-4554F5FA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436831-7E74-4DF8-9183-BA0B5030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CB3FD4-EC55-4E73-A16A-A2D33D16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6E240A-D45D-451F-A5BA-A2DF7228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B33B9E-749C-4BA6-A602-888BD045E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75FF3D-F768-477A-A322-633C1069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F24B80-3D63-42F7-A5D8-F5B24F32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F39C52-18F7-4C46-996D-7091F9E4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FC0332-B104-4334-B626-6449E396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47E2-15A5-4D3E-90D6-0D149477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D567A4-56C1-4FBE-A63A-F59AF35B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085025-59C9-461C-B6A7-7DD8DE72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9A4434-51CF-4E77-8ED7-BFD3233C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96A43F-4DBE-4FEF-A8FE-A291747C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602E9B-B342-4176-A6C3-5ADCAFF0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DD9A01-22B5-47A7-AE2C-2B58CEEB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D5FB0E-5694-4C1B-882E-10269DB4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C050C9-3495-4667-A920-858A7113C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33966B-5A52-43E5-BED3-2D663562A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1D4C9A-AB1D-43B9-AC42-8EBBEB895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5150-5826-42FE-B82F-64F9846B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4A423F-5BB9-4C35-821F-A47782AC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242A4E-3975-4A9C-9C8F-84A7BAA3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8FDE0E-CE27-46AD-8ECA-63E3E64B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80B634-69D4-4438-B43D-AF3D35F9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291011-5B55-48D1-B2B3-90E204D5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48ED2C-59CE-4092-BA32-A50A00BF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3C6612-B636-403F-BDBC-C83688EA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787987-539E-4A5E-B860-F9388AD5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3B3ADD-02F2-43B8-9C34-A94E2D0D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D81DBA-016D-44A8-93B3-414029DDA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9286-CD43-4A90-BF90-ECCCD729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B5C2E5-EB85-430B-8AE4-2B0757F70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5668D-35F7-4934-8709-FED772C56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6CD2E-08A9-40F3-80D5-462FA7DD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393E9-E68C-473E-8C15-7C8C09CF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2A43C-0A74-4492-AD6F-7D181B1D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3D4F8-5C2A-4BED-BB50-DB3893F6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521FB-910D-4C7E-B4E0-A7E4421F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E8C97-D59A-4653-AFC4-FED16BA9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225FF-A024-4871-A953-AD83656C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74136-08E8-4D83-8AC1-C18D7D53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D1F6-CDDD-4CC6-A290-9FAB3648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56A54-7F9C-4864-8F40-C547A375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FFD59-D587-4F74-96E6-F7F56C61C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9E812-CF37-478B-B5B4-D0ED0D24A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C08089-7D76-4B82-B67A-1F6EA7E8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8CDD20-B07F-44E8-8639-20270DEE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F216AB-0D18-4CC5-B61D-A9AD14F8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A21EF8-159C-41E5-BE28-27AE9721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AD8B0A-5A67-49D0-B220-C1365F00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EB2318-4DC1-4B12-8C21-79461058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8C3EC0-A67F-464F-9DB0-40645EF7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2689-BD36-44FF-B760-C3FAC4C4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E8048F-CA2C-476A-A3C9-AB550AF6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679E28-8DF2-4288-9197-223267D6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9FC3F6-95B3-410C-AD44-AEF33B0E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FA43AE-4187-4CFB-99DE-61A87F73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BD1A78-FA8C-4016-BF0A-7E22FABEF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795E7-69A2-4E21-9D38-9A354D65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97E59-BA71-4AC1-9999-45B34529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A186A-E6C6-410E-A6BE-E4109D61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5EF06-CB10-4E9F-913E-16DD9DC4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6BD3A-D29A-43D3-B76B-D47D3842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BF6F-8863-4D0C-AE55-EA5DF95C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1B8C4-58E1-454A-AD61-C2870BBA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74BD2-B874-4AF3-9A94-88887EC6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B027F-462D-4ABC-B682-E3EC5FCA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8E699-B0BC-4809-935A-38295192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40C4B-E7EF-42C0-AEB4-0DEF7B01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40B5D-4530-48CC-B469-BF7A82ED6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89BC8-A53B-4932-ABB8-0025B05B9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E51C-356A-4A8F-9BE3-C26D58EAE32D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0A74-27A6-4F88-A0D0-6220B3164B2A}" type="slidenum">
              <a:rPr b="1" lang="nl-NL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hoe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hthoe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F8D9-E43E-4BDD-8507-9B3EBA2298C5}" type="slidenum">
              <a:rPr b="1" lang="nl-NL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2AC3-0E3F-4D9E-9778-36F7698C3DA6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DA6F-E9C7-470A-A924-7E2F09B56782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F0E8-610B-4733-AAAB-9C3F8A846272}" type="slidenum">
              <a:rPr b="1" lang="nl-NL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hthoe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hthoe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hthoe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hthoek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D5C9-602D-4CD9-9F1E-4E10FE14E3F1}" type="slidenum">
              <a:rPr b="1" lang="nl-NL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hthoe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BC5B-8CE5-4F4F-B2A6-9024325063E7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ox.ac.uk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x.ac.uk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18480" cy="15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bddc3"/>
                </a:solidFill>
                <a:latin typeface="Tw Cen MT"/>
              </a:rPr>
              <a:t>Governance Effects of Emerging Carbon Markets: </a:t>
            </a:r>
            <a:br>
              <a:rPr sz="3200"/>
            </a:br>
            <a:r>
              <a:rPr b="1" lang="en-GB" sz="3200" spc="-1" strike="noStrike">
                <a:solidFill>
                  <a:srgbClr val="ebddc3"/>
                </a:solidFill>
                <a:latin typeface="Tw Cen MT"/>
              </a:rPr>
              <a:t>Insights From UK-Listed Companies</a:t>
            </a:r>
            <a:endParaRPr b="0" lang="en-US" sz="32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5000400" y="6049440"/>
            <a:ext cx="406692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Tw Cen MT"/>
              </a:rPr>
              <a:t>Chukwumerije Okereke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nl-NL" sz="2200" spc="-1" strike="noStrike">
                <a:solidFill>
                  <a:srgbClr val="ffffff"/>
                </a:solidFill>
                <a:latin typeface="Tw Cen MT"/>
              </a:rPr>
              <a:t>5th May 2009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9" name="Picture 8" descr="http://cache.eb.com/eb/image?id=91641&amp;rendTypeId=4"/>
          <p:cNvPicPr/>
          <p:nvPr/>
        </p:nvPicPr>
        <p:blipFill>
          <a:blip r:embed="rId1"/>
          <a:stretch/>
        </p:blipFill>
        <p:spPr>
          <a:xfrm>
            <a:off x="1835280" y="2708280"/>
            <a:ext cx="5130720" cy="288144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8"/>
          <p:cNvSpPr/>
          <p:nvPr/>
        </p:nvSpPr>
        <p:spPr>
          <a:xfrm>
            <a:off x="0" y="6164280"/>
            <a:ext cx="21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MITH SCHOOL OF ENTERPRI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nd the ENVIRONMENT  (SSEE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10" descr="University of Oxfor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57280" y="6072120"/>
            <a:ext cx="24624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56760" y="228600"/>
            <a:ext cx="8572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775f55"/>
                </a:solidFill>
                <a:latin typeface="Arial"/>
                <a:ea typeface="Arial"/>
              </a:rPr>
              <a:t>Effect 3: Increased Efficiency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785920" y="1600200"/>
            <a:ext cx="297972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Low Cos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teady Growth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Global Reach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Rechte verbindingslijn 4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5" descr="University of Oxford"/>
          <p:cNvPicPr/>
          <p:nvPr/>
        </p:nvPicPr>
        <p:blipFill>
          <a:blip r:embed="rId1"/>
          <a:stretch/>
        </p:blipFill>
        <p:spPr>
          <a:xfrm>
            <a:off x="6227640" y="6237360"/>
            <a:ext cx="2751120" cy="6206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6"/>
          <p:cNvSpPr/>
          <p:nvPr/>
        </p:nvSpPr>
        <p:spPr>
          <a:xfrm>
            <a:off x="250920" y="6301080"/>
            <a:ext cx="38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MITH SCHOOL OF ENTERPR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and the ENVIRONMENT -SSE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2" descr="http://www.americansforamericanenergy.org/Portals/AAE/images/Efficiency_light_bulb.JPG"/>
          <p:cNvPicPr/>
          <p:nvPr/>
        </p:nvPicPr>
        <p:blipFill>
          <a:blip r:embed="rId2"/>
          <a:stretch/>
        </p:blipFill>
        <p:spPr>
          <a:xfrm>
            <a:off x="714240" y="1495440"/>
            <a:ext cx="33577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14200"/>
            <a:ext cx="8320320" cy="10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Arial"/>
                <a:ea typeface="Arial"/>
              </a:rPr>
              <a:t>Effect 4: Reduced Effectiveness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18" name="Picture 2" descr="http://geology.com/news/images/climate-change-animation.jpg"/>
          <p:cNvPicPr/>
          <p:nvPr/>
        </p:nvPicPr>
        <p:blipFill>
          <a:blip r:embed="rId1"/>
          <a:stretch/>
        </p:blipFill>
        <p:spPr>
          <a:xfrm>
            <a:off x="214200" y="1571760"/>
            <a:ext cx="4429080" cy="5286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http://www.rushprnews.com/press/wp-content/2008/12/climate-change.jpg"/>
          <p:cNvPicPr/>
          <p:nvPr/>
        </p:nvPicPr>
        <p:blipFill>
          <a:blip r:embed="rId2"/>
          <a:stretch/>
        </p:blipFill>
        <p:spPr>
          <a:xfrm>
            <a:off x="4714920" y="4071960"/>
            <a:ext cx="4429080" cy="278604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6"/>
          <p:cNvSpPr/>
          <p:nvPr/>
        </p:nvSpPr>
        <p:spPr>
          <a:xfrm>
            <a:off x="4929120" y="1714680"/>
            <a:ext cx="38577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question of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.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2" name="Picture 5" descr="GHG-by-Sector"/>
          <p:cNvPicPr/>
          <p:nvPr/>
        </p:nvPicPr>
        <p:blipFill>
          <a:blip r:embed="rId1"/>
          <a:stretch/>
        </p:blipFill>
        <p:spPr>
          <a:xfrm>
            <a:off x="1258920" y="411120"/>
            <a:ext cx="7634160" cy="59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8408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775f55"/>
                </a:solidFill>
                <a:latin typeface="Arial"/>
                <a:ea typeface="Arial"/>
              </a:rPr>
              <a:t>A 550ppm 2050 World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12720" y="1600200"/>
            <a:ext cx="81532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Coal use grows by 50% comapre to 2002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ut half of gen. capapcity uses CC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atural Gas is largest fossil contributor to electricty gen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mplies 3ple 2002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ighly effeicnt coal and gas faciliti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ide deployment of CHP uni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uclear gen grows 3ple 2002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Rapid Grwoth in Renewabl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ind increase 160-fold 911% p.a; Solar grows at ca. 205 p.a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Rechte verbindingslijn 4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5" descr="University of Oxford"/>
          <p:cNvPicPr/>
          <p:nvPr/>
        </p:nvPicPr>
        <p:blipFill>
          <a:blip r:embed="rId1"/>
          <a:stretch/>
        </p:blipFill>
        <p:spPr>
          <a:xfrm>
            <a:off x="6227640" y="6237360"/>
            <a:ext cx="2751120" cy="62064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6"/>
          <p:cNvSpPr/>
          <p:nvPr/>
        </p:nvSpPr>
        <p:spPr>
          <a:xfrm>
            <a:off x="250920" y="6301080"/>
            <a:ext cx="38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MITH SCHOOL OF ENTERPR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and the ENVIRONMENT -SSE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572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Arial"/>
                <a:ea typeface="Arial"/>
              </a:rPr>
              <a:t>A 550ppm 2050 World Contd.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12720" y="1600200"/>
            <a:ext cx="81532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Ca. 1 billion vehicles on worlds road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20% ghg Emission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ca. 2 billion 2050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viation emissions will 3ble by 2050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  <a:ea typeface="Arial"/>
              </a:rPr>
              <a:t>High effeiciny hydrogen vehicl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  <a:ea typeface="Arial"/>
              </a:rPr>
              <a:t>Biomass fuel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  <a:ea typeface="Arial"/>
              </a:rPr>
              <a:t>Hybrid ca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  <a:ea typeface="Arial"/>
              </a:rPr>
              <a:t>Wider use of diesel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  <a:ea typeface="Arial"/>
              </a:rPr>
              <a:t>Rail transport (up by 7%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Rechte verbindingslijn 4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5" descr="University of Oxford"/>
          <p:cNvPicPr/>
          <p:nvPr/>
        </p:nvPicPr>
        <p:blipFill>
          <a:blip r:embed="rId1"/>
          <a:stretch/>
        </p:blipFill>
        <p:spPr>
          <a:xfrm>
            <a:off x="6227640" y="6237360"/>
            <a:ext cx="2751120" cy="62064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6"/>
          <p:cNvSpPr/>
          <p:nvPr/>
        </p:nvSpPr>
        <p:spPr>
          <a:xfrm>
            <a:off x="250920" y="6301080"/>
            <a:ext cx="38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MITH SCHOOL OF ENTERPR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and the ENVIRONMENT -SSE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75f55"/>
                </a:solidFill>
                <a:latin typeface="Arial"/>
              </a:rPr>
              <a:t>Reduction Pathway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34" name="Picture 5" descr=""/>
          <p:cNvPicPr/>
          <p:nvPr/>
        </p:nvPicPr>
        <p:blipFill>
          <a:blip r:embed="rId1"/>
          <a:srcRect l="22176" t="31518" r="20604" b="14722"/>
          <a:stretch/>
        </p:blipFill>
        <p:spPr>
          <a:xfrm>
            <a:off x="468360" y="1844640"/>
            <a:ext cx="8496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429760" cy="10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75f55"/>
                </a:solidFill>
                <a:latin typeface="Arial"/>
                <a:ea typeface="Arial"/>
              </a:rPr>
              <a:t>More Renewable Urgently Needed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36" name="Picture 5" descr="energycharts"/>
          <p:cNvPicPr/>
          <p:nvPr/>
        </p:nvPicPr>
        <p:blipFill>
          <a:blip r:embed="rId1"/>
          <a:srcRect l="0" t="0" r="0" b="47117"/>
          <a:stretch/>
        </p:blipFill>
        <p:spPr>
          <a:xfrm>
            <a:off x="468360" y="1484280"/>
            <a:ext cx="828036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75f55"/>
                </a:solidFill>
                <a:latin typeface="Arial"/>
              </a:rPr>
              <a:t>The Dominance of Coal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1"/>
          <a:srcRect l="20604" t="29834" r="20081" b="7999"/>
          <a:stretch/>
        </p:blipFill>
        <p:spPr>
          <a:xfrm>
            <a:off x="539640" y="1528920"/>
            <a:ext cx="81360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4092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775f55"/>
                </a:solidFill>
                <a:latin typeface="Arial"/>
                <a:ea typeface="Arial"/>
              </a:rPr>
              <a:t>Conclus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12720" y="1600200"/>
            <a:ext cx="81532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The private sector matter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rket a useful componen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Caution however require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tate’s role very crucial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trategic approach neede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The international dimension essentia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Rechte verbindingslijn 4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5" descr="University of Oxford"/>
          <p:cNvPicPr/>
          <p:nvPr/>
        </p:nvPicPr>
        <p:blipFill>
          <a:blip r:embed="rId1"/>
          <a:stretch/>
        </p:blipFill>
        <p:spPr>
          <a:xfrm>
            <a:off x="6227640" y="6237360"/>
            <a:ext cx="2751120" cy="62064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6"/>
          <p:cNvSpPr/>
          <p:nvPr/>
        </p:nvSpPr>
        <p:spPr>
          <a:xfrm>
            <a:off x="250920" y="6301080"/>
            <a:ext cx="38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MITH SCHOOL OF ENTERPR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and the ENVIRONMENT -SSE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775f55"/>
                </a:solidFill>
                <a:latin typeface="Arial"/>
                <a:ea typeface="Arial"/>
              </a:rPr>
              <a:t>Outli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Contex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Sample and Significan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Resul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Anatomy of Governan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4 Key Governance Impacts of Emerging Carbon Marke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Summary and Conclus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Rechte verbindingslijn 4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10" descr="University of Oxfor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6237360"/>
            <a:ext cx="2751120" cy="62064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11"/>
          <p:cNvSpPr/>
          <p:nvPr/>
        </p:nvSpPr>
        <p:spPr>
          <a:xfrm>
            <a:off x="142920" y="6301080"/>
            <a:ext cx="4000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MITH SCHOOL OF ENTERPRI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nd the ENVIRONMENT- SS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75f55"/>
                </a:solidFill>
                <a:latin typeface="Arial"/>
                <a:ea typeface="Arial"/>
              </a:rPr>
              <a:t>Sample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285840" y="1571760"/>
          <a:ext cx="8215200" cy="496872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O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80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h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chulmb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ining and Ste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80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HP Billi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r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o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80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cottish Po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ent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olar Centu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95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usiness Organis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80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UK-BC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UK-Ste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soc. of Electricity Gener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ovt. Dept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80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nvironment Ag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EF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R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G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80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hristian A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reen Pe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limate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gen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80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arbon Tru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arbon Neu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775f55"/>
                </a:solidFill>
                <a:latin typeface="Arial"/>
                <a:ea typeface="Arial"/>
              </a:rPr>
              <a:t>Material Impac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Arial"/>
                <a:ea typeface="Arial"/>
              </a:rPr>
              <a:t>Greehouse Gas Emission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20% of UK Emiss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5 Companies accounted for over 67% of FTSE 100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hell, BP, BHP Billiton, Scottish Power, Coru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nnual direct =304 million tonnes =Poland/Spai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nnual indirect =2 billion =Canada+UK=Ind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Rechte verbindingslijn 4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5" descr="University of Oxford"/>
          <p:cNvPicPr/>
          <p:nvPr/>
        </p:nvPicPr>
        <p:blipFill>
          <a:blip r:embed="rId1"/>
          <a:stretch/>
        </p:blipFill>
        <p:spPr>
          <a:xfrm>
            <a:off x="6227640" y="6237360"/>
            <a:ext cx="2751120" cy="62064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6"/>
          <p:cNvSpPr/>
          <p:nvPr/>
        </p:nvSpPr>
        <p:spPr>
          <a:xfrm>
            <a:off x="250920" y="6298560"/>
            <a:ext cx="38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MITH SCHOOL OF ENTERPR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and the ENVIRONMENT - SSE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775f55"/>
                </a:solidFill>
                <a:latin typeface="Arial"/>
                <a:ea typeface="Arial"/>
              </a:rPr>
              <a:t>Material Impac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50920" y="5733720"/>
            <a:ext cx="815328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Tw Cen MT"/>
              </a:rPr>
              <a:t>Source CDP 2008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Rechte verbindingslijn 4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5" descr="University of Oxford"/>
          <p:cNvPicPr/>
          <p:nvPr/>
        </p:nvPicPr>
        <p:blipFill>
          <a:blip r:embed="rId1"/>
          <a:stretch/>
        </p:blipFill>
        <p:spPr>
          <a:xfrm>
            <a:off x="6227640" y="6237360"/>
            <a:ext cx="2751120" cy="62064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6"/>
          <p:cNvSpPr/>
          <p:nvPr/>
        </p:nvSpPr>
        <p:spPr>
          <a:xfrm>
            <a:off x="250920" y="6298560"/>
            <a:ext cx="38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MITH SCHOOL OF ENTERPR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and the ENVIRONMENT - SSE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468360" y="1773360"/>
          <a:ext cx="8280360" cy="3843360"/>
        </p:xfrm>
        <a:graphic>
          <a:graphicData uri="http://schemas.openxmlformats.org/drawingml/2006/table">
            <a:tbl>
              <a:tblPr/>
              <a:tblGrid>
                <a:gridCol w="1366920"/>
                <a:gridCol w="2305080"/>
                <a:gridCol w="2303280"/>
                <a:gridCol w="230508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99"/>
                          </a:solidFill>
                          <a:latin typeface="Tw Cen MT"/>
                        </a:rPr>
                        <a:t>FTSE 35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99"/>
                          </a:solidFill>
                          <a:latin typeface="Tw Cen MT"/>
                        </a:rPr>
                        <a:t>S&amp;P 5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99"/>
                          </a:solidFill>
                          <a:latin typeface="Tw Cen MT"/>
                        </a:rPr>
                        <a:t>Global 5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% Respons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cope 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65 MtCO2-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7 BtCO2-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,690 MtCO2-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cope 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dd8047"/>
                          </a:solidFill>
                          <a:latin typeface="Tw Cen MT"/>
                        </a:rPr>
                        <a:t>122 MtCO2-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dd8047"/>
                          </a:solidFill>
                          <a:latin typeface="Tw Cen MT"/>
                        </a:rPr>
                        <a:t>253.7 MtCO2-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dd8047"/>
                          </a:solidFill>
                          <a:latin typeface="Tw Cen MT"/>
                        </a:rPr>
                        <a:t>494 MtCO2-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cope 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704404"/>
                          </a:solidFill>
                          <a:latin typeface="Tw Cen MT"/>
                        </a:rPr>
                        <a:t>2,573 MtCO2-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704404"/>
                          </a:solidFill>
                          <a:latin typeface="Tw Cen MT"/>
                        </a:rPr>
                        <a:t>237.1 MtCO2-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704404"/>
                          </a:solidFill>
                          <a:latin typeface="Tw Cen MT"/>
                        </a:rPr>
                        <a:t>4,175 MtCO2-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775f55"/>
                </a:solidFill>
                <a:latin typeface="Arial"/>
                <a:ea typeface="Arial"/>
              </a:rPr>
              <a:t>Resul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Activiti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trategy; risk, infancy; incrementa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Drivers and Barri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st saving, profit, CA, regul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Polic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ational level; level playing field; secto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Governan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Rechte verbindingslijn 4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10" descr="University of Oxford"/>
          <p:cNvPicPr/>
          <p:nvPr/>
        </p:nvPicPr>
        <p:blipFill>
          <a:blip r:embed="rId1"/>
          <a:stretch/>
        </p:blipFill>
        <p:spPr>
          <a:xfrm>
            <a:off x="6227640" y="6237360"/>
            <a:ext cx="2751120" cy="62064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11"/>
          <p:cNvSpPr/>
          <p:nvPr/>
        </p:nvSpPr>
        <p:spPr>
          <a:xfrm>
            <a:off x="142920" y="6301080"/>
            <a:ext cx="4000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MITH SCHOOL OF ENTERPRI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nd the ENVIRONMENT- SS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Anatomy of Governan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387" name="Group 2"/>
          <p:cNvGrpSpPr/>
          <p:nvPr/>
        </p:nvGrpSpPr>
        <p:grpSpPr>
          <a:xfrm>
            <a:off x="428760" y="1571760"/>
            <a:ext cx="7643520" cy="5072040"/>
            <a:chOff x="428760" y="1571760"/>
            <a:chExt cx="7643520" cy="5072040"/>
          </a:xfrm>
        </p:grpSpPr>
        <p:sp>
          <p:nvSpPr>
            <p:cNvPr id="388" name="Rectangle 3"/>
            <p:cNvSpPr/>
            <p:nvPr/>
          </p:nvSpPr>
          <p:spPr>
            <a:xfrm>
              <a:off x="428760" y="1571760"/>
              <a:ext cx="7643520" cy="5072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Isosceles Triangle 4"/>
            <p:cNvSpPr/>
            <p:nvPr/>
          </p:nvSpPr>
          <p:spPr>
            <a:xfrm rot="16200000">
              <a:off x="5369400" y="3012120"/>
              <a:ext cx="2928960" cy="2190600"/>
            </a:xfrm>
            <a:prstGeom prst="triangle">
              <a:avLst>
                <a:gd name="adj" fmla="val 50000"/>
              </a:avLst>
            </a:prstGeom>
            <a:solidFill>
              <a:srgbClr val="94b6d2"/>
            </a:solidFill>
            <a:ln w="1908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5"/>
            <p:cNvSpPr/>
            <p:nvPr/>
          </p:nvSpPr>
          <p:spPr>
            <a:xfrm>
              <a:off x="857160" y="1714320"/>
              <a:ext cx="1071360" cy="4643640"/>
            </a:xfrm>
            <a:prstGeom prst="rect">
              <a:avLst/>
            </a:prstGeom>
            <a:solidFill>
              <a:srgbClr val="404040"/>
            </a:solidFill>
            <a:ln w="1908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w Cen MT"/>
                </a:rPr>
                <a:t>PO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6"/>
            <p:cNvSpPr/>
            <p:nvPr/>
          </p:nvSpPr>
          <p:spPr>
            <a:xfrm>
              <a:off x="2000160" y="1714320"/>
              <a:ext cx="3643200" cy="642960"/>
            </a:xfrm>
            <a:prstGeom prst="rect">
              <a:avLst/>
            </a:prstGeom>
            <a:solidFill>
              <a:srgbClr val="00b050"/>
            </a:solidFill>
            <a:ln w="1908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w Cen MT"/>
                </a:rPr>
                <a:t>ACT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7"/>
            <p:cNvSpPr/>
            <p:nvPr/>
          </p:nvSpPr>
          <p:spPr>
            <a:xfrm>
              <a:off x="2000160" y="2500200"/>
              <a:ext cx="3643200" cy="500040"/>
            </a:xfrm>
            <a:prstGeom prst="rect">
              <a:avLst/>
            </a:prstGeom>
            <a:solidFill>
              <a:srgbClr val="ba8f2d"/>
            </a:solidFill>
            <a:ln w="1908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w Cen MT"/>
                </a:rPr>
                <a:t>INSTITU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8"/>
            <p:cNvSpPr/>
            <p:nvPr/>
          </p:nvSpPr>
          <p:spPr>
            <a:xfrm>
              <a:off x="2023920" y="3286080"/>
              <a:ext cx="3619440" cy="500040"/>
            </a:xfrm>
            <a:prstGeom prst="rect">
              <a:avLst/>
            </a:prstGeom>
            <a:solidFill>
              <a:srgbClr val="b39d94"/>
            </a:solidFill>
            <a:ln w="1908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w Cen MT"/>
                </a:rPr>
                <a:t>PROCES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9"/>
            <p:cNvSpPr/>
            <p:nvPr/>
          </p:nvSpPr>
          <p:spPr>
            <a:xfrm>
              <a:off x="2000160" y="4857840"/>
              <a:ext cx="3738240" cy="571320"/>
            </a:xfrm>
            <a:prstGeom prst="rect">
              <a:avLst/>
            </a:prstGeom>
            <a:solidFill>
              <a:srgbClr val="578279"/>
            </a:solidFill>
            <a:ln w="1908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w Cen MT"/>
                </a:rPr>
                <a:t>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0"/>
            <p:cNvSpPr/>
            <p:nvPr/>
          </p:nvSpPr>
          <p:spPr>
            <a:xfrm>
              <a:off x="2000160" y="5715360"/>
              <a:ext cx="3738240" cy="642960"/>
            </a:xfrm>
            <a:prstGeom prst="rect">
              <a:avLst/>
            </a:prstGeom>
            <a:solidFill>
              <a:srgbClr val="355d7e"/>
            </a:solidFill>
            <a:ln w="1908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w Cen MT"/>
                </a:rPr>
                <a:t>RU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1"/>
            <p:cNvSpPr/>
            <p:nvPr/>
          </p:nvSpPr>
          <p:spPr>
            <a:xfrm>
              <a:off x="2023920" y="4000680"/>
              <a:ext cx="3619440" cy="561960"/>
            </a:xfrm>
            <a:prstGeom prst="rect">
              <a:avLst/>
            </a:prstGeom>
            <a:solidFill>
              <a:srgbClr val="595959"/>
            </a:solidFill>
            <a:ln w="1908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w Cen MT"/>
                </a:rPr>
                <a:t>IDE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Isosceles Triangle 12"/>
            <p:cNvSpPr/>
            <p:nvPr/>
          </p:nvSpPr>
          <p:spPr>
            <a:xfrm rot="5400000">
              <a:off x="3893040" y="3655080"/>
              <a:ext cx="4643640" cy="761760"/>
            </a:xfrm>
            <a:prstGeom prst="triangle">
              <a:avLst>
                <a:gd name="adj" fmla="val 50000"/>
              </a:avLst>
            </a:prstGeom>
            <a:solidFill>
              <a:srgbClr val="94b6d2"/>
            </a:solidFill>
            <a:ln w="1908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3"/>
            <p:cNvSpPr/>
            <p:nvPr/>
          </p:nvSpPr>
          <p:spPr>
            <a:xfrm>
              <a:off x="6215040" y="3786120"/>
              <a:ext cx="1643040" cy="5713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w Cen MT"/>
                </a:rPr>
                <a:t>OUTCO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56760" y="228600"/>
            <a:ext cx="8572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775f55"/>
                </a:solidFill>
                <a:latin typeface="Arial"/>
                <a:ea typeface="Arial"/>
              </a:rPr>
              <a:t>Effect 1: Increased Private Rol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85840" y="1600200"/>
            <a:ext cx="848016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dustr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ntreprenuer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dividual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Partnership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Collaborative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Rechte verbindingslijn 4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5" descr="University of Oxford"/>
          <p:cNvPicPr/>
          <p:nvPr/>
        </p:nvPicPr>
        <p:blipFill>
          <a:blip r:embed="rId1"/>
          <a:stretch/>
        </p:blipFill>
        <p:spPr>
          <a:xfrm>
            <a:off x="6227640" y="6237360"/>
            <a:ext cx="2751120" cy="62064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6"/>
          <p:cNvSpPr/>
          <p:nvPr/>
        </p:nvSpPr>
        <p:spPr>
          <a:xfrm>
            <a:off x="250920" y="6301080"/>
            <a:ext cx="38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MITH SCHOOL OF ENTERPR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and the ENVIRONMENT -SSE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http://www6.miami.edu/ethics/main/images/environmental_conference.gif"/>
          <p:cNvPicPr/>
          <p:nvPr/>
        </p:nvPicPr>
        <p:blipFill>
          <a:blip r:embed="rId2"/>
          <a:srcRect l="0" t="53278" r="5645" b="4314"/>
          <a:stretch/>
        </p:blipFill>
        <p:spPr>
          <a:xfrm>
            <a:off x="3000240" y="2143080"/>
            <a:ext cx="59245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56760" y="228600"/>
            <a:ext cx="8572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775f55"/>
                </a:solidFill>
                <a:latin typeface="Arial"/>
                <a:ea typeface="Arial"/>
              </a:rPr>
              <a:t>Effect 2: Promote Voluntarism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785920" y="1600200"/>
            <a:ext cx="297972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rke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novatio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Rechte verbindingslijn 4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5" descr="University of Oxford"/>
          <p:cNvPicPr/>
          <p:nvPr/>
        </p:nvPicPr>
        <p:blipFill>
          <a:blip r:embed="rId1"/>
          <a:stretch/>
        </p:blipFill>
        <p:spPr>
          <a:xfrm>
            <a:off x="6227640" y="6237360"/>
            <a:ext cx="2751120" cy="62064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6"/>
          <p:cNvSpPr/>
          <p:nvPr/>
        </p:nvSpPr>
        <p:spPr>
          <a:xfrm>
            <a:off x="250920" y="6301080"/>
            <a:ext cx="38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MITH SCHOOL OF ENTERPR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and the ENVIRONMENT -SSE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" descr="http://southofmarkethomes.files.wordpress.com/2008/01/stock-market-istock_000005068080xsmall.jpg"/>
          <p:cNvPicPr/>
          <p:nvPr/>
        </p:nvPicPr>
        <p:blipFill>
          <a:blip r:embed="rId2"/>
          <a:stretch/>
        </p:blipFill>
        <p:spPr>
          <a:xfrm>
            <a:off x="428760" y="157176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3:47:17Z</dcterms:created>
  <dc:creator>Jens</dc:creator>
  <dc:description/>
  <dc:language>en-US</dc:language>
  <cp:lastModifiedBy>chuks</cp:lastModifiedBy>
  <dcterms:modified xsi:type="dcterms:W3CDTF">2009-05-11T16:05:27Z</dcterms:modified>
  <cp:revision>133</cp:revision>
  <dc:subject/>
  <dc:title>Sustainability and corporate environmentalism:  exploring the logics of business carbon management</dc:title>
</cp:coreProperties>
</file>