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C6FC-1416-4B33-A290-1E492E77EF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E1E9-C77D-4C8C-8425-C1691F81C1C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9AA3-7D55-4A32-8F68-D6A24F97DF72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1E6-0460-4AC0-965A-6570A5E365F0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5594-83A5-4977-A49B-25C70CDA09D1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2178-E96B-48D5-BB34-B871BFC7BDE6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9EF5-8231-4146-87AA-6E3CF2616550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8A5-9D07-4F06-87A9-0568D22D6752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08C-7E2D-4CFB-98E7-CA98E729CB5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97A-7B1C-481E-BF5C-E476897DB290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813-A16A-407E-B614-6C755C49C0CA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BB0-5FFC-45B8-AE34-2F99C78EC742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6764-0D78-4D13-85C7-E427C247708B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1DF-4416-4711-B178-8E45E6DDB943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800-FAAA-4330-8E9E-D872082B6641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4767-B51A-4C10-9E40-C77AA92D4908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5E6-3965-4174-915C-17F31AACF040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346-9841-4289-9C3F-D948271F620F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AA5B-7459-437D-99EA-DD370A4B639F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211-2369-4676-996F-4974F5FBAB37}" type="slidenum">
              <a:rPr b="0" lang="de-DE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198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44040" y="170028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9528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198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44040" y="3882240"/>
            <a:ext cx="268956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95280" y="1150920"/>
            <a:ext cx="8353440" cy="15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5680" y="388224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5680" y="1700280"/>
            <a:ext cx="407628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882240"/>
            <a:ext cx="835344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Line 6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Line 18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Line 19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6" name="Group 37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7" name="Group 38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8" name="Line 39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9" name="Picture 40" descr="Logo_RGB_300dpi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Picture 41" descr="Logo Uni P"/>
              <p:cNvPicPr/>
              <p:nvPr/>
            </p:nvPicPr>
            <p:blipFill>
              <a:blip r:embed="rId3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Picture 42" descr="Logo SWP"/>
              <p:cNvPicPr/>
              <p:nvPr/>
            </p:nvPicPr>
            <p:blipFill>
              <a:blip r:embed="rId4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Picture 43" descr="Logo WZB"/>
              <p:cNvPicPr/>
              <p:nvPr/>
            </p:nvPicPr>
            <p:blipFill>
              <a:blip r:embed="rId5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44" descr="logo_hsog"/>
              <p:cNvPicPr/>
              <p:nvPr/>
            </p:nvPicPr>
            <p:blipFill>
              <a:blip r:embed="rId6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" name="Picture 45" descr="eui_neu_klein_RGB"/>
            <p:cNvPicPr/>
            <p:nvPr/>
          </p:nvPicPr>
          <p:blipFill>
            <a:blip r:embed="rId7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" name="Picture 51" descr="Logo Uni P"/>
          <p:cNvPicPr/>
          <p:nvPr/>
        </p:nvPicPr>
        <p:blipFill>
          <a:blip r:embed="rId8"/>
          <a:stretch/>
        </p:blipFill>
        <p:spPr>
          <a:xfrm>
            <a:off x="7780320" y="189000"/>
            <a:ext cx="1103400" cy="11523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2" descr="SFB Logo Engl"/>
          <p:cNvPicPr/>
          <p:nvPr/>
        </p:nvPicPr>
        <p:blipFill>
          <a:blip r:embed="rId9"/>
          <a:stretch/>
        </p:blipFill>
        <p:spPr>
          <a:xfrm>
            <a:off x="179280" y="260280"/>
            <a:ext cx="420840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89823960" y="99766440"/>
            <a:ext cx="4067820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8" name="Line 7"/>
          <p:cNvSpPr/>
          <p:nvPr/>
        </p:nvSpPr>
        <p:spPr>
          <a:xfrm flipV="1">
            <a:off x="90039960" y="99982440"/>
            <a:ext cx="40677840" cy="1440"/>
          </a:xfrm>
          <a:prstGeom prst="line">
            <a:avLst/>
          </a:prstGeom>
          <a:ln w="57240">
            <a:solidFill>
              <a:srgbClr val="d4e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4920" bIns="-349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60" name="Group 9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61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62" name="Picture 11" descr="Logo_RGB_300dpi"/>
              <p:cNvPicPr/>
              <p:nvPr/>
            </p:nvPicPr>
            <p:blipFill>
              <a:blip r:embed="rId2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2" descr="Logo Uni P"/>
              <p:cNvPicPr/>
              <p:nvPr/>
            </p:nvPicPr>
            <p:blipFill>
              <a:blip r:embed="rId3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13" descr="Logo SWP"/>
              <p:cNvPicPr/>
              <p:nvPr/>
            </p:nvPicPr>
            <p:blipFill>
              <a:blip r:embed="rId4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Picture 14" descr="Logo WZB"/>
              <p:cNvPicPr/>
              <p:nvPr/>
            </p:nvPicPr>
            <p:blipFill>
              <a:blip r:embed="rId5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15" descr="logo_hsog"/>
              <p:cNvPicPr/>
              <p:nvPr/>
            </p:nvPicPr>
            <p:blipFill>
              <a:blip r:embed="rId6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Picture 16" descr="eui_neu_klein_RGB"/>
            <p:cNvPicPr/>
            <p:nvPr/>
          </p:nvPicPr>
          <p:blipFill>
            <a:blip r:embed="rId7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17"/>
          <p:cNvGrpSpPr/>
          <p:nvPr/>
        </p:nvGrpSpPr>
        <p:grpSpPr>
          <a:xfrm>
            <a:off x="395280" y="189000"/>
            <a:ext cx="8569440" cy="792000"/>
            <a:chOff x="395280" y="189000"/>
            <a:chExt cx="8569440" cy="792000"/>
          </a:xfrm>
        </p:grpSpPr>
        <p:sp>
          <p:nvSpPr>
            <p:cNvPr id="69" name="Line 18"/>
            <p:cNvSpPr/>
            <p:nvPr/>
          </p:nvSpPr>
          <p:spPr>
            <a:xfrm>
              <a:off x="395280" y="981000"/>
              <a:ext cx="8353440" cy="0"/>
            </a:xfrm>
            <a:prstGeom prst="line">
              <a:avLst/>
            </a:prstGeom>
            <a:ln w="19080">
              <a:solidFill>
                <a:srgbClr val="dee3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70" name="Freeform 19"/>
            <p:cNvSpPr/>
            <p:nvPr/>
          </p:nvSpPr>
          <p:spPr>
            <a:xfrm>
              <a:off x="4643280" y="262080"/>
              <a:ext cx="5040" cy="669960"/>
            </a:xfrm>
            <a:prstGeom prst="pie">
              <a:avLst/>
            </a:prstGeom>
            <a:noFill/>
            <a:ln w="19080">
              <a:solidFill>
                <a:srgbClr val="dee3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5867280" y="541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757575"/>
                  </a:solidFill>
                  <a:latin typeface="Verdana"/>
                </a:rPr>
                <a:t>www.sfb-governance.de</a:t>
              </a:r>
              <a:endParaRPr b="0" lang="en-US" sz="18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pic>
          <p:nvPicPr>
            <p:cNvPr id="72" name="Picture 21" descr="SFB Logo Engl"/>
            <p:cNvPicPr/>
            <p:nvPr/>
          </p:nvPicPr>
          <p:blipFill>
            <a:blip r:embed="rId8"/>
            <a:stretch/>
          </p:blipFill>
          <p:spPr>
            <a:xfrm>
              <a:off x="396720" y="189000"/>
              <a:ext cx="331164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476360" y="2565360"/>
            <a:ext cx="72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66"/>
                </a:solidFill>
                <a:latin typeface="Verdana"/>
              </a:rPr>
              <a:t>Governance in Areas of Limited Statehood</a:t>
            </a:r>
            <a:endParaRPr b="0" lang="en-US" sz="4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050920" y="4157640"/>
            <a:ext cx="669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57575"/>
                </a:solidFill>
                <a:latin typeface="Verdana"/>
              </a:rPr>
              <a:t>New Modes of Governance?</a:t>
            </a:r>
            <a:endParaRPr b="0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74360" y="21067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Verdana"/>
              </a:rPr>
              <a:t>Research Center (SFB) 70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14" name="Picture 17" descr="SFB700-logo-klein"/>
          <p:cNvPicPr/>
          <p:nvPr/>
        </p:nvPicPr>
        <p:blipFill>
          <a:blip r:embed="rId2"/>
          <a:srcRect l="27463" t="0" r="0" b="0"/>
          <a:stretch/>
        </p:blipFill>
        <p:spPr>
          <a:xfrm>
            <a:off x="1476360" y="4149720"/>
            <a:ext cx="484200" cy="4953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3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116" name="Group 22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118" name="Picture 12" descr="Logo_RGB_300dpi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3" descr="Logo Uni P"/>
              <p:cNvPicPr/>
              <p:nvPr/>
            </p:nvPicPr>
            <p:blipFill>
              <a:blip r:embed="rId4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4" descr="Logo SWP"/>
              <p:cNvPicPr/>
              <p:nvPr/>
            </p:nvPicPr>
            <p:blipFill>
              <a:blip r:embed="rId5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15" descr="Logo WZB"/>
              <p:cNvPicPr/>
              <p:nvPr/>
            </p:nvPicPr>
            <p:blipFill>
              <a:blip r:embed="rId6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6" descr="logo_hsog"/>
              <p:cNvPicPr/>
              <p:nvPr/>
            </p:nvPicPr>
            <p:blipFill>
              <a:blip r:embed="rId7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3" name="Picture 21" descr="eui_neu_klein_RGB"/>
            <p:cNvPicPr/>
            <p:nvPr/>
          </p:nvPicPr>
          <p:blipFill>
            <a:blip r:embed="rId8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Picture 31" descr="Logo Uni P"/>
          <p:cNvPicPr/>
          <p:nvPr/>
        </p:nvPicPr>
        <p:blipFill>
          <a:blip r:embed="rId9"/>
          <a:stretch/>
        </p:blipFill>
        <p:spPr>
          <a:xfrm>
            <a:off x="7780320" y="189000"/>
            <a:ext cx="1103400" cy="115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SFB Logo Engl"/>
          <p:cNvPicPr/>
          <p:nvPr/>
        </p:nvPicPr>
        <p:blipFill>
          <a:blip r:embed="rId10"/>
          <a:stretch/>
        </p:blipFill>
        <p:spPr>
          <a:xfrm>
            <a:off x="106200" y="6067440"/>
            <a:ext cx="2449800" cy="53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3" descr="CentroClima_english"/>
          <p:cNvPicPr/>
          <p:nvPr/>
        </p:nvPicPr>
        <p:blipFill>
          <a:blip r:embed="rId11"/>
          <a:stretch/>
        </p:blipFill>
        <p:spPr>
          <a:xfrm>
            <a:off x="179280" y="260280"/>
            <a:ext cx="3816360" cy="105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21080" y="2535120"/>
            <a:ext cx="64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476360" y="2565360"/>
            <a:ext cx="72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66"/>
                </a:solidFill>
                <a:latin typeface="Verdana"/>
              </a:rPr>
              <a:t>Governance in Areas of Limited Statehood</a:t>
            </a:r>
            <a:endParaRPr b="0" lang="en-US" sz="4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050920" y="4157640"/>
            <a:ext cx="6699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757575"/>
                </a:solidFill>
                <a:latin typeface="Verdana"/>
              </a:rPr>
              <a:t>New Modes of Governance?</a:t>
            </a:r>
            <a:endParaRPr b="0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674360" y="210672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Verdana"/>
              </a:rPr>
              <a:t>Research Center (SFB) 700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170" name="Picture 7" descr="SFB700-logo-klein"/>
          <p:cNvPicPr/>
          <p:nvPr/>
        </p:nvPicPr>
        <p:blipFill>
          <a:blip r:embed="rId2"/>
          <a:srcRect l="27463" t="0" r="0" b="0"/>
          <a:stretch/>
        </p:blipFill>
        <p:spPr>
          <a:xfrm>
            <a:off x="1476360" y="4149720"/>
            <a:ext cx="484200" cy="49536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8"/>
          <p:cNvGrpSpPr/>
          <p:nvPr/>
        </p:nvGrpSpPr>
        <p:grpSpPr>
          <a:xfrm>
            <a:off x="324000" y="5950080"/>
            <a:ext cx="8569080" cy="761760"/>
            <a:chOff x="324000" y="5950080"/>
            <a:chExt cx="8569080" cy="761760"/>
          </a:xfrm>
        </p:grpSpPr>
        <p:grpSp>
          <p:nvGrpSpPr>
            <p:cNvPr id="172" name="Group 9"/>
            <p:cNvGrpSpPr/>
            <p:nvPr/>
          </p:nvGrpSpPr>
          <p:grpSpPr>
            <a:xfrm>
              <a:off x="324000" y="5950080"/>
              <a:ext cx="8569080" cy="761760"/>
              <a:chOff x="324000" y="5950080"/>
              <a:chExt cx="8569080" cy="761760"/>
            </a:xfrm>
          </p:grpSpPr>
          <p:sp>
            <p:nvSpPr>
              <p:cNvPr id="173" name="Line 10"/>
              <p:cNvSpPr/>
              <p:nvPr/>
            </p:nvSpPr>
            <p:spPr>
              <a:xfrm>
                <a:off x="324000" y="5950080"/>
                <a:ext cx="8569080" cy="0"/>
              </a:xfrm>
              <a:prstGeom prst="line">
                <a:avLst/>
              </a:prstGeom>
              <a:ln w="19080">
                <a:solidFill>
                  <a:srgbClr val="dee3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Verdana"/>
                </a:endParaRPr>
              </a:p>
            </p:txBody>
          </p:sp>
          <p:pic>
            <p:nvPicPr>
              <p:cNvPr id="174" name="Picture 11" descr="Logo_RGB_300dpi"/>
              <p:cNvPicPr/>
              <p:nvPr/>
            </p:nvPicPr>
            <p:blipFill>
              <a:blip r:embed="rId3"/>
              <a:stretch/>
            </p:blipFill>
            <p:spPr>
              <a:xfrm>
                <a:off x="2627280" y="6246720"/>
                <a:ext cx="158580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2" descr="Logo Uni P"/>
              <p:cNvPicPr/>
              <p:nvPr/>
            </p:nvPicPr>
            <p:blipFill>
              <a:blip r:embed="rId4"/>
              <a:stretch/>
            </p:blipFill>
            <p:spPr>
              <a:xfrm>
                <a:off x="4565520" y="6251400"/>
                <a:ext cx="43992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3" descr="Logo SWP"/>
              <p:cNvPicPr/>
              <p:nvPr/>
            </p:nvPicPr>
            <p:blipFill>
              <a:blip r:embed="rId5"/>
              <a:stretch/>
            </p:blipFill>
            <p:spPr>
              <a:xfrm>
                <a:off x="5324400" y="6357960"/>
                <a:ext cx="6177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4" descr="Logo WZB"/>
              <p:cNvPicPr/>
              <p:nvPr/>
            </p:nvPicPr>
            <p:blipFill>
              <a:blip r:embed="rId6"/>
              <a:stretch/>
            </p:blipFill>
            <p:spPr>
              <a:xfrm>
                <a:off x="6119640" y="6283440"/>
                <a:ext cx="632160" cy="28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5" descr="logo_hsog"/>
              <p:cNvPicPr/>
              <p:nvPr/>
            </p:nvPicPr>
            <p:blipFill>
              <a:blip r:embed="rId7"/>
              <a:stretch/>
            </p:blipFill>
            <p:spPr>
              <a:xfrm>
                <a:off x="6910560" y="6093000"/>
                <a:ext cx="115092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16" descr="eui_neu_klein_RGB"/>
            <p:cNvPicPr/>
            <p:nvPr/>
          </p:nvPicPr>
          <p:blipFill>
            <a:blip r:embed="rId8"/>
            <a:stretch/>
          </p:blipFill>
          <p:spPr>
            <a:xfrm>
              <a:off x="8317080" y="6175440"/>
              <a:ext cx="4204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17"/>
          <p:cNvGrpSpPr/>
          <p:nvPr/>
        </p:nvGrpSpPr>
        <p:grpSpPr>
          <a:xfrm>
            <a:off x="395280" y="189000"/>
            <a:ext cx="8569440" cy="792000"/>
            <a:chOff x="395280" y="189000"/>
            <a:chExt cx="8569440" cy="792000"/>
          </a:xfrm>
        </p:grpSpPr>
        <p:sp>
          <p:nvSpPr>
            <p:cNvPr id="181" name="Line 18"/>
            <p:cNvSpPr/>
            <p:nvPr/>
          </p:nvSpPr>
          <p:spPr>
            <a:xfrm>
              <a:off x="395280" y="981000"/>
              <a:ext cx="8353440" cy="0"/>
            </a:xfrm>
            <a:prstGeom prst="line">
              <a:avLst/>
            </a:prstGeom>
            <a:ln w="19080">
              <a:solidFill>
                <a:srgbClr val="dee3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4643280" y="262080"/>
              <a:ext cx="5040" cy="669960"/>
            </a:xfrm>
            <a:prstGeom prst="pie">
              <a:avLst/>
            </a:prstGeom>
            <a:noFill/>
            <a:ln w="19080">
              <a:solidFill>
                <a:srgbClr val="dee3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183" name="Text Box 20"/>
            <p:cNvSpPr/>
            <p:nvPr/>
          </p:nvSpPr>
          <p:spPr>
            <a:xfrm>
              <a:off x="5867280" y="541440"/>
              <a:ext cx="30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757575"/>
                  </a:solidFill>
                  <a:latin typeface="Verdana"/>
                </a:rPr>
                <a:t>www.sfb-governance.de</a:t>
              </a:r>
              <a:endParaRPr b="0" lang="en-US" sz="18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pic>
          <p:nvPicPr>
            <p:cNvPr id="184" name="Picture 21" descr="SFB Logo Engl"/>
            <p:cNvPicPr/>
            <p:nvPr/>
          </p:nvPicPr>
          <p:blipFill>
            <a:blip r:embed="rId9"/>
            <a:stretch/>
          </p:blipFill>
          <p:spPr>
            <a:xfrm>
              <a:off x="396720" y="189000"/>
              <a:ext cx="33116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395280" y="170028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35568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2" marL="723960" indent="-1890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079640" indent="-17640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4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5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6" marL="1434960" indent="-176040">
              <a:lnSpc>
                <a:spcPct val="102000"/>
              </a:lnSpc>
              <a:spcBef>
                <a:spcPts val="499"/>
              </a:spcBef>
              <a:buClr>
                <a:srgbClr val="333333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95280" y="1150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356840"/>
            <a:ext cx="8353440" cy="22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Reforming Carbon Governance. </a:t>
            </a:r>
            <a:br>
              <a:rPr sz="3600"/>
            </a:br>
            <a:r>
              <a:rPr b="0" lang="de-DE" sz="3600" spc="-1" strike="noStrike">
                <a:solidFill>
                  <a:srgbClr val="003366"/>
                </a:solidFill>
                <a:latin typeface="Arial"/>
              </a:rPr>
              <a:t>The Clean Development Mechanism (CDM) from an emerging economy perspective</a:t>
            </a: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1" name="Picture 3" descr="industry smoke stacks"/>
          <p:cNvPicPr/>
          <p:nvPr/>
        </p:nvPicPr>
        <p:blipFill>
          <a:blip r:embed="rId1"/>
          <a:stretch/>
        </p:blipFill>
        <p:spPr>
          <a:xfrm>
            <a:off x="6332400" y="3860640"/>
            <a:ext cx="2811600" cy="1941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moo_windmill LazAndre Cawagas"/>
          <p:cNvPicPr/>
          <p:nvPr/>
        </p:nvPicPr>
        <p:blipFill>
          <a:blip r:embed="rId2"/>
          <a:stretch/>
        </p:blipFill>
        <p:spPr>
          <a:xfrm>
            <a:off x="0" y="3862440"/>
            <a:ext cx="2916360" cy="1923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3036960" y="3860640"/>
            <a:ext cx="31906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95280" y="2571840"/>
            <a:ext cx="8424720" cy="27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se of market instruments to provide mitigation options efficiently and effectivel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ivate actors interact directly with international organization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evelopment of several multiactor, multilevel public-private partnerships (PPPs) and new network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1" marL="522360" indent="-3430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New actors in respective countrie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95280" y="1844640"/>
            <a:ext cx="8353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  <a:ea typeface="Times New Roman"/>
              </a:rPr>
              <a:t>The CDM a „new mode of governance“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826920" y="907920"/>
            <a:ext cx="8317080" cy="5065920"/>
            <a:chOff x="826920" y="907920"/>
            <a:chExt cx="8317080" cy="5065920"/>
          </a:xfrm>
        </p:grpSpPr>
        <p:sp>
          <p:nvSpPr>
            <p:cNvPr id="270" name="AutoShape 3"/>
            <p:cNvSpPr/>
            <p:nvPr/>
          </p:nvSpPr>
          <p:spPr>
            <a:xfrm>
              <a:off x="826920" y="907920"/>
              <a:ext cx="8317080" cy="50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>
              <a:off x="1146600" y="5810400"/>
              <a:ext cx="799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2" name="Line 5"/>
            <p:cNvSpPr/>
            <p:nvPr/>
          </p:nvSpPr>
          <p:spPr>
            <a:xfrm flipV="1">
              <a:off x="1146600" y="1071360"/>
              <a:ext cx="0" cy="47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 rot="19513800">
              <a:off x="5784840" y="1397160"/>
              <a:ext cx="1275120" cy="415440"/>
            </a:xfrm>
            <a:custGeom>
              <a:avLst/>
              <a:gdLst>
                <a:gd name="textAreaLeft" fmla="*/ 223200 w 1275120"/>
                <a:gd name="textAreaRight" fmla="*/ 924480 w 1275120"/>
                <a:gd name="textAreaTop" fmla="*/ 55440 h 415440"/>
                <a:gd name="textAreaBottom" fmla="*/ 360000 h 41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306440" y="5015880"/>
              <a:ext cx="207936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Initiation of PPP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3065040" y="4176360"/>
              <a:ext cx="1280880" cy="65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rule setting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4345560" y="3359160"/>
              <a:ext cx="1919160" cy="6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rule implementation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5785200" y="2543040"/>
              <a:ext cx="271908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Closure of PPP once dispensable OR transformation into business relationship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7064640" y="1071360"/>
              <a:ext cx="1918080" cy="112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Business operation under the shadow of hierarchy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 rot="20045400">
              <a:off x="1466640" y="4176000"/>
              <a:ext cx="1119240" cy="489960"/>
            </a:xfrm>
            <a:prstGeom prst="rightArrow">
              <a:avLst>
                <a:gd name="adj1" fmla="val 50000"/>
                <a:gd name="adj2" fmla="val 5710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0" name="AutoShape 13"/>
            <p:cNvSpPr/>
            <p:nvPr/>
          </p:nvSpPr>
          <p:spPr>
            <a:xfrm rot="20045400">
              <a:off x="4506120" y="2543040"/>
              <a:ext cx="1117800" cy="489960"/>
            </a:xfrm>
            <a:prstGeom prst="rightArrow">
              <a:avLst>
                <a:gd name="adj1" fmla="val 50000"/>
                <a:gd name="adj2" fmla="val 570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1" name="AutoShape 14"/>
            <p:cNvSpPr/>
            <p:nvPr/>
          </p:nvSpPr>
          <p:spPr>
            <a:xfrm rot="20045400">
              <a:off x="3064680" y="3358800"/>
              <a:ext cx="1120320" cy="489960"/>
            </a:xfrm>
            <a:prstGeom prst="rightArrow">
              <a:avLst>
                <a:gd name="adj1" fmla="val 50000"/>
                <a:gd name="adj2" fmla="val 571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1146600" y="2378520"/>
              <a:ext cx="79974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Verdana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5305320" y="5175720"/>
              <a:ext cx="799560" cy="48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33"/>
                  </a:solidFill>
                  <a:latin typeface="Arial"/>
                </a:rPr>
                <a:t>2004</a:t>
              </a:r>
              <a:endParaRPr b="0" lang="en-US" sz="1600" spc="-1" strike="noStrike">
                <a:solidFill>
                  <a:srgbClr val="333333"/>
                </a:solidFill>
                <a:latin typeface="Verdana"/>
              </a:endParaRPr>
            </a:p>
          </p:txBody>
        </p:sp>
      </p:grpSp>
      <p:sp>
        <p:nvSpPr>
          <p:cNvPr id="284" name="Text Box 17"/>
          <p:cNvSpPr/>
          <p:nvPr/>
        </p:nvSpPr>
        <p:spPr>
          <a:xfrm>
            <a:off x="3203640" y="5157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804000" y="5157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00080" y="1305000"/>
            <a:ext cx="914400" cy="9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Low project risk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28520" y="3716280"/>
            <a:ext cx="9144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33"/>
                </a:solidFill>
                <a:latin typeface="Arial"/>
              </a:rPr>
              <a:t>High project risk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2050920" y="6021360"/>
            <a:ext cx="51850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33"/>
                </a:solidFill>
                <a:latin typeface="Arial"/>
              </a:rPr>
              <a:t>Carbon market evolvemen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1" name="Rechteck 3"/>
          <p:cNvSpPr/>
          <p:nvPr/>
        </p:nvSpPr>
        <p:spPr>
          <a:xfrm>
            <a:off x="1285920" y="2962440"/>
            <a:ext cx="4510080" cy="466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Fundamental critiqu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49228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on‘t commodify nature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No impact at all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Distortion from real problem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echnical critique regarding the fulfillment of the objectiv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2997000"/>
            <a:ext cx="820908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Hardly any contribution to sustainable developmen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Questionable additionali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94328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Critique regarding the governance of the CD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26560" y="2637000"/>
            <a:ext cx="79218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mportant sectors left out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gional disparities (LDC 0.9% of all projects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d tape and unprofessional bureaucrac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0" name="Rechteck 3"/>
          <p:cNvSpPr/>
          <p:nvPr/>
        </p:nvSpPr>
        <p:spPr>
          <a:xfrm>
            <a:off x="1357200" y="3322800"/>
            <a:ext cx="5086440" cy="466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652464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42920" y="1428840"/>
          <a:ext cx="8676720" cy="4498920"/>
        </p:xfrm>
        <a:graphic>
          <a:graphicData uri="http://schemas.openxmlformats.org/drawingml/2006/table">
            <a:tbl>
              <a:tblPr/>
              <a:tblGrid>
                <a:gridCol w="1445400"/>
                <a:gridCol w="1446120"/>
                <a:gridCol w="1446120"/>
                <a:gridCol w="1447200"/>
                <a:gridCol w="1446120"/>
                <a:gridCol w="1445760"/>
              </a:tblGrid>
              <a:tr h="1279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No. of projects in pipeline (registered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% share of worldwide total projects in pipelin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Volume of kCERs up to 2012 in pipelin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 most common project typ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 most common project types worldwid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52 (150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,8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88.29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iomass energy; hydro power; agriculture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Hydro power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 Biomass energ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 Wind power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682 (433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7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567.12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ydro power; wind power; energy efficienc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4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208 (395)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6.6%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61.61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iomass energy; wind power; energy efficienc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144360" y="60213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Brazil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00000" y="249228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 and increased awarenes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troduction of cleaner technologies (landfill, small hydro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 (&gt; Profina)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ERs 20th largest export commodi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3749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Sonderforschungsbereich (SFB) 700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46288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20 individual research projects covering theory, political order, security, economy and environment (www.sfb-governance.de)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Five universities and research centers in </a:t>
            </a:r>
            <a:r>
              <a:rPr b="0" i="1" lang="de-DE" sz="2000" spc="-1" strike="noStrike">
                <a:solidFill>
                  <a:srgbClr val="333333"/>
                </a:solidFill>
                <a:latin typeface="Verdana"/>
              </a:rPr>
              <a:t>Berlin and Potsdam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, some 20 scholars and more than 45 Ph.D. students involv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Focus on non-OECD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oject by University of Potsdam focuses on carbon governance in developing and emerging econom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Chin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00000" y="249228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, increased awareness, and rise of local project developers and DO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lowly emerging discourse on climate change within public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HFCs taken care of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87280" y="44280"/>
            <a:ext cx="8532720" cy="6480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519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6524640"/>
            <a:ext cx="31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4000" y="177336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Indi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00000" y="2349360"/>
            <a:ext cx="784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local capacities, increased awareness, and rise of local project developers and carbon financi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ush for renewable energy, in particular wind energy and biomas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mall push towards decentralized energy system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 India most projects where additionality is questionable but also most projects where sustainable practices have been induced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08000" y="155520"/>
            <a:ext cx="8893080" cy="6081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49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616572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(Source: UNEP 2009)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171468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CDM in emerging economi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71680" y="2278080"/>
            <a:ext cx="817704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DM a successful instrument to link emerging markets into Kyoto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arket mechanism accepted and perceived as successful in the most important host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ownership of governmen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ultilevel regulation problematique but no race to the bottom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output legitimacy, weak input by civil societ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285840" y="1428840"/>
          <a:ext cx="8715240" cy="4557600"/>
        </p:xfrm>
        <a:graphic>
          <a:graphicData uri="http://schemas.openxmlformats.org/drawingml/2006/table">
            <a:tbl>
              <a:tblPr/>
              <a:tblGrid>
                <a:gridCol w="1500120"/>
                <a:gridCol w="2500200"/>
                <a:gridCol w="2357640"/>
                <a:gridCol w="2357280"/>
              </a:tblGrid>
              <a:tr h="23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Govern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olds up ‘environmental integrity’ in projec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Keeps control of market and foreign actors, but also provides capacity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as facilitating role for CDM marke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Project developers/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onsultanc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Heavy competition, but informal cooperation among biggest consultanc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ternational and domestic project developer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Many unilateral projects developed by Indian compan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uyers/trader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Financial community has large interest in developing carbon market and trading, but so far with limited succes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Banks have no interest in trading, hardly an interest in project financing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Slowly emerging awareness among national bank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Civil socie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Awareness, but limited engagement in CDM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Awareness, positive position, no capaci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Engagement in project activities, but no watchdog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Epistemic communities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Strong involvement from key scientists in methodology development and cooperation with DNA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Involvement of scientists in CDM capacity development and project development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Mostly among development assistance community + business community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6" name="Rechteck 3"/>
          <p:cNvSpPr/>
          <p:nvPr/>
        </p:nvSpPr>
        <p:spPr>
          <a:xfrm>
            <a:off x="1332000" y="3681360"/>
            <a:ext cx="2879640" cy="46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The radical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op CDM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ax carbon or build a global cap and trade system!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ath dependenc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Vested interes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Scale it up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PoA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Sectoral/ policy CDM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Large potential of rather cheap CERs with probably good sustainable development impact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Who is setting the baseline?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9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Verdana"/>
              </a:rPr>
              <a:t>MRV?</a:t>
            </a: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Increase the scope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LULUCF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CC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nuclea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echnical problems, partially MRV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-37692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 political opposition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7692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2500200"/>
            <a:ext cx="8353440" cy="33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333333"/>
                </a:solidFill>
                <a:latin typeface="Verdana"/>
              </a:rPr>
              <a:t>"The Clean Development Mechanism [the offset part of the Kyoto Protocol], which provides about 95% of the offsets used in the European market, is clearly broken and should be quickly phased out."</a:t>
            </a: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Fred Krupp, President EDF, Wall Street Journal Environmental Capital blog, 20 March, 2009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Reform the governance structure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Professionalize EB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et-up an appeals bod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Increase sustainability!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clude discount factors for CER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et international SD standard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&lt;-&gt;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Vested interest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9" name="Rechteck 3"/>
          <p:cNvSpPr/>
          <p:nvPr/>
        </p:nvSpPr>
        <p:spPr>
          <a:xfrm>
            <a:off x="1332000" y="4076640"/>
            <a:ext cx="2016000" cy="466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CDM in post-2012 architecture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353440" cy="28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ill play a role as a „temporary tool to help transition countries toward broader commitments“ (GAO 2008, 38) in a reformed wa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ill strongest link between Annex I and II 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DM only one instrument towards a low carbon future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366"/>
                </a:solidFill>
                <a:latin typeface="Verdana"/>
              </a:rPr>
              <a:t>Thank you for your attention!</a:t>
            </a:r>
            <a:endParaRPr b="1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ntact details: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Markus Lederer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lederer@uni-potsdam.de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+49 331 977 3531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indent="0" algn="ctr">
              <a:lnSpc>
                <a:spcPct val="9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University of Potsdam, Germany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Policy ques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71680" y="2785680"/>
            <a:ext cx="8177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Verdana"/>
              </a:rPr>
              <a:t>Shall a post-Kyoto agreement include an offset mechanism like the Clean Development Mechanism (CDM)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221472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Research question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2785680"/>
            <a:ext cx="81770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33"/>
                </a:solidFill>
                <a:latin typeface="Verdana"/>
              </a:rPr>
              <a:t>What effects did the CDM have in its major host countries (Brazil, China, and India)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871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3280" y="263664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at is the CDM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Why is it so heavily criticized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The CDM in Brazil, China and India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Reform proposals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-380880">
              <a:lnSpc>
                <a:spcPct val="102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o what?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8088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5" name="Rechteck 3"/>
          <p:cNvSpPr/>
          <p:nvPr/>
        </p:nvSpPr>
        <p:spPr>
          <a:xfrm>
            <a:off x="1285920" y="2500200"/>
            <a:ext cx="3071880" cy="4622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11280" y="2276640"/>
            <a:ext cx="3168720" cy="3024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16000" y="2708280"/>
            <a:ext cx="93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42920" y="2637000"/>
            <a:ext cx="1008000" cy="22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Anticipated  emissions             without CDM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419560" y="3429000"/>
            <a:ext cx="9104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De facto  emissions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with CDM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411280" y="2637000"/>
            <a:ext cx="93672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2484360" y="270828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Reduc-tion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84360" y="13129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Host country (developing country, Annex II country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5435640" y="2276640"/>
            <a:ext cx="3024000" cy="30240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6012000" y="3429000"/>
            <a:ext cx="1800000" cy="165564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Kyoto-Protocol</a:t>
            </a:r>
            <a:br>
              <a:rPr sz="1400"/>
            </a:b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defined amount  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of CO</a:t>
            </a:r>
            <a:r>
              <a:rPr b="0" lang="de-DE" sz="1400" spc="-1" strike="noStrike" baseline="-25000">
                <a:solidFill>
                  <a:srgbClr val="333333"/>
                </a:solidFill>
                <a:latin typeface="Verdana"/>
              </a:rPr>
              <a:t>2</a:t>
            </a:r>
            <a:r>
              <a:rPr b="0" lang="de-DE" sz="1400" spc="-1" strike="noStrike">
                <a:solidFill>
                  <a:srgbClr val="333333"/>
                </a:solidFill>
                <a:latin typeface="Verdana"/>
              </a:rPr>
              <a:t> emissions</a:t>
            </a:r>
            <a:endParaRPr b="0" lang="en-US" sz="1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3421080" y="3141720"/>
            <a:ext cx="5032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4140360" y="2637000"/>
            <a:ext cx="9381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875640" y="2637000"/>
            <a:ext cx="936360" cy="7920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924360" y="3716280"/>
            <a:ext cx="158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Trading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C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arbon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E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mission </a:t>
            </a:r>
            <a:r>
              <a:rPr b="1" lang="de-DE" sz="1600" spc="-1" strike="noStrike">
                <a:solidFill>
                  <a:srgbClr val="333333"/>
                </a:solidFill>
                <a:latin typeface="Verdana"/>
              </a:rPr>
              <a:t>R</a:t>
            </a: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eduction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9" name="Line 15"/>
          <p:cNvSpPr/>
          <p:nvPr/>
        </p:nvSpPr>
        <p:spPr>
          <a:xfrm>
            <a:off x="5221440" y="314172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805440" y="2717640"/>
            <a:ext cx="11512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Additional</a:t>
            </a:r>
            <a:br>
              <a:rPr sz="1200"/>
            </a:b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CO</a:t>
            </a:r>
            <a:r>
              <a:rPr b="0" lang="de-DE" sz="1200" spc="-1" strike="noStrike" baseline="-25000">
                <a:solidFill>
                  <a:srgbClr val="333333"/>
                </a:solidFill>
                <a:latin typeface="Verdana"/>
              </a:rPr>
              <a:t>2</a:t>
            </a:r>
            <a:r>
              <a:rPr b="0" lang="de-DE" sz="1200" spc="-1" strike="noStrike">
                <a:solidFill>
                  <a:srgbClr val="333333"/>
                </a:solidFill>
                <a:latin typeface="Verdana"/>
              </a:rPr>
              <a:t> emissions </a:t>
            </a:r>
            <a:endParaRPr b="0" lang="en-US" sz="1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5510160" y="1241280"/>
            <a:ext cx="30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Industrial country </a:t>
            </a:r>
            <a:br>
              <a:rPr sz="1600"/>
            </a:b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(Annex I country, or private firm from annex 1 country)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2" name="AutoShape 18"/>
          <p:cNvSpPr/>
          <p:nvPr/>
        </p:nvSpPr>
        <p:spPr>
          <a:xfrm rot="10800000">
            <a:off x="2341080" y="5589360"/>
            <a:ext cx="4606920" cy="647640"/>
          </a:xfrm>
          <a:custGeom>
            <a:avLst/>
            <a:gdLst>
              <a:gd name="textAreaLeft" fmla="*/ 806040 w 4606920"/>
              <a:gd name="textAreaRight" fmla="*/ 3340080 w 46069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2916360" y="623736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33"/>
                </a:solidFill>
                <a:latin typeface="Verdana"/>
              </a:rPr>
              <a:t>Transfer of technology and resources</a:t>
            </a: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2627280" y="260280"/>
            <a:ext cx="41781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Verdana"/>
              </a:rPr>
              <a:t>How does a CDM work?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060640"/>
            <a:ext cx="8353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66"/>
                </a:solidFill>
                <a:latin typeface="Verdana"/>
              </a:rPr>
              <a:t>Objectives of the CDM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2636640"/>
            <a:ext cx="7777080" cy="28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6936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st-effective mechanism for Annex I countries to offset  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GHG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-36936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Induce practices of sustainable development in host 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countries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333333"/>
                </a:solidFill>
                <a:latin typeface="Verdana"/>
              </a:rPr>
              <a:t>Strongest link regarding carbon governance between developing and developed world 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marL="36936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0:16:37Z</dcterms:created>
  <dc:creator>coje</dc:creator>
  <dc:description/>
  <dc:language>en-US</dc:language>
  <cp:lastModifiedBy>Markus Lederer</cp:lastModifiedBy>
  <dcterms:modified xsi:type="dcterms:W3CDTF">2009-04-30T12:19:09Z</dcterms:modified>
  <cp:revision>148</cp:revision>
  <dc:subject/>
  <dc:title>Folie 1</dc:title>
</cp:coreProperties>
</file>