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3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46.jpeg" ContentType="image/jpeg"/>
  <Override PartName="/ppt/media/image41.jpeg" ContentType="image/jpeg"/>
  <Override PartName="/ppt/media/image45.jpeg" ContentType="image/jpeg"/>
  <Override PartName="/ppt/media/image36.wmf" ContentType="image/x-wmf"/>
  <Override PartName="/ppt/media/image47.jpeg" ContentType="image/jpeg"/>
  <Override PartName="/ppt/media/image43.png" ContentType="image/png"/>
  <Override PartName="/ppt/media/image34.wmf" ContentType="image/x-wmf"/>
  <Override PartName="/ppt/media/image33.png" ContentType="image/png"/>
  <Override PartName="/ppt/media/image44.wmf" ContentType="image/x-wmf"/>
  <Override PartName="/ppt/media/image31.jpeg" ContentType="image/jpeg"/>
  <Override PartName="/ppt/media/image48.jpeg" ContentType="image/jpeg"/>
  <Override PartName="/ppt/media/image49.jpeg" ContentType="image/jpeg"/>
  <Override PartName="/ppt/media/image37.wmf" ContentType="image/x-wmf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908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90800" cy="48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6040"/>
            <a:ext cx="2890800" cy="48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810BBD-FD84-4E0E-B1C0-6C1F075A3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9C3EF5-B23C-4819-B005-D120EF226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42A9EE-8288-4FB2-9229-F3ED07A57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8177CB-DA83-4E73-8321-D1580AFDFD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D0A1B9-29A8-46EB-86BD-A5DD9B655E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2FE3D8-4D5C-476A-B3CE-655B7EDF7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DEBC94-D57C-4D51-AB55-CFC3F72B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65DB05-E74A-4DB5-AD51-5F01F4FB5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86F3C4-F6B3-46AE-8847-EF54A606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3426DF-AC1B-4848-90B1-C33F1C5A4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6CB90B-69DF-4CE4-AEEE-8D8CB7942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4671E6-1A86-480E-8FF0-06FAFE624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702D03-8B39-410C-BFFE-725640877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8CF3C5-E1D3-4C8B-ACE9-5C268D85A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3DCCCA-DDAE-4783-BB8E-0AE4DCA9B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C2B7CB-68BC-4D11-9FBB-3C20AF7FA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6AA012-7864-4865-9AE6-AB68CB4BF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DE02C3-9DC6-4510-8EEC-85D2EB531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219A95-8CF9-418E-8F1B-0A0115BDD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44A1F1-D20D-400F-BCAA-CAD9A4CD8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3BDC31-AD41-4191-9E99-ACCD6D8AA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292CF0-BE71-49B8-87F1-2B5DD2C60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5368F7-CED1-4521-9594-4350EA9CD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C15673-DB27-4610-AAFB-0A92EBE56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1EA486-EDE4-4B23-AA44-D1E7FB24F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C665A4-1BCD-4F96-9949-BD6A3D911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CF9A94-644E-4A1B-B452-64E008B15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0437BF-4D14-48CA-B9E9-7FC697B4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DF2337-4607-41A0-BACF-D12365557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80538F-B4AC-4C35-89FB-79D5442AD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B45137-49B0-4409-86D4-8B93B7DBB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438147-DBB6-4BD9-8800-BDF7A14CA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CF44BB-71D4-49D2-BADD-46B19FE6E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EC9D96-C16D-47B5-AF8E-8B7E854C3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628E95-D6C5-40E8-8786-317DF31BD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EE0B4D-EA8E-4D7A-B2FA-AC187772B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7C2C5D-0FA3-48CC-8ECE-6F4AD6446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7947F1-C2E3-45F5-A3B3-373CA1D71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3F41D1-07FA-4DC4-AB0A-5080F9BE4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ED40E6-5BFA-48F2-B282-2BC14662F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894B2D-637A-42DE-88DF-7A9375D60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B932DB-F09D-46FD-A00D-CCAE75F32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4F8991-8472-4AD7-A47E-175523D09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FC0D45-36F6-45D0-A8B7-D83198747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C4C75F-DB74-4B91-B1F4-592256219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17AC1F-8C04-4AB2-9FDB-C5644019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268E63-E518-4702-ACA4-E7F99766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D1EC8C-E9A1-4387-AEC1-8E53110F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B95863-6903-4240-A779-5C5C6558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26147C-4FFE-4649-BEB3-566D1088AE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E42610-BE8F-44B5-B05C-DE3B476178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23C015-FE6F-405D-800A-286BCF914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114730-CC4F-4664-8F20-C29EA6E5DF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C6A4EB-F2D5-471C-B615-F35968A1A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BEC49B-5A5D-489D-AE48-D35C57A5F0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AE87AD-060B-47BD-9A4A-865D0FE18D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385FFC-7958-4525-92CE-2ED4DAC04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5D262B-E552-40CB-BFBE-D0422F858A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C9C795-A856-4F57-AEFA-605465EDB4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ED26B5-BFAE-4B2C-94C2-B3E1BB229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AF8B7D-EBE1-4F34-A1F6-B4750263A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3DB81B-98FB-4ACA-A65C-C4AFBE878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4C3AFB-1532-45CC-AAD1-B3A14CDDE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59EC60-26C2-47BB-A2FE-E2DA33F40B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1D7F8A-85E8-4BD4-8FD5-978257EC1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B56902-8FFC-466E-A123-C8037A3D8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C42F4D-6D78-4D85-ABFE-53655B8A51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BE8-F1CB-4F5C-B155-432EF350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1DE-7BA1-4F23-9675-A26E8C6D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58D-A085-488D-ACDB-3B7C484D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73A-2859-443D-83CA-2F8A5CD4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DF5-ADB5-408D-88C6-A80DA831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7AD-93D2-4B85-9147-9F8BD9DB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672-7A1B-402A-AB2D-0BAC708B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A34-68FA-4FFF-AD91-11FBE1A2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D9A-0F9A-4980-A3F7-67ECA924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48B-0EC2-4506-B976-416FAB60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CA8-50E7-4799-A127-6AFF7BBD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23B-A4FC-45D3-B746-28B3177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3B30-EA3E-472D-A7D3-E6A93D7D12A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9356-BF48-4911-ADBA-7BB12851B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96CF-90F0-448A-97BF-F68D6FF2245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30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alities of Social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tin W Ba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itute of Social Psychology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9A8E-DD7E-4F3E-B203-4679C27D3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10"/>
          <p:cNvGraphicFramePr/>
          <p:nvPr/>
        </p:nvGraphicFramePr>
        <p:xfrm>
          <a:off x="76320" y="111240"/>
          <a:ext cx="1143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124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B3F-D4D8-46A1-90BA-D3A405B2A4B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9C82-BC15-4953-92DA-D7B0B7D7F1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468360" y="476280"/>
            <a:ext cx="8424720" cy="56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agion and Im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Gabriel Tarde (2001) [1890] ‘The Laws of Imitation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ources of similarity and difference of people: by inheritance and by im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tation ha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: invention and imitation (= sharing intentionality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laws for invention, but man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s of imitation;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of principles, 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tation proceeds from the inner to the outer m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ss fashion [outer] is anticipated by literary fashions [inner];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[inner] precede behavioural expression [outer]; ends [inner] change before the means [outer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mitation follows the social hierarchy of prestig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istocrats are the cultural trend setters; see Stars, opinion leaders; List A people in advert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 intake is more easily imitated than food intak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s why alcoholism is more prevalent than obesity (probably a 19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ury observation)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Gabriel Trade (2006) [1901] ‘Opinion and crowd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 between crowd and public opinion: co-presence in street versus mediated co-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opinion = floating conversation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homogenity of outlook, not only political, also relig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opinion is selective: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ing attention on X, thus not to Y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ffaire Dreyfus &gt; 1895); Historical novelty: the press substitutes crowds in their function: exerting political pressure to 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tarde 1.jpg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20257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5798160" y="47628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843-19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F976-0FA5-479C-9090-D098BD4F69F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D60B-6705-4737-85F5-50D3B4CA482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D916-15DD-4D06-8C60-563EC96F83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85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1295280" y="1219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371600" y="49528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5"/>
          <p:cNvCxnSpPr/>
          <p:nvPr/>
        </p:nvCxnSpPr>
        <p:spPr>
          <a:xfrm flipV="1">
            <a:off x="1600200" y="1676160"/>
            <a:ext cx="5944320" cy="312480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150" name="Line 6"/>
          <p:cNvSpPr/>
          <p:nvPr/>
        </p:nvSpPr>
        <p:spPr>
          <a:xfrm>
            <a:off x="1295280" y="16765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306360" y="14479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7605360" y="4842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16564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AutoShape 10"/>
          <p:cNvCxnSpPr/>
          <p:nvPr/>
        </p:nvCxnSpPr>
        <p:spPr>
          <a:xfrm flipV="1">
            <a:off x="1523880" y="1751760"/>
            <a:ext cx="3201120" cy="2972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155" name="AutoShape 11"/>
          <p:cNvCxnSpPr/>
          <p:nvPr/>
        </p:nvCxnSpPr>
        <p:spPr>
          <a:xfrm>
            <a:off x="4723920" y="1752120"/>
            <a:ext cx="3125160" cy="3048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6" name="Line 12"/>
          <p:cNvSpPr/>
          <p:nvPr/>
        </p:nvSpPr>
        <p:spPr>
          <a:xfrm>
            <a:off x="4648320" y="1447920"/>
            <a:ext cx="0" cy="4114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3048120" y="1219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248520" y="11430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184560" y="1184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4937040" y="11080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537240" y="685800"/>
            <a:ext cx="13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agg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1432080" y="11844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897120" y="19368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diffusion model (e.g. Rogers et al., 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6689520" y="171756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p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6858360" y="38862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27349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43351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59353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1295280" y="3048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595080" y="2708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27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1828800" y="510552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189240" y="509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el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4789080" y="509112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cel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6539760" y="509112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1371600" y="57150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1215720" y="579132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riterion = ‘years to 50%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3795120" y="7272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p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50D6-D3FA-49D5-8741-A8CD58D279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35F8-849D-4E44-B88B-D0CC4D5B578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DFC4-D20D-4F6A-A5F2-B0532093F3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26"/>
          <p:cNvSpPr/>
          <p:nvPr/>
        </p:nvSpPr>
        <p:spPr>
          <a:xfrm>
            <a:off x="746280" y="609480"/>
            <a:ext cx="8219880" cy="51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battle for the hearts and minds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Linear model: invention (idea) - innovation (product) - diffusion (mark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blem attribution: ‘black box’ the product and work on the social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gmoid diffusion:  logistic adoption rate = ln(p/N-p) = a + 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filing of popul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e.g. early adopters, late adopters, lagg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variate analysis of attitude data: clustering, typologies,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dia practices: how to reach the different groups [media mi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uiding a strategic interven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‘battle for the hearts and minds of peopl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ss communication for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vertising campaigns; marketing; two-step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-personal communication for adoptio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F64-5BFC-490C-B86D-7BF46B49080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1ED7-E668-4B30-AF65-02A489362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468360" y="476280"/>
            <a:ext cx="820728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choes in ‘viral theories’ of ideas, beli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hors like: Dawkins (1976), Sperber (1990) Atran (2002), Boyer (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deas modelled in analogy to virus and viral infection, epidemiology of bel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entertain a new idea X = being infected by 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ulence of an ide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stick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ost susceptibilit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‘tipping point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cological milieu (e.g. herd immun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How far does the ‘viral’ analogy go? (asks Kitcher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member Dr Pasteur: ‘the germ is nothing, the milieu is everything’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Hygiene as intervention: vigilance, contact avoidance, moral cleansing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Transmission of object relations y:  y(Ac)  =&gt; y(Bc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ntional entities: ideas are ‘entities that refer to something else’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s ‘y’ before and after transmission from A to B identical object relation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Unspecified epidemiological analogues: mutation, rate of recovery, immunity, competition, rate of re-infection after recovery, gestation time et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ight Brace 5"/>
          <p:cNvSpPr/>
          <p:nvPr/>
        </p:nvSpPr>
        <p:spPr>
          <a:xfrm>
            <a:off x="5580000" y="278136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008000"/>
              <a:gd name="textAreaBottom" fmla="*/ 1002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7156-AA4C-4BEB-83AD-3B693D68282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D663-6A24-4ACC-B569-862B45D219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24000" y="1052640"/>
            <a:ext cx="8424720" cy="5579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Rational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r irrational;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that is the ques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529B-20BF-4860-9CB9-738A1D0788F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A406-65EA-4319-A6CA-8F549E2940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468360" y="765000"/>
            <a:ext cx="8136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luence as (ir)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) The doctrine of suggestion (a 19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century fa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de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Bon et 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nambulism as normal, everyday state of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tionality is exceptional, for an elite of cultivated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ligo poloi’ (few) against the ‘hoi poloi’ (m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overeign mind buffered inside and outside (Tay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) Rationality as universal human pot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imental demonstrations of ‘rationality’ (new social psych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arch for exceptional circumstances where it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iarchical rationality in relation to ego, social and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ither/Or dual-system ideas versus uni-mod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5A49-9571-45CF-B495-59DE4CB6643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D4ED-F631-4B8C-A1B4-6094D9ECE9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971640" y="476280"/>
            <a:ext cx="74880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ualities of social influence (the lure of dichotom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tic determination or cultural im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tional versus irrational/sub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son versus pa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and so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cious versus non-conscious, 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al versus periph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aboration likeli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ectancy-value versus emotional conditio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-syst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stem 1 and syste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t and c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st and 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uitive versus delib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jority versus minor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8174-159D-4A67-BE9A-00A0B2BC8E6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D39E-A8D3-4F32-B14E-D347144DD9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brain-diagram-1.png"/>
          <p:cNvPicPr/>
          <p:nvPr/>
        </p:nvPicPr>
        <p:blipFill>
          <a:blip r:embed="rId1"/>
          <a:stretch/>
        </p:blipFill>
        <p:spPr>
          <a:xfrm>
            <a:off x="971640" y="1413000"/>
            <a:ext cx="4316400" cy="365112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7"/>
          <p:cNvSpPr/>
          <p:nvPr/>
        </p:nvSpPr>
        <p:spPr>
          <a:xfrm>
            <a:off x="1692360" y="2133720"/>
            <a:ext cx="3384360" cy="175248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4241409" h="1753771">
                <a:moveTo>
                  <a:pt x="0" y="1638885"/>
                </a:moveTo>
                <a:cubicBezTo>
                  <a:pt x="595532" y="840544"/>
                  <a:pt x="1191065" y="42203"/>
                  <a:pt x="1842868" y="21101"/>
                </a:cubicBezTo>
                <a:cubicBezTo>
                  <a:pt x="2494671" y="0"/>
                  <a:pt x="3580227" y="1270781"/>
                  <a:pt x="3910818" y="1512276"/>
                </a:cubicBezTo>
                <a:cubicBezTo>
                  <a:pt x="4241409" y="1753771"/>
                  <a:pt x="3826412" y="1470073"/>
                  <a:pt x="3826412" y="1470073"/>
                </a:cubicBezTo>
              </a:path>
            </a:pathLst>
          </a:custGeom>
          <a:solidFill>
            <a:srgbClr val="ffff00">
              <a:alpha val="27000"/>
            </a:srgbClr>
          </a:solidFill>
          <a:ln w="9360">
            <a:solidFill>
              <a:srgbClr val="000000">
                <a:alpha val="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5508720" y="981000"/>
            <a:ext cx="33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aboration (system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er brain, slow, 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627440" y="4292640"/>
            <a:ext cx="42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e based, biased (system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er brain, fast, h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6084720" y="2060640"/>
            <a:ext cx="1295640" cy="647640"/>
          </a:xfrm>
          <a:prstGeom prst="rect">
            <a:avLst/>
          </a:prstGeom>
          <a:solidFill>
            <a:srgbClr val="00cc99">
              <a:alpha val="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6227640" y="3213000"/>
            <a:ext cx="1008360" cy="792360"/>
          </a:xfrm>
          <a:prstGeom prst="roundRect">
            <a:avLst>
              <a:gd name="adj" fmla="val 16667"/>
            </a:avLst>
          </a:prstGeom>
          <a:solidFill>
            <a:srgbClr val="ffff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29"/>
          <p:cNvSpPr/>
          <p:nvPr/>
        </p:nvSpPr>
        <p:spPr>
          <a:xfrm>
            <a:off x="7885080" y="1844640"/>
            <a:ext cx="358920" cy="2521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30"/>
          <p:cNvSpPr/>
          <p:nvPr/>
        </p:nvSpPr>
        <p:spPr>
          <a:xfrm>
            <a:off x="2714760" y="40464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al-System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>
            <a:off x="5796000" y="23493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Straight Arrow Connector 34"/>
          <p:cNvCxnSpPr/>
          <p:nvPr/>
        </p:nvCxnSpPr>
        <p:spPr>
          <a:xfrm>
            <a:off x="5795640" y="2421000"/>
            <a:ext cx="648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Straight Arrow Connector 36"/>
          <p:cNvCxnSpPr/>
          <p:nvPr/>
        </p:nvCxnSpPr>
        <p:spPr>
          <a:xfrm>
            <a:off x="5796000" y="3573000"/>
            <a:ext cx="721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Right Arrow 38"/>
          <p:cNvSpPr/>
          <p:nvPr/>
        </p:nvSpPr>
        <p:spPr>
          <a:xfrm>
            <a:off x="5508720" y="2997360"/>
            <a:ext cx="358560" cy="21564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ight Arrow 39"/>
          <p:cNvSpPr/>
          <p:nvPr/>
        </p:nvSpPr>
        <p:spPr>
          <a:xfrm>
            <a:off x="7380360" y="2421000"/>
            <a:ext cx="576360" cy="2160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cc99">
              <a:alpha val="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ight Arrow 40"/>
          <p:cNvSpPr/>
          <p:nvPr/>
        </p:nvSpPr>
        <p:spPr>
          <a:xfrm>
            <a:off x="7236000" y="3500280"/>
            <a:ext cx="649080" cy="289080"/>
          </a:xfrm>
          <a:prstGeom prst="rightArrow">
            <a:avLst>
              <a:gd name="adj1" fmla="val 50000"/>
              <a:gd name="adj2" fmla="val 49896"/>
            </a:avLst>
          </a:prstGeom>
          <a:solidFill>
            <a:srgbClr val="ffff00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Up Arrow 41"/>
          <p:cNvSpPr/>
          <p:nvPr/>
        </p:nvSpPr>
        <p:spPr>
          <a:xfrm>
            <a:off x="6804000" y="2708280"/>
            <a:ext cx="21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ffff00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Down Arrow 42"/>
          <p:cNvSpPr/>
          <p:nvPr/>
        </p:nvSpPr>
        <p:spPr>
          <a:xfrm>
            <a:off x="6372360" y="2708280"/>
            <a:ext cx="287280" cy="504720"/>
          </a:xfrm>
          <a:prstGeom prst="downArrow">
            <a:avLst>
              <a:gd name="adj1" fmla="val 50000"/>
              <a:gd name="adj2" fmla="val 50193"/>
            </a:avLst>
          </a:prstGeom>
          <a:solidFill>
            <a:srgbClr val="00cc99">
              <a:alpha val="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20"/>
          <p:cNvSpPr/>
          <p:nvPr/>
        </p:nvSpPr>
        <p:spPr>
          <a:xfrm rot="5400000">
            <a:off x="7776720" y="27543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1056960" y="5162400"/>
            <a:ext cx="73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chotomy of systems or variable paramet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ols from same box, combined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2"/>
          <p:cNvSpPr/>
          <p:nvPr/>
        </p:nvSpPr>
        <p:spPr>
          <a:xfrm>
            <a:off x="6156360" y="296064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7380360" y="2747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5623-53A5-4F78-9F9D-7D1B27FE17E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0AA8-67D2-469E-988F-3F58FE93D6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asch_portrait.jpg"/>
          <p:cNvPicPr/>
          <p:nvPr/>
        </p:nvPicPr>
        <p:blipFill>
          <a:blip r:embed="rId1"/>
          <a:stretch/>
        </p:blipFill>
        <p:spPr>
          <a:xfrm>
            <a:off x="539640" y="620640"/>
            <a:ext cx="2808360" cy="4183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milgram portrait.jpg"/>
          <p:cNvPicPr/>
          <p:nvPr/>
        </p:nvPicPr>
        <p:blipFill>
          <a:blip r:embed="rId2"/>
          <a:stretch/>
        </p:blipFill>
        <p:spPr>
          <a:xfrm>
            <a:off x="5940360" y="836640"/>
            <a:ext cx="2739960" cy="316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mosco_portrait.jpg"/>
          <p:cNvPicPr/>
          <p:nvPr/>
        </p:nvPicPr>
        <p:blipFill>
          <a:blip r:embed="rId3"/>
          <a:stretch/>
        </p:blipFill>
        <p:spPr>
          <a:xfrm>
            <a:off x="3059280" y="2997360"/>
            <a:ext cx="2835000" cy="230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541800" y="5229360"/>
            <a:ext cx="19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omon A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907-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740640" y="4076640"/>
            <a:ext cx="224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ley Mil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933-19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4074480" y="544500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ge Moscov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*19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sherif_portrait.gif"/>
          <p:cNvPicPr/>
          <p:nvPr/>
        </p:nvPicPr>
        <p:blipFill>
          <a:blip r:embed="rId4"/>
          <a:stretch/>
        </p:blipFill>
        <p:spPr>
          <a:xfrm>
            <a:off x="3851280" y="907920"/>
            <a:ext cx="1860480" cy="23259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1"/>
          <p:cNvSpPr/>
          <p:nvPr/>
        </p:nvSpPr>
        <p:spPr>
          <a:xfrm>
            <a:off x="3579480" y="33336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stafer Sherif (1906-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23D8-5BD5-474B-8D4C-2F388F26BB8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2794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0240" y="549360"/>
            <a:ext cx="9137160" cy="54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rmalisation and Frame of Reference &gt; 19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stafar Sherif (1935) et al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erging norm of judgements; once established, they pers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o-kinetic phenomenon’ experimen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mbiguous stimulus flickering in the dark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romising and convergence of judgements i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tablish an individual norm in repeated observ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inging individual norms into groups to agree ‘group judgment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greed frame of reference persists, even in individual per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ocial process as productive process: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a basis for co-ordinated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ritique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nocuous situation; an experiments with no real-life s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59AD-81B2-48F4-99DD-295D155247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1105-3A77-4CC9-A688-06CE27C688C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539640" y="404640"/>
            <a:ext cx="8204400" cy="558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rgument 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 Modalities of Social Infl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of Rationality and Sub-Rationalit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Reconstruction and Integration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al of the story: the moral dubiousness of infl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 old concern: raising awareness of social influence to protect us against it (harnessing the enlightenment eff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sychology = the study of what persuades at presen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8ACF-871E-43AE-AE2C-F407EF848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2A0F-2416-4699-93B5-E5B41F1E151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41F2-5AEA-4D14-8D6D-E80783CF3E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4" descr="Sherif_1935a_2a.gif"/>
          <p:cNvPicPr/>
          <p:nvPr/>
        </p:nvPicPr>
        <p:blipFill>
          <a:blip r:embed="rId1"/>
          <a:stretch/>
        </p:blipFill>
        <p:spPr>
          <a:xfrm>
            <a:off x="468360" y="404640"/>
            <a:ext cx="4602240" cy="6093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Sherif_1935a_3b.bmp"/>
          <p:cNvPicPr/>
          <p:nvPr/>
        </p:nvPicPr>
        <p:blipFill>
          <a:blip r:embed="rId2"/>
          <a:stretch/>
        </p:blipFill>
        <p:spPr>
          <a:xfrm>
            <a:off x="5003640" y="620640"/>
            <a:ext cx="38005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36EC-F0B2-40AE-BF22-3F5269D1407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CE1-67F9-4DBC-AA21-799720B04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468360" y="692280"/>
            <a:ext cx="82803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dvik Fleck (1939 / 79) the ‘origin of scientific facts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emonstrated on the emergence of the modern theory of syphili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ientific facts are stabilised in the interplay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nking coll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nking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res of communication: lab, journal, popular (concentr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ed of public appreciation (popularis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rtainty, simplicity, concre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Facts are ‘the world seen as’ (in function of a frame of re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simplicity we say ‘x is a’, rather than ‘x is seen as a’ or x(a/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pade is a ‘spade’, only when seen ‘as a tool’, otherwise is just wood +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71424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0CA9-FAA3-4AEB-97C9-8FE32ECC73D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684360" y="333360"/>
            <a:ext cx="7972200" cy="5632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jori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fluenc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&gt; 195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periments on conformity and 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ambiguous stimulus situation: three geometrica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lomon Asch et al. ( &gt; 1951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jority influence and conform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eriment on visual stimuli; majority is briefed for false ju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is conformity induced; what supports resistanc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rmative-motivational influ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avoidance of sanction, need for affiliation  = exclusion anxiety = ‘it hurts to be alone’ (litter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tional basis: in relation to others, preserving a positive self-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ent: wisdom of the crowd, majority as signal an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E12-4DF4-48C8-B077-2F687D7EC4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DBC4-2EA3-49AF-9CB7-BA46DE19BE5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9E61-9670-493C-B08F-DAF8287C7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5" descr="asch 2.jpg"/>
          <p:cNvPicPr/>
          <p:nvPr/>
        </p:nvPicPr>
        <p:blipFill>
          <a:blip r:embed="rId1"/>
          <a:stretch/>
        </p:blipFill>
        <p:spPr>
          <a:xfrm>
            <a:off x="611280" y="884160"/>
            <a:ext cx="4091040" cy="1873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asch 5.jpg"/>
          <p:cNvPicPr/>
          <p:nvPr/>
        </p:nvPicPr>
        <p:blipFill>
          <a:blip r:embed="rId2"/>
          <a:stretch/>
        </p:blipFill>
        <p:spPr>
          <a:xfrm>
            <a:off x="5651640" y="333360"/>
            <a:ext cx="2666880" cy="3451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asch-lines.jpg"/>
          <p:cNvPicPr/>
          <p:nvPr/>
        </p:nvPicPr>
        <p:blipFill>
          <a:blip r:embed="rId3"/>
          <a:stretch/>
        </p:blipFill>
        <p:spPr>
          <a:xfrm>
            <a:off x="539640" y="2924280"/>
            <a:ext cx="3803760" cy="2860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asch 4.jpg"/>
          <p:cNvPicPr/>
          <p:nvPr/>
        </p:nvPicPr>
        <p:blipFill>
          <a:blip r:embed="rId4"/>
          <a:stretch/>
        </p:blipFill>
        <p:spPr>
          <a:xfrm>
            <a:off x="3780000" y="4292640"/>
            <a:ext cx="4914720" cy="17636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"/>
          <p:cNvSpPr/>
          <p:nvPr/>
        </p:nvSpPr>
        <p:spPr>
          <a:xfrm>
            <a:off x="1801800" y="21420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dd on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Straight Arrow Connector 3"/>
          <p:cNvCxnSpPr/>
          <p:nvPr/>
        </p:nvCxnSpPr>
        <p:spPr>
          <a:xfrm>
            <a:off x="4702320" y="476280"/>
            <a:ext cx="20311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5"/>
          <p:cNvCxnSpPr/>
          <p:nvPr/>
        </p:nvCxnSpPr>
        <p:spPr>
          <a:xfrm flipH="1">
            <a:off x="3052080" y="738000"/>
            <a:ext cx="440280" cy="60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Straight Arrow Connector 2"/>
          <p:cNvCxnSpPr/>
          <p:nvPr/>
        </p:nvCxnSpPr>
        <p:spPr>
          <a:xfrm>
            <a:off x="4316040" y="620640"/>
            <a:ext cx="2127960" cy="39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333360"/>
            <a:ext cx="82803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distress of social exclusion (ostrac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rts like physical pain (Panksepp, 2003; Eisenberger et.al,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ed immune activity (Dickerson et al.,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ed hormone level: progesterone (Maner et al., 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hurts, even if exclusion pays off (vanBeest et al.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lowing of heart rate (Moor et al, 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er cortisol levels in saliva (Blackhart et al.,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ing ‘left in the cold’, feels cold (Zhong &amp; Leonardelli,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aving for warm food (Zhong &amp; Leonardelli,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us more sensitive to cues that signal deception (Bernstein et al.,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 what: we learn from this that we are social animals (individuals 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in killers like Acetaminophen help when excluded (DeWall et al., 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5CC-D087-44FE-BC27-8FE97ED401E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761-CD2C-428F-A4B0-AEB2B55BC3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95AA-4193-4EEB-A25B-8328630BD11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1AC-17B0-4B43-BD23-AB606EFBA4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468360" y="404640"/>
            <a:ext cx="8424720" cy="547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bedience to Author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nley Milgram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et al ( &gt; 1963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text experiment: ‘Learning by pain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isguised purposes: how far do we go?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ople are naturally hesitant, but this i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urned-off by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ctant stat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actant abdicates responsibility; ‘I am only a part of the machine’ = the banality of evil (Hannah Arend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iance rates as cultural indictor: a national ‘litmus test’ [a model for genocide studi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odel case of AbuGraib, holocaust?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ut note the picture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FABE-B980-400E-87D8-E653D2AD1C1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317F-7F1E-4964-9F04-8A4196EEE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4" descr="milgram exp3.jpg"/>
          <p:cNvPicPr/>
          <p:nvPr/>
        </p:nvPicPr>
        <p:blipFill>
          <a:blip r:embed="rId1"/>
          <a:stretch/>
        </p:blipFill>
        <p:spPr>
          <a:xfrm>
            <a:off x="611280" y="404640"/>
            <a:ext cx="2287440" cy="304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milgram reenact2.jpg"/>
          <p:cNvPicPr/>
          <p:nvPr/>
        </p:nvPicPr>
        <p:blipFill>
          <a:blip r:embed="rId2"/>
          <a:stretch/>
        </p:blipFill>
        <p:spPr>
          <a:xfrm>
            <a:off x="3708360" y="260280"/>
            <a:ext cx="3938760" cy="2962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milgram setup.jpg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2832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milgram results.gif"/>
          <p:cNvPicPr/>
          <p:nvPr/>
        </p:nvPicPr>
        <p:blipFill>
          <a:blip r:embed="rId4"/>
          <a:stretch/>
        </p:blipFill>
        <p:spPr>
          <a:xfrm>
            <a:off x="3348000" y="2852640"/>
            <a:ext cx="5183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755640" y="85680"/>
          <a:ext cx="3745080" cy="6583320"/>
        </p:xfrm>
        <a:graphic>
          <a:graphicData uri="http://schemas.openxmlformats.org/drawingml/2006/table">
            <a:tbl>
              <a:tblPr/>
              <a:tblGrid>
                <a:gridCol w="2031840"/>
                <a:gridCol w="1208160"/>
                <a:gridCol w="50508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gram (1963) Exp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 (New Hav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land (196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ona &amp; Pareyson (19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senhan (19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d (19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wards et al, (19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ng et al. (1970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tell (19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est 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ck (197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s &amp; Geen (197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gers (197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lhan &amp; Mann (1974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ala (1974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za (1976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nab &amp; Yahya (197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nab &amp; Yahya (1978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anda et al. (198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urz (198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er (20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 (Californ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247"/>
          <p:cNvSpPr/>
          <p:nvPr/>
        </p:nvSpPr>
        <p:spPr>
          <a:xfrm>
            <a:off x="4788000" y="907920"/>
            <a:ext cx="3887640" cy="52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edience rates as cultural indicat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% of participants who continued to max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50 Volts with electro sh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an (US) =  6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an (elsewhere) = 6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io-Ethical ban on replications (&gt;19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ssues: consent and harm to su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urce: Blass (2004, p302f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rger (2009): only ratio of participants intending to continue beyond 150 V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10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0456-04C6-4D9A-B079-003B9920AB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106"/>
          <p:cNvSpPr/>
          <p:nvPr/>
        </p:nvSpPr>
        <p:spPr>
          <a:xfrm>
            <a:off x="3780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C873-2F5F-4E47-B7F6-0DB4A6BECF5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68360" y="1197000"/>
          <a:ext cx="8496360" cy="4846680"/>
        </p:xfrm>
        <a:graphic>
          <a:graphicData uri="http://schemas.openxmlformats.org/drawingml/2006/table">
            <a:tbl>
              <a:tblPr/>
              <a:tblGrid>
                <a:gridCol w="4389480"/>
                <a:gridCol w="4106880"/>
              </a:tblGrid>
              <a:tr h="4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ormity (e.g. As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dience (e.g. Milg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of peers (us and the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itation involved: acting as modell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e denied by 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ar of excl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compliance, private dis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) social rationality: respect of others, it is costly to check everything oneself; moral community, ‘crowd sourcing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b) Ego-rationality: need for affiliation; ostracism is distressing and avoi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status hierarch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mitation, doing as verbally t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mmand &amp; requ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tted influence of autho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 for authority, expectation of rew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 of respon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Social rationality: loyalty to legitimate authority; hierarchy as division of labour,  efficient co-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Sub-rational Identification with  leader: ‘Wanna be like you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31"/>
          <p:cNvSpPr/>
          <p:nvPr/>
        </p:nvSpPr>
        <p:spPr>
          <a:xfrm>
            <a:off x="0" y="456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B805-EE09-4335-B4F5-87D5DEE27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EC9-D3B8-44C3-B4D2-42412097BDE4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F16A-31F1-45A2-B7BD-B73FD1E6D8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minority.jpg"/>
          <p:cNvPicPr/>
          <p:nvPr/>
        </p:nvPicPr>
        <p:blipFill>
          <a:blip r:embed="rId1"/>
          <a:stretch/>
        </p:blipFill>
        <p:spPr>
          <a:xfrm>
            <a:off x="395280" y="333360"/>
            <a:ext cx="3240000" cy="2149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inority_book.jpg"/>
          <p:cNvPicPr/>
          <p:nvPr/>
        </p:nvPicPr>
        <p:blipFill>
          <a:blip r:embed="rId2"/>
          <a:stretch/>
        </p:blipFill>
        <p:spPr>
          <a:xfrm>
            <a:off x="4716360" y="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asch 4.jpg"/>
          <p:cNvPicPr/>
          <p:nvPr/>
        </p:nvPicPr>
        <p:blipFill>
          <a:blip r:embed="rId3"/>
          <a:stretch/>
        </p:blipFill>
        <p:spPr>
          <a:xfrm>
            <a:off x="755640" y="4149720"/>
            <a:ext cx="4915080" cy="17636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9"/>
          <p:cNvSpPr/>
          <p:nvPr/>
        </p:nvSpPr>
        <p:spPr>
          <a:xfrm>
            <a:off x="1692360" y="2421000"/>
            <a:ext cx="2014560" cy="17287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fter-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708360" y="2421000"/>
            <a:ext cx="1800360" cy="1728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10"/>
          <p:cNvSpPr/>
          <p:nvPr/>
        </p:nvSpPr>
        <p:spPr>
          <a:xfrm>
            <a:off x="5867280" y="4508640"/>
            <a:ext cx="30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rt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all of col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gnition of colours later: priming and la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14"/>
          <p:cNvCxnSpPr>
            <a:stCxn id="298" idx="1"/>
          </p:cNvCxnSpPr>
          <p:nvPr/>
        </p:nvCxnSpPr>
        <p:spPr>
          <a:xfrm flipH="1">
            <a:off x="2483640" y="903240"/>
            <a:ext cx="136764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8" name="TextBox 15"/>
          <p:cNvSpPr/>
          <p:nvPr/>
        </p:nvSpPr>
        <p:spPr>
          <a:xfrm>
            <a:off x="3855600" y="549360"/>
            <a:ext cx="141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one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 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3699-EE2F-43A4-A556-722A49A0408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1251-58B8-4F4B-9608-124487021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68360" y="692280"/>
            <a:ext cx="792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Influence and Social Inte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he battle for the hearts and minds of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others influence me or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I or we influence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ny influence the one/few: majority, crow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ny influence the many: imitation,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/few influence the many: minority, persuasion,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influences one another: contagion, persuasion,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nfluence yourself: to argue,  to 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33CC-387B-44CC-A598-DD3940FD78D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3955-9524-4851-8E63-984B16C234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324000" y="193680"/>
            <a:ext cx="864216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D81-DBB9-4BEA-AB52-5BC83C8E474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43AC-D889-4269-B516-1408006ED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DD47-499C-437F-B6FC-4A18785E384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55C-2C42-4C2E-AF79-241411E12F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88920" y="-857160"/>
            <a:ext cx="259092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231840" y="476280"/>
            <a:ext cx="83725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96C2-2A91-4499-BAF2-33DADC93FE5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755640" y="404640"/>
            <a:ext cx="7696080" cy="5524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inority influence &gt; 196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[Moscovici et al.]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s on influence of minority and co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versal of Asch’s paradigm: the deviant minority is briefed to stay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k to ambiguous stimulus as used by Sherif: colour after-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havioural gramma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rigidity, consistency, autonomy/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ymbolic-informational chang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majority reassesses its own assumptions / beliefs [not avoiding stress nor satisfying a need, but world-oriented rationalit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leeper effec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private change precedes public change (Tarde); source of information is forgotten: the tragedy of succesful minor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mic and anomic minoriti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organised versus disorganised deviance; influence is only possible for nomic-organised min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Paradox of minority influenc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ehavioural grammar requires conformity within the minority [an organised-nomic minority: see Leninism, terror cell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F871-CEBD-4B64-B85E-B0EB84950F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A24A-3B0D-4368-B21B-EC180B68BEB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404640"/>
          <a:ext cx="8440920" cy="5883480"/>
        </p:xfrm>
        <a:graphic>
          <a:graphicData uri="http://schemas.openxmlformats.org/drawingml/2006/table">
            <a:tbl>
              <a:tblPr/>
              <a:tblGrid>
                <a:gridCol w="4389480"/>
                <a:gridCol w="40514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ity infl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ority infl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taining a consensus, common se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ssimilation of minority TO maj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oiding a conflict and stabilising existing consensus in face of challe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rcion, group pressure, threat of exclusion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raction, s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is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ocess: focus on persons; affiliation and identification with majority (normative rational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public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ianc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 intern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 dissent [inner exi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orary shifts in opinions; periphera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ily rever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rmative, social-oriented rati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go rationality, self-este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allenging an existing consensus, common se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ccommodation of minority IN maj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ing a conflict and shift towards new consensus due to behavioural style/gramm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stency, commitment, unanim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ived autonomy, indepen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lexible) rigid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ocess: focus on topic; more careful assessment of information (objective rational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rejection and latent process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rs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intern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‘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eper effect’: changing attitudes and forgetting the source of the influence, concluding ‘it is obvious, it is not’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istence: more durable shifts, change at the attitudinal core, irrever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elaboration leads to stronger new attitude-new behaviour relation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orld-oriented rationality, obje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6E9C-B4FC-4104-854E-8CD537B5C6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EE59-0FCC-412B-8CA7-684EE7D7CEA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F900-A607-4780-8160-9EB7B03473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900000" y="620640"/>
            <a:ext cx="7417080" cy="6006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So far - what the textbooks tell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Now let us do some thinking 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E174-68A1-420A-A1B6-5C6AA14A44C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468360" y="333360"/>
            <a:ext cx="8143920" cy="634032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Integration wor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Bringing things together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02E5-F489-4644-A3FD-082D0CA627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D532-FD9E-4C6E-8A77-9083C8AF560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222560" y="685800"/>
            <a:ext cx="741492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cial interations create structures of ‘common sense’ (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S = social representations such as attitudes, beliefs, ideas, n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lective intentionality: common outlook and collectiv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blem: establishing, maintaining, and re-designing CS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ext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ra- and inter-group conflict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between groups A, B, 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ultiple common senses not one ‘sensus communi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 over communalities: processes of struct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violence and force: by military warfare [hard pow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adjudication of institutional authorities [court, church, scienc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imes New Roman"/>
              </a:rPr>
              <a:t>by social influence in imperfect public sphere [soft pow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by deliberation in ‘functioning civil society’ [power-free discour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Straight Arrow Connector 5"/>
          <p:cNvCxnSpPr/>
          <p:nvPr/>
        </p:nvCxnSpPr>
        <p:spPr>
          <a:xfrm flipH="1">
            <a:off x="898200" y="3573000"/>
            <a:ext cx="2160" cy="208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31" name="TextBox 6" descr=""/>
          <p:cNvPicPr/>
          <p:nvPr/>
        </p:nvPicPr>
        <p:blipFill>
          <a:blip r:embed="rId1"/>
          <a:stretch/>
        </p:blipFill>
        <p:spPr>
          <a:xfrm>
            <a:off x="262080" y="3621240"/>
            <a:ext cx="645840" cy="196200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BBA1-23A0-4F20-979C-797A12024B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DCE4-20C3-4CC5-9EB0-8A12D302BD9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826920" y="457200"/>
            <a:ext cx="7705800" cy="5489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cial influence = negotiations between group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mmetrical [ A ~ B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rmalisation by Compromising a frame of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ming to common terms;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ithout a strong projec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o axes to grind’; equality of resources; Habermas’ ideal speech situation app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ymmetrical [ A &gt; B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ong projects involved, basic value commitments are at s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[bring minority into-the-fol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jority influence’: strategy of the strong, power in number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agreement / private disagreeme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[normati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commodatio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[make inroads with majority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inority influence’: strategy of the weak; power of dis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disagreement / private endorsement [informationa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radox of minority influence: in order to exert influence, the minority needs to have discipline [= successful minorities require professionalis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4841-1355-4DDF-A93B-E4327B3875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CF84-256E-4685-AA87-13067B240D9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26"/>
          <p:cNvSpPr/>
          <p:nvPr/>
        </p:nvSpPr>
        <p:spPr>
          <a:xfrm>
            <a:off x="1286640" y="217476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orm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herif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27"/>
          <p:cNvSpPr/>
          <p:nvPr/>
        </p:nvSpPr>
        <p:spPr>
          <a:xfrm>
            <a:off x="6091200" y="308916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sch, Milgram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de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028"/>
          <p:cNvSpPr/>
          <p:nvPr/>
        </p:nvSpPr>
        <p:spPr>
          <a:xfrm>
            <a:off x="2431080" y="430848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ccommo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Moscovici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29"/>
          <p:cNvSpPr/>
          <p:nvPr/>
        </p:nvSpPr>
        <p:spPr>
          <a:xfrm>
            <a:off x="1197360" y="404640"/>
            <a:ext cx="69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cial co-ordination of  activity: Establishing, Maintai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d Altering Moral Communality (a spiral of commun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030"/>
          <p:cNvSpPr/>
          <p:nvPr/>
        </p:nvSpPr>
        <p:spPr>
          <a:xfrm>
            <a:off x="2232000" y="1330200"/>
            <a:ext cx="4905360" cy="1757520"/>
          </a:xfrm>
          <a:custGeom>
            <a:avLst/>
            <a:gdLst>
              <a:gd name="textAreaLeft" fmla="*/ 0 w 4905360"/>
              <a:gd name="textAreaRight" fmla="*/ 4905720 w 490536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w="3090" h="1107">
                <a:moveTo>
                  <a:pt x="0" y="553"/>
                </a:moveTo>
                <a:cubicBezTo>
                  <a:pt x="41" y="533"/>
                  <a:pt x="62" y="504"/>
                  <a:pt x="90" y="471"/>
                </a:cubicBezTo>
                <a:cubicBezTo>
                  <a:pt x="156" y="393"/>
                  <a:pt x="74" y="496"/>
                  <a:pt x="135" y="434"/>
                </a:cubicBezTo>
                <a:cubicBezTo>
                  <a:pt x="202" y="365"/>
                  <a:pt x="257" y="287"/>
                  <a:pt x="337" y="232"/>
                </a:cubicBezTo>
                <a:cubicBezTo>
                  <a:pt x="371" y="180"/>
                  <a:pt x="331" y="231"/>
                  <a:pt x="374" y="202"/>
                </a:cubicBezTo>
                <a:cubicBezTo>
                  <a:pt x="401" y="184"/>
                  <a:pt x="409" y="167"/>
                  <a:pt x="442" y="157"/>
                </a:cubicBezTo>
                <a:cubicBezTo>
                  <a:pt x="500" y="113"/>
                  <a:pt x="581" y="106"/>
                  <a:pt x="651" y="90"/>
                </a:cubicBezTo>
                <a:cubicBezTo>
                  <a:pt x="784" y="60"/>
                  <a:pt x="911" y="16"/>
                  <a:pt x="1048" y="0"/>
                </a:cubicBezTo>
                <a:cubicBezTo>
                  <a:pt x="1210" y="2"/>
                  <a:pt x="1372" y="2"/>
                  <a:pt x="1534" y="7"/>
                </a:cubicBezTo>
                <a:cubicBezTo>
                  <a:pt x="1560" y="8"/>
                  <a:pt x="1634" y="26"/>
                  <a:pt x="1654" y="30"/>
                </a:cubicBezTo>
                <a:cubicBezTo>
                  <a:pt x="1800" y="62"/>
                  <a:pt x="1943" y="103"/>
                  <a:pt x="2080" y="164"/>
                </a:cubicBezTo>
                <a:cubicBezTo>
                  <a:pt x="2142" y="192"/>
                  <a:pt x="2202" y="239"/>
                  <a:pt x="2267" y="254"/>
                </a:cubicBezTo>
                <a:cubicBezTo>
                  <a:pt x="2319" y="289"/>
                  <a:pt x="2418" y="348"/>
                  <a:pt x="2476" y="366"/>
                </a:cubicBezTo>
                <a:cubicBezTo>
                  <a:pt x="2496" y="381"/>
                  <a:pt x="2518" y="393"/>
                  <a:pt x="2536" y="411"/>
                </a:cubicBezTo>
                <a:cubicBezTo>
                  <a:pt x="2546" y="421"/>
                  <a:pt x="2555" y="432"/>
                  <a:pt x="2566" y="441"/>
                </a:cubicBezTo>
                <a:cubicBezTo>
                  <a:pt x="2593" y="464"/>
                  <a:pt x="2587" y="450"/>
                  <a:pt x="2619" y="471"/>
                </a:cubicBezTo>
                <a:cubicBezTo>
                  <a:pt x="2640" y="485"/>
                  <a:pt x="2658" y="501"/>
                  <a:pt x="2678" y="516"/>
                </a:cubicBezTo>
                <a:cubicBezTo>
                  <a:pt x="2688" y="523"/>
                  <a:pt x="2708" y="538"/>
                  <a:pt x="2708" y="538"/>
                </a:cubicBezTo>
                <a:cubicBezTo>
                  <a:pt x="2762" y="621"/>
                  <a:pt x="2681" y="504"/>
                  <a:pt x="2746" y="576"/>
                </a:cubicBezTo>
                <a:cubicBezTo>
                  <a:pt x="2769" y="601"/>
                  <a:pt x="2785" y="631"/>
                  <a:pt x="2806" y="658"/>
                </a:cubicBezTo>
                <a:cubicBezTo>
                  <a:pt x="2830" y="736"/>
                  <a:pt x="2897" y="806"/>
                  <a:pt x="2948" y="868"/>
                </a:cubicBezTo>
                <a:cubicBezTo>
                  <a:pt x="2980" y="908"/>
                  <a:pt x="3001" y="950"/>
                  <a:pt x="3037" y="987"/>
                </a:cubicBezTo>
                <a:cubicBezTo>
                  <a:pt x="3046" y="1012"/>
                  <a:pt x="3075" y="1055"/>
                  <a:pt x="3075" y="1055"/>
                </a:cubicBezTo>
                <a:cubicBezTo>
                  <a:pt x="3080" y="1071"/>
                  <a:pt x="3090" y="1090"/>
                  <a:pt x="3090" y="11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1031"/>
          <p:cNvSpPr/>
          <p:nvPr/>
        </p:nvSpPr>
        <p:spPr>
          <a:xfrm>
            <a:off x="3514680" y="4221000"/>
            <a:ext cx="3578400" cy="1455840"/>
          </a:xfrm>
          <a:custGeom>
            <a:avLst/>
            <a:gdLst>
              <a:gd name="textAreaLeft" fmla="*/ 0 w 3578400"/>
              <a:gd name="textAreaRight" fmla="*/ 3578760 w 357840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89" h="1085">
                <a:moveTo>
                  <a:pt x="2289" y="0"/>
                </a:moveTo>
                <a:cubicBezTo>
                  <a:pt x="2273" y="148"/>
                  <a:pt x="2239" y="314"/>
                  <a:pt x="2147" y="434"/>
                </a:cubicBezTo>
                <a:cubicBezTo>
                  <a:pt x="2134" y="475"/>
                  <a:pt x="2149" y="439"/>
                  <a:pt x="2117" y="479"/>
                </a:cubicBezTo>
                <a:cubicBezTo>
                  <a:pt x="2081" y="525"/>
                  <a:pt x="2047" y="559"/>
                  <a:pt x="2005" y="598"/>
                </a:cubicBezTo>
                <a:cubicBezTo>
                  <a:pt x="1971" y="629"/>
                  <a:pt x="1941" y="663"/>
                  <a:pt x="1908" y="696"/>
                </a:cubicBezTo>
                <a:cubicBezTo>
                  <a:pt x="1900" y="704"/>
                  <a:pt x="1888" y="705"/>
                  <a:pt x="1878" y="711"/>
                </a:cubicBezTo>
                <a:cubicBezTo>
                  <a:pt x="1849" y="729"/>
                  <a:pt x="1824" y="752"/>
                  <a:pt x="1796" y="771"/>
                </a:cubicBezTo>
                <a:cubicBezTo>
                  <a:pt x="1748" y="803"/>
                  <a:pt x="1683" y="819"/>
                  <a:pt x="1638" y="853"/>
                </a:cubicBezTo>
                <a:cubicBezTo>
                  <a:pt x="1593" y="887"/>
                  <a:pt x="1540" y="912"/>
                  <a:pt x="1489" y="935"/>
                </a:cubicBezTo>
                <a:cubicBezTo>
                  <a:pt x="1433" y="960"/>
                  <a:pt x="1386" y="992"/>
                  <a:pt x="1324" y="1002"/>
                </a:cubicBezTo>
                <a:cubicBezTo>
                  <a:pt x="1293" y="1023"/>
                  <a:pt x="1263" y="1024"/>
                  <a:pt x="1227" y="1032"/>
                </a:cubicBezTo>
                <a:cubicBezTo>
                  <a:pt x="1105" y="1058"/>
                  <a:pt x="985" y="1074"/>
                  <a:pt x="860" y="1085"/>
                </a:cubicBezTo>
                <a:cubicBezTo>
                  <a:pt x="765" y="1080"/>
                  <a:pt x="701" y="1075"/>
                  <a:pt x="614" y="1055"/>
                </a:cubicBezTo>
                <a:cubicBezTo>
                  <a:pt x="554" y="1025"/>
                  <a:pt x="485" y="1034"/>
                  <a:pt x="419" y="1025"/>
                </a:cubicBezTo>
                <a:cubicBezTo>
                  <a:pt x="363" y="1010"/>
                  <a:pt x="323" y="971"/>
                  <a:pt x="270" y="950"/>
                </a:cubicBezTo>
                <a:cubicBezTo>
                  <a:pt x="240" y="938"/>
                  <a:pt x="203" y="938"/>
                  <a:pt x="172" y="928"/>
                </a:cubicBezTo>
                <a:cubicBezTo>
                  <a:pt x="122" y="875"/>
                  <a:pt x="35" y="851"/>
                  <a:pt x="0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1033"/>
          <p:cNvSpPr/>
          <p:nvPr/>
        </p:nvSpPr>
        <p:spPr>
          <a:xfrm>
            <a:off x="2968560" y="1971720"/>
            <a:ext cx="3800520" cy="2232000"/>
          </a:xfrm>
          <a:custGeom>
            <a:avLst/>
            <a:gdLst>
              <a:gd name="textAreaLeft" fmla="*/ 0 w 3800520"/>
              <a:gd name="textAreaRight" fmla="*/ 3800880 w 380052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394" h="1406">
                <a:moveTo>
                  <a:pt x="0" y="1406"/>
                </a:moveTo>
                <a:cubicBezTo>
                  <a:pt x="10" y="1296"/>
                  <a:pt x="32" y="1183"/>
                  <a:pt x="82" y="1084"/>
                </a:cubicBezTo>
                <a:cubicBezTo>
                  <a:pt x="95" y="1026"/>
                  <a:pt x="118" y="973"/>
                  <a:pt x="142" y="920"/>
                </a:cubicBezTo>
                <a:cubicBezTo>
                  <a:pt x="158" y="884"/>
                  <a:pt x="166" y="844"/>
                  <a:pt x="180" y="808"/>
                </a:cubicBezTo>
                <a:cubicBezTo>
                  <a:pt x="197" y="765"/>
                  <a:pt x="227" y="710"/>
                  <a:pt x="254" y="673"/>
                </a:cubicBezTo>
                <a:cubicBezTo>
                  <a:pt x="286" y="627"/>
                  <a:pt x="326" y="584"/>
                  <a:pt x="359" y="538"/>
                </a:cubicBezTo>
                <a:cubicBezTo>
                  <a:pt x="412" y="464"/>
                  <a:pt x="454" y="386"/>
                  <a:pt x="494" y="306"/>
                </a:cubicBezTo>
                <a:cubicBezTo>
                  <a:pt x="519" y="257"/>
                  <a:pt x="553" y="214"/>
                  <a:pt x="576" y="164"/>
                </a:cubicBezTo>
                <a:cubicBezTo>
                  <a:pt x="585" y="144"/>
                  <a:pt x="587" y="116"/>
                  <a:pt x="606" y="104"/>
                </a:cubicBezTo>
                <a:cubicBezTo>
                  <a:pt x="638" y="84"/>
                  <a:pt x="621" y="91"/>
                  <a:pt x="666" y="82"/>
                </a:cubicBezTo>
                <a:cubicBezTo>
                  <a:pt x="693" y="77"/>
                  <a:pt x="748" y="67"/>
                  <a:pt x="748" y="67"/>
                </a:cubicBezTo>
                <a:cubicBezTo>
                  <a:pt x="868" y="20"/>
                  <a:pt x="1010" y="37"/>
                  <a:pt x="1137" y="30"/>
                </a:cubicBezTo>
                <a:cubicBezTo>
                  <a:pt x="1248" y="0"/>
                  <a:pt x="1358" y="19"/>
                  <a:pt x="1474" y="22"/>
                </a:cubicBezTo>
                <a:cubicBezTo>
                  <a:pt x="1575" y="38"/>
                  <a:pt x="1669" y="67"/>
                  <a:pt x="1766" y="97"/>
                </a:cubicBezTo>
                <a:cubicBezTo>
                  <a:pt x="1801" y="121"/>
                  <a:pt x="1840" y="138"/>
                  <a:pt x="1878" y="157"/>
                </a:cubicBezTo>
                <a:cubicBezTo>
                  <a:pt x="1933" y="185"/>
                  <a:pt x="1983" y="220"/>
                  <a:pt x="2035" y="254"/>
                </a:cubicBezTo>
                <a:cubicBezTo>
                  <a:pt x="2078" y="282"/>
                  <a:pt x="2108" y="343"/>
                  <a:pt x="2155" y="359"/>
                </a:cubicBezTo>
                <a:cubicBezTo>
                  <a:pt x="2184" y="399"/>
                  <a:pt x="2215" y="439"/>
                  <a:pt x="2244" y="479"/>
                </a:cubicBezTo>
                <a:cubicBezTo>
                  <a:pt x="2287" y="538"/>
                  <a:pt x="2248" y="459"/>
                  <a:pt x="2289" y="531"/>
                </a:cubicBezTo>
                <a:cubicBezTo>
                  <a:pt x="2319" y="582"/>
                  <a:pt x="2340" y="634"/>
                  <a:pt x="2364" y="688"/>
                </a:cubicBezTo>
                <a:cubicBezTo>
                  <a:pt x="2376" y="714"/>
                  <a:pt x="2394" y="740"/>
                  <a:pt x="2394" y="7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1034"/>
          <p:cNvSpPr/>
          <p:nvPr/>
        </p:nvSpPr>
        <p:spPr>
          <a:xfrm>
            <a:off x="4227480" y="4221000"/>
            <a:ext cx="2432160" cy="1170000"/>
          </a:xfrm>
          <a:custGeom>
            <a:avLst/>
            <a:gdLst>
              <a:gd name="textAreaLeft" fmla="*/ 0 w 2432160"/>
              <a:gd name="textAreaRight" fmla="*/ 2432160 w 24321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1608" h="860">
                <a:moveTo>
                  <a:pt x="1608" y="0"/>
                </a:moveTo>
                <a:cubicBezTo>
                  <a:pt x="1595" y="97"/>
                  <a:pt x="1534" y="142"/>
                  <a:pt x="1481" y="217"/>
                </a:cubicBezTo>
                <a:cubicBezTo>
                  <a:pt x="1461" y="245"/>
                  <a:pt x="1439" y="270"/>
                  <a:pt x="1421" y="299"/>
                </a:cubicBezTo>
                <a:cubicBezTo>
                  <a:pt x="1400" y="334"/>
                  <a:pt x="1388" y="387"/>
                  <a:pt x="1362" y="419"/>
                </a:cubicBezTo>
                <a:cubicBezTo>
                  <a:pt x="1315" y="477"/>
                  <a:pt x="1257" y="518"/>
                  <a:pt x="1197" y="561"/>
                </a:cubicBezTo>
                <a:cubicBezTo>
                  <a:pt x="1149" y="595"/>
                  <a:pt x="1105" y="640"/>
                  <a:pt x="1047" y="658"/>
                </a:cubicBezTo>
                <a:cubicBezTo>
                  <a:pt x="1020" y="676"/>
                  <a:pt x="992" y="693"/>
                  <a:pt x="965" y="711"/>
                </a:cubicBezTo>
                <a:cubicBezTo>
                  <a:pt x="941" y="727"/>
                  <a:pt x="909" y="727"/>
                  <a:pt x="883" y="740"/>
                </a:cubicBezTo>
                <a:cubicBezTo>
                  <a:pt x="816" y="773"/>
                  <a:pt x="875" y="757"/>
                  <a:pt x="808" y="770"/>
                </a:cubicBezTo>
                <a:cubicBezTo>
                  <a:pt x="687" y="819"/>
                  <a:pt x="570" y="843"/>
                  <a:pt x="441" y="860"/>
                </a:cubicBezTo>
                <a:cubicBezTo>
                  <a:pt x="369" y="858"/>
                  <a:pt x="296" y="859"/>
                  <a:pt x="224" y="853"/>
                </a:cubicBezTo>
                <a:cubicBezTo>
                  <a:pt x="193" y="850"/>
                  <a:pt x="158" y="817"/>
                  <a:pt x="127" y="808"/>
                </a:cubicBezTo>
                <a:cubicBezTo>
                  <a:pt x="92" y="772"/>
                  <a:pt x="37" y="766"/>
                  <a:pt x="0" y="7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1035"/>
          <p:cNvSpPr/>
          <p:nvPr/>
        </p:nvSpPr>
        <p:spPr>
          <a:xfrm>
            <a:off x="3490920" y="2435400"/>
            <a:ext cx="2351160" cy="1815840"/>
          </a:xfrm>
          <a:custGeom>
            <a:avLst/>
            <a:gdLst>
              <a:gd name="textAreaLeft" fmla="*/ 0 w 2351160"/>
              <a:gd name="textAreaRight" fmla="*/ 2351520 w 235116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1481" h="1144">
                <a:moveTo>
                  <a:pt x="0" y="1144"/>
                </a:moveTo>
                <a:cubicBezTo>
                  <a:pt x="7" y="920"/>
                  <a:pt x="5" y="846"/>
                  <a:pt x="68" y="658"/>
                </a:cubicBezTo>
                <a:cubicBezTo>
                  <a:pt x="82" y="616"/>
                  <a:pt x="85" y="578"/>
                  <a:pt x="105" y="538"/>
                </a:cubicBezTo>
                <a:cubicBezTo>
                  <a:pt x="119" y="474"/>
                  <a:pt x="141" y="409"/>
                  <a:pt x="172" y="351"/>
                </a:cubicBezTo>
                <a:cubicBezTo>
                  <a:pt x="181" y="335"/>
                  <a:pt x="196" y="323"/>
                  <a:pt x="202" y="306"/>
                </a:cubicBezTo>
                <a:cubicBezTo>
                  <a:pt x="231" y="227"/>
                  <a:pt x="288" y="124"/>
                  <a:pt x="374" y="97"/>
                </a:cubicBezTo>
                <a:cubicBezTo>
                  <a:pt x="397" y="61"/>
                  <a:pt x="430" y="60"/>
                  <a:pt x="472" y="44"/>
                </a:cubicBezTo>
                <a:cubicBezTo>
                  <a:pt x="537" y="19"/>
                  <a:pt x="587" y="7"/>
                  <a:pt x="659" y="0"/>
                </a:cubicBezTo>
                <a:cubicBezTo>
                  <a:pt x="751" y="2"/>
                  <a:pt x="843" y="3"/>
                  <a:pt x="935" y="7"/>
                </a:cubicBezTo>
                <a:cubicBezTo>
                  <a:pt x="972" y="9"/>
                  <a:pt x="1006" y="25"/>
                  <a:pt x="1040" y="37"/>
                </a:cubicBezTo>
                <a:cubicBezTo>
                  <a:pt x="1120" y="66"/>
                  <a:pt x="1216" y="96"/>
                  <a:pt x="1279" y="157"/>
                </a:cubicBezTo>
                <a:cubicBezTo>
                  <a:pt x="1305" y="183"/>
                  <a:pt x="1336" y="205"/>
                  <a:pt x="1362" y="231"/>
                </a:cubicBezTo>
                <a:cubicBezTo>
                  <a:pt x="1398" y="267"/>
                  <a:pt x="1417" y="315"/>
                  <a:pt x="1459" y="344"/>
                </a:cubicBezTo>
                <a:cubicBezTo>
                  <a:pt x="1461" y="351"/>
                  <a:pt x="1463" y="359"/>
                  <a:pt x="1466" y="366"/>
                </a:cubicBezTo>
                <a:cubicBezTo>
                  <a:pt x="1470" y="374"/>
                  <a:pt x="1481" y="388"/>
                  <a:pt x="1481" y="3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036"/>
          <p:cNvSpPr/>
          <p:nvPr/>
        </p:nvSpPr>
        <p:spPr>
          <a:xfrm>
            <a:off x="1674720" y="3040200"/>
            <a:ext cx="324000" cy="1033200"/>
          </a:xfrm>
          <a:custGeom>
            <a:avLst/>
            <a:gdLst>
              <a:gd name="textAreaLeft" fmla="*/ 0 w 324000"/>
              <a:gd name="textAreaRight" fmla="*/ 324360 w 32400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204" h="651">
                <a:moveTo>
                  <a:pt x="0" y="651"/>
                </a:moveTo>
                <a:cubicBezTo>
                  <a:pt x="7" y="560"/>
                  <a:pt x="3" y="447"/>
                  <a:pt x="45" y="367"/>
                </a:cubicBezTo>
                <a:cubicBezTo>
                  <a:pt x="59" y="290"/>
                  <a:pt x="41" y="370"/>
                  <a:pt x="75" y="284"/>
                </a:cubicBezTo>
                <a:cubicBezTo>
                  <a:pt x="97" y="230"/>
                  <a:pt x="105" y="172"/>
                  <a:pt x="134" y="120"/>
                </a:cubicBezTo>
                <a:cubicBezTo>
                  <a:pt x="143" y="104"/>
                  <a:pt x="154" y="90"/>
                  <a:pt x="164" y="75"/>
                </a:cubicBezTo>
                <a:cubicBezTo>
                  <a:pt x="173" y="62"/>
                  <a:pt x="168" y="41"/>
                  <a:pt x="179" y="30"/>
                </a:cubicBezTo>
                <a:cubicBezTo>
                  <a:pt x="204" y="5"/>
                  <a:pt x="202" y="18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038"/>
          <p:cNvSpPr/>
          <p:nvPr/>
        </p:nvSpPr>
        <p:spPr>
          <a:xfrm flipH="1">
            <a:off x="5867280" y="5334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39"/>
          <p:cNvSpPr/>
          <p:nvPr/>
        </p:nvSpPr>
        <p:spPr>
          <a:xfrm flipH="1">
            <a:off x="5486040" y="46483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40"/>
          <p:cNvSpPr/>
          <p:nvPr/>
        </p:nvSpPr>
        <p:spPr>
          <a:xfrm flipV="1">
            <a:off x="3276720" y="24382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41"/>
          <p:cNvSpPr/>
          <p:nvPr/>
        </p:nvSpPr>
        <p:spPr>
          <a:xfrm flipV="1">
            <a:off x="1600200" y="4191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042"/>
          <p:cNvSpPr/>
          <p:nvPr/>
        </p:nvSpPr>
        <p:spPr>
          <a:xfrm>
            <a:off x="5867280" y="32004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043"/>
          <p:cNvSpPr/>
          <p:nvPr/>
        </p:nvSpPr>
        <p:spPr>
          <a:xfrm>
            <a:off x="5486400" y="1752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44"/>
          <p:cNvSpPr/>
          <p:nvPr/>
        </p:nvSpPr>
        <p:spPr>
          <a:xfrm>
            <a:off x="5867280" y="2362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045"/>
          <p:cNvSpPr/>
          <p:nvPr/>
        </p:nvSpPr>
        <p:spPr>
          <a:xfrm>
            <a:off x="4343400" y="1219320"/>
            <a:ext cx="60948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1047"/>
          <p:cNvSpPr/>
          <p:nvPr/>
        </p:nvSpPr>
        <p:spPr>
          <a:xfrm>
            <a:off x="6923160" y="1436760"/>
            <a:ext cx="145800" cy="1473120"/>
          </a:xfrm>
          <a:custGeom>
            <a:avLst/>
            <a:gdLst>
              <a:gd name="textAreaLeft" fmla="*/ 0 w 145800"/>
              <a:gd name="textAreaRight" fmla="*/ 145800 w 14580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92" h="928">
                <a:moveTo>
                  <a:pt x="0" y="0"/>
                </a:moveTo>
                <a:cubicBezTo>
                  <a:pt x="7" y="26"/>
                  <a:pt x="14" y="50"/>
                  <a:pt x="23" y="75"/>
                </a:cubicBezTo>
                <a:cubicBezTo>
                  <a:pt x="29" y="119"/>
                  <a:pt x="38" y="160"/>
                  <a:pt x="53" y="202"/>
                </a:cubicBezTo>
                <a:cubicBezTo>
                  <a:pt x="61" y="282"/>
                  <a:pt x="89" y="361"/>
                  <a:pt x="90" y="441"/>
                </a:cubicBezTo>
                <a:cubicBezTo>
                  <a:pt x="92" y="603"/>
                  <a:pt x="90" y="766"/>
                  <a:pt x="90" y="9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48"/>
          <p:cNvSpPr/>
          <p:nvPr/>
        </p:nvSpPr>
        <p:spPr>
          <a:xfrm>
            <a:off x="71629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49"/>
          <p:cNvSpPr/>
          <p:nvPr/>
        </p:nvSpPr>
        <p:spPr>
          <a:xfrm>
            <a:off x="7155000" y="173844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newc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59"/>
          <p:cNvSpPr/>
          <p:nvPr/>
        </p:nvSpPr>
        <p:spPr>
          <a:xfrm>
            <a:off x="742320" y="5756400"/>
            <a:ext cx="68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resentations = normative constraint = arte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25"/>
          <p:cNvSpPr/>
          <p:nvPr/>
        </p:nvSpPr>
        <p:spPr>
          <a:xfrm>
            <a:off x="6521400" y="50133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v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5FC4-EADB-4CD9-9607-F6C905557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560A-46CF-4453-95F2-17A7E76B02F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FA2-FE53-4D8B-AA97-764B1A284E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68360" y="765000"/>
            <a:ext cx="835164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ther takes on ‘influenc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ce: moving in tanks, fortification to keep enemies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power: armies, police and threat of vio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ft power: cultural influence; attractive ‘way of life’; good mus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generalised communication media (GCM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money: a code that substitutes for ambiguous language and thu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es the probability of communication between A and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ly prestige, power, law (see Parsons, Luhmann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Trust: general condition that reduces transaction costs; a kind of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edit that absorbs losses, disappoin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ocial Psychology: we will now se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B176-0042-40B7-ACE9-AAF95A9BF84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72E-6B4D-46C0-B293-7C76E76AEE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55640" y="1413000"/>
          <a:ext cx="7777080" cy="4206600"/>
        </p:xfrm>
        <a:graphic>
          <a:graphicData uri="http://schemas.openxmlformats.org/drawingml/2006/table">
            <a:tbl>
              <a:tblPr/>
              <a:tblGrid>
                <a:gridCol w="2693880"/>
                <a:gridCol w="508320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alities of Rational Infl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is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me of reference – comprom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mil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ity influence – conformit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ority, Prestige – obed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, legal norm - compli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mmo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ority Influence – conver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E253-C78D-429E-B171-27E071A7670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539640" y="476280"/>
            <a:ext cx="8143920" cy="567000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Times New Roman"/>
              </a:rPr>
              <a:t>Extension 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ass Medi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rint, broadcasting,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E8AD-427B-4B50-A355-8C22A5C71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271F-CC46-41DB-A951-2A85F221AA5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755640" y="476280"/>
            <a:ext cx="8064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Limitation of experimental paradig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cial influence experiments ar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‘laboratory drama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ace-to-face situations arranged by an experimente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ited ecological validity, because modern social influence is heavily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ss mediated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rony: experiments are banned under ‘ethics code’ but TV makes use of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heir dramatic qualities (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ramatic effect, not causal claim is at stak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uality of face-to-face and formal commun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mall groups experiments = face-to-face; co-presence of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What happens if mass mediation comes into pla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wo different processes; different degrees of freedom;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n we analogize? Do we have to consider emergent propert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cial influence is exerted via informal but also via formalized mass media (i.e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fessional preparation of meaning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702-0463-4C58-BA7B-18705C968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B39A-F3D2-4D84-8BFF-BE12F5E7364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SE MBauer PS4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6F8B-EC69-49E1-9CA4-679F46A356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Object 1027"/>
          <p:cNvGraphicFramePr/>
          <p:nvPr/>
        </p:nvGraphicFramePr>
        <p:xfrm>
          <a:off x="1452600" y="1371600"/>
          <a:ext cx="6777000" cy="51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371600"/>
                    <a:ext cx="677700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Text Box 1028"/>
          <p:cNvSpPr/>
          <p:nvPr/>
        </p:nvSpPr>
        <p:spPr>
          <a:xfrm>
            <a:off x="1025640" y="60948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ormal and Formalise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7450-3258-4089-A15D-86304CCD05D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752480" y="6324480"/>
            <a:ext cx="20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C Tennant, LSE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12"/>
          <p:cNvGraphicFramePr/>
          <p:nvPr/>
        </p:nvGraphicFramePr>
        <p:xfrm>
          <a:off x="635040" y="336600"/>
          <a:ext cx="7873920" cy="61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336600"/>
                    <a:ext cx="7873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DBE6-96FD-48F1-9078-96ADF00876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1BC2-81BD-402D-9A9A-4008CC93022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2"/>
          <p:cNvGraphicFramePr/>
          <p:nvPr/>
        </p:nvGraphicFramePr>
        <p:xfrm>
          <a:off x="635040" y="447840"/>
          <a:ext cx="7873920" cy="59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47840"/>
                    <a:ext cx="787392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C1D9-B9FB-474A-B535-934B213667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9E58-FBCD-488B-8E7F-7205677EB43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2556000" y="1844640"/>
            <a:ext cx="4464000" cy="129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media on topic/actor 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ention, positioning and fr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2411280" y="4076640"/>
            <a:ext cx="4176720" cy="1440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rsations on X: salience and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5"/>
          <p:cNvSpPr/>
          <p:nvPr/>
        </p:nvSpPr>
        <p:spPr>
          <a:xfrm>
            <a:off x="6837480" y="2448000"/>
            <a:ext cx="1211040" cy="233496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2334960"/>
              <a:gd name="textAreaBottom" fmla="*/ 2335320 h 2334960"/>
            </a:gdLst>
            <a:ahLst/>
            <a:rect l="textAreaLeft" t="textAreaTop" r="textAreaRight" b="textAreaBottom"/>
            <a:pathLst>
              <a:path w="1212167" h="2335237">
                <a:moveTo>
                  <a:pt x="436099" y="0"/>
                </a:moveTo>
                <a:cubicBezTo>
                  <a:pt x="824133" y="438443"/>
                  <a:pt x="1212167" y="876887"/>
                  <a:pt x="1139484" y="1266093"/>
                </a:cubicBezTo>
                <a:cubicBezTo>
                  <a:pt x="1066801" y="1655299"/>
                  <a:pt x="533400" y="1995268"/>
                  <a:pt x="0" y="2335237"/>
                </a:cubicBezTo>
              </a:path>
            </a:pathLst>
          </a:custGeom>
          <a:solidFill>
            <a:srgbClr val="ffffff"/>
          </a:solidFill>
          <a:ln w="69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6"/>
          <p:cNvSpPr/>
          <p:nvPr/>
        </p:nvSpPr>
        <p:spPr>
          <a:xfrm>
            <a:off x="1155600" y="2265480"/>
            <a:ext cx="1184400" cy="217152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2171520"/>
              <a:gd name="textAreaBottom" fmla="*/ 2171880 h 2171520"/>
            </a:gdLst>
            <a:ahLst/>
            <a:rect l="textAreaLeft" t="textAreaTop" r="textAreaRight" b="textAreaBottom"/>
            <a:pathLst>
              <a:path w="1109003" h="2883877">
                <a:moveTo>
                  <a:pt x="1038665" y="2883877"/>
                </a:moveTo>
                <a:cubicBezTo>
                  <a:pt x="519332" y="2223868"/>
                  <a:pt x="0" y="1563859"/>
                  <a:pt x="11723" y="1083213"/>
                </a:cubicBezTo>
                <a:cubicBezTo>
                  <a:pt x="23446" y="602567"/>
                  <a:pt x="566224" y="301283"/>
                  <a:pt x="1109003" y="0"/>
                </a:cubicBezTo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552240" y="62064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ploring the ‘resonance’ between two sph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7961040" y="2492280"/>
            <a:ext cx="10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474480" y="42210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11"/>
          <p:cNvSpPr/>
          <p:nvPr/>
        </p:nvSpPr>
        <p:spPr>
          <a:xfrm>
            <a:off x="7308720" y="476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3"/>
          <p:cNvSpPr/>
          <p:nvPr/>
        </p:nvSpPr>
        <p:spPr>
          <a:xfrm>
            <a:off x="7308720" y="1628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4"/>
          <p:cNvSpPr/>
          <p:nvPr/>
        </p:nvSpPr>
        <p:spPr>
          <a:xfrm>
            <a:off x="7380360" y="527040"/>
            <a:ext cx="1512720" cy="957240"/>
          </a:xfrm>
          <a:custGeom>
            <a:avLst/>
            <a:gdLst/>
            <a:ahLst/>
            <a:rect l="l" t="t" r="r" b="b"/>
            <a:pathLst>
              <a:path w="1041009" h="837028">
                <a:moveTo>
                  <a:pt x="0" y="837028"/>
                </a:moveTo>
                <a:cubicBezTo>
                  <a:pt x="177018" y="807720"/>
                  <a:pt x="354037" y="778412"/>
                  <a:pt x="450166" y="640080"/>
                </a:cubicBezTo>
                <a:cubicBezTo>
                  <a:pt x="546295" y="501748"/>
                  <a:pt x="534572" y="0"/>
                  <a:pt x="576775" y="7034"/>
                </a:cubicBezTo>
                <a:cubicBezTo>
                  <a:pt x="618978" y="14068"/>
                  <a:pt x="626012" y="560364"/>
                  <a:pt x="703384" y="682284"/>
                </a:cubicBezTo>
                <a:cubicBezTo>
                  <a:pt x="780756" y="804204"/>
                  <a:pt x="910882" y="771379"/>
                  <a:pt x="1041009" y="738554"/>
                </a:cubicBezTo>
              </a:path>
            </a:pathLst>
          </a:cu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16"/>
          <p:cNvSpPr/>
          <p:nvPr/>
        </p:nvSpPr>
        <p:spPr>
          <a:xfrm>
            <a:off x="817236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8"/>
          <p:cNvSpPr/>
          <p:nvPr/>
        </p:nvSpPr>
        <p:spPr>
          <a:xfrm>
            <a:off x="6882480" y="1890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19"/>
          <p:cNvSpPr/>
          <p:nvPr/>
        </p:nvSpPr>
        <p:spPr>
          <a:xfrm>
            <a:off x="738036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Match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1907-491C-41BD-8455-84C68F97A0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17"/>
          <p:cNvSpPr/>
          <p:nvPr/>
        </p:nvSpPr>
        <p:spPr>
          <a:xfrm>
            <a:off x="2934000" y="350028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merging norms of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293C-74E0-4640-942E-8480E0D9286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1302480" y="19368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diation models: form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657600" y="1371600"/>
            <a:ext cx="1600200" cy="6094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,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4"/>
          <p:cNvSpPr/>
          <p:nvPr/>
        </p:nvSpPr>
        <p:spPr>
          <a:xfrm>
            <a:off x="2362320" y="1676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5334120" y="1676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16560" y="141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6374880" y="155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733920" y="2666880"/>
            <a:ext cx="1295280" cy="5335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,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23623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19108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5937480" y="217476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5930640" y="24796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5930640" y="27846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6006960" y="32418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5"/>
          <p:cNvSpPr/>
          <p:nvPr/>
        </p:nvSpPr>
        <p:spPr>
          <a:xfrm flipV="1">
            <a:off x="5029200" y="243792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6"/>
          <p:cNvSpPr/>
          <p:nvPr/>
        </p:nvSpPr>
        <p:spPr>
          <a:xfrm flipV="1">
            <a:off x="5029200" y="27428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50292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5029200" y="32004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7165080" y="2562120"/>
            <a:ext cx="10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utonom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145280" y="1459080"/>
            <a:ext cx="142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annon-W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IFI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268200" y="3835440"/>
            <a:ext cx="280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 world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fferenti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tents and re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dia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3345480" y="377496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2964240" y="514656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4"/>
          <p:cNvSpPr/>
          <p:nvPr/>
        </p:nvSpPr>
        <p:spPr>
          <a:xfrm>
            <a:off x="5571000" y="47242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5"/>
          <p:cNvSpPr/>
          <p:nvPr/>
        </p:nvSpPr>
        <p:spPr>
          <a:xfrm>
            <a:off x="4176720" y="3546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6"/>
          <p:cNvSpPr/>
          <p:nvPr/>
        </p:nvSpPr>
        <p:spPr>
          <a:xfrm>
            <a:off x="4031280" y="400356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3642840" y="499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’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3421440" y="55278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021000" y="4191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30"/>
          <p:cNvSpPr/>
          <p:nvPr/>
        </p:nvSpPr>
        <p:spPr>
          <a:xfrm>
            <a:off x="6028200" y="4952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1"/>
          <p:cNvSpPr/>
          <p:nvPr/>
        </p:nvSpPr>
        <p:spPr>
          <a:xfrm>
            <a:off x="3733920" y="4038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32"/>
          <p:cNvSpPr/>
          <p:nvPr/>
        </p:nvSpPr>
        <p:spPr>
          <a:xfrm>
            <a:off x="327672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33"/>
          <p:cNvSpPr/>
          <p:nvPr/>
        </p:nvSpPr>
        <p:spPr>
          <a:xfrm>
            <a:off x="5867280" y="5105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4"/>
          <p:cNvSpPr/>
          <p:nvPr/>
        </p:nvSpPr>
        <p:spPr>
          <a:xfrm flipV="1">
            <a:off x="3733920" y="3809880"/>
            <a:ext cx="457200" cy="152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35"/>
          <p:cNvSpPr/>
          <p:nvPr/>
        </p:nvSpPr>
        <p:spPr>
          <a:xfrm flipV="1">
            <a:off x="3352680" y="5257800"/>
            <a:ext cx="30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36"/>
          <p:cNvSpPr/>
          <p:nvPr/>
        </p:nvSpPr>
        <p:spPr>
          <a:xfrm flipV="1">
            <a:off x="5867280" y="4571640"/>
            <a:ext cx="304920" cy="152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0"/>
          <p:cNvSpPr/>
          <p:nvPr/>
        </p:nvSpPr>
        <p:spPr>
          <a:xfrm>
            <a:off x="3795840" y="3516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1"/>
          <p:cNvSpPr/>
          <p:nvPr/>
        </p:nvSpPr>
        <p:spPr>
          <a:xfrm>
            <a:off x="5793120" y="4419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42"/>
          <p:cNvSpPr/>
          <p:nvPr/>
        </p:nvSpPr>
        <p:spPr>
          <a:xfrm>
            <a:off x="3262680" y="49640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43"/>
          <p:cNvSpPr/>
          <p:nvPr/>
        </p:nvSpPr>
        <p:spPr>
          <a:xfrm>
            <a:off x="7010280" y="4024440"/>
            <a:ext cx="177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wo-step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cial Repres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50"/>
          <p:cNvSpPr/>
          <p:nvPr/>
        </p:nvSpPr>
        <p:spPr>
          <a:xfrm>
            <a:off x="6858000" y="388620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51"/>
          <p:cNvSpPr/>
          <p:nvPr/>
        </p:nvSpPr>
        <p:spPr>
          <a:xfrm>
            <a:off x="3276720" y="3505320"/>
            <a:ext cx="167616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52"/>
          <p:cNvSpPr/>
          <p:nvPr/>
        </p:nvSpPr>
        <p:spPr>
          <a:xfrm>
            <a:off x="5562720" y="4114800"/>
            <a:ext cx="11430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95480" y="4800600"/>
            <a:ext cx="152424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4724280" y="4343400"/>
            <a:ext cx="762120" cy="38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55"/>
          <p:cNvSpPr/>
          <p:nvPr/>
        </p:nvSpPr>
        <p:spPr>
          <a:xfrm flipH="1">
            <a:off x="4572000" y="5105520"/>
            <a:ext cx="990720" cy="228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56"/>
          <p:cNvSpPr/>
          <p:nvPr/>
        </p:nvSpPr>
        <p:spPr>
          <a:xfrm flipH="1">
            <a:off x="3429000" y="449568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7"/>
          <p:cNvSpPr/>
          <p:nvPr/>
        </p:nvSpPr>
        <p:spPr>
          <a:xfrm>
            <a:off x="4038480" y="76212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59"/>
          <p:cNvSpPr/>
          <p:nvPr/>
        </p:nvSpPr>
        <p:spPr>
          <a:xfrm>
            <a:off x="4495680" y="121932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5FCE-25B2-4CA5-838A-3C0C94FB9E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3E40-D913-453D-ACF1-9CA5F525175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4071960" y="1143000"/>
            <a:ext cx="28584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Straight Arrow Connector 5"/>
          <p:cNvCxnSpPr>
            <a:stCxn id="462" idx="3"/>
          </p:cNvCxnSpPr>
          <p:nvPr/>
        </p:nvCxnSpPr>
        <p:spPr>
          <a:xfrm flipH="1">
            <a:off x="2857320" y="1325520"/>
            <a:ext cx="1256400" cy="23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Straight Arrow Connector 7"/>
          <p:cNvCxnSpPr/>
          <p:nvPr/>
        </p:nvCxnSpPr>
        <p:spPr>
          <a:xfrm>
            <a:off x="4286160" y="1499760"/>
            <a:ext cx="1215360" cy="242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465" name="Straight Arrow Connector 9"/>
          <p:cNvCxnSpPr/>
          <p:nvPr/>
        </p:nvCxnSpPr>
        <p:spPr>
          <a:xfrm>
            <a:off x="2214720" y="4500720"/>
            <a:ext cx="3715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6" name="TextBox 10"/>
          <p:cNvSpPr/>
          <p:nvPr/>
        </p:nvSpPr>
        <p:spPr>
          <a:xfrm>
            <a:off x="1347840" y="492912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k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5290920" y="4929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12"/>
          <p:cNvSpPr/>
          <p:nvPr/>
        </p:nvSpPr>
        <p:spPr>
          <a:xfrm>
            <a:off x="808200" y="642960"/>
            <a:ext cx="78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historical pendulum of ‘belief’ in power of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13"/>
          <p:cNvSpPr/>
          <p:nvPr/>
        </p:nvSpPr>
        <p:spPr>
          <a:xfrm>
            <a:off x="2643120" y="3429000"/>
            <a:ext cx="42876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15"/>
          <p:cNvSpPr/>
          <p:nvPr/>
        </p:nvSpPr>
        <p:spPr>
          <a:xfrm>
            <a:off x="3206880" y="3322800"/>
            <a:ext cx="2041560" cy="512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041302" h="513008">
                <a:moveTo>
                  <a:pt x="0" y="0"/>
                </a:moveTo>
                <a:cubicBezTo>
                  <a:pt x="313386" y="232893"/>
                  <a:pt x="626772" y="465786"/>
                  <a:pt x="940158" y="489397"/>
                </a:cubicBezTo>
                <a:cubicBezTo>
                  <a:pt x="1253544" y="513008"/>
                  <a:pt x="1719330" y="210355"/>
                  <a:pt x="1880316" y="141668"/>
                </a:cubicBezTo>
                <a:cubicBezTo>
                  <a:pt x="2041302" y="72981"/>
                  <a:pt x="1906074" y="79420"/>
                  <a:pt x="1906074" y="77274"/>
                </a:cubicBezTo>
                <a:cubicBezTo>
                  <a:pt x="1906074" y="75128"/>
                  <a:pt x="1893195" y="101958"/>
                  <a:pt x="1880316" y="128789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ight Arrow 16"/>
          <p:cNvSpPr/>
          <p:nvPr/>
        </p:nvSpPr>
        <p:spPr>
          <a:xfrm>
            <a:off x="5072040" y="3429000"/>
            <a:ext cx="46080" cy="7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Straight Arrow Connector 18"/>
          <p:cNvCxnSpPr>
            <a:stCxn id="470" idx="2"/>
            <a:endCxn id="471" idx="0"/>
          </p:cNvCxnSpPr>
          <p:nvPr/>
        </p:nvCxnSpPr>
        <p:spPr>
          <a:xfrm>
            <a:off x="5087880" y="3463920"/>
            <a:ext cx="30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3" name="Straight Arrow Connector 20"/>
          <p:cNvCxnSpPr/>
          <p:nvPr/>
        </p:nvCxnSpPr>
        <p:spPr>
          <a:xfrm>
            <a:off x="3213720" y="3285720"/>
            <a:ext cx="2149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</p:cxnSp>
      <p:sp>
        <p:nvSpPr>
          <p:cNvPr id="474" name="TextBox 22"/>
          <p:cNvSpPr/>
          <p:nvPr/>
        </p:nvSpPr>
        <p:spPr>
          <a:xfrm>
            <a:off x="5367600" y="54291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30s, 197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23"/>
          <p:cNvSpPr/>
          <p:nvPr/>
        </p:nvSpPr>
        <p:spPr>
          <a:xfrm>
            <a:off x="1366920" y="54291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50s, 199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24"/>
          <p:cNvSpPr/>
          <p:nvPr/>
        </p:nvSpPr>
        <p:spPr>
          <a:xfrm>
            <a:off x="3929040" y="507204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FC8C-2FF0-4EC7-B07F-2DD7FAFF14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5385-6FCA-48EB-82B9-754D2895362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684360" y="692280"/>
            <a:ext cx="820872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ss media effect hypothe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ys of operationalising ideas of ‘resonanc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ernatives to ‘magic bullet’ ‘epidermic needle’ ‘hifi model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enda setting (weak): (McCoombs, Rogers et al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enda setting (strong): (Mazur  et al.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antity of coverage of fluoridation, vaccination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ming of issues ‘as X’ (Gamson et al.): images, definition, culprits,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ltivation under high exposure (Gerbner et a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n world’; coding of Red and Green bio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istency-or-experts hypotheses (Rothman et a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credibility requires expert agreement: see ‘global warming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p hypotheses for knowledge, motivation etc (Tichenor et a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w technology faster prevalent among the educ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iral of silence (Noelle-Neuma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sent shuts up: Anti-GM crop voices in the US; anti-war 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D4BD-BAAE-4BBC-9EF9-5FC8F91F08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84FA-2EEF-487D-B617-0BA4FD9114D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2"/>
          <p:cNvSpPr/>
          <p:nvPr/>
        </p:nvSpPr>
        <p:spPr>
          <a:xfrm>
            <a:off x="313200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2D43-2990-4C24-9E1E-836A01BE87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26920" y="3500280"/>
            <a:ext cx="7921800" cy="86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rowds, contagion, persuas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ormalising, compliance, obedience, 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042920" y="198900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behavi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219640" y="54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het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427640" y="16286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3059280" y="1628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2050920" y="5013360"/>
            <a:ext cx="561672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rms, attitudes, opinions, belie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ehaviour &amp;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Straight Arrow Connector 24"/>
          <p:cNvCxnSpPr/>
          <p:nvPr/>
        </p:nvCxnSpPr>
        <p:spPr>
          <a:xfrm flipH="1">
            <a:off x="1546920" y="299700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26"/>
          <p:cNvCxnSpPr/>
          <p:nvPr/>
        </p:nvCxnSpPr>
        <p:spPr>
          <a:xfrm>
            <a:off x="2050920" y="2852280"/>
            <a:ext cx="2181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34"/>
          <p:cNvCxnSpPr/>
          <p:nvPr/>
        </p:nvCxnSpPr>
        <p:spPr>
          <a:xfrm>
            <a:off x="6516720" y="907560"/>
            <a:ext cx="1224720" cy="245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Down Arrow 37"/>
          <p:cNvSpPr/>
          <p:nvPr/>
        </p:nvSpPr>
        <p:spPr>
          <a:xfrm>
            <a:off x="4427640" y="4653000"/>
            <a:ext cx="79200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2"/>
          <p:cNvSpPr/>
          <p:nvPr/>
        </p:nvSpPr>
        <p:spPr>
          <a:xfrm>
            <a:off x="2259000" y="5493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ristics, Soph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Straight Arrow Connector 44"/>
          <p:cNvCxnSpPr/>
          <p:nvPr/>
        </p:nvCxnSpPr>
        <p:spPr>
          <a:xfrm flipH="1">
            <a:off x="1618920" y="1051560"/>
            <a:ext cx="115272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47"/>
          <p:cNvSpPr/>
          <p:nvPr/>
        </p:nvSpPr>
        <p:spPr>
          <a:xfrm>
            <a:off x="4218480" y="11253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Public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Straight Arrow Connector 49"/>
          <p:cNvCxnSpPr/>
          <p:nvPr/>
        </p:nvCxnSpPr>
        <p:spPr>
          <a:xfrm flipH="1">
            <a:off x="5651280" y="98100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55"/>
          <p:cNvCxnSpPr/>
          <p:nvPr/>
        </p:nvCxnSpPr>
        <p:spPr>
          <a:xfrm flipH="1">
            <a:off x="5076000" y="2133720"/>
            <a:ext cx="1436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57"/>
          <p:cNvCxnSpPr/>
          <p:nvPr/>
        </p:nvCxnSpPr>
        <p:spPr>
          <a:xfrm>
            <a:off x="5940360" y="2205000"/>
            <a:ext cx="1656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59"/>
          <p:cNvCxnSpPr/>
          <p:nvPr/>
        </p:nvCxnSpPr>
        <p:spPr>
          <a:xfrm flipH="1">
            <a:off x="3707640" y="2565000"/>
            <a:ext cx="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39"/>
          <p:cNvCxnSpPr/>
          <p:nvPr/>
        </p:nvCxnSpPr>
        <p:spPr>
          <a:xfrm flipH="1">
            <a:off x="4139640" y="2133720"/>
            <a:ext cx="503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BD21-9521-4BEE-9646-9719B31CED2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395280" y="404640"/>
          <a:ext cx="8074080" cy="57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8074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6EB-F4C2-4167-97B2-2AAC1DEEDA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7"/>
          <p:cNvSpPr/>
          <p:nvPr/>
        </p:nvSpPr>
        <p:spPr>
          <a:xfrm>
            <a:off x="7407360" y="4005360"/>
            <a:ext cx="792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740C-01DF-43E3-82BC-7D06D819F51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357120" y="928800"/>
            <a:ext cx="8143920" cy="512136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Extension I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000"/>
                </a:solidFill>
                <a:latin typeface="Times New Roman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Influence by Artefacts</a:t>
            </a:r>
            <a:r>
              <a:rPr b="0" lang="en-GB" sz="66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2EBB-6D69-4314-8680-A4CF8082D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498D-2009-4DED-8AC8-269E2578111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611280" y="476280"/>
            <a:ext cx="78483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puzzle: the missing ‘thing’ of SocPsych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omon Asch’s in ‘Social Psychology’ 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remains to be mentioned one great consequence of social interaction – the creation of a realm of social facts’. Interaction produces a host of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roles and relations of great permanence …….’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p17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eractions between men generate a host of phenomena …., which form the fabric of social existence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material equipmen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beliefs and ideas, language and the human character themselves are its massive produ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’ [p18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ut where are the ‘things’ in social psycholo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C2C5-4D6D-406D-BB1C-A02AE6B48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5952-1DBF-44C0-AE41-4B14C492CDC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D30B-7828-419B-8B30-4BA65A4CA2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974880" y="1065240"/>
            <a:ext cx="7935840" cy="51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bject  relations (mainly ex-post factum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ttitude ‘object’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-post-facto: the object already exis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.g. cognitive dissonance after fait accompli, forced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ffective (like/dislike) reactions based on group specific norms o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dentity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sessions as self-expressive, fashion items, favourite things, souvenirs, status symbols, memorabilia (symbolic re-appropriation of existing things; our autonomy vis-à-vis thing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mental: ‘thing constitution’ as assimilation and accommodation of the child’s mentality growing towards the adult object, overcoming ego-centrism and socialisation [e.g. Piage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ther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836E-F852-479A-9941-F903AD6A585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249A-04EE-48C9-96A0-56CDCE5D57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822240" y="345960"/>
            <a:ext cx="786456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he Scandal of Artefacts: ‘the hidden actions of things’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Body building and mind training: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‘configuring the user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training for force or skill to handle it [e.g. a heavy machine, a fine tool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2. Things have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action in-scripted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[inscriptions; user’s guide; how to do it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required action schemata, routines of usage with some degree of freed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3. Avoids violence: framing interaction without body contac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e.g. create distance between actors; with e.g. a counter or a fort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Affordance; demand characteristics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(visual cueing of actions, without previous experienc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surfaces to step on, buttons to press, levers to push or pull (= designer rul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Goal shifting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[Wundt’s heteronomy of purposes = in-built purposes are never final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buying a car for work, then thinking about a car holiday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internet for nuclear warfare, then becoming a general communication network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 Dependency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: taken-for-granted, cannot life/work without i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skill lost, no time to do it the old way; depending on supply chain for p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Delegation of a legal norm;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instead of a legal norm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fence or speed bumps instead of police or friendly signs [no trespassing!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cigarette machines that require id card; mobile phone: if stolen, receive messag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8. Negotiation by fait-accompl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facts on the ground; leaving no choice; reduction of dissonance after the fa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9. Things as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root metaphor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for thinking about self, psyche, human 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e.g. Self  = a programmed computer in need of debunking and reprogramm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10. The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normative power of the factual: 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What is, ought to be (naturalistic fallacy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A571-0D6D-4AE8-A012-5AEE5C87D47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4AA0-888A-4081-A667-EA8F3FAAE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185760" y="476280"/>
            <a:ext cx="3881520" cy="3097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2846160" cy="2122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6" descr=""/>
          <p:cNvPicPr/>
          <p:nvPr/>
        </p:nvPicPr>
        <p:blipFill>
          <a:blip r:embed="rId3"/>
          <a:stretch/>
        </p:blipFill>
        <p:spPr>
          <a:xfrm>
            <a:off x="5796000" y="498600"/>
            <a:ext cx="3168720" cy="4043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"/>
          <p:cNvPicPr/>
          <p:nvPr/>
        </p:nvPicPr>
        <p:blipFill>
          <a:blip r:embed="rId4"/>
          <a:stretch/>
        </p:blipFill>
        <p:spPr>
          <a:xfrm>
            <a:off x="2627280" y="4270320"/>
            <a:ext cx="33447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EBA2-F715-42E0-961B-3EF8DB9820C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8F8B-9901-41DB-ACFC-09481324FF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ffordances and Moral Imper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457200" y="1828800"/>
            <a:ext cx="8507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rect, unmediated perception inviting action tendencies (Gibson, 1986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‘thing to grasp’, a ‘walkable surface’, a ‘picture to look at’, a ‘wall to stay out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ock-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‘emotional design’ (captology), in-scripted objec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heavy Hotel key annoys and tells you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: ‘leave me at ho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-lock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n particular action is required before another can take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bank till requires you to pull your card before the money is dispensed: ‘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ou shall not leave your credit car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sting your breath before the car can ignit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: ‘you shall not drink and driv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ock-ou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makes a particular action 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omatic access check, e.g. via finger print or iris: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no entry for outs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ild a wall that is difficult to climb: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o not trespass, 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undary objects’: object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n a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ferent things by different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‘Nanotechnology’: many do it, but understand it diffe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781F-4255-495C-BB23-251E502AC28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2556000" y="1844640"/>
            <a:ext cx="4464000" cy="129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ct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4"/>
          <p:cNvSpPr/>
          <p:nvPr/>
        </p:nvSpPr>
        <p:spPr>
          <a:xfrm>
            <a:off x="2627280" y="4076640"/>
            <a:ext cx="3745080" cy="1440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day use  of obje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5"/>
          <p:cNvSpPr/>
          <p:nvPr/>
        </p:nvSpPr>
        <p:spPr>
          <a:xfrm>
            <a:off x="6837480" y="2448000"/>
            <a:ext cx="1211040" cy="233496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2334960"/>
              <a:gd name="textAreaBottom" fmla="*/ 2335320 h 2334960"/>
            </a:gdLst>
            <a:ahLst/>
            <a:rect l="textAreaLeft" t="textAreaTop" r="textAreaRight" b="textAreaBottom"/>
            <a:pathLst>
              <a:path w="1212167" h="2335237">
                <a:moveTo>
                  <a:pt x="436099" y="0"/>
                </a:moveTo>
                <a:cubicBezTo>
                  <a:pt x="824133" y="438443"/>
                  <a:pt x="1212167" y="876887"/>
                  <a:pt x="1139484" y="1266093"/>
                </a:cubicBezTo>
                <a:cubicBezTo>
                  <a:pt x="1066801" y="1655299"/>
                  <a:pt x="533400" y="1995268"/>
                  <a:pt x="0" y="2335237"/>
                </a:cubicBezTo>
              </a:path>
            </a:pathLst>
          </a:custGeom>
          <a:solidFill>
            <a:srgbClr val="ffffff"/>
          </a:solidFill>
          <a:ln w="69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6"/>
          <p:cNvSpPr/>
          <p:nvPr/>
        </p:nvSpPr>
        <p:spPr>
          <a:xfrm>
            <a:off x="1258920" y="2624040"/>
            <a:ext cx="1184400" cy="217188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2171880"/>
              <a:gd name="textAreaBottom" fmla="*/ 2172240 h 2171880"/>
            </a:gdLst>
            <a:ahLst/>
            <a:rect l="textAreaLeft" t="textAreaTop" r="textAreaRight" b="textAreaBottom"/>
            <a:pathLst>
              <a:path w="1109003" h="2883877">
                <a:moveTo>
                  <a:pt x="1038665" y="2883877"/>
                </a:moveTo>
                <a:cubicBezTo>
                  <a:pt x="519332" y="2223868"/>
                  <a:pt x="0" y="1563859"/>
                  <a:pt x="11723" y="1083213"/>
                </a:cubicBezTo>
                <a:cubicBezTo>
                  <a:pt x="23446" y="602567"/>
                  <a:pt x="566224" y="301283"/>
                  <a:pt x="1109003" y="0"/>
                </a:cubicBezTo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1125360" y="69228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ing the ‘fitting’ between two sph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7527240" y="21337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473040" y="42210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8116-A9E3-4CE0-BEA7-E2CAB5434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3786480" y="34290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fford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523080" y="1484280"/>
            <a:ext cx="178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92D8-675D-400F-B81A-59DEB22950C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0E92-C5C9-4C46-8E11-E655F751C4E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9DEE-0DEF-4B69-99F9-7CB2544595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2"/>
          <p:cNvSpPr/>
          <p:nvPr/>
        </p:nvSpPr>
        <p:spPr>
          <a:xfrm>
            <a:off x="685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1295280" y="1219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4"/>
          <p:cNvSpPr/>
          <p:nvPr/>
        </p:nvSpPr>
        <p:spPr>
          <a:xfrm>
            <a:off x="1371600" y="49528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5"/>
          <p:cNvCxnSpPr/>
          <p:nvPr/>
        </p:nvCxnSpPr>
        <p:spPr>
          <a:xfrm flipV="1">
            <a:off x="1600200" y="1676160"/>
            <a:ext cx="5944320" cy="312480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537" name="Line 6"/>
          <p:cNvSpPr/>
          <p:nvPr/>
        </p:nvSpPr>
        <p:spPr>
          <a:xfrm>
            <a:off x="1295280" y="16765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06360" y="14479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7605360" y="4842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516564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AutoShape 10"/>
          <p:cNvCxnSpPr/>
          <p:nvPr/>
        </p:nvCxnSpPr>
        <p:spPr>
          <a:xfrm flipV="1">
            <a:off x="1523880" y="1751760"/>
            <a:ext cx="3201120" cy="2972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542" name="AutoShape 11"/>
          <p:cNvCxnSpPr/>
          <p:nvPr/>
        </p:nvCxnSpPr>
        <p:spPr>
          <a:xfrm>
            <a:off x="4723920" y="1752120"/>
            <a:ext cx="3125160" cy="3048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43" name="Line 12"/>
          <p:cNvSpPr/>
          <p:nvPr/>
        </p:nvSpPr>
        <p:spPr>
          <a:xfrm>
            <a:off x="4648320" y="1447920"/>
            <a:ext cx="0" cy="46386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3"/>
          <p:cNvSpPr/>
          <p:nvPr/>
        </p:nvSpPr>
        <p:spPr>
          <a:xfrm>
            <a:off x="3048120" y="1219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248520" y="11430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3184560" y="1184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4937040" y="11080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6537240" y="685800"/>
            <a:ext cx="13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agg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1432080" y="11844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920880" y="193680"/>
            <a:ext cx="58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diffusion model: creates expectation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6689520" y="171756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p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6858360" y="38862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27349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43351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59353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5"/>
          <p:cNvSpPr/>
          <p:nvPr/>
        </p:nvSpPr>
        <p:spPr>
          <a:xfrm>
            <a:off x="1295280" y="3048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595080" y="2708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27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8"/>
          <p:cNvSpPr/>
          <p:nvPr/>
        </p:nvSpPr>
        <p:spPr>
          <a:xfrm>
            <a:off x="1828800" y="510552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9"/>
          <p:cNvSpPr/>
          <p:nvPr/>
        </p:nvSpPr>
        <p:spPr>
          <a:xfrm>
            <a:off x="3189240" y="509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el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0"/>
          <p:cNvSpPr/>
          <p:nvPr/>
        </p:nvSpPr>
        <p:spPr>
          <a:xfrm>
            <a:off x="4789080" y="509112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cel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6539760" y="509112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4"/>
          <p:cNvSpPr/>
          <p:nvPr/>
        </p:nvSpPr>
        <p:spPr>
          <a:xfrm>
            <a:off x="3795120" y="7272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p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5273-FF10-4567-B1D1-40C45C323E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"/>
          <p:cNvSpPr/>
          <p:nvPr/>
        </p:nvSpPr>
        <p:spPr>
          <a:xfrm>
            <a:off x="1037880" y="556272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bedience,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5376600" y="563868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nfor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84E9-57C9-4FC6-BE6C-C8506752119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6FBB-7599-4F1C-A7DA-3A236354E8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Object 4"/>
          <p:cNvGraphicFramePr/>
          <p:nvPr/>
        </p:nvGraphicFramePr>
        <p:xfrm>
          <a:off x="539640" y="476280"/>
          <a:ext cx="7874280" cy="57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874280" cy="57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Text Box 5"/>
          <p:cNvSpPr/>
          <p:nvPr/>
        </p:nvSpPr>
        <p:spPr>
          <a:xfrm>
            <a:off x="1143000" y="193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clear bombs and nuclear power stations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7A14-8934-40B2-B698-D92495C59F4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1CBC-1907-4303-9106-3C76D7254A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eaership 3.bmp"/>
          <p:cNvPicPr/>
          <p:nvPr/>
        </p:nvPicPr>
        <p:blipFill>
          <a:blip r:embed="rId1"/>
          <a:stretch/>
        </p:blipFill>
        <p:spPr>
          <a:xfrm>
            <a:off x="324000" y="0"/>
            <a:ext cx="3311280" cy="33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hurchill.jpg"/>
          <p:cNvPicPr/>
          <p:nvPr/>
        </p:nvPicPr>
        <p:blipFill>
          <a:blip r:embed="rId2"/>
          <a:stretch/>
        </p:blipFill>
        <p:spPr>
          <a:xfrm>
            <a:off x="7020000" y="981000"/>
            <a:ext cx="1439640" cy="193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Lenin.jpg"/>
          <p:cNvPicPr/>
          <p:nvPr/>
        </p:nvPicPr>
        <p:blipFill>
          <a:blip r:embed="rId3"/>
          <a:stretch/>
        </p:blipFill>
        <p:spPr>
          <a:xfrm>
            <a:off x="5003640" y="692280"/>
            <a:ext cx="1513080" cy="2109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hitler.jpg"/>
          <p:cNvPicPr/>
          <p:nvPr/>
        </p:nvPicPr>
        <p:blipFill>
          <a:blip r:embed="rId4"/>
          <a:stretch/>
        </p:blipFill>
        <p:spPr>
          <a:xfrm>
            <a:off x="826920" y="3933720"/>
            <a:ext cx="2133720" cy="158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JFK.jpg"/>
          <p:cNvPicPr/>
          <p:nvPr/>
        </p:nvPicPr>
        <p:blipFill>
          <a:blip r:embed="rId5"/>
          <a:stretch/>
        </p:blipFill>
        <p:spPr>
          <a:xfrm>
            <a:off x="5219640" y="3284640"/>
            <a:ext cx="1555920" cy="151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Blair 2.jpg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03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Obama3.jpg"/>
          <p:cNvPicPr/>
          <p:nvPr/>
        </p:nvPicPr>
        <p:blipFill>
          <a:blip r:embed="rId7"/>
          <a:stretch/>
        </p:blipFill>
        <p:spPr>
          <a:xfrm>
            <a:off x="6588000" y="4581360"/>
            <a:ext cx="183060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Mao.jpg"/>
          <p:cNvPicPr/>
          <p:nvPr/>
        </p:nvPicPr>
        <p:blipFill>
          <a:blip r:embed="rId8"/>
          <a:stretch/>
        </p:blipFill>
        <p:spPr>
          <a:xfrm>
            <a:off x="3780000" y="1844640"/>
            <a:ext cx="1223640" cy="116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milgram sheep.jpg"/>
          <p:cNvPicPr/>
          <p:nvPr/>
        </p:nvPicPr>
        <p:blipFill>
          <a:blip r:embed="rId9"/>
          <a:stretch/>
        </p:blipFill>
        <p:spPr>
          <a:xfrm>
            <a:off x="3059280" y="4797360"/>
            <a:ext cx="2089080" cy="1382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mussolini 3.jpg"/>
          <p:cNvPicPr/>
          <p:nvPr/>
        </p:nvPicPr>
        <p:blipFill>
          <a:blip r:embed="rId10"/>
          <a:stretch/>
        </p:blipFill>
        <p:spPr>
          <a:xfrm>
            <a:off x="2556000" y="3213000"/>
            <a:ext cx="20383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8DA6-E0A5-4A57-9B8D-DD9138A96386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FD6E-8687-411F-BA71-CEAAA6DF8A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Chart 5" descr=""/>
          <p:cNvPicPr/>
          <p:nvPr/>
        </p:nvPicPr>
        <p:blipFill>
          <a:blip r:embed="rId1"/>
          <a:stretch/>
        </p:blipFill>
        <p:spPr>
          <a:xfrm>
            <a:off x="285840" y="974880"/>
            <a:ext cx="8566200" cy="5359320"/>
          </a:xfrm>
          <a:prstGeom prst="rect">
            <a:avLst/>
          </a:prstGeom>
          <a:ln w="0">
            <a:noFill/>
          </a:ln>
        </p:spPr>
      </p:pic>
      <p:sp>
        <p:nvSpPr>
          <p:cNvPr id="577" name="TextBox 6"/>
          <p:cNvSpPr/>
          <p:nvPr/>
        </p:nvSpPr>
        <p:spPr>
          <a:xfrm>
            <a:off x="1136160" y="47628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fferential uptake of GM soya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952C-D866-4018-A06D-105374A84A4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D0FF-0A63-4C25-A927-32E8438ADC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Object 2"/>
          <p:cNvGraphicFramePr/>
          <p:nvPr/>
        </p:nvGraphicFramePr>
        <p:xfrm>
          <a:off x="1187280" y="476280"/>
          <a:ext cx="6148440" cy="56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76280"/>
                    <a:ext cx="6148440" cy="56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F38E-5243-4893-ACFA-3ECA5349004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026"/>
          <p:cNvSpPr/>
          <p:nvPr/>
        </p:nvSpPr>
        <p:spPr>
          <a:xfrm>
            <a:off x="1286640" y="217476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orm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herif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027"/>
          <p:cNvSpPr/>
          <p:nvPr/>
        </p:nvSpPr>
        <p:spPr>
          <a:xfrm>
            <a:off x="6091920" y="308916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sch, Milgram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28"/>
          <p:cNvSpPr/>
          <p:nvPr/>
        </p:nvSpPr>
        <p:spPr>
          <a:xfrm>
            <a:off x="1847880" y="429264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design by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Moscovici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029"/>
          <p:cNvSpPr/>
          <p:nvPr/>
        </p:nvSpPr>
        <p:spPr>
          <a:xfrm>
            <a:off x="637560" y="260280"/>
            <a:ext cx="79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cial Co-ordination of Activity: Establishing, Maint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Altering Communality with Artefact-Fetish (a spi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reeform 1030"/>
          <p:cNvSpPr/>
          <p:nvPr/>
        </p:nvSpPr>
        <p:spPr>
          <a:xfrm>
            <a:off x="2232000" y="1330200"/>
            <a:ext cx="4905360" cy="1757520"/>
          </a:xfrm>
          <a:custGeom>
            <a:avLst/>
            <a:gdLst>
              <a:gd name="textAreaLeft" fmla="*/ 0 w 4905360"/>
              <a:gd name="textAreaRight" fmla="*/ 4905720 w 490536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w="3090" h="1107">
                <a:moveTo>
                  <a:pt x="0" y="553"/>
                </a:moveTo>
                <a:cubicBezTo>
                  <a:pt x="41" y="533"/>
                  <a:pt x="62" y="504"/>
                  <a:pt x="90" y="471"/>
                </a:cubicBezTo>
                <a:cubicBezTo>
                  <a:pt x="156" y="393"/>
                  <a:pt x="74" y="496"/>
                  <a:pt x="135" y="434"/>
                </a:cubicBezTo>
                <a:cubicBezTo>
                  <a:pt x="202" y="365"/>
                  <a:pt x="257" y="287"/>
                  <a:pt x="337" y="232"/>
                </a:cubicBezTo>
                <a:cubicBezTo>
                  <a:pt x="371" y="180"/>
                  <a:pt x="331" y="231"/>
                  <a:pt x="374" y="202"/>
                </a:cubicBezTo>
                <a:cubicBezTo>
                  <a:pt x="401" y="184"/>
                  <a:pt x="409" y="167"/>
                  <a:pt x="442" y="157"/>
                </a:cubicBezTo>
                <a:cubicBezTo>
                  <a:pt x="500" y="113"/>
                  <a:pt x="581" y="106"/>
                  <a:pt x="651" y="90"/>
                </a:cubicBezTo>
                <a:cubicBezTo>
                  <a:pt x="784" y="60"/>
                  <a:pt x="911" y="16"/>
                  <a:pt x="1048" y="0"/>
                </a:cubicBezTo>
                <a:cubicBezTo>
                  <a:pt x="1210" y="2"/>
                  <a:pt x="1372" y="2"/>
                  <a:pt x="1534" y="7"/>
                </a:cubicBezTo>
                <a:cubicBezTo>
                  <a:pt x="1560" y="8"/>
                  <a:pt x="1634" y="26"/>
                  <a:pt x="1654" y="30"/>
                </a:cubicBezTo>
                <a:cubicBezTo>
                  <a:pt x="1800" y="62"/>
                  <a:pt x="1943" y="103"/>
                  <a:pt x="2080" y="164"/>
                </a:cubicBezTo>
                <a:cubicBezTo>
                  <a:pt x="2142" y="192"/>
                  <a:pt x="2202" y="239"/>
                  <a:pt x="2267" y="254"/>
                </a:cubicBezTo>
                <a:cubicBezTo>
                  <a:pt x="2319" y="289"/>
                  <a:pt x="2418" y="348"/>
                  <a:pt x="2476" y="366"/>
                </a:cubicBezTo>
                <a:cubicBezTo>
                  <a:pt x="2496" y="381"/>
                  <a:pt x="2518" y="393"/>
                  <a:pt x="2536" y="411"/>
                </a:cubicBezTo>
                <a:cubicBezTo>
                  <a:pt x="2546" y="421"/>
                  <a:pt x="2555" y="432"/>
                  <a:pt x="2566" y="441"/>
                </a:cubicBezTo>
                <a:cubicBezTo>
                  <a:pt x="2593" y="464"/>
                  <a:pt x="2587" y="450"/>
                  <a:pt x="2619" y="471"/>
                </a:cubicBezTo>
                <a:cubicBezTo>
                  <a:pt x="2640" y="485"/>
                  <a:pt x="2658" y="501"/>
                  <a:pt x="2678" y="516"/>
                </a:cubicBezTo>
                <a:cubicBezTo>
                  <a:pt x="2688" y="523"/>
                  <a:pt x="2708" y="538"/>
                  <a:pt x="2708" y="538"/>
                </a:cubicBezTo>
                <a:cubicBezTo>
                  <a:pt x="2762" y="621"/>
                  <a:pt x="2681" y="504"/>
                  <a:pt x="2746" y="576"/>
                </a:cubicBezTo>
                <a:cubicBezTo>
                  <a:pt x="2769" y="601"/>
                  <a:pt x="2785" y="631"/>
                  <a:pt x="2806" y="658"/>
                </a:cubicBezTo>
                <a:cubicBezTo>
                  <a:pt x="2830" y="736"/>
                  <a:pt x="2897" y="806"/>
                  <a:pt x="2948" y="868"/>
                </a:cubicBezTo>
                <a:cubicBezTo>
                  <a:pt x="2980" y="908"/>
                  <a:pt x="3001" y="950"/>
                  <a:pt x="3037" y="987"/>
                </a:cubicBezTo>
                <a:cubicBezTo>
                  <a:pt x="3046" y="1012"/>
                  <a:pt x="3075" y="1055"/>
                  <a:pt x="3075" y="1055"/>
                </a:cubicBezTo>
                <a:cubicBezTo>
                  <a:pt x="3080" y="1071"/>
                  <a:pt x="3090" y="1090"/>
                  <a:pt x="3090" y="11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1031"/>
          <p:cNvSpPr/>
          <p:nvPr/>
        </p:nvSpPr>
        <p:spPr>
          <a:xfrm>
            <a:off x="3514680" y="3954600"/>
            <a:ext cx="3633840" cy="1722240"/>
          </a:xfrm>
          <a:custGeom>
            <a:avLst/>
            <a:gdLst>
              <a:gd name="textAreaLeft" fmla="*/ 0 w 3633840"/>
              <a:gd name="textAreaRight" fmla="*/ 3634200 w 3633840"/>
              <a:gd name="textAreaTop" fmla="*/ 0 h 1722240"/>
              <a:gd name="textAreaBottom" fmla="*/ 1722600 h 1722240"/>
            </a:gdLst>
            <a:ahLst/>
            <a:rect l="textAreaLeft" t="textAreaTop" r="textAreaRight" b="textAreaBottom"/>
            <a:pathLst>
              <a:path w="2289" h="1085">
                <a:moveTo>
                  <a:pt x="2289" y="0"/>
                </a:moveTo>
                <a:cubicBezTo>
                  <a:pt x="2273" y="148"/>
                  <a:pt x="2239" y="314"/>
                  <a:pt x="2147" y="434"/>
                </a:cubicBezTo>
                <a:cubicBezTo>
                  <a:pt x="2134" y="475"/>
                  <a:pt x="2149" y="439"/>
                  <a:pt x="2117" y="479"/>
                </a:cubicBezTo>
                <a:cubicBezTo>
                  <a:pt x="2081" y="525"/>
                  <a:pt x="2047" y="559"/>
                  <a:pt x="2005" y="598"/>
                </a:cubicBezTo>
                <a:cubicBezTo>
                  <a:pt x="1971" y="629"/>
                  <a:pt x="1941" y="663"/>
                  <a:pt x="1908" y="696"/>
                </a:cubicBezTo>
                <a:cubicBezTo>
                  <a:pt x="1900" y="704"/>
                  <a:pt x="1888" y="705"/>
                  <a:pt x="1878" y="711"/>
                </a:cubicBezTo>
                <a:cubicBezTo>
                  <a:pt x="1849" y="729"/>
                  <a:pt x="1824" y="752"/>
                  <a:pt x="1796" y="771"/>
                </a:cubicBezTo>
                <a:cubicBezTo>
                  <a:pt x="1748" y="803"/>
                  <a:pt x="1683" y="819"/>
                  <a:pt x="1638" y="853"/>
                </a:cubicBezTo>
                <a:cubicBezTo>
                  <a:pt x="1593" y="887"/>
                  <a:pt x="1540" y="912"/>
                  <a:pt x="1489" y="935"/>
                </a:cubicBezTo>
                <a:cubicBezTo>
                  <a:pt x="1433" y="960"/>
                  <a:pt x="1386" y="992"/>
                  <a:pt x="1324" y="1002"/>
                </a:cubicBezTo>
                <a:cubicBezTo>
                  <a:pt x="1293" y="1023"/>
                  <a:pt x="1263" y="1024"/>
                  <a:pt x="1227" y="1032"/>
                </a:cubicBezTo>
                <a:cubicBezTo>
                  <a:pt x="1105" y="1058"/>
                  <a:pt x="985" y="1074"/>
                  <a:pt x="860" y="1085"/>
                </a:cubicBezTo>
                <a:cubicBezTo>
                  <a:pt x="765" y="1080"/>
                  <a:pt x="701" y="1075"/>
                  <a:pt x="614" y="1055"/>
                </a:cubicBezTo>
                <a:cubicBezTo>
                  <a:pt x="554" y="1025"/>
                  <a:pt x="485" y="1034"/>
                  <a:pt x="419" y="1025"/>
                </a:cubicBezTo>
                <a:cubicBezTo>
                  <a:pt x="363" y="1010"/>
                  <a:pt x="323" y="971"/>
                  <a:pt x="270" y="950"/>
                </a:cubicBezTo>
                <a:cubicBezTo>
                  <a:pt x="240" y="938"/>
                  <a:pt x="203" y="938"/>
                  <a:pt x="172" y="928"/>
                </a:cubicBezTo>
                <a:cubicBezTo>
                  <a:pt x="122" y="875"/>
                  <a:pt x="35" y="851"/>
                  <a:pt x="0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1033"/>
          <p:cNvSpPr/>
          <p:nvPr/>
        </p:nvSpPr>
        <p:spPr>
          <a:xfrm>
            <a:off x="2968560" y="1971720"/>
            <a:ext cx="3800520" cy="2232000"/>
          </a:xfrm>
          <a:custGeom>
            <a:avLst/>
            <a:gdLst>
              <a:gd name="textAreaLeft" fmla="*/ 0 w 3800520"/>
              <a:gd name="textAreaRight" fmla="*/ 3800880 w 380052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394" h="1406">
                <a:moveTo>
                  <a:pt x="0" y="1406"/>
                </a:moveTo>
                <a:cubicBezTo>
                  <a:pt x="10" y="1296"/>
                  <a:pt x="32" y="1183"/>
                  <a:pt x="82" y="1084"/>
                </a:cubicBezTo>
                <a:cubicBezTo>
                  <a:pt x="95" y="1026"/>
                  <a:pt x="118" y="973"/>
                  <a:pt x="142" y="920"/>
                </a:cubicBezTo>
                <a:cubicBezTo>
                  <a:pt x="158" y="884"/>
                  <a:pt x="166" y="844"/>
                  <a:pt x="180" y="808"/>
                </a:cubicBezTo>
                <a:cubicBezTo>
                  <a:pt x="197" y="765"/>
                  <a:pt x="227" y="710"/>
                  <a:pt x="254" y="673"/>
                </a:cubicBezTo>
                <a:cubicBezTo>
                  <a:pt x="286" y="627"/>
                  <a:pt x="326" y="584"/>
                  <a:pt x="359" y="538"/>
                </a:cubicBezTo>
                <a:cubicBezTo>
                  <a:pt x="412" y="464"/>
                  <a:pt x="454" y="386"/>
                  <a:pt x="494" y="306"/>
                </a:cubicBezTo>
                <a:cubicBezTo>
                  <a:pt x="519" y="257"/>
                  <a:pt x="553" y="214"/>
                  <a:pt x="576" y="164"/>
                </a:cubicBezTo>
                <a:cubicBezTo>
                  <a:pt x="585" y="144"/>
                  <a:pt x="587" y="116"/>
                  <a:pt x="606" y="104"/>
                </a:cubicBezTo>
                <a:cubicBezTo>
                  <a:pt x="638" y="84"/>
                  <a:pt x="621" y="91"/>
                  <a:pt x="666" y="82"/>
                </a:cubicBezTo>
                <a:cubicBezTo>
                  <a:pt x="693" y="77"/>
                  <a:pt x="748" y="67"/>
                  <a:pt x="748" y="67"/>
                </a:cubicBezTo>
                <a:cubicBezTo>
                  <a:pt x="868" y="20"/>
                  <a:pt x="1010" y="37"/>
                  <a:pt x="1137" y="30"/>
                </a:cubicBezTo>
                <a:cubicBezTo>
                  <a:pt x="1248" y="0"/>
                  <a:pt x="1358" y="19"/>
                  <a:pt x="1474" y="22"/>
                </a:cubicBezTo>
                <a:cubicBezTo>
                  <a:pt x="1575" y="38"/>
                  <a:pt x="1669" y="67"/>
                  <a:pt x="1766" y="97"/>
                </a:cubicBezTo>
                <a:cubicBezTo>
                  <a:pt x="1801" y="121"/>
                  <a:pt x="1840" y="138"/>
                  <a:pt x="1878" y="157"/>
                </a:cubicBezTo>
                <a:cubicBezTo>
                  <a:pt x="1933" y="185"/>
                  <a:pt x="1983" y="220"/>
                  <a:pt x="2035" y="254"/>
                </a:cubicBezTo>
                <a:cubicBezTo>
                  <a:pt x="2078" y="282"/>
                  <a:pt x="2108" y="343"/>
                  <a:pt x="2155" y="359"/>
                </a:cubicBezTo>
                <a:cubicBezTo>
                  <a:pt x="2184" y="399"/>
                  <a:pt x="2215" y="439"/>
                  <a:pt x="2244" y="479"/>
                </a:cubicBezTo>
                <a:cubicBezTo>
                  <a:pt x="2287" y="538"/>
                  <a:pt x="2248" y="459"/>
                  <a:pt x="2289" y="531"/>
                </a:cubicBezTo>
                <a:cubicBezTo>
                  <a:pt x="2319" y="582"/>
                  <a:pt x="2340" y="634"/>
                  <a:pt x="2364" y="688"/>
                </a:cubicBezTo>
                <a:cubicBezTo>
                  <a:pt x="2376" y="714"/>
                  <a:pt x="2394" y="740"/>
                  <a:pt x="2394" y="7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reeform 1034"/>
          <p:cNvSpPr/>
          <p:nvPr/>
        </p:nvSpPr>
        <p:spPr>
          <a:xfrm>
            <a:off x="4227480" y="4025880"/>
            <a:ext cx="2552760" cy="1365120"/>
          </a:xfrm>
          <a:custGeom>
            <a:avLst/>
            <a:gdLst>
              <a:gd name="textAreaLeft" fmla="*/ 0 w 2552760"/>
              <a:gd name="textAreaRight" fmla="*/ 2553120 w 2552760"/>
              <a:gd name="textAreaTop" fmla="*/ 0 h 1365120"/>
              <a:gd name="textAreaBottom" fmla="*/ 1365120 h 1365120"/>
            </a:gdLst>
            <a:ahLst/>
            <a:rect l="textAreaLeft" t="textAreaTop" r="textAreaRight" b="textAreaBottom"/>
            <a:pathLst>
              <a:path w="1608" h="860">
                <a:moveTo>
                  <a:pt x="1608" y="0"/>
                </a:moveTo>
                <a:cubicBezTo>
                  <a:pt x="1595" y="97"/>
                  <a:pt x="1534" y="142"/>
                  <a:pt x="1481" y="217"/>
                </a:cubicBezTo>
                <a:cubicBezTo>
                  <a:pt x="1461" y="245"/>
                  <a:pt x="1439" y="270"/>
                  <a:pt x="1421" y="299"/>
                </a:cubicBezTo>
                <a:cubicBezTo>
                  <a:pt x="1400" y="334"/>
                  <a:pt x="1388" y="387"/>
                  <a:pt x="1362" y="419"/>
                </a:cubicBezTo>
                <a:cubicBezTo>
                  <a:pt x="1315" y="477"/>
                  <a:pt x="1257" y="518"/>
                  <a:pt x="1197" y="561"/>
                </a:cubicBezTo>
                <a:cubicBezTo>
                  <a:pt x="1149" y="595"/>
                  <a:pt x="1105" y="640"/>
                  <a:pt x="1047" y="658"/>
                </a:cubicBezTo>
                <a:cubicBezTo>
                  <a:pt x="1020" y="676"/>
                  <a:pt x="992" y="693"/>
                  <a:pt x="965" y="711"/>
                </a:cubicBezTo>
                <a:cubicBezTo>
                  <a:pt x="941" y="727"/>
                  <a:pt x="909" y="727"/>
                  <a:pt x="883" y="740"/>
                </a:cubicBezTo>
                <a:cubicBezTo>
                  <a:pt x="816" y="773"/>
                  <a:pt x="875" y="757"/>
                  <a:pt x="808" y="770"/>
                </a:cubicBezTo>
                <a:cubicBezTo>
                  <a:pt x="687" y="819"/>
                  <a:pt x="570" y="843"/>
                  <a:pt x="441" y="860"/>
                </a:cubicBezTo>
                <a:cubicBezTo>
                  <a:pt x="369" y="858"/>
                  <a:pt x="296" y="859"/>
                  <a:pt x="224" y="853"/>
                </a:cubicBezTo>
                <a:cubicBezTo>
                  <a:pt x="193" y="850"/>
                  <a:pt x="158" y="817"/>
                  <a:pt x="127" y="808"/>
                </a:cubicBezTo>
                <a:cubicBezTo>
                  <a:pt x="92" y="772"/>
                  <a:pt x="37" y="766"/>
                  <a:pt x="0" y="7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1035"/>
          <p:cNvSpPr/>
          <p:nvPr/>
        </p:nvSpPr>
        <p:spPr>
          <a:xfrm>
            <a:off x="3490920" y="2435400"/>
            <a:ext cx="2351160" cy="1815840"/>
          </a:xfrm>
          <a:custGeom>
            <a:avLst/>
            <a:gdLst>
              <a:gd name="textAreaLeft" fmla="*/ 0 w 2351160"/>
              <a:gd name="textAreaRight" fmla="*/ 2351520 w 235116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1481" h="1144">
                <a:moveTo>
                  <a:pt x="0" y="1144"/>
                </a:moveTo>
                <a:cubicBezTo>
                  <a:pt x="7" y="920"/>
                  <a:pt x="5" y="846"/>
                  <a:pt x="68" y="658"/>
                </a:cubicBezTo>
                <a:cubicBezTo>
                  <a:pt x="82" y="616"/>
                  <a:pt x="85" y="578"/>
                  <a:pt x="105" y="538"/>
                </a:cubicBezTo>
                <a:cubicBezTo>
                  <a:pt x="119" y="474"/>
                  <a:pt x="141" y="409"/>
                  <a:pt x="172" y="351"/>
                </a:cubicBezTo>
                <a:cubicBezTo>
                  <a:pt x="181" y="335"/>
                  <a:pt x="196" y="323"/>
                  <a:pt x="202" y="306"/>
                </a:cubicBezTo>
                <a:cubicBezTo>
                  <a:pt x="231" y="227"/>
                  <a:pt x="288" y="124"/>
                  <a:pt x="374" y="97"/>
                </a:cubicBezTo>
                <a:cubicBezTo>
                  <a:pt x="397" y="61"/>
                  <a:pt x="430" y="60"/>
                  <a:pt x="472" y="44"/>
                </a:cubicBezTo>
                <a:cubicBezTo>
                  <a:pt x="537" y="19"/>
                  <a:pt x="587" y="7"/>
                  <a:pt x="659" y="0"/>
                </a:cubicBezTo>
                <a:cubicBezTo>
                  <a:pt x="751" y="2"/>
                  <a:pt x="843" y="3"/>
                  <a:pt x="935" y="7"/>
                </a:cubicBezTo>
                <a:cubicBezTo>
                  <a:pt x="972" y="9"/>
                  <a:pt x="1006" y="25"/>
                  <a:pt x="1040" y="37"/>
                </a:cubicBezTo>
                <a:cubicBezTo>
                  <a:pt x="1120" y="66"/>
                  <a:pt x="1216" y="96"/>
                  <a:pt x="1279" y="157"/>
                </a:cubicBezTo>
                <a:cubicBezTo>
                  <a:pt x="1305" y="183"/>
                  <a:pt x="1336" y="205"/>
                  <a:pt x="1362" y="231"/>
                </a:cubicBezTo>
                <a:cubicBezTo>
                  <a:pt x="1398" y="267"/>
                  <a:pt x="1417" y="315"/>
                  <a:pt x="1459" y="344"/>
                </a:cubicBezTo>
                <a:cubicBezTo>
                  <a:pt x="1461" y="351"/>
                  <a:pt x="1463" y="359"/>
                  <a:pt x="1466" y="366"/>
                </a:cubicBezTo>
                <a:cubicBezTo>
                  <a:pt x="1470" y="374"/>
                  <a:pt x="1481" y="388"/>
                  <a:pt x="1481" y="3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1036"/>
          <p:cNvSpPr/>
          <p:nvPr/>
        </p:nvSpPr>
        <p:spPr>
          <a:xfrm>
            <a:off x="1674720" y="3040200"/>
            <a:ext cx="324000" cy="1033200"/>
          </a:xfrm>
          <a:custGeom>
            <a:avLst/>
            <a:gdLst>
              <a:gd name="textAreaLeft" fmla="*/ 0 w 324000"/>
              <a:gd name="textAreaRight" fmla="*/ 324360 w 32400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204" h="651">
                <a:moveTo>
                  <a:pt x="0" y="651"/>
                </a:moveTo>
                <a:cubicBezTo>
                  <a:pt x="7" y="560"/>
                  <a:pt x="3" y="447"/>
                  <a:pt x="45" y="367"/>
                </a:cubicBezTo>
                <a:cubicBezTo>
                  <a:pt x="59" y="290"/>
                  <a:pt x="41" y="370"/>
                  <a:pt x="75" y="284"/>
                </a:cubicBezTo>
                <a:cubicBezTo>
                  <a:pt x="97" y="230"/>
                  <a:pt x="105" y="172"/>
                  <a:pt x="134" y="120"/>
                </a:cubicBezTo>
                <a:cubicBezTo>
                  <a:pt x="143" y="104"/>
                  <a:pt x="154" y="90"/>
                  <a:pt x="164" y="75"/>
                </a:cubicBezTo>
                <a:cubicBezTo>
                  <a:pt x="173" y="62"/>
                  <a:pt x="168" y="41"/>
                  <a:pt x="179" y="30"/>
                </a:cubicBezTo>
                <a:cubicBezTo>
                  <a:pt x="204" y="5"/>
                  <a:pt x="202" y="18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038"/>
          <p:cNvSpPr/>
          <p:nvPr/>
        </p:nvSpPr>
        <p:spPr>
          <a:xfrm flipH="1">
            <a:off x="5867280" y="5334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039"/>
          <p:cNvSpPr/>
          <p:nvPr/>
        </p:nvSpPr>
        <p:spPr>
          <a:xfrm flipH="1">
            <a:off x="5486040" y="46483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040"/>
          <p:cNvSpPr/>
          <p:nvPr/>
        </p:nvSpPr>
        <p:spPr>
          <a:xfrm flipV="1">
            <a:off x="3276720" y="24382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041"/>
          <p:cNvSpPr/>
          <p:nvPr/>
        </p:nvSpPr>
        <p:spPr>
          <a:xfrm flipV="1">
            <a:off x="1600200" y="4191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042"/>
          <p:cNvSpPr/>
          <p:nvPr/>
        </p:nvSpPr>
        <p:spPr>
          <a:xfrm>
            <a:off x="6012000" y="37162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43"/>
          <p:cNvSpPr/>
          <p:nvPr/>
        </p:nvSpPr>
        <p:spPr>
          <a:xfrm>
            <a:off x="5486400" y="1752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44"/>
          <p:cNvSpPr/>
          <p:nvPr/>
        </p:nvSpPr>
        <p:spPr>
          <a:xfrm>
            <a:off x="5867280" y="2362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1045"/>
          <p:cNvSpPr/>
          <p:nvPr/>
        </p:nvSpPr>
        <p:spPr>
          <a:xfrm>
            <a:off x="4343400" y="1219320"/>
            <a:ext cx="60948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047"/>
          <p:cNvSpPr/>
          <p:nvPr/>
        </p:nvSpPr>
        <p:spPr>
          <a:xfrm>
            <a:off x="6923160" y="1436760"/>
            <a:ext cx="145800" cy="1473120"/>
          </a:xfrm>
          <a:custGeom>
            <a:avLst/>
            <a:gdLst>
              <a:gd name="textAreaLeft" fmla="*/ 0 w 145800"/>
              <a:gd name="textAreaRight" fmla="*/ 145800 w 14580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92" h="928">
                <a:moveTo>
                  <a:pt x="0" y="0"/>
                </a:moveTo>
                <a:cubicBezTo>
                  <a:pt x="7" y="26"/>
                  <a:pt x="14" y="50"/>
                  <a:pt x="23" y="75"/>
                </a:cubicBezTo>
                <a:cubicBezTo>
                  <a:pt x="29" y="119"/>
                  <a:pt x="38" y="160"/>
                  <a:pt x="53" y="202"/>
                </a:cubicBezTo>
                <a:cubicBezTo>
                  <a:pt x="61" y="282"/>
                  <a:pt x="89" y="361"/>
                  <a:pt x="90" y="441"/>
                </a:cubicBezTo>
                <a:cubicBezTo>
                  <a:pt x="92" y="603"/>
                  <a:pt x="90" y="766"/>
                  <a:pt x="90" y="9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048"/>
          <p:cNvSpPr/>
          <p:nvPr/>
        </p:nvSpPr>
        <p:spPr>
          <a:xfrm>
            <a:off x="71629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049"/>
          <p:cNvSpPr/>
          <p:nvPr/>
        </p:nvSpPr>
        <p:spPr>
          <a:xfrm>
            <a:off x="7153200" y="173844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ewc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059"/>
          <p:cNvSpPr/>
          <p:nvPr/>
        </p:nvSpPr>
        <p:spPr>
          <a:xfrm>
            <a:off x="775440" y="575640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resentations = constraints of norms and arte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BCA9-E58B-468D-ADD7-5EBF16321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27" descr="nuclear power plant.jpg"/>
          <p:cNvPicPr/>
          <p:nvPr/>
        </p:nvPicPr>
        <p:blipFill>
          <a:blip r:embed="rId1"/>
          <a:stretch/>
        </p:blipFill>
        <p:spPr>
          <a:xfrm>
            <a:off x="4788000" y="2637000"/>
            <a:ext cx="1360440" cy="13190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8" descr="bag.jpg"/>
          <p:cNvPicPr/>
          <p:nvPr/>
        </p:nvPicPr>
        <p:blipFill>
          <a:blip r:embed="rId2"/>
          <a:stretch/>
        </p:blipFill>
        <p:spPr>
          <a:xfrm>
            <a:off x="4932360" y="3860640"/>
            <a:ext cx="1406520" cy="11322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9" descr="iphone.jpg"/>
          <p:cNvPicPr/>
          <p:nvPr/>
        </p:nvPicPr>
        <p:blipFill>
          <a:blip r:embed="rId3"/>
          <a:stretch/>
        </p:blipFill>
        <p:spPr>
          <a:xfrm>
            <a:off x="4067280" y="3357720"/>
            <a:ext cx="1012680" cy="9302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0" descr="DNA.jpg"/>
          <p:cNvPicPr/>
          <p:nvPr/>
        </p:nvPicPr>
        <p:blipFill>
          <a:blip r:embed="rId4"/>
          <a:stretch/>
        </p:blipFill>
        <p:spPr>
          <a:xfrm>
            <a:off x="3274920" y="2205000"/>
            <a:ext cx="1211400" cy="12081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1" descr="Sports car.jpg"/>
          <p:cNvPicPr/>
          <p:nvPr/>
        </p:nvPicPr>
        <p:blipFill>
          <a:blip r:embed="rId5"/>
          <a:stretch/>
        </p:blipFill>
        <p:spPr>
          <a:xfrm>
            <a:off x="4643280" y="4797360"/>
            <a:ext cx="1136880" cy="571680"/>
          </a:xfrm>
          <a:prstGeom prst="rect">
            <a:avLst/>
          </a:prstGeom>
          <a:ln w="0">
            <a:noFill/>
          </a:ln>
        </p:spPr>
      </p:pic>
      <p:sp>
        <p:nvSpPr>
          <p:cNvPr id="613" name="TextBox 32"/>
          <p:cNvSpPr/>
          <p:nvPr/>
        </p:nvSpPr>
        <p:spPr>
          <a:xfrm>
            <a:off x="6858720" y="4818240"/>
            <a:ext cx="169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viant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fusal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C117-36EB-424F-8D5D-8AD0CDF8A1D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E817-F3A1-4E95-BA31-48B8A88EC8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4"/>
          <p:cNvSpPr/>
          <p:nvPr/>
        </p:nvSpPr>
        <p:spPr>
          <a:xfrm>
            <a:off x="395280" y="620640"/>
            <a:ext cx="856944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d the moral of the story is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y modalities of social influence, not only two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-rational and rational modalities: what is ‘rationality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functions in relation to co-ordination of activ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ormalisation, assimilation, accommo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necessary extensions of models: mass mediation, arte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al influence = manipulating the context of persua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circumsta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 am persuad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is a situation ‘persuasive’, or ‘violating’ presumed autono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ll have intuitions that circumstances can be morally dub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under the influence of x’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qualifies as reasoned persua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bious are: guns, drugs, alcohol, food, make up, nice w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2B44-9DEA-4889-A7D9-BAD4639D023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2"/>
          <p:cNvSpPr/>
          <p:nvPr/>
        </p:nvSpPr>
        <p:spPr>
          <a:xfrm>
            <a:off x="313200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C498-D9F9-4C67-8A5D-3D6C8F2505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539640" y="3500280"/>
            <a:ext cx="842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imitation, crowds, framing, peer pressure, authority, dissent, artefac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1042920" y="198900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behavi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7"/>
          <p:cNvSpPr/>
          <p:nvPr/>
        </p:nvSpPr>
        <p:spPr>
          <a:xfrm>
            <a:off x="5219640" y="54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het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4427640" y="16286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5"/>
          <p:cNvSpPr/>
          <p:nvPr/>
        </p:nvSpPr>
        <p:spPr>
          <a:xfrm>
            <a:off x="3059280" y="1628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2"/>
          <p:cNvSpPr/>
          <p:nvPr/>
        </p:nvSpPr>
        <p:spPr>
          <a:xfrm>
            <a:off x="2050920" y="5013360"/>
            <a:ext cx="561672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cial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rms, attitudes, beliefs, 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dividual behaviour &amp; collec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Straight Arrow Connector 24"/>
          <p:cNvCxnSpPr/>
          <p:nvPr/>
        </p:nvCxnSpPr>
        <p:spPr>
          <a:xfrm flipH="1">
            <a:off x="1546920" y="299700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8" name="Straight Arrow Connector 26"/>
          <p:cNvCxnSpPr/>
          <p:nvPr/>
        </p:nvCxnSpPr>
        <p:spPr>
          <a:xfrm>
            <a:off x="2050920" y="2852280"/>
            <a:ext cx="2181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9" name="Straight Arrow Connector 34"/>
          <p:cNvCxnSpPr/>
          <p:nvPr/>
        </p:nvCxnSpPr>
        <p:spPr>
          <a:xfrm>
            <a:off x="6516720" y="907560"/>
            <a:ext cx="1224720" cy="245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0" name="Down Arrow 37"/>
          <p:cNvSpPr/>
          <p:nvPr/>
        </p:nvSpPr>
        <p:spPr>
          <a:xfrm>
            <a:off x="4427640" y="4653000"/>
            <a:ext cx="79200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42"/>
          <p:cNvSpPr/>
          <p:nvPr/>
        </p:nvSpPr>
        <p:spPr>
          <a:xfrm>
            <a:off x="2259000" y="5493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ristics, Soph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Straight Arrow Connector 44"/>
          <p:cNvCxnSpPr/>
          <p:nvPr/>
        </p:nvCxnSpPr>
        <p:spPr>
          <a:xfrm flipH="1">
            <a:off x="1618920" y="1051560"/>
            <a:ext cx="115272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3" name="TextBox 47"/>
          <p:cNvSpPr/>
          <p:nvPr/>
        </p:nvSpPr>
        <p:spPr>
          <a:xfrm>
            <a:off x="4218480" y="112536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Public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Straight Arrow Connector 49"/>
          <p:cNvCxnSpPr/>
          <p:nvPr/>
        </p:nvCxnSpPr>
        <p:spPr>
          <a:xfrm flipH="1">
            <a:off x="5651280" y="98100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5" name="Straight Arrow Connector 55"/>
          <p:cNvCxnSpPr/>
          <p:nvPr/>
        </p:nvCxnSpPr>
        <p:spPr>
          <a:xfrm>
            <a:off x="5219640" y="2089080"/>
            <a:ext cx="505440" cy="126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6" name="Straight Arrow Connector 57"/>
          <p:cNvCxnSpPr/>
          <p:nvPr/>
        </p:nvCxnSpPr>
        <p:spPr>
          <a:xfrm>
            <a:off x="5940360" y="2205000"/>
            <a:ext cx="1656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7" name="Straight Arrow Connector 59"/>
          <p:cNvCxnSpPr/>
          <p:nvPr/>
        </p:nvCxnSpPr>
        <p:spPr>
          <a:xfrm flipH="1">
            <a:off x="3707640" y="2565000"/>
            <a:ext cx="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8" name="TextBox 24"/>
          <p:cNvSpPr/>
          <p:nvPr/>
        </p:nvSpPr>
        <p:spPr>
          <a:xfrm>
            <a:off x="2268360" y="4005360"/>
            <a:ext cx="468000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rcumstances of Persu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9" name="Straight Arrow Connector 39"/>
          <p:cNvCxnSpPr/>
          <p:nvPr/>
        </p:nvCxnSpPr>
        <p:spPr>
          <a:xfrm flipH="1">
            <a:off x="4139640" y="2133720"/>
            <a:ext cx="503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1"/>
          <p:cNvSpPr/>
          <p:nvPr/>
        </p:nvSpPr>
        <p:spPr>
          <a:xfrm>
            <a:off x="611280" y="60930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A551-17B0-4A36-868B-BCC0EF900A2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ooter Placeholder 2"/>
          <p:cNvSpPr/>
          <p:nvPr/>
        </p:nvSpPr>
        <p:spPr>
          <a:xfrm>
            <a:off x="3203640" y="6093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026"/>
          <p:cNvSpPr/>
          <p:nvPr/>
        </p:nvSpPr>
        <p:spPr>
          <a:xfrm>
            <a:off x="1765440" y="2502000"/>
            <a:ext cx="5562360" cy="2057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persua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027"/>
          <p:cNvSpPr/>
          <p:nvPr/>
        </p:nvSpPr>
        <p:spPr>
          <a:xfrm flipV="1">
            <a:off x="2222640" y="2501640"/>
            <a:ext cx="472428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29"/>
          <p:cNvSpPr/>
          <p:nvPr/>
        </p:nvSpPr>
        <p:spPr>
          <a:xfrm>
            <a:off x="2222640" y="273060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b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0"/>
          <p:cNvSpPr/>
          <p:nvPr/>
        </p:nvSpPr>
        <p:spPr>
          <a:xfrm>
            <a:off x="4506120" y="39495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al infl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032"/>
          <p:cNvSpPr/>
          <p:nvPr/>
        </p:nvSpPr>
        <p:spPr>
          <a:xfrm flipH="1">
            <a:off x="1841400" y="2120760"/>
            <a:ext cx="5181840" cy="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033"/>
          <p:cNvSpPr/>
          <p:nvPr/>
        </p:nvSpPr>
        <p:spPr>
          <a:xfrm>
            <a:off x="1757520" y="151128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unication action: common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034"/>
          <p:cNvSpPr/>
          <p:nvPr/>
        </p:nvSpPr>
        <p:spPr>
          <a:xfrm>
            <a:off x="1994040" y="4863960"/>
            <a:ext cx="50292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035"/>
          <p:cNvSpPr/>
          <p:nvPr/>
        </p:nvSpPr>
        <p:spPr>
          <a:xfrm>
            <a:off x="2696040" y="5016600"/>
            <a:ext cx="61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ategic communication: efficiency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037"/>
          <p:cNvSpPr/>
          <p:nvPr/>
        </p:nvSpPr>
        <p:spPr>
          <a:xfrm flipV="1">
            <a:off x="2222640" y="250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038"/>
          <p:cNvSpPr/>
          <p:nvPr/>
        </p:nvSpPr>
        <p:spPr>
          <a:xfrm>
            <a:off x="454320" y="2619360"/>
            <a:ext cx="10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039"/>
          <p:cNvSpPr/>
          <p:nvPr/>
        </p:nvSpPr>
        <p:spPr>
          <a:xfrm>
            <a:off x="7481160" y="2730600"/>
            <a:ext cx="12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u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040"/>
          <p:cNvSpPr/>
          <p:nvPr/>
        </p:nvSpPr>
        <p:spPr>
          <a:xfrm>
            <a:off x="6946920" y="2502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041"/>
          <p:cNvSpPr/>
          <p:nvPr/>
        </p:nvSpPr>
        <p:spPr>
          <a:xfrm>
            <a:off x="2984400" y="2273400"/>
            <a:ext cx="304920" cy="2361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042"/>
          <p:cNvSpPr/>
          <p:nvPr/>
        </p:nvSpPr>
        <p:spPr>
          <a:xfrm>
            <a:off x="4356000" y="2349360"/>
            <a:ext cx="533520" cy="2362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043"/>
          <p:cNvSpPr/>
          <p:nvPr/>
        </p:nvSpPr>
        <p:spPr>
          <a:xfrm>
            <a:off x="6337440" y="2349360"/>
            <a:ext cx="304560" cy="23623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044"/>
          <p:cNvSpPr/>
          <p:nvPr/>
        </p:nvSpPr>
        <p:spPr>
          <a:xfrm>
            <a:off x="792720" y="71424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ublic sphere as circumstances of persua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09F6-9455-4EB3-A514-538A69A19B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1"/>
          <p:cNvSpPr/>
          <p:nvPr/>
        </p:nvSpPr>
        <p:spPr>
          <a:xfrm>
            <a:off x="496800" y="5516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Reason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E9CE-DE64-4BAA-B5F0-E41E74813C9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484C-017F-4335-A48A-6453F1C9B6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611280" y="260280"/>
            <a:ext cx="7889760" cy="53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ditional references regarding  ideas towards integration of mod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ammut G and MW Bauer (2011)  Social influence: modes and  modalities, in: DW Hook, B Franks &amp; MW Bau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(eds) The Social Psychology of Communicaition, London, Palgr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(2008) The ‘fait accompli’ and its social influence,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DIOGEN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, 217, 68-8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(2006) The paradoxes of resistance in Brazil, in: Gaskell G &amp; M Bauer (eds)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 Genomic &amp;  Society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egal, ethical and social dimension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, London, Earthscan, p228-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(2005) The mass media and the biotechnology controversy,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International Journal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Public Opinion Research,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7 (1), 5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&amp;G Gaskell (eds) (2002)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Biotechnology – the making of a global controversy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ambridge, CU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(2002) Arenas, platforms and the biotechnology movement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, Science Communication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, 24, 144-16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rger J (2009) Replicating Milgram: would people still obey today? American Psychologist,  64, 1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Keren G &amp; Y Schul (2009) two is not always better than one: a critical evaluation of two systems theories, Perspectives on Psychologica Science, 4, 6, 533-5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Kruglanski AW, HP Erb, A Pierro, L Mannetti, WY Chun (2006) On parametric continuities in the world of binary either ors, Psychological Enquiry, 17, 153-165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acker DJ (2008) Identifying systematic disobedience in Milgram’s Obedience Experiments, Perspectives on Psychological Science, 3, 4, 301-4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aicheler G (1988) The psychology of social influence, Cambridge, CU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tty RE &amp; B Brinol (2008) Persuasion: from single to multiple to metacognitive processes, Perspectives on Psychological Science, 3, 2, 137-4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usssel NJC (2011) Milgram’s obedience to authority experiments: origins and early evoluation, British J of Social Psychology, 50, 140-16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7A64-718C-412B-B1BC-A815BBFA787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68360" y="457200"/>
            <a:ext cx="820728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rowds and Leadership of M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Gustave Le Bon (1895) ‘The Age of the Crow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social company individuals are lulled into a state of hypno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ower of suggestion: accepting propositions without testing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ss’ =  metaphor: matter (hyle) that needs to be given form (so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wds bring about a hypnotic state in individuals = crowd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-individuation in crowds: lowering the threshold of restra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’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mination’: otherwi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nal individuals turn into irrational animals; animal spirits (irrational = women is a 1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ury stereoty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ty alteration towards impulsiveness, exaggeration, intolerance, simplistic reasoning etc (everything that is despicable happens in crow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 in mass can be ‘formed like clay’, there is no control lef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need and opportunity for leaders (crowds = material in need of 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bon 1.jpg"/>
          <p:cNvPicPr/>
          <p:nvPr/>
        </p:nvPicPr>
        <p:blipFill>
          <a:blip r:embed="rId1"/>
          <a:stretch/>
        </p:blipFill>
        <p:spPr>
          <a:xfrm>
            <a:off x="7667640" y="260280"/>
            <a:ext cx="1305000" cy="1513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7674840" y="1844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841-19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A955-44E9-483C-A0A5-A58BE0BF1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9640" y="907920"/>
            <a:ext cx="81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ritiqu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middle class panic over street politics (the shock of ‘Paris Commune’ of 1871); ‘fin de siecle’ pessimism on human nature; social factors pitted against rational judgement; assumes that imitation works without reasoning and judgements, the latter at most a special case; a theory of political populism; huge success as popular science; Taiwan edition 20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eo-stoic, modern ethos of a ‘rational individual’ (Taylor, 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ffered against outside: others, demons, spirits, cont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ffered against inside: desire, pa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litist last stand against uncontrollable m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FA5F-7529-400C-B063-1AE1B4D6B28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8C60-FE28-4BC4-B053-73B4A1FEC3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C23A-5727-40C6-826C-F3383DABD6D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BF9-BF73-4FA2-9EEA-5D7E6CF95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68360" y="333360"/>
            <a:ext cx="830592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765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endulum of Managerial Control (cycles of 35-50 years; see Barley &amp; Kunda, 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14400" y="2743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Job) desig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876920" y="2743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evot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85800" y="3505320"/>
            <a:ext cx="2085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352680" y="35053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desig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172200" y="35053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Leadership;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‘Charism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685800" y="50292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rinsic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76720" y="5029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insic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019920" y="5029200"/>
            <a:ext cx="229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Identification; Loy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5"/>
          <p:cNvSpPr/>
          <p:nvPr/>
        </p:nvSpPr>
        <p:spPr>
          <a:xfrm flipH="1">
            <a:off x="2514600" y="198108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724280" y="198108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12952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396252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9343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3"/>
          <p:cNvSpPr/>
          <p:nvPr/>
        </p:nvSpPr>
        <p:spPr>
          <a:xfrm flipH="1">
            <a:off x="1447560" y="32004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>
            <a:off x="2590920" y="32004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63244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4572000" y="2895480"/>
            <a:ext cx="762120" cy="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 flipH="1">
            <a:off x="3809520" y="2895480"/>
            <a:ext cx="7621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9"/>
          <p:cNvSpPr/>
          <p:nvPr/>
        </p:nvSpPr>
        <p:spPr>
          <a:xfrm>
            <a:off x="4724280" y="1981080"/>
            <a:ext cx="304920" cy="68580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5:20:14Z</dcterms:created>
  <dc:creator>Martin Bauer</dc:creator>
  <dc:description/>
  <dc:language>en-US</dc:language>
  <cp:lastModifiedBy>Martin</cp:lastModifiedBy>
  <dcterms:modified xsi:type="dcterms:W3CDTF">2011-11-22T22:10:42Z</dcterms:modified>
  <cp:revision>148</cp:revision>
  <dc:subject/>
  <dc:title>Social Influence</dc:title>
</cp:coreProperties>
</file>