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3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46.jpeg" ContentType="image/jpeg"/>
  <Override PartName="/ppt/media/image41.jpeg" ContentType="image/jpeg"/>
  <Override PartName="/ppt/media/image45.jpeg" ContentType="image/jpeg"/>
  <Override PartName="/ppt/media/image36.wmf" ContentType="image/x-wmf"/>
  <Override PartName="/ppt/media/image47.jpeg" ContentType="image/jpeg"/>
  <Override PartName="/ppt/media/image43.png" ContentType="image/png"/>
  <Override PartName="/ppt/media/image34.wmf" ContentType="image/x-wmf"/>
  <Override PartName="/ppt/media/image33.png" ContentType="image/png"/>
  <Override PartName="/ppt/media/image44.wmf" ContentType="image/x-wmf"/>
  <Override PartName="/ppt/media/image31.jpeg" ContentType="image/jpeg"/>
  <Override PartName="/ppt/media/image48.jpeg" ContentType="image/jpeg"/>
  <Override PartName="/ppt/media/image49.jpeg" ContentType="image/jpeg"/>
  <Override PartName="/ppt/media/image37.wmf" ContentType="image/x-wmf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908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90800" cy="48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6040"/>
            <a:ext cx="2890800" cy="48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879D12-BBF0-43A1-91B1-973D423E3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CBCDCA-FB10-47FC-BA43-77269B0D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B58BA7-90FC-4A11-BB0F-97390567B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1C275C-5F16-40DF-A52B-5D353E8BEB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97125A-4C6A-4419-BAB9-EB206329EA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65CF02-3AE3-439E-A453-283334FF1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3D6F87-3C27-4DF9-ADC0-76B0476F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84723-DD13-4238-90EC-3D470B20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2E14FB-C6D2-423B-8DF4-B62099405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BF157C-C50F-49C5-959C-A63DCC541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8CEA8D-EEA9-4272-8AD0-D0F5FFDA8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26062E-EF89-4637-B976-127A1A01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9EFF06-D703-4046-9C3E-FDEA34DD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A90E21-90BA-4A32-9B4E-D5355BE8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76B17-8F0B-4516-8A59-E2E19379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1CDFA-FA13-4A8A-B23A-2D3114033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F44665-CB16-4E26-BA54-BC8186F2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17D478-528D-490B-A4F5-3E31E48C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EC045B-1532-4D01-844B-79A9E200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9A3A72-8E9D-45FC-BC6C-581C4E1F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30827E-D76E-4CED-8713-5A5F3B58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C2020A-DF16-453C-BF12-B4904113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23A0C9-476C-4C29-BC89-63D50F7C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9F213F-8AD2-4C70-AF33-E89CEF1C9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C678CC-5B33-4FF4-AB1F-FBCDC523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94B7B5-AD87-4165-8A8E-5ACCA374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13F7F1-35CE-4D91-A780-60D6349B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05D71B-2267-45AA-B888-60F99F075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1B262A-6441-463D-A23E-56672C10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FF5C9C-A3F6-49D2-9D14-A4C413167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555AC8-0013-4996-95A3-1E6CBE20D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EBDB82-49CA-4F4A-93EB-11EF866E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1FD603-F18F-4082-824E-01FE1922F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076229-313C-43A4-BAED-CE9A25757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58D83B-B1CF-452A-959C-E6F1C933D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CCC984-C857-4FD3-8051-71A84586F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619B3D-C868-436E-B3BE-FE1315C34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7C3A32-1209-4849-A7A9-FEC74F34F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616A4C-FF16-4445-8517-E2C246FBF7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393E9E-3856-44C3-BA17-007A44A06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7334AD-555C-4DF3-8171-D1D9E283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B31D1C-3710-4701-BE20-CA353372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5FD46A-94DB-41EA-878A-2141D2FF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108670-4B13-4E46-A460-B16F8F6E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F9E39A-18E4-4B04-BA5A-EF7B73FD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385A1E-344F-4D7C-BAE2-0314FBEC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37A15C-08F4-48E7-91F9-E863361E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922AAD-D261-419D-A382-0F062AFC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B24806-A325-44C8-892E-A51243C0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B92AAF-2354-40DE-82EE-5E00F3B07A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2A8A42-79D8-4B4C-9C3C-DE2A5B49F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EC05EA-EECD-470B-9153-D7729567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6CCE2E-7419-427C-9C99-90B3A3A33E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043014-3B1C-4868-B4A0-04E1FFD00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3BB7DE-E4B5-4A74-B6FC-05DBEA8F41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E431D9-87E3-4C04-91ED-1747A45E7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724A71-7008-48AC-A75F-5E895CF8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8B8FBA-A677-43B9-B231-756F700A59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0BECAE-9DEE-43F4-87B8-2DC3F9C0A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A561B2-7351-4A67-A510-6CF05077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8BC61C-11C9-450F-8E07-62CFA2A8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D0D1FD-07A1-4C6D-B165-B3005C0E6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784980-5CEB-4D5F-B871-18F9EA80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63325-9D43-4E3F-9D34-BFDF2D663E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E053B1-7DF3-455B-B831-34B7BBD6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7D12D1-D5FB-43CE-AD7E-28FF9E77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778200" y="9266400"/>
            <a:ext cx="2890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02F9FB-3468-4E99-BC7C-F9145E329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3A5-2278-435F-AC0E-8929EA3E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684-5C29-47D9-93DD-C6A5E502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9AA-AABA-417D-ADFB-6BE78B7C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3EB-42A5-428E-8974-B7AF2FC3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65C-5F8F-4FFE-8790-2D7A6732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052-7384-4816-A70D-10D5B73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6EB-EB7A-4C1A-9A61-9D7E6F16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C57-5EBF-44EB-8EF1-0CC6F0F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991-FD4C-40CB-AD1C-33F70978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835-825C-4ECD-B089-ECD791CD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C3B-8608-4226-AF93-2A4F6DB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0D9-0A36-41D3-AA8C-75286E8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01AB-AD3E-4C2F-A406-3912A4888EC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6FC-2F21-4379-9E3B-303D6DB7F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30E-A3CE-4218-B3CD-67F31A6F792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alities of Social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tin W Ba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itute of Social Psychology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5442-69F8-42CF-B211-4018ABAD4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10"/>
          <p:cNvGraphicFramePr/>
          <p:nvPr/>
        </p:nvGraphicFramePr>
        <p:xfrm>
          <a:off x="76320" y="111240"/>
          <a:ext cx="1143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124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6FF-D7FC-4FD7-8264-33975938E6E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D0E-A7C3-4D07-BE3A-CEF913B16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468360" y="476280"/>
            <a:ext cx="8424720" cy="56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agion and Im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Gabriel Tarde (2001) [1890] ‘The Laws of Imitation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ources of similarity and difference of people: by inheritance and by im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tation has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: invention and imitation (= sharing intentionality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aws for invention, but man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s of imitation;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of principles,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tation proceeds from the inner to the outer m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ss fashion [outer] is anticipated by literary fashions [inner]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[inner] precede behavioural expression [outer]; ends [inner] change before the means [outer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mitation follows the social hierarchy of prestig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istocrats are the cultural trend setters; see Stars, opinion leaders; List A people in 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 intake is more easily imitated than food intak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s why alcoholism is more prevalent than obesity (probably a 19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 observation)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Gabriel Trade (2006) [1901] ‘Opinion and crowd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 between crowd and public opinion: co-presence in street versus mediated co-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pinion = floating conversation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homogenity of outlook, not only political, also relig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opinion is selective: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ing attention on X, thus not to 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ffaire Dreyfus &gt; 1895); Historical novelty: the press substitutes crowds in their function: exerting political pressure to 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tarde 1.jpg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2025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5798160" y="4762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843-19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899-AD93-4E7E-91EC-693CD112FB2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0BBC-F74D-4DFC-972A-E3CF74C628E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53B1-BFF3-4046-AA6B-D5739D6811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85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295280" y="1219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371600" y="49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5"/>
          <p:cNvCxnSpPr/>
          <p:nvPr/>
        </p:nvCxnSpPr>
        <p:spPr>
          <a:xfrm flipV="1">
            <a:off x="1600200" y="1676160"/>
            <a:ext cx="5944320" cy="312480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150" name="Line 6"/>
          <p:cNvSpPr/>
          <p:nvPr/>
        </p:nvSpPr>
        <p:spPr>
          <a:xfrm>
            <a:off x="12952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06360" y="1447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605360" y="4842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1656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AutoShape 10"/>
          <p:cNvCxnSpPr/>
          <p:nvPr/>
        </p:nvCxnSpPr>
        <p:spPr>
          <a:xfrm flipV="1">
            <a:off x="1523880" y="1751760"/>
            <a:ext cx="3201120" cy="2972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155" name="AutoShape 11"/>
          <p:cNvCxnSpPr/>
          <p:nvPr/>
        </p:nvCxnSpPr>
        <p:spPr>
          <a:xfrm>
            <a:off x="4723920" y="1752120"/>
            <a:ext cx="3125160" cy="304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6" name="Line 12"/>
          <p:cNvSpPr/>
          <p:nvPr/>
        </p:nvSpPr>
        <p:spPr>
          <a:xfrm>
            <a:off x="4648320" y="1447920"/>
            <a:ext cx="0" cy="4114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30481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24852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184560" y="1184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4937040" y="11080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537240" y="685800"/>
            <a:ext cx="13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agg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1432080" y="11844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897120" y="19368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diffusion model (e.g. Rogers et al., 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689520" y="17175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6858360" y="38862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27349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43351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59353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1295280" y="3048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595080" y="270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1828800" y="510552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189240" y="509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4789080" y="50911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6539760" y="50911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1371600" y="5715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1215720" y="579132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riterion = ‘years to 50%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3795120" y="7272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2F2D-4AC2-4A9B-BF36-7527A6F09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0A1B-7262-440E-ACCD-F56622FA488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5FC-D563-4505-A033-B0A4187251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26"/>
          <p:cNvSpPr/>
          <p:nvPr/>
        </p:nvSpPr>
        <p:spPr>
          <a:xfrm>
            <a:off x="746280" y="609480"/>
            <a:ext cx="8219880" cy="51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battle for the hearts and minds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Linear model: invention (idea) - innovation (product) - diffusion (mark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blem attribution: ‘black box’ the product and work on the social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gmoid diffusion:  logistic adoption rate = ln(p/N-p) = a + 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filing of popul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e.g. early adopters, late adopters, lagg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variate analysis of attitude data: clustering, typologies,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a practices: how to reach the different groups [media mi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uiding a strategic interven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‘battle for the hearts and minds of peopl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ss communication for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vertising campaigns; marketing; two-step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-personal communication for adoption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CD11-B9BC-4199-9AB3-7B8BDC22F5E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ACE-A623-41B6-87AF-9AAD22111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468360" y="476280"/>
            <a:ext cx="820728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choes in ‘viral theories’ of ideas,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hors like: Dawkins (1976), Sperber (1990) Atran (2002), Boyer (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deas modelled in analogy to virus and viral infection, epidemiology of bel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entertain a new idea X = being infected by 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irulence of an ide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stick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ost susceptibilit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‘tipping point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cological milieu (e.g. herd immun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How far does the ‘viral’ analogy go? (asks Kitcher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member Dr Pasteur: ‘the germ is nothing, the milieu is everything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Hygiene as intervention: vigilance, contact avoidance, moral cleansing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Transmission of object relations y:  y(Ac)  =&gt; y(Bc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ntional entities: ideas are ‘entities that refer to something else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s ‘y’ before and after transmission from A to B identical object relation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Unspecified epidemiological analogues: mutation, rate of recovery, immunity, competition, rate of re-infection after recovery, gestation time et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ight Brace 5"/>
          <p:cNvSpPr/>
          <p:nvPr/>
        </p:nvSpPr>
        <p:spPr>
          <a:xfrm>
            <a:off x="5580000" y="278136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008000"/>
              <a:gd name="textAreaBottom" fmla="*/ 1002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5AD-EB72-4873-A324-6D2E32A1CD2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514B-17D4-4426-B746-B0E89F96C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24000" y="1052640"/>
            <a:ext cx="8424720" cy="5579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Ration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r irrational;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that is the ques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9A4-A110-4476-B21F-ABEE16F1C7F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BCA1-0246-44A0-BC50-4C309B33A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468360" y="765000"/>
            <a:ext cx="813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luence as (ir)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) The doctrine of suggestion (a 19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century fa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de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Bon et 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nambulism as normal, everyday state of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ionality is exceptional, for an elite of cultivated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ligo poloi’ (few) against the ‘hoi poloi’ (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overeign mind buffered inside and outside (Tay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) Rationality as universal human pot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imental demonstrations of ‘rationality’ (new social psych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earch for exceptional circumstances where it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iarchical rationality in relation to ego, social and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ither/Or dual-system ideas versus uni-mod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8C6-1733-4D75-BFF2-DCB4EFE3399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71A-9973-41BE-B07F-998233084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971640" y="476280"/>
            <a:ext cx="7488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ualities of social influence (the lure of dichotom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tic determination or cultural im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ional versus irrational/sub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son versus pa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and so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cious versus non-conscious,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al versus 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aboration likeli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ctancy-value versus emotional conditio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-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stem 1 and syste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t and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st and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uitive versus delib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jority versus minor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5FD-5D84-49CE-BB37-5CE590986FA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E7FF-ECEF-41D3-B759-C2D681E739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brain-diagram-1.png"/>
          <p:cNvPicPr/>
          <p:nvPr/>
        </p:nvPicPr>
        <p:blipFill>
          <a:blip r:embed="rId1"/>
          <a:stretch/>
        </p:blipFill>
        <p:spPr>
          <a:xfrm>
            <a:off x="971640" y="1413000"/>
            <a:ext cx="4316400" cy="36511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7"/>
          <p:cNvSpPr/>
          <p:nvPr/>
        </p:nvSpPr>
        <p:spPr>
          <a:xfrm>
            <a:off x="1692360" y="2133720"/>
            <a:ext cx="3384360" cy="175248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4241409" h="1753771">
                <a:moveTo>
                  <a:pt x="0" y="1638885"/>
                </a:moveTo>
                <a:cubicBezTo>
                  <a:pt x="595532" y="840544"/>
                  <a:pt x="1191065" y="42203"/>
                  <a:pt x="1842868" y="21101"/>
                </a:cubicBezTo>
                <a:cubicBezTo>
                  <a:pt x="2494671" y="0"/>
                  <a:pt x="3580227" y="1270781"/>
                  <a:pt x="3910818" y="1512276"/>
                </a:cubicBezTo>
                <a:cubicBezTo>
                  <a:pt x="4241409" y="1753771"/>
                  <a:pt x="3826412" y="1470073"/>
                  <a:pt x="3826412" y="1470073"/>
                </a:cubicBezTo>
              </a:path>
            </a:pathLst>
          </a:custGeom>
          <a:solidFill>
            <a:srgbClr val="ffff00">
              <a:alpha val="27000"/>
            </a:srgbClr>
          </a:solidFill>
          <a:ln w="9360">
            <a:solidFill>
              <a:srgbClr val="000000">
                <a:alpha val="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5508720" y="981000"/>
            <a:ext cx="33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aboration (system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er brain, slow,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627440" y="4292640"/>
            <a:ext cx="42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e based, biased (system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brain, fast, h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084720" y="2060640"/>
            <a:ext cx="1295640" cy="647640"/>
          </a:xfrm>
          <a:prstGeom prst="rect">
            <a:avLst/>
          </a:prstGeom>
          <a:solidFill>
            <a:srgbClr val="00cc99">
              <a:alpha val="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6227640" y="3213000"/>
            <a:ext cx="1008360" cy="792360"/>
          </a:xfrm>
          <a:prstGeom prst="roundRect">
            <a:avLst>
              <a:gd name="adj" fmla="val 16667"/>
            </a:avLst>
          </a:prstGeom>
          <a:solidFill>
            <a:srgbClr val="ffff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7885080" y="1844640"/>
            <a:ext cx="358920" cy="2521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30"/>
          <p:cNvSpPr/>
          <p:nvPr/>
        </p:nvSpPr>
        <p:spPr>
          <a:xfrm>
            <a:off x="2714760" y="40464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al-System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>
            <a:off x="5796000" y="23493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Straight Arrow Connector 34"/>
          <p:cNvCxnSpPr/>
          <p:nvPr/>
        </p:nvCxnSpPr>
        <p:spPr>
          <a:xfrm>
            <a:off x="5795640" y="2421000"/>
            <a:ext cx="648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Straight Arrow Connector 36"/>
          <p:cNvCxnSpPr/>
          <p:nvPr/>
        </p:nvCxnSpPr>
        <p:spPr>
          <a:xfrm>
            <a:off x="5796000" y="3573000"/>
            <a:ext cx="721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Right Arrow 38"/>
          <p:cNvSpPr/>
          <p:nvPr/>
        </p:nvSpPr>
        <p:spPr>
          <a:xfrm>
            <a:off x="5508720" y="2997360"/>
            <a:ext cx="358560" cy="21564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ight Arrow 39"/>
          <p:cNvSpPr/>
          <p:nvPr/>
        </p:nvSpPr>
        <p:spPr>
          <a:xfrm>
            <a:off x="7380360" y="2421000"/>
            <a:ext cx="576360" cy="2160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cc99">
              <a:alpha val="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ight Arrow 40"/>
          <p:cNvSpPr/>
          <p:nvPr/>
        </p:nvSpPr>
        <p:spPr>
          <a:xfrm>
            <a:off x="7236000" y="3500280"/>
            <a:ext cx="649080" cy="289080"/>
          </a:xfrm>
          <a:prstGeom prst="rightArrow">
            <a:avLst>
              <a:gd name="adj1" fmla="val 50000"/>
              <a:gd name="adj2" fmla="val 49896"/>
            </a:avLst>
          </a:prstGeom>
          <a:solidFill>
            <a:srgbClr val="ffff00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Up Arrow 41"/>
          <p:cNvSpPr/>
          <p:nvPr/>
        </p:nvSpPr>
        <p:spPr>
          <a:xfrm>
            <a:off x="6804000" y="27082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ffff00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Down Arrow 42"/>
          <p:cNvSpPr/>
          <p:nvPr/>
        </p:nvSpPr>
        <p:spPr>
          <a:xfrm>
            <a:off x="6372360" y="2708280"/>
            <a:ext cx="287280" cy="504720"/>
          </a:xfrm>
          <a:prstGeom prst="downArrow">
            <a:avLst>
              <a:gd name="adj1" fmla="val 50000"/>
              <a:gd name="adj2" fmla="val 50193"/>
            </a:avLst>
          </a:prstGeom>
          <a:solidFill>
            <a:srgbClr val="00cc99">
              <a:alpha val="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20"/>
          <p:cNvSpPr/>
          <p:nvPr/>
        </p:nvSpPr>
        <p:spPr>
          <a:xfrm rot="5400000">
            <a:off x="7776720" y="2754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1056960" y="5162400"/>
            <a:ext cx="73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chotomy of systems or variable paramet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s from same box, combined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traight Connector 2"/>
          <p:cNvSpPr/>
          <p:nvPr/>
        </p:nvSpPr>
        <p:spPr>
          <a:xfrm>
            <a:off x="6156360" y="296064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7380360" y="2747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5C67-12FA-402B-ADD8-DFD5E8638476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4240-39BC-40AF-827D-6CD4E5924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asch_portrait.jpg"/>
          <p:cNvPicPr/>
          <p:nvPr/>
        </p:nvPicPr>
        <p:blipFill>
          <a:blip r:embed="rId1"/>
          <a:stretch/>
        </p:blipFill>
        <p:spPr>
          <a:xfrm>
            <a:off x="539640" y="620640"/>
            <a:ext cx="2808360" cy="4183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milgram portrait.jpg"/>
          <p:cNvPicPr/>
          <p:nvPr/>
        </p:nvPicPr>
        <p:blipFill>
          <a:blip r:embed="rId2"/>
          <a:stretch/>
        </p:blipFill>
        <p:spPr>
          <a:xfrm>
            <a:off x="5940360" y="836640"/>
            <a:ext cx="2739960" cy="316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mosco_portrait.jpg"/>
          <p:cNvPicPr/>
          <p:nvPr/>
        </p:nvPicPr>
        <p:blipFill>
          <a:blip r:embed="rId3"/>
          <a:stretch/>
        </p:blipFill>
        <p:spPr>
          <a:xfrm>
            <a:off x="3059280" y="2997360"/>
            <a:ext cx="2835000" cy="230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541800" y="5229360"/>
            <a:ext cx="19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omon A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907-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740640" y="4076640"/>
            <a:ext cx="22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ley Mil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933-19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074480" y="544500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ge Moscov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*19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sherif_portrait.gif"/>
          <p:cNvPicPr/>
          <p:nvPr/>
        </p:nvPicPr>
        <p:blipFill>
          <a:blip r:embed="rId4"/>
          <a:stretch/>
        </p:blipFill>
        <p:spPr>
          <a:xfrm>
            <a:off x="3851280" y="907920"/>
            <a:ext cx="1860480" cy="23259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1"/>
          <p:cNvSpPr/>
          <p:nvPr/>
        </p:nvSpPr>
        <p:spPr>
          <a:xfrm>
            <a:off x="3579480" y="33336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stafer Sherif (1906-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8724-A97B-4FD6-9655-D3551DFD6B7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2794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0240" y="549360"/>
            <a:ext cx="913716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rmalisation and Frame of Reference &gt; 19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afar Sherif (1935) et al.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erging norm of judgements; once established, they pers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-kinetic phenomenon’ experimen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mbiguous stimulus flickering in the dark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romising and convergence of judgements 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ablish an individual norm in repeated observ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nging individual norms into groups to agree ‘group judgment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greed frame of reference persists, even in individual per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ocial process as productive process: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 basis for co-ordinated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ritique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nocuous situation; an experiments with no real-life s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5182-EE6D-4E6D-B72F-1A9B92D3E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CBFC-892B-4043-8509-C24826EA241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539640" y="404640"/>
            <a:ext cx="8204400" cy="558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rgument 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t Modalities of Social Infl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of Rationality and Sub-Rationalit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Reconstruction and Integratio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al of the story: the moral dubiousness of infl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 old concern: raising awareness of social influence to protect us against it (harnessing the enlightenment eff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sychology = the study of what persuades at presen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358-CAD6-427C-BB66-F7AAE72D9A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1E5-859F-484C-A289-4784B8A4D01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BBF-C221-4D61-A8FD-33AA712F0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Sherif_1935a_2a.gif"/>
          <p:cNvPicPr/>
          <p:nvPr/>
        </p:nvPicPr>
        <p:blipFill>
          <a:blip r:embed="rId1"/>
          <a:stretch/>
        </p:blipFill>
        <p:spPr>
          <a:xfrm>
            <a:off x="468360" y="404640"/>
            <a:ext cx="4602240" cy="6093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Sherif_1935a_3b.bmp"/>
          <p:cNvPicPr/>
          <p:nvPr/>
        </p:nvPicPr>
        <p:blipFill>
          <a:blip r:embed="rId2"/>
          <a:stretch/>
        </p:blipFill>
        <p:spPr>
          <a:xfrm>
            <a:off x="5003640" y="620640"/>
            <a:ext cx="38005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F346-AEE6-4FD2-8762-6269F63DDDA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1C8-345E-4846-9321-960428EFA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468360" y="692280"/>
            <a:ext cx="82803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dvik Fleck (1939 / 79) the ‘origin of scientific facts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emonstrated on the emergence of the modern theory of syphili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ientific facts are stabilised in the interplay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ing col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nking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res of communication: lab, journal, popular (concentr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ed of public appreciation (popularis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rtainty, simplicity, concr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Facts are ‘the world seen as’ (in function of a frame of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simplicity we say ‘x is a’, rather than ‘x is seen as a’ or x(a/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pade is a ‘spade’, only when seen ‘as a tool’, otherwise is just wood + 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71424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3CBB-F068-4965-82B6-7C8452C2EA7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684360" y="333360"/>
            <a:ext cx="7972200" cy="5632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jori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luenc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gt; 195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periments on conformity and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ambiguous stimulus situation: three geometrical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lomon Asch et al. ( &gt; 1951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jority influence and conform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riment on visual stimuli; majority is briefed for false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is conformity induced; what supports resistanc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rmative-motivational influ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avoidance of sanction, need for affiliation  = exclusion anxiety = ‘it hurts to be alone’ (litter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ional basis: in relation to others, preserving a positive self-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ent: wisdom of the crowd, majority as signal an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0947-5E9F-422F-A650-60AE4F277D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5DDC-9AF0-419B-9C82-5256F04DC5D6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E57-8BD0-4345-B29D-0F6804948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5" descr="asch 2.jpg"/>
          <p:cNvPicPr/>
          <p:nvPr/>
        </p:nvPicPr>
        <p:blipFill>
          <a:blip r:embed="rId1"/>
          <a:stretch/>
        </p:blipFill>
        <p:spPr>
          <a:xfrm>
            <a:off x="611280" y="884160"/>
            <a:ext cx="4091040" cy="1873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asch 5.jpg"/>
          <p:cNvPicPr/>
          <p:nvPr/>
        </p:nvPicPr>
        <p:blipFill>
          <a:blip r:embed="rId2"/>
          <a:stretch/>
        </p:blipFill>
        <p:spPr>
          <a:xfrm>
            <a:off x="5651640" y="333360"/>
            <a:ext cx="2666880" cy="3451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asch-lines.jpg"/>
          <p:cNvPicPr/>
          <p:nvPr/>
        </p:nvPicPr>
        <p:blipFill>
          <a:blip r:embed="rId3"/>
          <a:stretch/>
        </p:blipFill>
        <p:spPr>
          <a:xfrm>
            <a:off x="539640" y="2924280"/>
            <a:ext cx="3803760" cy="2860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asch 4.jpg"/>
          <p:cNvPicPr/>
          <p:nvPr/>
        </p:nvPicPr>
        <p:blipFill>
          <a:blip r:embed="rId4"/>
          <a:stretch/>
        </p:blipFill>
        <p:spPr>
          <a:xfrm>
            <a:off x="3780000" y="4292640"/>
            <a:ext cx="4914720" cy="17636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1801800" y="21420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dd on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Straight Arrow Connector 3"/>
          <p:cNvCxnSpPr/>
          <p:nvPr/>
        </p:nvCxnSpPr>
        <p:spPr>
          <a:xfrm>
            <a:off x="4702320" y="476280"/>
            <a:ext cx="20311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5"/>
          <p:cNvCxnSpPr/>
          <p:nvPr/>
        </p:nvCxnSpPr>
        <p:spPr>
          <a:xfrm flipH="1">
            <a:off x="3052080" y="738000"/>
            <a:ext cx="44028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Straight Arrow Connector 2"/>
          <p:cNvCxnSpPr/>
          <p:nvPr/>
        </p:nvCxnSpPr>
        <p:spPr>
          <a:xfrm>
            <a:off x="4316040" y="620640"/>
            <a:ext cx="2127960" cy="39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333360"/>
            <a:ext cx="82803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distress of social exclusion (ostrac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rts like physical pain (Panksepp, 2003; Eisenberger et.al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d immune activity (Dickerson et al.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d hormone level: progesterone (Maner et al., 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hurts, even if exclusion pays off (vanBeest et al.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lowing of heart rate (Moor et al, 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cortisol levels in saliva (Blackhart et al.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ing ‘left in the cold’, feels cold (Zhong &amp; Leonardelli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aving for warm food (Zhong &amp; Leonardelli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us more sensitive to cues that signal deception (Bernstein et al.,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 what: we learn from this that we are social animals (individuals 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in killers like Acetaminophen help when excluded (DeWall et al., 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93A-1966-4A16-AA7A-557B778338E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6AC-0285-4AD6-9A61-AECAA5D35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AF6-5A56-475B-9E3C-A056FD9BF266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5D3-F721-47DF-81C5-F79ABB845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468360" y="404640"/>
            <a:ext cx="8424720" cy="547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bedience to Author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nley Milgra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t al ( &gt; 1963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text experiment: ‘Learning by pain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isguised purposes: how far do we go?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ople are naturally hesitant, but this i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rned-off by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tant stat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actant abdicates responsibility; ‘I am only a part of the machine’ = the banality of evil (Hannah Arend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iance rates as cultural indictor: a national ‘litmus test’ [a model for genocide studi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odel case of AbuGraib, holocaust?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ut note the pictur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B803-E441-4099-9BB4-AD2A5E6E2AB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35C-BE72-408D-BE7C-7190FB451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milgram exp3.jpg"/>
          <p:cNvPicPr/>
          <p:nvPr/>
        </p:nvPicPr>
        <p:blipFill>
          <a:blip r:embed="rId1"/>
          <a:stretch/>
        </p:blipFill>
        <p:spPr>
          <a:xfrm>
            <a:off x="611280" y="404640"/>
            <a:ext cx="2287440" cy="304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milgram reenact2.jpg"/>
          <p:cNvPicPr/>
          <p:nvPr/>
        </p:nvPicPr>
        <p:blipFill>
          <a:blip r:embed="rId2"/>
          <a:stretch/>
        </p:blipFill>
        <p:spPr>
          <a:xfrm>
            <a:off x="3708360" y="260280"/>
            <a:ext cx="3938760" cy="2962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milgram setup.jpg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283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milgram results.gif"/>
          <p:cNvPicPr/>
          <p:nvPr/>
        </p:nvPicPr>
        <p:blipFill>
          <a:blip r:embed="rId4"/>
          <a:stretch/>
        </p:blipFill>
        <p:spPr>
          <a:xfrm>
            <a:off x="3348000" y="2852640"/>
            <a:ext cx="5183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755640" y="85680"/>
          <a:ext cx="3745080" cy="6583320"/>
        </p:xfrm>
        <a:graphic>
          <a:graphicData uri="http://schemas.openxmlformats.org/drawingml/2006/table">
            <a:tbl>
              <a:tblPr/>
              <a:tblGrid>
                <a:gridCol w="2031840"/>
                <a:gridCol w="1208160"/>
                <a:gridCol w="5050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gram (1963) Exp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 (New Hav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land (196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ona &amp; Pareyson (19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senhan (19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d (19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wards et al, (19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ng et al. (1970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ll (19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est 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ck (197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s &amp; Geen (197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gers (197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han &amp; Mann (1974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ala (1974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za (1976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ab &amp; Yahya (197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ab &amp; Yahya (1978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anda et al. (198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urz (198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er (20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 (Californ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247"/>
          <p:cNvSpPr/>
          <p:nvPr/>
        </p:nvSpPr>
        <p:spPr>
          <a:xfrm>
            <a:off x="4788000" y="907920"/>
            <a:ext cx="3887640" cy="52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edience rates as cultural indicat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% of participants who continued to max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50 Volts with electro sh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an (US) =  6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an (elsewhere) = 6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io-Ethical ban on replications (&gt;19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ssues: consent and harm to su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urce: Blass (2004, p302f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rger (2009): only ratio of participants intending to continue beyond 150 V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10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D406-AF64-48AC-812E-E4019A4B6A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106"/>
          <p:cNvSpPr/>
          <p:nvPr/>
        </p:nvSpPr>
        <p:spPr>
          <a:xfrm>
            <a:off x="3780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4063-40B3-468E-B17A-FE8D5D2C678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68360" y="1197000"/>
          <a:ext cx="8496360" cy="4846680"/>
        </p:xfrm>
        <a:graphic>
          <a:graphicData uri="http://schemas.openxmlformats.org/drawingml/2006/table">
            <a:tbl>
              <a:tblPr/>
              <a:tblGrid>
                <a:gridCol w="4389480"/>
                <a:gridCol w="4106880"/>
              </a:tblGrid>
              <a:tr h="4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ormity (e.g. As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dience (e.g. Milg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of peers (us and the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itation involved: acting as modell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e denied by 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ar of excl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compliance, private dis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) social rationality: respect of others, it is costly to check everything oneself; moral community, ‘crowd sourcing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b) Ego-rationality: need for affiliation; ostracism is distressing and avoi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atus hierarch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mitation, doing as verbally t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mmand &amp; requ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tted influence of autho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 for authority, expectation of r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 of respon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Social rationality: loyalty to legitimate authority; hierarchy as division of labour,  efficient co-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ub-rational Identification with  leader: ‘Wanna be like you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31"/>
          <p:cNvSpPr/>
          <p:nvPr/>
        </p:nvSpPr>
        <p:spPr>
          <a:xfrm>
            <a:off x="0" y="456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AAB1-1AD3-48DA-9905-D891736385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F40-8C0E-4917-AC34-6AA49BFF939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1779-B3E4-43B2-A4DB-2C19359F9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minority.jpg"/>
          <p:cNvPicPr/>
          <p:nvPr/>
        </p:nvPicPr>
        <p:blipFill>
          <a:blip r:embed="rId1"/>
          <a:stretch/>
        </p:blipFill>
        <p:spPr>
          <a:xfrm>
            <a:off x="395280" y="333360"/>
            <a:ext cx="3240000" cy="2149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inority_book.jpg"/>
          <p:cNvPicPr/>
          <p:nvPr/>
        </p:nvPicPr>
        <p:blipFill>
          <a:blip r:embed="rId2"/>
          <a:stretch/>
        </p:blipFill>
        <p:spPr>
          <a:xfrm>
            <a:off x="4716360" y="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asch 4.jpg"/>
          <p:cNvPicPr/>
          <p:nvPr/>
        </p:nvPicPr>
        <p:blipFill>
          <a:blip r:embed="rId3"/>
          <a:stretch/>
        </p:blipFill>
        <p:spPr>
          <a:xfrm>
            <a:off x="755640" y="4149720"/>
            <a:ext cx="4915080" cy="17636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1692360" y="2421000"/>
            <a:ext cx="2014560" cy="17287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ter-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708360" y="2421000"/>
            <a:ext cx="1800360" cy="1728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5867280" y="450864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all of col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gnition of colours later: priming and 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14"/>
          <p:cNvCxnSpPr>
            <a:stCxn id="298" idx="1"/>
          </p:cNvCxnSpPr>
          <p:nvPr/>
        </p:nvCxnSpPr>
        <p:spPr>
          <a:xfrm flipH="1">
            <a:off x="2483640" y="903240"/>
            <a:ext cx="13676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8" name="TextBox 15"/>
          <p:cNvSpPr/>
          <p:nvPr/>
        </p:nvSpPr>
        <p:spPr>
          <a:xfrm>
            <a:off x="3855600" y="549360"/>
            <a:ext cx="14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one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A902-297D-4875-99E4-6EB33E371F7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296-3697-4CF6-AFD0-F4FCFF1E8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68360" y="692280"/>
            <a:ext cx="792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Influence and Social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he battle for the hearts and minds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others influence me or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I or we influence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ny influence the one/few: majority, crow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ny influence the many: imitation,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/few influence the many: minority, persuasion,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influences one another: contagion, persuasion,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fluence yourself: to argue,  to r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82F3-88EF-48C7-B516-C3EDD064E76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6629-5549-4DC4-B449-B27BE3684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324000" y="193680"/>
            <a:ext cx="86421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CE6-56ED-4E22-9282-093FD8FE9A2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B32E-2F60-4539-AD8D-AA70B736D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4873-AA1A-4DDB-883D-B1C92214085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A07-7AC0-4DA1-B87B-57FB5C62ED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88920" y="-857160"/>
            <a:ext cx="259092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231840" y="476280"/>
            <a:ext cx="83725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218-25B9-4D2F-A200-D67A14CA807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755640" y="404640"/>
            <a:ext cx="7696080" cy="5524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inority influence &gt; 196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[Moscovici et al.]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s on influence of minority and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versal of Asch’s paradigm: the deviant minority is briefed to stay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 to ambiguous stimulus as used by Sherif: colour after-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havioural gramm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rigidity, consistency, autonomy/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ymbolic-informational chang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majority reassesses its own assumptions / beliefs [not avoiding stress nor satisfying a need, but world-oriented rationalit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leeper eff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private change precedes public change (Tarde); source of information is forgotten: the tragedy of succesful minor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mic and anomic minoriti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organised versus disorganised deviance; influence is only possible for nomic-organised min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Paradox of minority influenc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havioural grammar requires conformity within the minority [an organised-nomic minority: see Leninism, terror cell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275D-B826-44FC-9235-B8F5A7555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F3F2-9E09-40B4-9B28-D4078AFC6D4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404640"/>
          <a:ext cx="8440920" cy="5883480"/>
        </p:xfrm>
        <a:graphic>
          <a:graphicData uri="http://schemas.openxmlformats.org/drawingml/2006/table">
            <a:tbl>
              <a:tblPr/>
              <a:tblGrid>
                <a:gridCol w="4389480"/>
                <a:gridCol w="40514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ity infl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ority infl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taining a consensus, common s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ssimilation of minority TO maj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ing a conflict and stabilising existing consensus in face of challe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rcion, group pressure, threat of exclusion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raction, s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is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ocess: focus on persons; affiliation and identification with majority (normative rational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public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ianc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 intern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 dissent [inner exi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orary shifts in opinions; periphera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ily 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rmative, social-oriented ration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go rationality, self-este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allenging an existing consensus, common se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ccommodation of minority IN maj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ing a conflict and shift towards new consensus due to behavioural style/gramm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stency, commitment, unanim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ived autonomy,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lexible) rigid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rocess: focus on topic; more careful assessment of information (objective rational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rejection and latent process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rs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intern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‘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eper effect’: changing attitudes and forgetting the source of the influence, concluding ‘it is obvious, it is not’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istence: more durable shifts, change at the attitudinal core, ir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elaboration leads to stronger new attitude-new behaviour relation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orld-oriented rationality, obje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25A-545C-489A-A50A-0BBAC34C6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7790-8C2F-4B4C-ADA9-665D61A0339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A0E5-9D0D-4DF5-A97F-6110BEDE0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900000" y="620640"/>
            <a:ext cx="7417080" cy="600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o far - what the textbooks tell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Now let us do some thinking 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636-AF84-4529-A7B7-A8C44C4871A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468360" y="333360"/>
            <a:ext cx="8143920" cy="634032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Integration wor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Bringing things together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3A68-37E2-460E-8E04-F15FFFFC20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AEA-E0E3-4A0F-AA9B-87B95C9CC3F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222560" y="685800"/>
            <a:ext cx="741492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cial interations create structures of ‘common sense’ (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S = social representations such as attitudes, beliefs, ideas,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ective intentionality: common outlook and collectiv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blem: establishing, maintaining, and re-designing CS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ext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ra- and inter-group conflic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etween groups A, B, 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e common senses not one ‘sensus communi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 over communalities: processes of struct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violence and force: by military warfare [hard pow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adjudication of institutional authorities [court, church, scienc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imes New Roman"/>
              </a:rPr>
              <a:t>by social influence in imperfect public sphere [soft pow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imes New Roman"/>
              </a:rPr>
              <a:t>by deliberation in ‘functioning civil society’ [power-free discour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Straight Arrow Connector 5"/>
          <p:cNvCxnSpPr/>
          <p:nvPr/>
        </p:nvCxnSpPr>
        <p:spPr>
          <a:xfrm flipH="1">
            <a:off x="898200" y="3573000"/>
            <a:ext cx="2160" cy="208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1" name="TextBox 6" descr=""/>
          <p:cNvPicPr/>
          <p:nvPr/>
        </p:nvPicPr>
        <p:blipFill>
          <a:blip r:embed="rId1"/>
          <a:stretch/>
        </p:blipFill>
        <p:spPr>
          <a:xfrm>
            <a:off x="262080" y="3621240"/>
            <a:ext cx="645840" cy="196200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10E-6058-42C8-AA40-E249E2D24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6EA-EC73-403E-BED6-8BB70BE8B98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826920" y="457200"/>
            <a:ext cx="7705800" cy="5489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cial influence = negotiations between group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metrical [ A ~ B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rmalisation by Compromising a frame of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ming to common terms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ithout a strong projec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 axes to grind’; equality of resources; Habermas’ ideal speech situation app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ymmetrical [ A &gt; B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ong projects involved, basic value commitments are at s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[bring minority into-the-fol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jority influence’: strategy of the strong, power in numbe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agreement / private disagreemen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[normati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ommoda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[make inroads with majority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inority influence’: strategy of the weak; power of dis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disagreement / private endorsement [informationa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radox of minority influence: in order to exert influence, the minority needs to have discipline [= successful minorities require professionalis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A8D3-673F-4AB3-8DA7-D81554A95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7BB-EBB0-4AD4-903F-36AB69855C7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26"/>
          <p:cNvSpPr/>
          <p:nvPr/>
        </p:nvSpPr>
        <p:spPr>
          <a:xfrm>
            <a:off x="1286640" y="217476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rm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herif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27"/>
          <p:cNvSpPr/>
          <p:nvPr/>
        </p:nvSpPr>
        <p:spPr>
          <a:xfrm>
            <a:off x="6091200" y="308916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sch, Milgram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de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028"/>
          <p:cNvSpPr/>
          <p:nvPr/>
        </p:nvSpPr>
        <p:spPr>
          <a:xfrm>
            <a:off x="2431080" y="430848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Moscovici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29"/>
          <p:cNvSpPr/>
          <p:nvPr/>
        </p:nvSpPr>
        <p:spPr>
          <a:xfrm>
            <a:off x="1197360" y="404640"/>
            <a:ext cx="69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cial co-ordination of  activity: Establishing, Maintai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d Altering Moral Communality (a spiral of commun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030"/>
          <p:cNvSpPr/>
          <p:nvPr/>
        </p:nvSpPr>
        <p:spPr>
          <a:xfrm>
            <a:off x="2232000" y="1330200"/>
            <a:ext cx="4905360" cy="1757520"/>
          </a:xfrm>
          <a:custGeom>
            <a:avLst/>
            <a:gdLst>
              <a:gd name="textAreaLeft" fmla="*/ 0 w 4905360"/>
              <a:gd name="textAreaRight" fmla="*/ 4905720 w 490536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3090" h="1107">
                <a:moveTo>
                  <a:pt x="0" y="553"/>
                </a:moveTo>
                <a:cubicBezTo>
                  <a:pt x="41" y="533"/>
                  <a:pt x="62" y="504"/>
                  <a:pt x="90" y="471"/>
                </a:cubicBezTo>
                <a:cubicBezTo>
                  <a:pt x="156" y="393"/>
                  <a:pt x="74" y="496"/>
                  <a:pt x="135" y="434"/>
                </a:cubicBezTo>
                <a:cubicBezTo>
                  <a:pt x="202" y="365"/>
                  <a:pt x="257" y="287"/>
                  <a:pt x="337" y="232"/>
                </a:cubicBezTo>
                <a:cubicBezTo>
                  <a:pt x="371" y="180"/>
                  <a:pt x="331" y="231"/>
                  <a:pt x="374" y="202"/>
                </a:cubicBezTo>
                <a:cubicBezTo>
                  <a:pt x="401" y="184"/>
                  <a:pt x="409" y="167"/>
                  <a:pt x="442" y="157"/>
                </a:cubicBezTo>
                <a:cubicBezTo>
                  <a:pt x="500" y="113"/>
                  <a:pt x="581" y="106"/>
                  <a:pt x="651" y="90"/>
                </a:cubicBezTo>
                <a:cubicBezTo>
                  <a:pt x="784" y="60"/>
                  <a:pt x="911" y="16"/>
                  <a:pt x="1048" y="0"/>
                </a:cubicBezTo>
                <a:cubicBezTo>
                  <a:pt x="1210" y="2"/>
                  <a:pt x="1372" y="2"/>
                  <a:pt x="1534" y="7"/>
                </a:cubicBezTo>
                <a:cubicBezTo>
                  <a:pt x="1560" y="8"/>
                  <a:pt x="1634" y="26"/>
                  <a:pt x="1654" y="30"/>
                </a:cubicBezTo>
                <a:cubicBezTo>
                  <a:pt x="1800" y="62"/>
                  <a:pt x="1943" y="103"/>
                  <a:pt x="2080" y="164"/>
                </a:cubicBezTo>
                <a:cubicBezTo>
                  <a:pt x="2142" y="192"/>
                  <a:pt x="2202" y="239"/>
                  <a:pt x="2267" y="254"/>
                </a:cubicBezTo>
                <a:cubicBezTo>
                  <a:pt x="2319" y="289"/>
                  <a:pt x="2418" y="348"/>
                  <a:pt x="2476" y="366"/>
                </a:cubicBezTo>
                <a:cubicBezTo>
                  <a:pt x="2496" y="381"/>
                  <a:pt x="2518" y="393"/>
                  <a:pt x="2536" y="411"/>
                </a:cubicBezTo>
                <a:cubicBezTo>
                  <a:pt x="2546" y="421"/>
                  <a:pt x="2555" y="432"/>
                  <a:pt x="2566" y="441"/>
                </a:cubicBezTo>
                <a:cubicBezTo>
                  <a:pt x="2593" y="464"/>
                  <a:pt x="2587" y="450"/>
                  <a:pt x="2619" y="471"/>
                </a:cubicBezTo>
                <a:cubicBezTo>
                  <a:pt x="2640" y="485"/>
                  <a:pt x="2658" y="501"/>
                  <a:pt x="2678" y="516"/>
                </a:cubicBezTo>
                <a:cubicBezTo>
                  <a:pt x="2688" y="523"/>
                  <a:pt x="2708" y="538"/>
                  <a:pt x="2708" y="538"/>
                </a:cubicBezTo>
                <a:cubicBezTo>
                  <a:pt x="2762" y="621"/>
                  <a:pt x="2681" y="504"/>
                  <a:pt x="2746" y="576"/>
                </a:cubicBezTo>
                <a:cubicBezTo>
                  <a:pt x="2769" y="601"/>
                  <a:pt x="2785" y="631"/>
                  <a:pt x="2806" y="658"/>
                </a:cubicBezTo>
                <a:cubicBezTo>
                  <a:pt x="2830" y="736"/>
                  <a:pt x="2897" y="806"/>
                  <a:pt x="2948" y="868"/>
                </a:cubicBezTo>
                <a:cubicBezTo>
                  <a:pt x="2980" y="908"/>
                  <a:pt x="3001" y="950"/>
                  <a:pt x="3037" y="987"/>
                </a:cubicBezTo>
                <a:cubicBezTo>
                  <a:pt x="3046" y="1012"/>
                  <a:pt x="3075" y="1055"/>
                  <a:pt x="3075" y="1055"/>
                </a:cubicBezTo>
                <a:cubicBezTo>
                  <a:pt x="3080" y="1071"/>
                  <a:pt x="3090" y="1090"/>
                  <a:pt x="30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031"/>
          <p:cNvSpPr/>
          <p:nvPr/>
        </p:nvSpPr>
        <p:spPr>
          <a:xfrm>
            <a:off x="3514680" y="4221000"/>
            <a:ext cx="3578400" cy="1455840"/>
          </a:xfrm>
          <a:custGeom>
            <a:avLst/>
            <a:gdLst>
              <a:gd name="textAreaLeft" fmla="*/ 0 w 3578400"/>
              <a:gd name="textAreaRight" fmla="*/ 3578760 w 357840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89" h="1085">
                <a:moveTo>
                  <a:pt x="2289" y="0"/>
                </a:moveTo>
                <a:cubicBezTo>
                  <a:pt x="2273" y="148"/>
                  <a:pt x="2239" y="314"/>
                  <a:pt x="2147" y="434"/>
                </a:cubicBezTo>
                <a:cubicBezTo>
                  <a:pt x="2134" y="475"/>
                  <a:pt x="2149" y="439"/>
                  <a:pt x="2117" y="479"/>
                </a:cubicBezTo>
                <a:cubicBezTo>
                  <a:pt x="2081" y="525"/>
                  <a:pt x="2047" y="559"/>
                  <a:pt x="2005" y="598"/>
                </a:cubicBezTo>
                <a:cubicBezTo>
                  <a:pt x="1971" y="629"/>
                  <a:pt x="1941" y="663"/>
                  <a:pt x="1908" y="696"/>
                </a:cubicBezTo>
                <a:cubicBezTo>
                  <a:pt x="1900" y="704"/>
                  <a:pt x="1888" y="705"/>
                  <a:pt x="1878" y="711"/>
                </a:cubicBezTo>
                <a:cubicBezTo>
                  <a:pt x="1849" y="729"/>
                  <a:pt x="1824" y="752"/>
                  <a:pt x="1796" y="771"/>
                </a:cubicBezTo>
                <a:cubicBezTo>
                  <a:pt x="1748" y="803"/>
                  <a:pt x="1683" y="819"/>
                  <a:pt x="1638" y="853"/>
                </a:cubicBezTo>
                <a:cubicBezTo>
                  <a:pt x="1593" y="887"/>
                  <a:pt x="1540" y="912"/>
                  <a:pt x="1489" y="935"/>
                </a:cubicBezTo>
                <a:cubicBezTo>
                  <a:pt x="1433" y="960"/>
                  <a:pt x="1386" y="992"/>
                  <a:pt x="1324" y="1002"/>
                </a:cubicBezTo>
                <a:cubicBezTo>
                  <a:pt x="1293" y="1023"/>
                  <a:pt x="1263" y="1024"/>
                  <a:pt x="1227" y="1032"/>
                </a:cubicBezTo>
                <a:cubicBezTo>
                  <a:pt x="1105" y="1058"/>
                  <a:pt x="985" y="1074"/>
                  <a:pt x="860" y="1085"/>
                </a:cubicBezTo>
                <a:cubicBezTo>
                  <a:pt x="765" y="1080"/>
                  <a:pt x="701" y="1075"/>
                  <a:pt x="614" y="1055"/>
                </a:cubicBezTo>
                <a:cubicBezTo>
                  <a:pt x="554" y="1025"/>
                  <a:pt x="485" y="1034"/>
                  <a:pt x="419" y="1025"/>
                </a:cubicBezTo>
                <a:cubicBezTo>
                  <a:pt x="363" y="1010"/>
                  <a:pt x="323" y="971"/>
                  <a:pt x="270" y="950"/>
                </a:cubicBezTo>
                <a:cubicBezTo>
                  <a:pt x="240" y="938"/>
                  <a:pt x="203" y="938"/>
                  <a:pt x="172" y="928"/>
                </a:cubicBezTo>
                <a:cubicBezTo>
                  <a:pt x="122" y="875"/>
                  <a:pt x="35" y="851"/>
                  <a:pt x="0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033"/>
          <p:cNvSpPr/>
          <p:nvPr/>
        </p:nvSpPr>
        <p:spPr>
          <a:xfrm>
            <a:off x="2968560" y="1971720"/>
            <a:ext cx="3800520" cy="2232000"/>
          </a:xfrm>
          <a:custGeom>
            <a:avLst/>
            <a:gdLst>
              <a:gd name="textAreaLeft" fmla="*/ 0 w 3800520"/>
              <a:gd name="textAreaRight" fmla="*/ 3800880 w 38005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394" h="1406">
                <a:moveTo>
                  <a:pt x="0" y="1406"/>
                </a:moveTo>
                <a:cubicBezTo>
                  <a:pt x="10" y="1296"/>
                  <a:pt x="32" y="1183"/>
                  <a:pt x="82" y="1084"/>
                </a:cubicBezTo>
                <a:cubicBezTo>
                  <a:pt x="95" y="1026"/>
                  <a:pt x="118" y="973"/>
                  <a:pt x="142" y="920"/>
                </a:cubicBezTo>
                <a:cubicBezTo>
                  <a:pt x="158" y="884"/>
                  <a:pt x="166" y="844"/>
                  <a:pt x="180" y="808"/>
                </a:cubicBezTo>
                <a:cubicBezTo>
                  <a:pt x="197" y="765"/>
                  <a:pt x="227" y="710"/>
                  <a:pt x="254" y="673"/>
                </a:cubicBezTo>
                <a:cubicBezTo>
                  <a:pt x="286" y="627"/>
                  <a:pt x="326" y="584"/>
                  <a:pt x="359" y="538"/>
                </a:cubicBezTo>
                <a:cubicBezTo>
                  <a:pt x="412" y="464"/>
                  <a:pt x="454" y="386"/>
                  <a:pt x="494" y="306"/>
                </a:cubicBezTo>
                <a:cubicBezTo>
                  <a:pt x="519" y="257"/>
                  <a:pt x="553" y="214"/>
                  <a:pt x="576" y="164"/>
                </a:cubicBezTo>
                <a:cubicBezTo>
                  <a:pt x="585" y="144"/>
                  <a:pt x="587" y="116"/>
                  <a:pt x="606" y="104"/>
                </a:cubicBezTo>
                <a:cubicBezTo>
                  <a:pt x="638" y="84"/>
                  <a:pt x="621" y="91"/>
                  <a:pt x="666" y="82"/>
                </a:cubicBezTo>
                <a:cubicBezTo>
                  <a:pt x="693" y="77"/>
                  <a:pt x="748" y="67"/>
                  <a:pt x="748" y="67"/>
                </a:cubicBezTo>
                <a:cubicBezTo>
                  <a:pt x="868" y="20"/>
                  <a:pt x="1010" y="37"/>
                  <a:pt x="1137" y="30"/>
                </a:cubicBezTo>
                <a:cubicBezTo>
                  <a:pt x="1248" y="0"/>
                  <a:pt x="1358" y="19"/>
                  <a:pt x="1474" y="22"/>
                </a:cubicBezTo>
                <a:cubicBezTo>
                  <a:pt x="1575" y="38"/>
                  <a:pt x="1669" y="67"/>
                  <a:pt x="1766" y="97"/>
                </a:cubicBezTo>
                <a:cubicBezTo>
                  <a:pt x="1801" y="121"/>
                  <a:pt x="1840" y="138"/>
                  <a:pt x="1878" y="157"/>
                </a:cubicBezTo>
                <a:cubicBezTo>
                  <a:pt x="1933" y="185"/>
                  <a:pt x="1983" y="220"/>
                  <a:pt x="2035" y="254"/>
                </a:cubicBezTo>
                <a:cubicBezTo>
                  <a:pt x="2078" y="282"/>
                  <a:pt x="2108" y="343"/>
                  <a:pt x="2155" y="359"/>
                </a:cubicBezTo>
                <a:cubicBezTo>
                  <a:pt x="2184" y="399"/>
                  <a:pt x="2215" y="439"/>
                  <a:pt x="2244" y="479"/>
                </a:cubicBezTo>
                <a:cubicBezTo>
                  <a:pt x="2287" y="538"/>
                  <a:pt x="2248" y="459"/>
                  <a:pt x="2289" y="531"/>
                </a:cubicBezTo>
                <a:cubicBezTo>
                  <a:pt x="2319" y="582"/>
                  <a:pt x="2340" y="634"/>
                  <a:pt x="2364" y="688"/>
                </a:cubicBezTo>
                <a:cubicBezTo>
                  <a:pt x="2376" y="714"/>
                  <a:pt x="2394" y="740"/>
                  <a:pt x="2394" y="7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1034"/>
          <p:cNvSpPr/>
          <p:nvPr/>
        </p:nvSpPr>
        <p:spPr>
          <a:xfrm>
            <a:off x="4227480" y="4221000"/>
            <a:ext cx="2432160" cy="1170000"/>
          </a:xfrm>
          <a:custGeom>
            <a:avLst/>
            <a:gdLst>
              <a:gd name="textAreaLeft" fmla="*/ 0 w 2432160"/>
              <a:gd name="textAreaRight" fmla="*/ 2432160 w 2432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1608" h="860">
                <a:moveTo>
                  <a:pt x="1608" y="0"/>
                </a:moveTo>
                <a:cubicBezTo>
                  <a:pt x="1595" y="97"/>
                  <a:pt x="1534" y="142"/>
                  <a:pt x="1481" y="217"/>
                </a:cubicBezTo>
                <a:cubicBezTo>
                  <a:pt x="1461" y="245"/>
                  <a:pt x="1439" y="270"/>
                  <a:pt x="1421" y="299"/>
                </a:cubicBezTo>
                <a:cubicBezTo>
                  <a:pt x="1400" y="334"/>
                  <a:pt x="1388" y="387"/>
                  <a:pt x="1362" y="419"/>
                </a:cubicBezTo>
                <a:cubicBezTo>
                  <a:pt x="1315" y="477"/>
                  <a:pt x="1257" y="518"/>
                  <a:pt x="1197" y="561"/>
                </a:cubicBezTo>
                <a:cubicBezTo>
                  <a:pt x="1149" y="595"/>
                  <a:pt x="1105" y="640"/>
                  <a:pt x="1047" y="658"/>
                </a:cubicBezTo>
                <a:cubicBezTo>
                  <a:pt x="1020" y="676"/>
                  <a:pt x="992" y="693"/>
                  <a:pt x="965" y="711"/>
                </a:cubicBezTo>
                <a:cubicBezTo>
                  <a:pt x="941" y="727"/>
                  <a:pt x="909" y="727"/>
                  <a:pt x="883" y="740"/>
                </a:cubicBezTo>
                <a:cubicBezTo>
                  <a:pt x="816" y="773"/>
                  <a:pt x="875" y="757"/>
                  <a:pt x="808" y="770"/>
                </a:cubicBezTo>
                <a:cubicBezTo>
                  <a:pt x="687" y="819"/>
                  <a:pt x="570" y="843"/>
                  <a:pt x="441" y="860"/>
                </a:cubicBezTo>
                <a:cubicBezTo>
                  <a:pt x="369" y="858"/>
                  <a:pt x="296" y="859"/>
                  <a:pt x="224" y="853"/>
                </a:cubicBezTo>
                <a:cubicBezTo>
                  <a:pt x="193" y="850"/>
                  <a:pt x="158" y="817"/>
                  <a:pt x="127" y="808"/>
                </a:cubicBezTo>
                <a:cubicBezTo>
                  <a:pt x="92" y="772"/>
                  <a:pt x="37" y="766"/>
                  <a:pt x="0" y="7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1035"/>
          <p:cNvSpPr/>
          <p:nvPr/>
        </p:nvSpPr>
        <p:spPr>
          <a:xfrm>
            <a:off x="3490920" y="2435400"/>
            <a:ext cx="2351160" cy="181584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1481" h="1144">
                <a:moveTo>
                  <a:pt x="0" y="1144"/>
                </a:moveTo>
                <a:cubicBezTo>
                  <a:pt x="7" y="920"/>
                  <a:pt x="5" y="846"/>
                  <a:pt x="68" y="658"/>
                </a:cubicBezTo>
                <a:cubicBezTo>
                  <a:pt x="82" y="616"/>
                  <a:pt x="85" y="578"/>
                  <a:pt x="105" y="538"/>
                </a:cubicBezTo>
                <a:cubicBezTo>
                  <a:pt x="119" y="474"/>
                  <a:pt x="141" y="409"/>
                  <a:pt x="172" y="351"/>
                </a:cubicBezTo>
                <a:cubicBezTo>
                  <a:pt x="181" y="335"/>
                  <a:pt x="196" y="323"/>
                  <a:pt x="202" y="306"/>
                </a:cubicBezTo>
                <a:cubicBezTo>
                  <a:pt x="231" y="227"/>
                  <a:pt x="288" y="124"/>
                  <a:pt x="374" y="97"/>
                </a:cubicBezTo>
                <a:cubicBezTo>
                  <a:pt x="397" y="61"/>
                  <a:pt x="430" y="60"/>
                  <a:pt x="472" y="44"/>
                </a:cubicBezTo>
                <a:cubicBezTo>
                  <a:pt x="537" y="19"/>
                  <a:pt x="587" y="7"/>
                  <a:pt x="659" y="0"/>
                </a:cubicBezTo>
                <a:cubicBezTo>
                  <a:pt x="751" y="2"/>
                  <a:pt x="843" y="3"/>
                  <a:pt x="935" y="7"/>
                </a:cubicBezTo>
                <a:cubicBezTo>
                  <a:pt x="972" y="9"/>
                  <a:pt x="1006" y="25"/>
                  <a:pt x="1040" y="37"/>
                </a:cubicBezTo>
                <a:cubicBezTo>
                  <a:pt x="1120" y="66"/>
                  <a:pt x="1216" y="96"/>
                  <a:pt x="1279" y="157"/>
                </a:cubicBezTo>
                <a:cubicBezTo>
                  <a:pt x="1305" y="183"/>
                  <a:pt x="1336" y="205"/>
                  <a:pt x="1362" y="231"/>
                </a:cubicBezTo>
                <a:cubicBezTo>
                  <a:pt x="1398" y="267"/>
                  <a:pt x="1417" y="315"/>
                  <a:pt x="1459" y="344"/>
                </a:cubicBezTo>
                <a:cubicBezTo>
                  <a:pt x="1461" y="351"/>
                  <a:pt x="1463" y="359"/>
                  <a:pt x="1466" y="366"/>
                </a:cubicBezTo>
                <a:cubicBezTo>
                  <a:pt x="1470" y="374"/>
                  <a:pt x="1481" y="388"/>
                  <a:pt x="1481" y="3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036"/>
          <p:cNvSpPr/>
          <p:nvPr/>
        </p:nvSpPr>
        <p:spPr>
          <a:xfrm>
            <a:off x="1674720" y="3040200"/>
            <a:ext cx="324000" cy="1033200"/>
          </a:xfrm>
          <a:custGeom>
            <a:avLst/>
            <a:gdLst>
              <a:gd name="textAreaLeft" fmla="*/ 0 w 324000"/>
              <a:gd name="textAreaRight" fmla="*/ 324360 w 3240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04" h="651">
                <a:moveTo>
                  <a:pt x="0" y="651"/>
                </a:moveTo>
                <a:cubicBezTo>
                  <a:pt x="7" y="560"/>
                  <a:pt x="3" y="447"/>
                  <a:pt x="45" y="367"/>
                </a:cubicBezTo>
                <a:cubicBezTo>
                  <a:pt x="59" y="290"/>
                  <a:pt x="41" y="370"/>
                  <a:pt x="75" y="284"/>
                </a:cubicBezTo>
                <a:cubicBezTo>
                  <a:pt x="97" y="230"/>
                  <a:pt x="105" y="172"/>
                  <a:pt x="134" y="120"/>
                </a:cubicBezTo>
                <a:cubicBezTo>
                  <a:pt x="143" y="104"/>
                  <a:pt x="154" y="90"/>
                  <a:pt x="164" y="75"/>
                </a:cubicBezTo>
                <a:cubicBezTo>
                  <a:pt x="173" y="62"/>
                  <a:pt x="168" y="41"/>
                  <a:pt x="179" y="30"/>
                </a:cubicBezTo>
                <a:cubicBezTo>
                  <a:pt x="204" y="5"/>
                  <a:pt x="202" y="18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038"/>
          <p:cNvSpPr/>
          <p:nvPr/>
        </p:nvSpPr>
        <p:spPr>
          <a:xfrm flipH="1">
            <a:off x="5867280" y="5334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39"/>
          <p:cNvSpPr/>
          <p:nvPr/>
        </p:nvSpPr>
        <p:spPr>
          <a:xfrm flipH="1">
            <a:off x="5486040" y="4648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40"/>
          <p:cNvSpPr/>
          <p:nvPr/>
        </p:nvSpPr>
        <p:spPr>
          <a:xfrm flipV="1">
            <a:off x="3276720" y="24382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41"/>
          <p:cNvSpPr/>
          <p:nvPr/>
        </p:nvSpPr>
        <p:spPr>
          <a:xfrm flipV="1">
            <a:off x="1600200" y="4191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42"/>
          <p:cNvSpPr/>
          <p:nvPr/>
        </p:nvSpPr>
        <p:spPr>
          <a:xfrm>
            <a:off x="5867280" y="32004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043"/>
          <p:cNvSpPr/>
          <p:nvPr/>
        </p:nvSpPr>
        <p:spPr>
          <a:xfrm>
            <a:off x="5486400" y="1752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44"/>
          <p:cNvSpPr/>
          <p:nvPr/>
        </p:nvSpPr>
        <p:spPr>
          <a:xfrm>
            <a:off x="586728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045"/>
          <p:cNvSpPr/>
          <p:nvPr/>
        </p:nvSpPr>
        <p:spPr>
          <a:xfrm>
            <a:off x="4343400" y="1219320"/>
            <a:ext cx="60948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047"/>
          <p:cNvSpPr/>
          <p:nvPr/>
        </p:nvSpPr>
        <p:spPr>
          <a:xfrm>
            <a:off x="6923160" y="1436760"/>
            <a:ext cx="145800" cy="1473120"/>
          </a:xfrm>
          <a:custGeom>
            <a:avLst/>
            <a:gdLst>
              <a:gd name="textAreaLeft" fmla="*/ 0 w 145800"/>
              <a:gd name="textAreaRight" fmla="*/ 145800 w 14580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92" h="928">
                <a:moveTo>
                  <a:pt x="0" y="0"/>
                </a:moveTo>
                <a:cubicBezTo>
                  <a:pt x="7" y="26"/>
                  <a:pt x="14" y="50"/>
                  <a:pt x="23" y="75"/>
                </a:cubicBezTo>
                <a:cubicBezTo>
                  <a:pt x="29" y="119"/>
                  <a:pt x="38" y="160"/>
                  <a:pt x="53" y="202"/>
                </a:cubicBezTo>
                <a:cubicBezTo>
                  <a:pt x="61" y="282"/>
                  <a:pt x="89" y="361"/>
                  <a:pt x="90" y="441"/>
                </a:cubicBezTo>
                <a:cubicBezTo>
                  <a:pt x="92" y="603"/>
                  <a:pt x="90" y="766"/>
                  <a:pt x="90" y="9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48"/>
          <p:cNvSpPr/>
          <p:nvPr/>
        </p:nvSpPr>
        <p:spPr>
          <a:xfrm>
            <a:off x="7162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49"/>
          <p:cNvSpPr/>
          <p:nvPr/>
        </p:nvSpPr>
        <p:spPr>
          <a:xfrm>
            <a:off x="7155000" y="173844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newc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59"/>
          <p:cNvSpPr/>
          <p:nvPr/>
        </p:nvSpPr>
        <p:spPr>
          <a:xfrm>
            <a:off x="742320" y="5756400"/>
            <a:ext cx="68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sentations = normative constraint = arte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25"/>
          <p:cNvSpPr/>
          <p:nvPr/>
        </p:nvSpPr>
        <p:spPr>
          <a:xfrm>
            <a:off x="6521400" y="50133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v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C53A-A7C8-43EC-843B-EDB894FFD2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A9BD-8DAB-45B9-89E2-1F905D6D52E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B299-86BE-444C-8AA5-4FFA494CD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68360" y="765000"/>
            <a:ext cx="835164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ther takes on ‘influenc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: moving in tanks, fortification to keep enemie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d power: armies, police and threat of vio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ft power: cultural influence; attractive ‘way of life’; good mus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generalised communication media (GCM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money: a code that substitutes for ambiguous language and thu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es the probability of communication between A and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ly prestige, power, law (see Parsons, Luhmann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Trust: general condition that reduces transaction costs; a kind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dit that absorbs losses, disappoin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ocial Psychology: we will now s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A55-7225-4BC5-A457-D8E8BFAB3B7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4D8-B5D9-4B81-B975-284E84DA50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55640" y="1413000"/>
          <a:ext cx="7777080" cy="4206600"/>
        </p:xfrm>
        <a:graphic>
          <a:graphicData uri="http://schemas.openxmlformats.org/drawingml/2006/table">
            <a:tbl>
              <a:tblPr/>
              <a:tblGrid>
                <a:gridCol w="2693880"/>
                <a:gridCol w="508320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alities of Rational Infl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is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 of reference – comprom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mil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ity influence – conformit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ity, Prestige – obed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, legal norm - compli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mmo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ity Influence – con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F34-9311-44B0-9B5C-028DF2585B7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539640" y="476280"/>
            <a:ext cx="8143920" cy="567000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Times New Roman"/>
              </a:rPr>
              <a:t>Extension 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ass Medi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int, broadcasting,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4DEF-A689-4D1A-AADE-860285116C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B1A-94D5-47AF-AC66-CF7B443C327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755640" y="476280"/>
            <a:ext cx="8064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Limitation of experimental paradig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cial influence experiments ar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‘laboratory drama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ce-to-face situations arranged by an experiment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ited ecological validity, because modern social influence is heavily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ss mediated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rony: experiments are banned under ‘ethics code’ but TV makes use of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heir dramatic qualities (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ramatic effect, not causal claim is at stak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uality of face-to-face and formal commun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mall groups experiments = face-to-face; co-presence of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What happens if mass mediation comes into pl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wo different processes; different degrees of freedom;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n we analogize? Do we have to consider emergent proper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cial influence is exerted via informal but also via formalized mass media (i.e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fessional preparation of meaning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CC36-1AF5-4337-9064-07872AD844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4C8-FECA-44E9-B8FA-11AAA0993C2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SE MBauer PS4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C1B-DFF7-436F-83AF-22209564F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1027"/>
          <p:cNvGraphicFramePr/>
          <p:nvPr/>
        </p:nvGraphicFramePr>
        <p:xfrm>
          <a:off x="1452600" y="1371600"/>
          <a:ext cx="6777000" cy="51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371600"/>
                    <a:ext cx="67770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1028"/>
          <p:cNvSpPr/>
          <p:nvPr/>
        </p:nvSpPr>
        <p:spPr>
          <a:xfrm>
            <a:off x="1025640" y="60948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ormal and Formalise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1A3-6826-422F-AED9-AE5D65612E5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752480" y="6324480"/>
            <a:ext cx="20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urce: C Tennant, LSE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635040" y="336600"/>
          <a:ext cx="7873920" cy="61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36600"/>
                    <a:ext cx="7873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2F2-FD24-47C6-994C-41479CDEB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27A-955D-4C32-A85C-36E47854629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2"/>
          <p:cNvGraphicFramePr/>
          <p:nvPr/>
        </p:nvGraphicFramePr>
        <p:xfrm>
          <a:off x="635040" y="447840"/>
          <a:ext cx="7873920" cy="59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47840"/>
                    <a:ext cx="787392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7075-AB66-4330-BB78-E384413CF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4B0-1BE8-4734-896A-311010AEC7D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2556000" y="1844640"/>
            <a:ext cx="4464000" cy="12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media on topic/actor 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ention, positioning and fr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2411280" y="4076640"/>
            <a:ext cx="4176720" cy="1440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rsations on X: salience and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5"/>
          <p:cNvSpPr/>
          <p:nvPr/>
        </p:nvSpPr>
        <p:spPr>
          <a:xfrm>
            <a:off x="6837480" y="2448000"/>
            <a:ext cx="1211040" cy="233496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2334960"/>
              <a:gd name="textAreaBottom" fmla="*/ 2335320 h 2334960"/>
            </a:gdLst>
            <a:ahLst/>
            <a:rect l="textAreaLeft" t="textAreaTop" r="textAreaRight" b="textAreaBottom"/>
            <a:pathLst>
              <a:path w="1212167" h="2335237">
                <a:moveTo>
                  <a:pt x="436099" y="0"/>
                </a:moveTo>
                <a:cubicBezTo>
                  <a:pt x="824133" y="438443"/>
                  <a:pt x="1212167" y="876887"/>
                  <a:pt x="1139484" y="1266093"/>
                </a:cubicBezTo>
                <a:cubicBezTo>
                  <a:pt x="1066801" y="1655299"/>
                  <a:pt x="533400" y="1995268"/>
                  <a:pt x="0" y="2335237"/>
                </a:cubicBezTo>
              </a:path>
            </a:pathLst>
          </a:custGeom>
          <a:solidFill>
            <a:srgbClr val="ffffff"/>
          </a:solidFill>
          <a:ln w="69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6"/>
          <p:cNvSpPr/>
          <p:nvPr/>
        </p:nvSpPr>
        <p:spPr>
          <a:xfrm>
            <a:off x="1155600" y="2265480"/>
            <a:ext cx="1184400" cy="217152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2171520"/>
              <a:gd name="textAreaBottom" fmla="*/ 2171880 h 2171520"/>
            </a:gdLst>
            <a:ahLst/>
            <a:rect l="textAreaLeft" t="textAreaTop" r="textAreaRight" b="textAreaBottom"/>
            <a:pathLst>
              <a:path w="1109003" h="2883877">
                <a:moveTo>
                  <a:pt x="1038665" y="2883877"/>
                </a:moveTo>
                <a:cubicBezTo>
                  <a:pt x="519332" y="2223868"/>
                  <a:pt x="0" y="1563859"/>
                  <a:pt x="11723" y="1083213"/>
                </a:cubicBezTo>
                <a:cubicBezTo>
                  <a:pt x="23446" y="602567"/>
                  <a:pt x="566224" y="301283"/>
                  <a:pt x="1109003" y="0"/>
                </a:cubicBezTo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552240" y="62064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loring the ‘resonance’ between two sp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7961040" y="2492280"/>
            <a:ext cx="10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474480" y="42210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11"/>
          <p:cNvSpPr/>
          <p:nvPr/>
        </p:nvSpPr>
        <p:spPr>
          <a:xfrm>
            <a:off x="7308720" y="476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3"/>
          <p:cNvSpPr/>
          <p:nvPr/>
        </p:nvSpPr>
        <p:spPr>
          <a:xfrm>
            <a:off x="7308720" y="1628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4"/>
          <p:cNvSpPr/>
          <p:nvPr/>
        </p:nvSpPr>
        <p:spPr>
          <a:xfrm>
            <a:off x="7380360" y="527040"/>
            <a:ext cx="1512720" cy="957240"/>
          </a:xfrm>
          <a:custGeom>
            <a:avLst/>
            <a:gdLst/>
            <a:ahLst/>
            <a:rect l="l" t="t" r="r" b="b"/>
            <a:pathLst>
              <a:path w="1041009" h="837028">
                <a:moveTo>
                  <a:pt x="0" y="837028"/>
                </a:moveTo>
                <a:cubicBezTo>
                  <a:pt x="177018" y="807720"/>
                  <a:pt x="354037" y="778412"/>
                  <a:pt x="450166" y="640080"/>
                </a:cubicBezTo>
                <a:cubicBezTo>
                  <a:pt x="546295" y="501748"/>
                  <a:pt x="534572" y="0"/>
                  <a:pt x="576775" y="7034"/>
                </a:cubicBezTo>
                <a:cubicBezTo>
                  <a:pt x="618978" y="14068"/>
                  <a:pt x="626012" y="560364"/>
                  <a:pt x="703384" y="682284"/>
                </a:cubicBezTo>
                <a:cubicBezTo>
                  <a:pt x="780756" y="804204"/>
                  <a:pt x="910882" y="771379"/>
                  <a:pt x="1041009" y="738554"/>
                </a:cubicBezTo>
              </a:path>
            </a:pathLst>
          </a:cu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16"/>
          <p:cNvSpPr/>
          <p:nvPr/>
        </p:nvSpPr>
        <p:spPr>
          <a:xfrm>
            <a:off x="817236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8"/>
          <p:cNvSpPr/>
          <p:nvPr/>
        </p:nvSpPr>
        <p:spPr>
          <a:xfrm>
            <a:off x="6882480" y="1890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738036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Match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DEB-B539-4C10-9937-7154961F0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7"/>
          <p:cNvSpPr/>
          <p:nvPr/>
        </p:nvSpPr>
        <p:spPr>
          <a:xfrm>
            <a:off x="2934000" y="35002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merging norms of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93A0-B5A5-4311-86FF-894A550E6FA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1302480" y="19368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diation models: form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657600" y="1371600"/>
            <a:ext cx="1600200" cy="6094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,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4"/>
          <p:cNvSpPr/>
          <p:nvPr/>
        </p:nvSpPr>
        <p:spPr>
          <a:xfrm>
            <a:off x="2362320" y="1676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5334120" y="1676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16560" y="141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6374880" y="155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733920" y="2666880"/>
            <a:ext cx="1295280" cy="5335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,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23623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9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5937480" y="21747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5930640" y="247968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5930640" y="27846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6006960" y="32418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 flipV="1">
            <a:off x="5029200" y="24379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6"/>
          <p:cNvSpPr/>
          <p:nvPr/>
        </p:nvSpPr>
        <p:spPr>
          <a:xfrm flipV="1">
            <a:off x="5029200" y="27428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50292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5029200" y="32004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165080" y="2562120"/>
            <a:ext cx="10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utonom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145280" y="1459080"/>
            <a:ext cx="142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annon-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IFI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268200" y="3835440"/>
            <a:ext cx="280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worl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fferenti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ents and re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edia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3345480" y="377496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2964240" y="514656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4"/>
          <p:cNvSpPr/>
          <p:nvPr/>
        </p:nvSpPr>
        <p:spPr>
          <a:xfrm>
            <a:off x="5571000" y="47242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5"/>
          <p:cNvSpPr/>
          <p:nvPr/>
        </p:nvSpPr>
        <p:spPr>
          <a:xfrm>
            <a:off x="4176720" y="3546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4031280" y="400356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3642840" y="499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’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3421440" y="55278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6021000" y="4191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6028200" y="4952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1"/>
          <p:cNvSpPr/>
          <p:nvPr/>
        </p:nvSpPr>
        <p:spPr>
          <a:xfrm>
            <a:off x="3733920" y="4038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2"/>
          <p:cNvSpPr/>
          <p:nvPr/>
        </p:nvSpPr>
        <p:spPr>
          <a:xfrm>
            <a:off x="327672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33"/>
          <p:cNvSpPr/>
          <p:nvPr/>
        </p:nvSpPr>
        <p:spPr>
          <a:xfrm>
            <a:off x="5867280" y="5105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4"/>
          <p:cNvSpPr/>
          <p:nvPr/>
        </p:nvSpPr>
        <p:spPr>
          <a:xfrm flipV="1">
            <a:off x="3733920" y="3809880"/>
            <a:ext cx="457200" cy="152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35"/>
          <p:cNvSpPr/>
          <p:nvPr/>
        </p:nvSpPr>
        <p:spPr>
          <a:xfrm flipV="1">
            <a:off x="3352680" y="5257800"/>
            <a:ext cx="30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36"/>
          <p:cNvSpPr/>
          <p:nvPr/>
        </p:nvSpPr>
        <p:spPr>
          <a:xfrm flipV="1">
            <a:off x="5867280" y="4571640"/>
            <a:ext cx="304920" cy="152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0"/>
          <p:cNvSpPr/>
          <p:nvPr/>
        </p:nvSpPr>
        <p:spPr>
          <a:xfrm>
            <a:off x="3795840" y="3516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1"/>
          <p:cNvSpPr/>
          <p:nvPr/>
        </p:nvSpPr>
        <p:spPr>
          <a:xfrm>
            <a:off x="5793120" y="4419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42"/>
          <p:cNvSpPr/>
          <p:nvPr/>
        </p:nvSpPr>
        <p:spPr>
          <a:xfrm>
            <a:off x="3262680" y="4964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7010280" y="4024440"/>
            <a:ext cx="177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wo-step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cial Repres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0"/>
          <p:cNvSpPr/>
          <p:nvPr/>
        </p:nvSpPr>
        <p:spPr>
          <a:xfrm>
            <a:off x="6858000" y="388620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51"/>
          <p:cNvSpPr/>
          <p:nvPr/>
        </p:nvSpPr>
        <p:spPr>
          <a:xfrm>
            <a:off x="3276720" y="3505320"/>
            <a:ext cx="16761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52"/>
          <p:cNvSpPr/>
          <p:nvPr/>
        </p:nvSpPr>
        <p:spPr>
          <a:xfrm>
            <a:off x="5562720" y="4114800"/>
            <a:ext cx="11430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95480" y="4800600"/>
            <a:ext cx="152424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4724280" y="4343400"/>
            <a:ext cx="76212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55"/>
          <p:cNvSpPr/>
          <p:nvPr/>
        </p:nvSpPr>
        <p:spPr>
          <a:xfrm flipH="1">
            <a:off x="4572000" y="5105520"/>
            <a:ext cx="990720" cy="228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56"/>
          <p:cNvSpPr/>
          <p:nvPr/>
        </p:nvSpPr>
        <p:spPr>
          <a:xfrm flipH="1">
            <a:off x="3429000" y="449568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57"/>
          <p:cNvSpPr/>
          <p:nvPr/>
        </p:nvSpPr>
        <p:spPr>
          <a:xfrm>
            <a:off x="4038480" y="76212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59"/>
          <p:cNvSpPr/>
          <p:nvPr/>
        </p:nvSpPr>
        <p:spPr>
          <a:xfrm>
            <a:off x="4495680" y="1219320"/>
            <a:ext cx="0" cy="228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82E9-D95F-4038-9F2D-82AE27723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1F8B-3D25-405E-A4CC-7EF7F2F637E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"/>
          <p:cNvSpPr/>
          <p:nvPr/>
        </p:nvSpPr>
        <p:spPr>
          <a:xfrm>
            <a:off x="4071960" y="1143000"/>
            <a:ext cx="28584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Straight Arrow Connector 5"/>
          <p:cNvCxnSpPr>
            <a:stCxn id="462" idx="3"/>
          </p:cNvCxnSpPr>
          <p:nvPr/>
        </p:nvCxnSpPr>
        <p:spPr>
          <a:xfrm flipH="1">
            <a:off x="2857320" y="1325520"/>
            <a:ext cx="1256400" cy="23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Straight Arrow Connector 7"/>
          <p:cNvCxnSpPr/>
          <p:nvPr/>
        </p:nvCxnSpPr>
        <p:spPr>
          <a:xfrm>
            <a:off x="4286160" y="1499760"/>
            <a:ext cx="1215360" cy="242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465" name="Straight Arrow Connector 9"/>
          <p:cNvCxnSpPr/>
          <p:nvPr/>
        </p:nvCxnSpPr>
        <p:spPr>
          <a:xfrm>
            <a:off x="2214720" y="4500720"/>
            <a:ext cx="3715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6" name="TextBox 10"/>
          <p:cNvSpPr/>
          <p:nvPr/>
        </p:nvSpPr>
        <p:spPr>
          <a:xfrm>
            <a:off x="1347840" y="49291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k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5290920" y="4929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12"/>
          <p:cNvSpPr/>
          <p:nvPr/>
        </p:nvSpPr>
        <p:spPr>
          <a:xfrm>
            <a:off x="808200" y="64296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historical pendulum of ‘belief’ in power of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13"/>
          <p:cNvSpPr/>
          <p:nvPr/>
        </p:nvSpPr>
        <p:spPr>
          <a:xfrm>
            <a:off x="2643120" y="3429000"/>
            <a:ext cx="42876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15"/>
          <p:cNvSpPr/>
          <p:nvPr/>
        </p:nvSpPr>
        <p:spPr>
          <a:xfrm>
            <a:off x="3206880" y="3322800"/>
            <a:ext cx="2041560" cy="512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041302" h="513008">
                <a:moveTo>
                  <a:pt x="0" y="0"/>
                </a:moveTo>
                <a:cubicBezTo>
                  <a:pt x="313386" y="232893"/>
                  <a:pt x="626772" y="465786"/>
                  <a:pt x="940158" y="489397"/>
                </a:cubicBezTo>
                <a:cubicBezTo>
                  <a:pt x="1253544" y="513008"/>
                  <a:pt x="1719330" y="210355"/>
                  <a:pt x="1880316" y="141668"/>
                </a:cubicBezTo>
                <a:cubicBezTo>
                  <a:pt x="2041302" y="72981"/>
                  <a:pt x="1906074" y="79420"/>
                  <a:pt x="1906074" y="77274"/>
                </a:cubicBezTo>
                <a:cubicBezTo>
                  <a:pt x="1906074" y="75128"/>
                  <a:pt x="1893195" y="101958"/>
                  <a:pt x="1880316" y="128789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ight Arrow 16"/>
          <p:cNvSpPr/>
          <p:nvPr/>
        </p:nvSpPr>
        <p:spPr>
          <a:xfrm>
            <a:off x="5072040" y="3429000"/>
            <a:ext cx="46080" cy="7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Straight Arrow Connector 18"/>
          <p:cNvCxnSpPr>
            <a:stCxn id="470" idx="2"/>
            <a:endCxn id="471" idx="0"/>
          </p:cNvCxnSpPr>
          <p:nvPr/>
        </p:nvCxnSpPr>
        <p:spPr>
          <a:xfrm>
            <a:off x="5087880" y="3463920"/>
            <a:ext cx="30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3" name="Straight Arrow Connector 20"/>
          <p:cNvCxnSpPr/>
          <p:nvPr/>
        </p:nvCxnSpPr>
        <p:spPr>
          <a:xfrm>
            <a:off x="3213720" y="3285720"/>
            <a:ext cx="2149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474" name="TextBox 22"/>
          <p:cNvSpPr/>
          <p:nvPr/>
        </p:nvSpPr>
        <p:spPr>
          <a:xfrm>
            <a:off x="5367600" y="54291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30s, 197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23"/>
          <p:cNvSpPr/>
          <p:nvPr/>
        </p:nvSpPr>
        <p:spPr>
          <a:xfrm>
            <a:off x="1366920" y="54291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50s, 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24"/>
          <p:cNvSpPr/>
          <p:nvPr/>
        </p:nvSpPr>
        <p:spPr>
          <a:xfrm>
            <a:off x="3929040" y="507204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E1C6-1F4F-4378-BABD-49DC90AEE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5BF-F1F0-4545-B513-3ADBCD0D56B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684360" y="692280"/>
            <a:ext cx="820872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ss media effect hypothe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ys of operationalising ideas of ‘resonanc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ernatives to ‘magic bullet’ ‘epidermic needle’ ‘hifi model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da setting (weak): (McCoombs, Rogers et 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enda setting (strong): (Mazur  et al.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ntity of coverage of fluoridation, vaccination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ming of issues ‘as X’ (Gamson et al.): images, definition, culprits,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ltivation under high exposure (Gerbner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 world’; coding of Red and Green bio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stency-or-experts hypotheses (Rothman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credibility requires expert agreement: see ‘global warming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p hypotheses for knowledge, motivation etc (Tichenor et a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w technology faster prevalent among the educ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iral of silence (Noelle-Neuma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sent shuts up: Anti-GM crop voices in the US; anti-war v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C51-A6E6-4DF0-8EFE-5EFFD52A24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4264-CC93-4F52-929A-1B22896D039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2"/>
          <p:cNvSpPr/>
          <p:nvPr/>
        </p:nvSpPr>
        <p:spPr>
          <a:xfrm>
            <a:off x="313200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F417-F9BB-4E76-8FC2-93F5A1E986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26920" y="3500280"/>
            <a:ext cx="7921800" cy="86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rowds, contagion, persuas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ormalising, compliance, obedience, 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042920" y="1989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behavi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219640" y="54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het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427640" y="16286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059280" y="1628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2050920" y="5013360"/>
            <a:ext cx="561672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rms, attitudes, opinions, belie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ehaviour &amp;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Straight Arrow Connector 24"/>
          <p:cNvCxnSpPr/>
          <p:nvPr/>
        </p:nvCxnSpPr>
        <p:spPr>
          <a:xfrm flipH="1">
            <a:off x="1546920" y="299700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26"/>
          <p:cNvCxnSpPr/>
          <p:nvPr/>
        </p:nvCxnSpPr>
        <p:spPr>
          <a:xfrm>
            <a:off x="2050920" y="2852280"/>
            <a:ext cx="218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6516720" y="907560"/>
            <a:ext cx="1224720" cy="245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Down Arrow 37"/>
          <p:cNvSpPr/>
          <p:nvPr/>
        </p:nvSpPr>
        <p:spPr>
          <a:xfrm>
            <a:off x="4427640" y="4653000"/>
            <a:ext cx="79200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2"/>
          <p:cNvSpPr/>
          <p:nvPr/>
        </p:nvSpPr>
        <p:spPr>
          <a:xfrm>
            <a:off x="2259000" y="549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ristics, Soph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Straight Arrow Connector 44"/>
          <p:cNvCxnSpPr/>
          <p:nvPr/>
        </p:nvCxnSpPr>
        <p:spPr>
          <a:xfrm flipH="1">
            <a:off x="1618920" y="1051560"/>
            <a:ext cx="115272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47"/>
          <p:cNvSpPr/>
          <p:nvPr/>
        </p:nvSpPr>
        <p:spPr>
          <a:xfrm>
            <a:off x="4218480" y="11253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Public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49"/>
          <p:cNvCxnSpPr/>
          <p:nvPr/>
        </p:nvCxnSpPr>
        <p:spPr>
          <a:xfrm flipH="1">
            <a:off x="5651280" y="98100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55"/>
          <p:cNvCxnSpPr/>
          <p:nvPr/>
        </p:nvCxnSpPr>
        <p:spPr>
          <a:xfrm flipH="1">
            <a:off x="5076000" y="2133720"/>
            <a:ext cx="1436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57"/>
          <p:cNvCxnSpPr/>
          <p:nvPr/>
        </p:nvCxnSpPr>
        <p:spPr>
          <a:xfrm>
            <a:off x="5940360" y="2205000"/>
            <a:ext cx="1656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59"/>
          <p:cNvCxnSpPr/>
          <p:nvPr/>
        </p:nvCxnSpPr>
        <p:spPr>
          <a:xfrm flipH="1">
            <a:off x="3707640" y="2565000"/>
            <a:ext cx="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39"/>
          <p:cNvCxnSpPr/>
          <p:nvPr/>
        </p:nvCxnSpPr>
        <p:spPr>
          <a:xfrm flipH="1">
            <a:off x="4139640" y="2133720"/>
            <a:ext cx="503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F57C-9BC6-47D2-99F4-028A33106EE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395280" y="404640"/>
          <a:ext cx="8074080" cy="57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074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FB44-0AAA-4434-A1EF-E0E1C18D6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7"/>
          <p:cNvSpPr/>
          <p:nvPr/>
        </p:nvSpPr>
        <p:spPr>
          <a:xfrm>
            <a:off x="7407360" y="4005360"/>
            <a:ext cx="792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EDFA-164B-49CD-9EEC-DDE210660CE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357120" y="928800"/>
            <a:ext cx="8143920" cy="5121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Extension I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000"/>
                </a:solidFill>
                <a:latin typeface="Times New Roman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Influence by Artefacts</a:t>
            </a:r>
            <a:r>
              <a:rPr b="0" lang="en-GB" sz="6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3037-326B-4F23-B7E0-412FACD97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2C0-40C3-41F9-BEA0-155233D5D7F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611280" y="476280"/>
            <a:ext cx="78483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puzzle: the missing ‘thing’ of SocPsych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omon Asch’s in ‘Social Psychology’ 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remains to be mentioned one great consequence of social interaction – the creation of a realm of social facts’. Interaction produces a host of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roles and relations of great permanence …….’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p17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actions between men generate a host of phenomena …., which form the fabric of social existence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material equipmen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beliefs and ideas, language and the human character themselves are its massive produ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’ [p18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t where are the ‘things’ in social psycholo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ED0-8D57-4D06-AD5F-021AA09FD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FD0-08DE-451D-9D05-943941B97DD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D63C-E311-4A8E-BDDD-68348F4B16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974880" y="1065240"/>
            <a:ext cx="793584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bject  relations (mainly ex-post factu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ttitude ‘object’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-post-facto: the object already exis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 cognitive dissonance after fait accompli, forced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fective (like/dislike) reactions based on group specific norms 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dentity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sessions as self-expressive, fashion items, favourite things, souvenirs, status symbols, memorabilia (symbolic re-appropriation of existing things; our autonomy vis-à-vis thing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mental: ‘thing constitution’ as assimilation and accommodation of the child’s mentality growing towards the adult object, overcoming ego-centrism and socialisation [e.g. Piage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ther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5EA0-1006-42EF-B433-B8B1FB3313F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F1C4-FD4D-4714-ADFD-DC4BF45E06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822240" y="345960"/>
            <a:ext cx="786456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e Scandal of Artefacts: ‘the hidden actions of things’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Body building and mind training: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‘configuring the user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training for force or skill to handle it [e.g. a heavy machine, a fine tool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2. Things have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action in-scripted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[inscriptions; user’s guide; how to do it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required action schemata, routines of usage with some degree of freed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3. Avoids violence: framing interaction without body contac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.g. create distance between actors; with e.g. a counter or a fort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Affordance; demand characteristics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(visual cueing of actions, without previous experienc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surfaces to step on, buttons to press, levers to push or pull (= designer rul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Goal shifting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[Wundt’s heteronomy of purposes = in-built purposes are never final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buying a car for work, then thinking about a car holiday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internet for nuclear warfare, then becoming a general communication network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 Dependency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: taken-for-granted, cannot life/work without i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skill lost, no time to do it the old way; depending on supply chain for p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Delegation of a legal norm;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instead of a legal norm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fence or speed bumps instead of police or friendly signs [no trespassing!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cigarette machines that require id card; mobile phone: if stolen, receive messag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8. Negotiation by fait-accompl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facts on the ground; leaving no choice; reduction of dissonance after the f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9. Things as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root metaphor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for thinking about self, psyche, human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.g. Self  = a programmed computer in need of debunking and reprogramm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0. The </a:t>
            </a:r>
            <a:r>
              <a:rPr b="0" lang="pt-BR" sz="1500" spc="-1" strike="noStrike">
                <a:solidFill>
                  <a:srgbClr val="ff0000"/>
                </a:solidFill>
                <a:latin typeface="Times New Roman"/>
              </a:rPr>
              <a:t>normative power of the factual: 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What is, ought to be (naturalistic fallacy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D2D2-0BF4-4507-AA33-34426E3C60D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5E7-EB4F-4AE7-AFC8-436FE00ACE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185760" y="476280"/>
            <a:ext cx="3881520" cy="3097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2846160" cy="2122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"/>
          <p:cNvPicPr/>
          <p:nvPr/>
        </p:nvPicPr>
        <p:blipFill>
          <a:blip r:embed="rId3"/>
          <a:stretch/>
        </p:blipFill>
        <p:spPr>
          <a:xfrm>
            <a:off x="5796000" y="498600"/>
            <a:ext cx="3168720" cy="4043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"/>
          <p:cNvPicPr/>
          <p:nvPr/>
        </p:nvPicPr>
        <p:blipFill>
          <a:blip r:embed="rId4"/>
          <a:stretch/>
        </p:blipFill>
        <p:spPr>
          <a:xfrm>
            <a:off x="2627280" y="4270320"/>
            <a:ext cx="3344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DC1-E622-44EB-BA60-15DB378455F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ED30-5A49-4E57-AA45-728D0D7B4E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ffordances and Moral Imper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457200" y="1828800"/>
            <a:ext cx="850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rect, unmediated perception inviting action tendencies (Gibson, 1986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‘thing to grasp’, a ‘walkable surface’, a ‘picture to look at’, a ‘wall to stay out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ck-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‘emotional design’ (captology), in-scripted objec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heavy Hotel key annoys and tells you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: ‘leave me at ho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-lock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n particular action is required before another can tak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bank till requires you to pull your card before the money is dispensed: ‘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ou shall not leave your credit car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ting your breath before the car can ignit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: ‘you shall not drink and driv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ock-o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makes a particular action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matic access check, e.g. via finger print or iris: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no entry for outs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ild a wall that is difficult to climb: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o not trespass, 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undary objects’: objec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n a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erent things by different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‘Nanotechnology’: many do it, but understand it diffe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1489-BB30-4FA6-BE7C-0684523C1F5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2556000" y="1844640"/>
            <a:ext cx="4464000" cy="12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4"/>
          <p:cNvSpPr/>
          <p:nvPr/>
        </p:nvSpPr>
        <p:spPr>
          <a:xfrm>
            <a:off x="2627280" y="4076640"/>
            <a:ext cx="3745080" cy="1440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day use  of objec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5"/>
          <p:cNvSpPr/>
          <p:nvPr/>
        </p:nvSpPr>
        <p:spPr>
          <a:xfrm>
            <a:off x="6837480" y="2448000"/>
            <a:ext cx="1211040" cy="233496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2334960"/>
              <a:gd name="textAreaBottom" fmla="*/ 2335320 h 2334960"/>
            </a:gdLst>
            <a:ahLst/>
            <a:rect l="textAreaLeft" t="textAreaTop" r="textAreaRight" b="textAreaBottom"/>
            <a:pathLst>
              <a:path w="1212167" h="2335237">
                <a:moveTo>
                  <a:pt x="436099" y="0"/>
                </a:moveTo>
                <a:cubicBezTo>
                  <a:pt x="824133" y="438443"/>
                  <a:pt x="1212167" y="876887"/>
                  <a:pt x="1139484" y="1266093"/>
                </a:cubicBezTo>
                <a:cubicBezTo>
                  <a:pt x="1066801" y="1655299"/>
                  <a:pt x="533400" y="1995268"/>
                  <a:pt x="0" y="2335237"/>
                </a:cubicBezTo>
              </a:path>
            </a:pathLst>
          </a:custGeom>
          <a:solidFill>
            <a:srgbClr val="ffffff"/>
          </a:solidFill>
          <a:ln w="69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6"/>
          <p:cNvSpPr/>
          <p:nvPr/>
        </p:nvSpPr>
        <p:spPr>
          <a:xfrm>
            <a:off x="1258920" y="2624040"/>
            <a:ext cx="1184400" cy="217188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2171880"/>
              <a:gd name="textAreaBottom" fmla="*/ 2172240 h 2171880"/>
            </a:gdLst>
            <a:ahLst/>
            <a:rect l="textAreaLeft" t="textAreaTop" r="textAreaRight" b="textAreaBottom"/>
            <a:pathLst>
              <a:path w="1109003" h="2883877">
                <a:moveTo>
                  <a:pt x="1038665" y="2883877"/>
                </a:moveTo>
                <a:cubicBezTo>
                  <a:pt x="519332" y="2223868"/>
                  <a:pt x="0" y="1563859"/>
                  <a:pt x="11723" y="1083213"/>
                </a:cubicBezTo>
                <a:cubicBezTo>
                  <a:pt x="23446" y="602567"/>
                  <a:pt x="566224" y="301283"/>
                  <a:pt x="1109003" y="0"/>
                </a:cubicBezTo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1125360" y="6922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oring the ‘fitting’ between two sp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7527240" y="2133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473040" y="42210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DC23-0AB9-485E-8F74-449F35702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3786480" y="3429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fford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523080" y="1484280"/>
            <a:ext cx="178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755-CAFD-4103-8091-A77559A2219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FF24-908B-478F-8FEB-7F9DBA2EA3E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C7BD-B3A7-442A-92FC-6747B7076F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685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1295280" y="1219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1371600" y="49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5"/>
          <p:cNvCxnSpPr/>
          <p:nvPr/>
        </p:nvCxnSpPr>
        <p:spPr>
          <a:xfrm flipV="1">
            <a:off x="1600200" y="1676160"/>
            <a:ext cx="5944320" cy="312480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537" name="Line 6"/>
          <p:cNvSpPr/>
          <p:nvPr/>
        </p:nvSpPr>
        <p:spPr>
          <a:xfrm>
            <a:off x="12952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06360" y="1447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7605360" y="4842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51656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AutoShape 10"/>
          <p:cNvCxnSpPr/>
          <p:nvPr/>
        </p:nvCxnSpPr>
        <p:spPr>
          <a:xfrm flipV="1">
            <a:off x="1523880" y="1751760"/>
            <a:ext cx="3201120" cy="29725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542" name="AutoShape 11"/>
          <p:cNvCxnSpPr/>
          <p:nvPr/>
        </p:nvCxnSpPr>
        <p:spPr>
          <a:xfrm>
            <a:off x="4723920" y="1752120"/>
            <a:ext cx="3125160" cy="304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43" name="Line 12"/>
          <p:cNvSpPr/>
          <p:nvPr/>
        </p:nvSpPr>
        <p:spPr>
          <a:xfrm>
            <a:off x="4648320" y="1447920"/>
            <a:ext cx="0" cy="46386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30481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24852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3184560" y="1184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4937040" y="11080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6537240" y="685800"/>
            <a:ext cx="13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agg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1432080" y="11844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920880" y="193680"/>
            <a:ext cx="58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diffusion model: creates expectation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6689520" y="17175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6858360" y="38862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7349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43351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5935320" y="4842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5"/>
          <p:cNvSpPr/>
          <p:nvPr/>
        </p:nvSpPr>
        <p:spPr>
          <a:xfrm>
            <a:off x="1295280" y="3048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595080" y="270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27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8"/>
          <p:cNvSpPr/>
          <p:nvPr/>
        </p:nvSpPr>
        <p:spPr>
          <a:xfrm>
            <a:off x="1828800" y="510552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9"/>
          <p:cNvSpPr/>
          <p:nvPr/>
        </p:nvSpPr>
        <p:spPr>
          <a:xfrm>
            <a:off x="3189240" y="509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0"/>
          <p:cNvSpPr/>
          <p:nvPr/>
        </p:nvSpPr>
        <p:spPr>
          <a:xfrm>
            <a:off x="4789080" y="50911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cel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6539760" y="509112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low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4"/>
          <p:cNvSpPr/>
          <p:nvPr/>
        </p:nvSpPr>
        <p:spPr>
          <a:xfrm>
            <a:off x="3795120" y="7272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p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0861-2FCC-429B-B27B-B79DE21D5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"/>
          <p:cNvSpPr/>
          <p:nvPr/>
        </p:nvSpPr>
        <p:spPr>
          <a:xfrm>
            <a:off x="1037880" y="556272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bedience,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5376600" y="563868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n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9A7-CADB-49DA-A6EE-9F98FA0E5F6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053A-2162-4999-A96C-A0AD427C98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Object 4"/>
          <p:cNvGraphicFramePr/>
          <p:nvPr/>
        </p:nvGraphicFramePr>
        <p:xfrm>
          <a:off x="539640" y="476280"/>
          <a:ext cx="7874280" cy="57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87428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Text Box 5"/>
          <p:cNvSpPr/>
          <p:nvPr/>
        </p:nvSpPr>
        <p:spPr>
          <a:xfrm>
            <a:off x="1143000" y="193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clear bombs and nuclear power stations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374-253D-4AD4-AE84-0C9AD295B43F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A9C-BF85-41CA-9BFC-D1AC18009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leaership 3.bmp"/>
          <p:cNvPicPr/>
          <p:nvPr/>
        </p:nvPicPr>
        <p:blipFill>
          <a:blip r:embed="rId1"/>
          <a:stretch/>
        </p:blipFill>
        <p:spPr>
          <a:xfrm>
            <a:off x="324000" y="0"/>
            <a:ext cx="3311280" cy="33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hurchill.jpg"/>
          <p:cNvPicPr/>
          <p:nvPr/>
        </p:nvPicPr>
        <p:blipFill>
          <a:blip r:embed="rId2"/>
          <a:stretch/>
        </p:blipFill>
        <p:spPr>
          <a:xfrm>
            <a:off x="7020000" y="981000"/>
            <a:ext cx="1439640" cy="193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Lenin.jpg"/>
          <p:cNvPicPr/>
          <p:nvPr/>
        </p:nvPicPr>
        <p:blipFill>
          <a:blip r:embed="rId3"/>
          <a:stretch/>
        </p:blipFill>
        <p:spPr>
          <a:xfrm>
            <a:off x="5003640" y="692280"/>
            <a:ext cx="1513080" cy="210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hitler.jpg"/>
          <p:cNvPicPr/>
          <p:nvPr/>
        </p:nvPicPr>
        <p:blipFill>
          <a:blip r:embed="rId4"/>
          <a:stretch/>
        </p:blipFill>
        <p:spPr>
          <a:xfrm>
            <a:off x="826920" y="3933720"/>
            <a:ext cx="2133720" cy="15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FK.jpg"/>
          <p:cNvPicPr/>
          <p:nvPr/>
        </p:nvPicPr>
        <p:blipFill>
          <a:blip r:embed="rId5"/>
          <a:stretch/>
        </p:blipFill>
        <p:spPr>
          <a:xfrm>
            <a:off x="5219640" y="3284640"/>
            <a:ext cx="1555920" cy="151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Blair 2.jpg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0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Obama3.jpg"/>
          <p:cNvPicPr/>
          <p:nvPr/>
        </p:nvPicPr>
        <p:blipFill>
          <a:blip r:embed="rId7"/>
          <a:stretch/>
        </p:blipFill>
        <p:spPr>
          <a:xfrm>
            <a:off x="6588000" y="4581360"/>
            <a:ext cx="183060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Mao.jpg"/>
          <p:cNvPicPr/>
          <p:nvPr/>
        </p:nvPicPr>
        <p:blipFill>
          <a:blip r:embed="rId8"/>
          <a:stretch/>
        </p:blipFill>
        <p:spPr>
          <a:xfrm>
            <a:off x="3780000" y="1844640"/>
            <a:ext cx="1223640" cy="116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milgram sheep.jpg"/>
          <p:cNvPicPr/>
          <p:nvPr/>
        </p:nvPicPr>
        <p:blipFill>
          <a:blip r:embed="rId9"/>
          <a:stretch/>
        </p:blipFill>
        <p:spPr>
          <a:xfrm>
            <a:off x="3059280" y="4797360"/>
            <a:ext cx="2089080" cy="138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mussolini 3.jpg"/>
          <p:cNvPicPr/>
          <p:nvPr/>
        </p:nvPicPr>
        <p:blipFill>
          <a:blip r:embed="rId10"/>
          <a:stretch/>
        </p:blipFill>
        <p:spPr>
          <a:xfrm>
            <a:off x="2556000" y="3213000"/>
            <a:ext cx="2038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1C55-9FC5-4E9B-9885-59DA5C405BE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BF8B-8D27-4E39-ADBD-AEEE0DEB14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Chart 5" descr=""/>
          <p:cNvPicPr/>
          <p:nvPr/>
        </p:nvPicPr>
        <p:blipFill>
          <a:blip r:embed="rId1"/>
          <a:stretch/>
        </p:blipFill>
        <p:spPr>
          <a:xfrm>
            <a:off x="285840" y="974880"/>
            <a:ext cx="8566200" cy="5359320"/>
          </a:xfrm>
          <a:prstGeom prst="rect">
            <a:avLst/>
          </a:prstGeom>
          <a:ln w="0">
            <a:noFill/>
          </a:ln>
        </p:spPr>
      </p:pic>
      <p:sp>
        <p:nvSpPr>
          <p:cNvPr id="577" name="TextBox 6"/>
          <p:cNvSpPr/>
          <p:nvPr/>
        </p:nvSpPr>
        <p:spPr>
          <a:xfrm>
            <a:off x="1136160" y="47628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fferential uptake of GM soya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DF13-781E-4BD0-B198-EF91CFD071A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5B3-4C6D-4986-B66B-FFBE23E61B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Object 2"/>
          <p:cNvGraphicFramePr/>
          <p:nvPr/>
        </p:nvGraphicFramePr>
        <p:xfrm>
          <a:off x="1187280" y="476280"/>
          <a:ext cx="614844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76280"/>
                    <a:ext cx="6148440" cy="56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0B4-616B-4B32-A055-F4919489570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26"/>
          <p:cNvSpPr/>
          <p:nvPr/>
        </p:nvSpPr>
        <p:spPr>
          <a:xfrm>
            <a:off x="1286640" y="21747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rm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Sherif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27"/>
          <p:cNvSpPr/>
          <p:nvPr/>
        </p:nvSpPr>
        <p:spPr>
          <a:xfrm>
            <a:off x="6091920" y="3089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sch, Milgram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28"/>
          <p:cNvSpPr/>
          <p:nvPr/>
        </p:nvSpPr>
        <p:spPr>
          <a:xfrm>
            <a:off x="1847880" y="429264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design by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Moscovici typ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29"/>
          <p:cNvSpPr/>
          <p:nvPr/>
        </p:nvSpPr>
        <p:spPr>
          <a:xfrm>
            <a:off x="637560" y="260280"/>
            <a:ext cx="79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cial Co-ordination of Activity: Establishing, Maint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Altering Communality with Artefact-Fetish (a spi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1030"/>
          <p:cNvSpPr/>
          <p:nvPr/>
        </p:nvSpPr>
        <p:spPr>
          <a:xfrm>
            <a:off x="2232000" y="1330200"/>
            <a:ext cx="4905360" cy="1757520"/>
          </a:xfrm>
          <a:custGeom>
            <a:avLst/>
            <a:gdLst>
              <a:gd name="textAreaLeft" fmla="*/ 0 w 4905360"/>
              <a:gd name="textAreaRight" fmla="*/ 4905720 w 490536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w="3090" h="1107">
                <a:moveTo>
                  <a:pt x="0" y="553"/>
                </a:moveTo>
                <a:cubicBezTo>
                  <a:pt x="41" y="533"/>
                  <a:pt x="62" y="504"/>
                  <a:pt x="90" y="471"/>
                </a:cubicBezTo>
                <a:cubicBezTo>
                  <a:pt x="156" y="393"/>
                  <a:pt x="74" y="496"/>
                  <a:pt x="135" y="434"/>
                </a:cubicBezTo>
                <a:cubicBezTo>
                  <a:pt x="202" y="365"/>
                  <a:pt x="257" y="287"/>
                  <a:pt x="337" y="232"/>
                </a:cubicBezTo>
                <a:cubicBezTo>
                  <a:pt x="371" y="180"/>
                  <a:pt x="331" y="231"/>
                  <a:pt x="374" y="202"/>
                </a:cubicBezTo>
                <a:cubicBezTo>
                  <a:pt x="401" y="184"/>
                  <a:pt x="409" y="167"/>
                  <a:pt x="442" y="157"/>
                </a:cubicBezTo>
                <a:cubicBezTo>
                  <a:pt x="500" y="113"/>
                  <a:pt x="581" y="106"/>
                  <a:pt x="651" y="90"/>
                </a:cubicBezTo>
                <a:cubicBezTo>
                  <a:pt x="784" y="60"/>
                  <a:pt x="911" y="16"/>
                  <a:pt x="1048" y="0"/>
                </a:cubicBezTo>
                <a:cubicBezTo>
                  <a:pt x="1210" y="2"/>
                  <a:pt x="1372" y="2"/>
                  <a:pt x="1534" y="7"/>
                </a:cubicBezTo>
                <a:cubicBezTo>
                  <a:pt x="1560" y="8"/>
                  <a:pt x="1634" y="26"/>
                  <a:pt x="1654" y="30"/>
                </a:cubicBezTo>
                <a:cubicBezTo>
                  <a:pt x="1800" y="62"/>
                  <a:pt x="1943" y="103"/>
                  <a:pt x="2080" y="164"/>
                </a:cubicBezTo>
                <a:cubicBezTo>
                  <a:pt x="2142" y="192"/>
                  <a:pt x="2202" y="239"/>
                  <a:pt x="2267" y="254"/>
                </a:cubicBezTo>
                <a:cubicBezTo>
                  <a:pt x="2319" y="289"/>
                  <a:pt x="2418" y="348"/>
                  <a:pt x="2476" y="366"/>
                </a:cubicBezTo>
                <a:cubicBezTo>
                  <a:pt x="2496" y="381"/>
                  <a:pt x="2518" y="393"/>
                  <a:pt x="2536" y="411"/>
                </a:cubicBezTo>
                <a:cubicBezTo>
                  <a:pt x="2546" y="421"/>
                  <a:pt x="2555" y="432"/>
                  <a:pt x="2566" y="441"/>
                </a:cubicBezTo>
                <a:cubicBezTo>
                  <a:pt x="2593" y="464"/>
                  <a:pt x="2587" y="450"/>
                  <a:pt x="2619" y="471"/>
                </a:cubicBezTo>
                <a:cubicBezTo>
                  <a:pt x="2640" y="485"/>
                  <a:pt x="2658" y="501"/>
                  <a:pt x="2678" y="516"/>
                </a:cubicBezTo>
                <a:cubicBezTo>
                  <a:pt x="2688" y="523"/>
                  <a:pt x="2708" y="538"/>
                  <a:pt x="2708" y="538"/>
                </a:cubicBezTo>
                <a:cubicBezTo>
                  <a:pt x="2762" y="621"/>
                  <a:pt x="2681" y="504"/>
                  <a:pt x="2746" y="576"/>
                </a:cubicBezTo>
                <a:cubicBezTo>
                  <a:pt x="2769" y="601"/>
                  <a:pt x="2785" y="631"/>
                  <a:pt x="2806" y="658"/>
                </a:cubicBezTo>
                <a:cubicBezTo>
                  <a:pt x="2830" y="736"/>
                  <a:pt x="2897" y="806"/>
                  <a:pt x="2948" y="868"/>
                </a:cubicBezTo>
                <a:cubicBezTo>
                  <a:pt x="2980" y="908"/>
                  <a:pt x="3001" y="950"/>
                  <a:pt x="3037" y="987"/>
                </a:cubicBezTo>
                <a:cubicBezTo>
                  <a:pt x="3046" y="1012"/>
                  <a:pt x="3075" y="1055"/>
                  <a:pt x="3075" y="1055"/>
                </a:cubicBezTo>
                <a:cubicBezTo>
                  <a:pt x="3080" y="1071"/>
                  <a:pt x="3090" y="1090"/>
                  <a:pt x="30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1031"/>
          <p:cNvSpPr/>
          <p:nvPr/>
        </p:nvSpPr>
        <p:spPr>
          <a:xfrm>
            <a:off x="3514680" y="3954600"/>
            <a:ext cx="3633840" cy="1722240"/>
          </a:xfrm>
          <a:custGeom>
            <a:avLst/>
            <a:gdLst>
              <a:gd name="textAreaLeft" fmla="*/ 0 w 3633840"/>
              <a:gd name="textAreaRight" fmla="*/ 3634200 w 3633840"/>
              <a:gd name="textAreaTop" fmla="*/ 0 h 1722240"/>
              <a:gd name="textAreaBottom" fmla="*/ 1722600 h 1722240"/>
            </a:gdLst>
            <a:ahLst/>
            <a:rect l="textAreaLeft" t="textAreaTop" r="textAreaRight" b="textAreaBottom"/>
            <a:pathLst>
              <a:path w="2289" h="1085">
                <a:moveTo>
                  <a:pt x="2289" y="0"/>
                </a:moveTo>
                <a:cubicBezTo>
                  <a:pt x="2273" y="148"/>
                  <a:pt x="2239" y="314"/>
                  <a:pt x="2147" y="434"/>
                </a:cubicBezTo>
                <a:cubicBezTo>
                  <a:pt x="2134" y="475"/>
                  <a:pt x="2149" y="439"/>
                  <a:pt x="2117" y="479"/>
                </a:cubicBezTo>
                <a:cubicBezTo>
                  <a:pt x="2081" y="525"/>
                  <a:pt x="2047" y="559"/>
                  <a:pt x="2005" y="598"/>
                </a:cubicBezTo>
                <a:cubicBezTo>
                  <a:pt x="1971" y="629"/>
                  <a:pt x="1941" y="663"/>
                  <a:pt x="1908" y="696"/>
                </a:cubicBezTo>
                <a:cubicBezTo>
                  <a:pt x="1900" y="704"/>
                  <a:pt x="1888" y="705"/>
                  <a:pt x="1878" y="711"/>
                </a:cubicBezTo>
                <a:cubicBezTo>
                  <a:pt x="1849" y="729"/>
                  <a:pt x="1824" y="752"/>
                  <a:pt x="1796" y="771"/>
                </a:cubicBezTo>
                <a:cubicBezTo>
                  <a:pt x="1748" y="803"/>
                  <a:pt x="1683" y="819"/>
                  <a:pt x="1638" y="853"/>
                </a:cubicBezTo>
                <a:cubicBezTo>
                  <a:pt x="1593" y="887"/>
                  <a:pt x="1540" y="912"/>
                  <a:pt x="1489" y="935"/>
                </a:cubicBezTo>
                <a:cubicBezTo>
                  <a:pt x="1433" y="960"/>
                  <a:pt x="1386" y="992"/>
                  <a:pt x="1324" y="1002"/>
                </a:cubicBezTo>
                <a:cubicBezTo>
                  <a:pt x="1293" y="1023"/>
                  <a:pt x="1263" y="1024"/>
                  <a:pt x="1227" y="1032"/>
                </a:cubicBezTo>
                <a:cubicBezTo>
                  <a:pt x="1105" y="1058"/>
                  <a:pt x="985" y="1074"/>
                  <a:pt x="860" y="1085"/>
                </a:cubicBezTo>
                <a:cubicBezTo>
                  <a:pt x="765" y="1080"/>
                  <a:pt x="701" y="1075"/>
                  <a:pt x="614" y="1055"/>
                </a:cubicBezTo>
                <a:cubicBezTo>
                  <a:pt x="554" y="1025"/>
                  <a:pt x="485" y="1034"/>
                  <a:pt x="419" y="1025"/>
                </a:cubicBezTo>
                <a:cubicBezTo>
                  <a:pt x="363" y="1010"/>
                  <a:pt x="323" y="971"/>
                  <a:pt x="270" y="950"/>
                </a:cubicBezTo>
                <a:cubicBezTo>
                  <a:pt x="240" y="938"/>
                  <a:pt x="203" y="938"/>
                  <a:pt x="172" y="928"/>
                </a:cubicBezTo>
                <a:cubicBezTo>
                  <a:pt x="122" y="875"/>
                  <a:pt x="35" y="851"/>
                  <a:pt x="0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033"/>
          <p:cNvSpPr/>
          <p:nvPr/>
        </p:nvSpPr>
        <p:spPr>
          <a:xfrm>
            <a:off x="2968560" y="1971720"/>
            <a:ext cx="3800520" cy="2232000"/>
          </a:xfrm>
          <a:custGeom>
            <a:avLst/>
            <a:gdLst>
              <a:gd name="textAreaLeft" fmla="*/ 0 w 3800520"/>
              <a:gd name="textAreaRight" fmla="*/ 3800880 w 380052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394" h="1406">
                <a:moveTo>
                  <a:pt x="0" y="1406"/>
                </a:moveTo>
                <a:cubicBezTo>
                  <a:pt x="10" y="1296"/>
                  <a:pt x="32" y="1183"/>
                  <a:pt x="82" y="1084"/>
                </a:cubicBezTo>
                <a:cubicBezTo>
                  <a:pt x="95" y="1026"/>
                  <a:pt x="118" y="973"/>
                  <a:pt x="142" y="920"/>
                </a:cubicBezTo>
                <a:cubicBezTo>
                  <a:pt x="158" y="884"/>
                  <a:pt x="166" y="844"/>
                  <a:pt x="180" y="808"/>
                </a:cubicBezTo>
                <a:cubicBezTo>
                  <a:pt x="197" y="765"/>
                  <a:pt x="227" y="710"/>
                  <a:pt x="254" y="673"/>
                </a:cubicBezTo>
                <a:cubicBezTo>
                  <a:pt x="286" y="627"/>
                  <a:pt x="326" y="584"/>
                  <a:pt x="359" y="538"/>
                </a:cubicBezTo>
                <a:cubicBezTo>
                  <a:pt x="412" y="464"/>
                  <a:pt x="454" y="386"/>
                  <a:pt x="494" y="306"/>
                </a:cubicBezTo>
                <a:cubicBezTo>
                  <a:pt x="519" y="257"/>
                  <a:pt x="553" y="214"/>
                  <a:pt x="576" y="164"/>
                </a:cubicBezTo>
                <a:cubicBezTo>
                  <a:pt x="585" y="144"/>
                  <a:pt x="587" y="116"/>
                  <a:pt x="606" y="104"/>
                </a:cubicBezTo>
                <a:cubicBezTo>
                  <a:pt x="638" y="84"/>
                  <a:pt x="621" y="91"/>
                  <a:pt x="666" y="82"/>
                </a:cubicBezTo>
                <a:cubicBezTo>
                  <a:pt x="693" y="77"/>
                  <a:pt x="748" y="67"/>
                  <a:pt x="748" y="67"/>
                </a:cubicBezTo>
                <a:cubicBezTo>
                  <a:pt x="868" y="20"/>
                  <a:pt x="1010" y="37"/>
                  <a:pt x="1137" y="30"/>
                </a:cubicBezTo>
                <a:cubicBezTo>
                  <a:pt x="1248" y="0"/>
                  <a:pt x="1358" y="19"/>
                  <a:pt x="1474" y="22"/>
                </a:cubicBezTo>
                <a:cubicBezTo>
                  <a:pt x="1575" y="38"/>
                  <a:pt x="1669" y="67"/>
                  <a:pt x="1766" y="97"/>
                </a:cubicBezTo>
                <a:cubicBezTo>
                  <a:pt x="1801" y="121"/>
                  <a:pt x="1840" y="138"/>
                  <a:pt x="1878" y="157"/>
                </a:cubicBezTo>
                <a:cubicBezTo>
                  <a:pt x="1933" y="185"/>
                  <a:pt x="1983" y="220"/>
                  <a:pt x="2035" y="254"/>
                </a:cubicBezTo>
                <a:cubicBezTo>
                  <a:pt x="2078" y="282"/>
                  <a:pt x="2108" y="343"/>
                  <a:pt x="2155" y="359"/>
                </a:cubicBezTo>
                <a:cubicBezTo>
                  <a:pt x="2184" y="399"/>
                  <a:pt x="2215" y="439"/>
                  <a:pt x="2244" y="479"/>
                </a:cubicBezTo>
                <a:cubicBezTo>
                  <a:pt x="2287" y="538"/>
                  <a:pt x="2248" y="459"/>
                  <a:pt x="2289" y="531"/>
                </a:cubicBezTo>
                <a:cubicBezTo>
                  <a:pt x="2319" y="582"/>
                  <a:pt x="2340" y="634"/>
                  <a:pt x="2364" y="688"/>
                </a:cubicBezTo>
                <a:cubicBezTo>
                  <a:pt x="2376" y="714"/>
                  <a:pt x="2394" y="740"/>
                  <a:pt x="2394" y="7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1034"/>
          <p:cNvSpPr/>
          <p:nvPr/>
        </p:nvSpPr>
        <p:spPr>
          <a:xfrm>
            <a:off x="4227480" y="4025880"/>
            <a:ext cx="2552760" cy="136512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1365120"/>
              <a:gd name="textAreaBottom" fmla="*/ 1365120 h 1365120"/>
            </a:gdLst>
            <a:ahLst/>
            <a:rect l="textAreaLeft" t="textAreaTop" r="textAreaRight" b="textAreaBottom"/>
            <a:pathLst>
              <a:path w="1608" h="860">
                <a:moveTo>
                  <a:pt x="1608" y="0"/>
                </a:moveTo>
                <a:cubicBezTo>
                  <a:pt x="1595" y="97"/>
                  <a:pt x="1534" y="142"/>
                  <a:pt x="1481" y="217"/>
                </a:cubicBezTo>
                <a:cubicBezTo>
                  <a:pt x="1461" y="245"/>
                  <a:pt x="1439" y="270"/>
                  <a:pt x="1421" y="299"/>
                </a:cubicBezTo>
                <a:cubicBezTo>
                  <a:pt x="1400" y="334"/>
                  <a:pt x="1388" y="387"/>
                  <a:pt x="1362" y="419"/>
                </a:cubicBezTo>
                <a:cubicBezTo>
                  <a:pt x="1315" y="477"/>
                  <a:pt x="1257" y="518"/>
                  <a:pt x="1197" y="561"/>
                </a:cubicBezTo>
                <a:cubicBezTo>
                  <a:pt x="1149" y="595"/>
                  <a:pt x="1105" y="640"/>
                  <a:pt x="1047" y="658"/>
                </a:cubicBezTo>
                <a:cubicBezTo>
                  <a:pt x="1020" y="676"/>
                  <a:pt x="992" y="693"/>
                  <a:pt x="965" y="711"/>
                </a:cubicBezTo>
                <a:cubicBezTo>
                  <a:pt x="941" y="727"/>
                  <a:pt x="909" y="727"/>
                  <a:pt x="883" y="740"/>
                </a:cubicBezTo>
                <a:cubicBezTo>
                  <a:pt x="816" y="773"/>
                  <a:pt x="875" y="757"/>
                  <a:pt x="808" y="770"/>
                </a:cubicBezTo>
                <a:cubicBezTo>
                  <a:pt x="687" y="819"/>
                  <a:pt x="570" y="843"/>
                  <a:pt x="441" y="860"/>
                </a:cubicBezTo>
                <a:cubicBezTo>
                  <a:pt x="369" y="858"/>
                  <a:pt x="296" y="859"/>
                  <a:pt x="224" y="853"/>
                </a:cubicBezTo>
                <a:cubicBezTo>
                  <a:pt x="193" y="850"/>
                  <a:pt x="158" y="817"/>
                  <a:pt x="127" y="808"/>
                </a:cubicBezTo>
                <a:cubicBezTo>
                  <a:pt x="92" y="772"/>
                  <a:pt x="37" y="766"/>
                  <a:pt x="0" y="7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1035"/>
          <p:cNvSpPr/>
          <p:nvPr/>
        </p:nvSpPr>
        <p:spPr>
          <a:xfrm>
            <a:off x="3490920" y="2435400"/>
            <a:ext cx="2351160" cy="181584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1481" h="1144">
                <a:moveTo>
                  <a:pt x="0" y="1144"/>
                </a:moveTo>
                <a:cubicBezTo>
                  <a:pt x="7" y="920"/>
                  <a:pt x="5" y="846"/>
                  <a:pt x="68" y="658"/>
                </a:cubicBezTo>
                <a:cubicBezTo>
                  <a:pt x="82" y="616"/>
                  <a:pt x="85" y="578"/>
                  <a:pt x="105" y="538"/>
                </a:cubicBezTo>
                <a:cubicBezTo>
                  <a:pt x="119" y="474"/>
                  <a:pt x="141" y="409"/>
                  <a:pt x="172" y="351"/>
                </a:cubicBezTo>
                <a:cubicBezTo>
                  <a:pt x="181" y="335"/>
                  <a:pt x="196" y="323"/>
                  <a:pt x="202" y="306"/>
                </a:cubicBezTo>
                <a:cubicBezTo>
                  <a:pt x="231" y="227"/>
                  <a:pt x="288" y="124"/>
                  <a:pt x="374" y="97"/>
                </a:cubicBezTo>
                <a:cubicBezTo>
                  <a:pt x="397" y="61"/>
                  <a:pt x="430" y="60"/>
                  <a:pt x="472" y="44"/>
                </a:cubicBezTo>
                <a:cubicBezTo>
                  <a:pt x="537" y="19"/>
                  <a:pt x="587" y="7"/>
                  <a:pt x="659" y="0"/>
                </a:cubicBezTo>
                <a:cubicBezTo>
                  <a:pt x="751" y="2"/>
                  <a:pt x="843" y="3"/>
                  <a:pt x="935" y="7"/>
                </a:cubicBezTo>
                <a:cubicBezTo>
                  <a:pt x="972" y="9"/>
                  <a:pt x="1006" y="25"/>
                  <a:pt x="1040" y="37"/>
                </a:cubicBezTo>
                <a:cubicBezTo>
                  <a:pt x="1120" y="66"/>
                  <a:pt x="1216" y="96"/>
                  <a:pt x="1279" y="157"/>
                </a:cubicBezTo>
                <a:cubicBezTo>
                  <a:pt x="1305" y="183"/>
                  <a:pt x="1336" y="205"/>
                  <a:pt x="1362" y="231"/>
                </a:cubicBezTo>
                <a:cubicBezTo>
                  <a:pt x="1398" y="267"/>
                  <a:pt x="1417" y="315"/>
                  <a:pt x="1459" y="344"/>
                </a:cubicBezTo>
                <a:cubicBezTo>
                  <a:pt x="1461" y="351"/>
                  <a:pt x="1463" y="359"/>
                  <a:pt x="1466" y="366"/>
                </a:cubicBezTo>
                <a:cubicBezTo>
                  <a:pt x="1470" y="374"/>
                  <a:pt x="1481" y="388"/>
                  <a:pt x="1481" y="3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036"/>
          <p:cNvSpPr/>
          <p:nvPr/>
        </p:nvSpPr>
        <p:spPr>
          <a:xfrm>
            <a:off x="1674720" y="3040200"/>
            <a:ext cx="324000" cy="1033200"/>
          </a:xfrm>
          <a:custGeom>
            <a:avLst/>
            <a:gdLst>
              <a:gd name="textAreaLeft" fmla="*/ 0 w 324000"/>
              <a:gd name="textAreaRight" fmla="*/ 324360 w 3240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04" h="651">
                <a:moveTo>
                  <a:pt x="0" y="651"/>
                </a:moveTo>
                <a:cubicBezTo>
                  <a:pt x="7" y="560"/>
                  <a:pt x="3" y="447"/>
                  <a:pt x="45" y="367"/>
                </a:cubicBezTo>
                <a:cubicBezTo>
                  <a:pt x="59" y="290"/>
                  <a:pt x="41" y="370"/>
                  <a:pt x="75" y="284"/>
                </a:cubicBezTo>
                <a:cubicBezTo>
                  <a:pt x="97" y="230"/>
                  <a:pt x="105" y="172"/>
                  <a:pt x="134" y="120"/>
                </a:cubicBezTo>
                <a:cubicBezTo>
                  <a:pt x="143" y="104"/>
                  <a:pt x="154" y="90"/>
                  <a:pt x="164" y="75"/>
                </a:cubicBezTo>
                <a:cubicBezTo>
                  <a:pt x="173" y="62"/>
                  <a:pt x="168" y="41"/>
                  <a:pt x="179" y="30"/>
                </a:cubicBezTo>
                <a:cubicBezTo>
                  <a:pt x="204" y="5"/>
                  <a:pt x="202" y="18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038"/>
          <p:cNvSpPr/>
          <p:nvPr/>
        </p:nvSpPr>
        <p:spPr>
          <a:xfrm flipH="1">
            <a:off x="5867280" y="5334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039"/>
          <p:cNvSpPr/>
          <p:nvPr/>
        </p:nvSpPr>
        <p:spPr>
          <a:xfrm flipH="1">
            <a:off x="5486040" y="4648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040"/>
          <p:cNvSpPr/>
          <p:nvPr/>
        </p:nvSpPr>
        <p:spPr>
          <a:xfrm flipV="1">
            <a:off x="3276720" y="24382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041"/>
          <p:cNvSpPr/>
          <p:nvPr/>
        </p:nvSpPr>
        <p:spPr>
          <a:xfrm flipV="1">
            <a:off x="1600200" y="4191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042"/>
          <p:cNvSpPr/>
          <p:nvPr/>
        </p:nvSpPr>
        <p:spPr>
          <a:xfrm>
            <a:off x="6012000" y="3716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43"/>
          <p:cNvSpPr/>
          <p:nvPr/>
        </p:nvSpPr>
        <p:spPr>
          <a:xfrm>
            <a:off x="5486400" y="1752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44"/>
          <p:cNvSpPr/>
          <p:nvPr/>
        </p:nvSpPr>
        <p:spPr>
          <a:xfrm>
            <a:off x="586728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045"/>
          <p:cNvSpPr/>
          <p:nvPr/>
        </p:nvSpPr>
        <p:spPr>
          <a:xfrm>
            <a:off x="4343400" y="1219320"/>
            <a:ext cx="609480" cy="144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047"/>
          <p:cNvSpPr/>
          <p:nvPr/>
        </p:nvSpPr>
        <p:spPr>
          <a:xfrm>
            <a:off x="6923160" y="1436760"/>
            <a:ext cx="145800" cy="1473120"/>
          </a:xfrm>
          <a:custGeom>
            <a:avLst/>
            <a:gdLst>
              <a:gd name="textAreaLeft" fmla="*/ 0 w 145800"/>
              <a:gd name="textAreaRight" fmla="*/ 145800 w 14580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92" h="928">
                <a:moveTo>
                  <a:pt x="0" y="0"/>
                </a:moveTo>
                <a:cubicBezTo>
                  <a:pt x="7" y="26"/>
                  <a:pt x="14" y="50"/>
                  <a:pt x="23" y="75"/>
                </a:cubicBezTo>
                <a:cubicBezTo>
                  <a:pt x="29" y="119"/>
                  <a:pt x="38" y="160"/>
                  <a:pt x="53" y="202"/>
                </a:cubicBezTo>
                <a:cubicBezTo>
                  <a:pt x="61" y="282"/>
                  <a:pt x="89" y="361"/>
                  <a:pt x="90" y="441"/>
                </a:cubicBezTo>
                <a:cubicBezTo>
                  <a:pt x="92" y="603"/>
                  <a:pt x="90" y="766"/>
                  <a:pt x="90" y="9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048"/>
          <p:cNvSpPr/>
          <p:nvPr/>
        </p:nvSpPr>
        <p:spPr>
          <a:xfrm>
            <a:off x="7162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049"/>
          <p:cNvSpPr/>
          <p:nvPr/>
        </p:nvSpPr>
        <p:spPr>
          <a:xfrm>
            <a:off x="7153200" y="173844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ewc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059"/>
          <p:cNvSpPr/>
          <p:nvPr/>
        </p:nvSpPr>
        <p:spPr>
          <a:xfrm>
            <a:off x="775440" y="575640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sentations = constraints of norms and arte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F449-901B-408E-9730-316E53F4E8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27" descr="nuclear power plant.jpg"/>
          <p:cNvPicPr/>
          <p:nvPr/>
        </p:nvPicPr>
        <p:blipFill>
          <a:blip r:embed="rId1"/>
          <a:stretch/>
        </p:blipFill>
        <p:spPr>
          <a:xfrm>
            <a:off x="4788000" y="2637000"/>
            <a:ext cx="1360440" cy="13190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8" descr="bag.jpg"/>
          <p:cNvPicPr/>
          <p:nvPr/>
        </p:nvPicPr>
        <p:blipFill>
          <a:blip r:embed="rId2"/>
          <a:stretch/>
        </p:blipFill>
        <p:spPr>
          <a:xfrm>
            <a:off x="4932360" y="3860640"/>
            <a:ext cx="1406520" cy="11322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9" descr="iphone.jpg"/>
          <p:cNvPicPr/>
          <p:nvPr/>
        </p:nvPicPr>
        <p:blipFill>
          <a:blip r:embed="rId3"/>
          <a:stretch/>
        </p:blipFill>
        <p:spPr>
          <a:xfrm>
            <a:off x="4067280" y="3357720"/>
            <a:ext cx="1012680" cy="9302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0" descr="DNA.jpg"/>
          <p:cNvPicPr/>
          <p:nvPr/>
        </p:nvPicPr>
        <p:blipFill>
          <a:blip r:embed="rId4"/>
          <a:stretch/>
        </p:blipFill>
        <p:spPr>
          <a:xfrm>
            <a:off x="3274920" y="2205000"/>
            <a:ext cx="1211400" cy="12081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1" descr="Sports car.jpg"/>
          <p:cNvPicPr/>
          <p:nvPr/>
        </p:nvPicPr>
        <p:blipFill>
          <a:blip r:embed="rId5"/>
          <a:stretch/>
        </p:blipFill>
        <p:spPr>
          <a:xfrm>
            <a:off x="4643280" y="4797360"/>
            <a:ext cx="1136880" cy="571680"/>
          </a:xfrm>
          <a:prstGeom prst="rect">
            <a:avLst/>
          </a:prstGeom>
          <a:ln w="0">
            <a:noFill/>
          </a:ln>
        </p:spPr>
      </p:pic>
      <p:sp>
        <p:nvSpPr>
          <p:cNvPr id="613" name="TextBox 32"/>
          <p:cNvSpPr/>
          <p:nvPr/>
        </p:nvSpPr>
        <p:spPr>
          <a:xfrm>
            <a:off x="6858720" y="4818240"/>
            <a:ext cx="16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vian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fusal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0728-5B24-4692-B1A2-1C1AD8209E9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D967-54D1-474F-A1FA-397925CF03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4"/>
          <p:cNvSpPr/>
          <p:nvPr/>
        </p:nvSpPr>
        <p:spPr>
          <a:xfrm>
            <a:off x="395280" y="620640"/>
            <a:ext cx="85694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d the moral of the story is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modalities of social influence, not only two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-rational and rational modalities: what is ‘rationality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functions in relation to co-ordination of activ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ormalisation, assimilation, accommo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necessary extensions of models: mass mediation, arte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 influence = manipulating the context of persu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ircumsta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 am persuad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is a situation ‘persuasive’, or ‘violating’ presumed autono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ll have intuitions that circumstances can be morally dub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under the influence of x’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qualifies as reasoned persua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bious are: guns, drugs, alcohol, food, make up, nice w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17F-7217-4151-8D97-6A4BB4E297A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2"/>
          <p:cNvSpPr/>
          <p:nvPr/>
        </p:nvSpPr>
        <p:spPr>
          <a:xfrm>
            <a:off x="313200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A94-373D-4E62-A682-62BC2E7D3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539640" y="3500280"/>
            <a:ext cx="842508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imitation, crowds, framing, peer pressure, authority, dissent, artefa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1042920" y="1989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behavi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7"/>
          <p:cNvSpPr/>
          <p:nvPr/>
        </p:nvSpPr>
        <p:spPr>
          <a:xfrm>
            <a:off x="5219640" y="54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het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4427640" y="16286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5"/>
          <p:cNvSpPr/>
          <p:nvPr/>
        </p:nvSpPr>
        <p:spPr>
          <a:xfrm>
            <a:off x="3059280" y="1628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2"/>
          <p:cNvSpPr/>
          <p:nvPr/>
        </p:nvSpPr>
        <p:spPr>
          <a:xfrm>
            <a:off x="2050920" y="5013360"/>
            <a:ext cx="561672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ocia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rms, attitudes, beliefs, 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dividual behaviour &amp; collec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Straight Arrow Connector 24"/>
          <p:cNvCxnSpPr/>
          <p:nvPr/>
        </p:nvCxnSpPr>
        <p:spPr>
          <a:xfrm flipH="1">
            <a:off x="1546920" y="2997000"/>
            <a:ext cx="72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Straight Arrow Connector 26"/>
          <p:cNvCxnSpPr/>
          <p:nvPr/>
        </p:nvCxnSpPr>
        <p:spPr>
          <a:xfrm>
            <a:off x="2050920" y="2852280"/>
            <a:ext cx="21816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9" name="Straight Arrow Connector 34"/>
          <p:cNvCxnSpPr/>
          <p:nvPr/>
        </p:nvCxnSpPr>
        <p:spPr>
          <a:xfrm>
            <a:off x="6516720" y="907560"/>
            <a:ext cx="1224720" cy="245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0" name="Down Arrow 37"/>
          <p:cNvSpPr/>
          <p:nvPr/>
        </p:nvSpPr>
        <p:spPr>
          <a:xfrm>
            <a:off x="4427640" y="4653000"/>
            <a:ext cx="79200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42"/>
          <p:cNvSpPr/>
          <p:nvPr/>
        </p:nvSpPr>
        <p:spPr>
          <a:xfrm>
            <a:off x="2259000" y="549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ristics, Soph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Straight Arrow Connector 44"/>
          <p:cNvCxnSpPr/>
          <p:nvPr/>
        </p:nvCxnSpPr>
        <p:spPr>
          <a:xfrm flipH="1">
            <a:off x="1618920" y="1051560"/>
            <a:ext cx="115272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TextBox 47"/>
          <p:cNvSpPr/>
          <p:nvPr/>
        </p:nvSpPr>
        <p:spPr>
          <a:xfrm>
            <a:off x="4218480" y="112536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Public 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Straight Arrow Connector 49"/>
          <p:cNvCxnSpPr/>
          <p:nvPr/>
        </p:nvCxnSpPr>
        <p:spPr>
          <a:xfrm flipH="1">
            <a:off x="5651280" y="98100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55"/>
          <p:cNvCxnSpPr/>
          <p:nvPr/>
        </p:nvCxnSpPr>
        <p:spPr>
          <a:xfrm>
            <a:off x="5219640" y="2089080"/>
            <a:ext cx="505440" cy="126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6" name="Straight Arrow Connector 57"/>
          <p:cNvCxnSpPr/>
          <p:nvPr/>
        </p:nvCxnSpPr>
        <p:spPr>
          <a:xfrm>
            <a:off x="5940360" y="2205000"/>
            <a:ext cx="1656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7" name="Straight Arrow Connector 59"/>
          <p:cNvCxnSpPr/>
          <p:nvPr/>
        </p:nvCxnSpPr>
        <p:spPr>
          <a:xfrm flipH="1">
            <a:off x="3707640" y="2565000"/>
            <a:ext cx="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8" name="TextBox 24"/>
          <p:cNvSpPr/>
          <p:nvPr/>
        </p:nvSpPr>
        <p:spPr>
          <a:xfrm>
            <a:off x="2268360" y="4005360"/>
            <a:ext cx="468000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rcumstances of Persu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Straight Arrow Connector 39"/>
          <p:cNvCxnSpPr/>
          <p:nvPr/>
        </p:nvCxnSpPr>
        <p:spPr>
          <a:xfrm flipH="1">
            <a:off x="4139640" y="2133720"/>
            <a:ext cx="503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1"/>
          <p:cNvSpPr/>
          <p:nvPr/>
        </p:nvSpPr>
        <p:spPr>
          <a:xfrm>
            <a:off x="611280" y="60930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A05A-965D-4C4C-AF1B-C5344188172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ooter Placeholder 2"/>
          <p:cNvSpPr/>
          <p:nvPr/>
        </p:nvSpPr>
        <p:spPr>
          <a:xfrm>
            <a:off x="3203640" y="6093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026"/>
          <p:cNvSpPr/>
          <p:nvPr/>
        </p:nvSpPr>
        <p:spPr>
          <a:xfrm>
            <a:off x="1765440" y="2502000"/>
            <a:ext cx="5562360" cy="2057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persua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027"/>
          <p:cNvSpPr/>
          <p:nvPr/>
        </p:nvSpPr>
        <p:spPr>
          <a:xfrm flipV="1">
            <a:off x="2222640" y="2501640"/>
            <a:ext cx="472428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29"/>
          <p:cNvSpPr/>
          <p:nvPr/>
        </p:nvSpPr>
        <p:spPr>
          <a:xfrm>
            <a:off x="2222640" y="273060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b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0"/>
          <p:cNvSpPr/>
          <p:nvPr/>
        </p:nvSpPr>
        <p:spPr>
          <a:xfrm>
            <a:off x="4506120" y="39495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cial infl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032"/>
          <p:cNvSpPr/>
          <p:nvPr/>
        </p:nvSpPr>
        <p:spPr>
          <a:xfrm flipH="1">
            <a:off x="1841400" y="2120760"/>
            <a:ext cx="5181840" cy="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033"/>
          <p:cNvSpPr/>
          <p:nvPr/>
        </p:nvSpPr>
        <p:spPr>
          <a:xfrm>
            <a:off x="1757520" y="15112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cation action: common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34"/>
          <p:cNvSpPr/>
          <p:nvPr/>
        </p:nvSpPr>
        <p:spPr>
          <a:xfrm>
            <a:off x="1994040" y="4863960"/>
            <a:ext cx="50292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035"/>
          <p:cNvSpPr/>
          <p:nvPr/>
        </p:nvSpPr>
        <p:spPr>
          <a:xfrm>
            <a:off x="2696040" y="5016600"/>
            <a:ext cx="61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ategic communication: efficiency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037"/>
          <p:cNvSpPr/>
          <p:nvPr/>
        </p:nvSpPr>
        <p:spPr>
          <a:xfrm flipV="1">
            <a:off x="2222640" y="25016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038"/>
          <p:cNvSpPr/>
          <p:nvPr/>
        </p:nvSpPr>
        <p:spPr>
          <a:xfrm>
            <a:off x="454320" y="2619360"/>
            <a:ext cx="10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39"/>
          <p:cNvSpPr/>
          <p:nvPr/>
        </p:nvSpPr>
        <p:spPr>
          <a:xfrm>
            <a:off x="7481160" y="2730600"/>
            <a:ext cx="12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u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040"/>
          <p:cNvSpPr/>
          <p:nvPr/>
        </p:nvSpPr>
        <p:spPr>
          <a:xfrm>
            <a:off x="6946920" y="2502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041"/>
          <p:cNvSpPr/>
          <p:nvPr/>
        </p:nvSpPr>
        <p:spPr>
          <a:xfrm>
            <a:off x="2984400" y="2273400"/>
            <a:ext cx="304920" cy="2361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042"/>
          <p:cNvSpPr/>
          <p:nvPr/>
        </p:nvSpPr>
        <p:spPr>
          <a:xfrm>
            <a:off x="4356000" y="2349360"/>
            <a:ext cx="533520" cy="2362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043"/>
          <p:cNvSpPr/>
          <p:nvPr/>
        </p:nvSpPr>
        <p:spPr>
          <a:xfrm>
            <a:off x="6337440" y="2349360"/>
            <a:ext cx="304560" cy="23623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044"/>
          <p:cNvSpPr/>
          <p:nvPr/>
        </p:nvSpPr>
        <p:spPr>
          <a:xfrm>
            <a:off x="792720" y="71424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ublic sphere as circumstances of persua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F00D-7C45-4273-8DBE-6DEE3E04DB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1"/>
          <p:cNvSpPr/>
          <p:nvPr/>
        </p:nvSpPr>
        <p:spPr>
          <a:xfrm>
            <a:off x="496800" y="551664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Reason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9EE-9F63-4A19-9F42-923D73AD13E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BD7B-248A-408D-851A-5BE598234B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611280" y="260280"/>
            <a:ext cx="788976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ditional references regarding  ideas towards integration of mod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ammut G and MW Bauer (2011)  Social influence: modes and  modalities, in: DW Hook, B Franks &amp; MW Bau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(eds) The Social Psychology of Communicaition, London, Pal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8) The ‘fait accompli’ and its social influence,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DIOGEN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217, 68-8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6) The paradoxes of resistance in Brazil, in: Gaskell G &amp; M Bauer (eds)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 Genomic &amp;  Society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egal, ethical and social dimension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London, Earthscan, p228-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5) The mass media and the biotechnology controversy,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International Journal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Public Opinion Research,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7 (1), 5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&amp;G Gaskell (eds) (2002)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Biotechnology – the making of a global controversy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ambridge, CU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auer MW (2002) Arenas, platforms and the biotechnology movement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, Science Communication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, 24, 144-16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urger J (2009) Replicating Milgram: would people still obey today? American Psychologist,  64, 1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Keren G &amp; Y Schul (2009) two is not always better than one: a critical evaluation of two systems theories, Perspectives on Psychologica Science, 4, 6, 533-5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Kruglanski AW, HP Erb, A Pierro, L Mannetti, WY Chun (2006) On parametric continuities in the world of binary either ors, Psychological Enquiry, 17, 153-165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acker DJ (2008) Identifying systematic disobedience in Milgram’s Obedience Experiments, Perspectives on Psychological Science, 3, 4, 301-4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aicheler G (1988) The psychology of social influence, Cambridge, CU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etty RE &amp; B Brinol (2008) Persuasion: from single to multiple to metacognitive processes, Perspectives on Psychological Science, 3, 2, 137-4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usssel NJC (2011) Milgram’s obedience to authority experiments: origins and early evoluation, British J of Social Psychology, 50, 140-162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5C40-756E-412E-8820-AE46FD2C593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68360" y="457200"/>
            <a:ext cx="82072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rowds and Leadership of M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Gustave Le Bon (1895) ‘The Age of the Crow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social company individuals are lulled into a state of hypno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ower of suggestion: accepting propositions without testing 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ss’ =  metaphor: matter (hyle) that needs to be given form (so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owds bring about a hypnotic state in individuals = crowd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individuation in crowds: lowering the threshold of restra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mination’: otherwi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individuals turn into irrational animals; animal spirits (irrational = women is a 1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ury stereo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 alteration towards impulsiveness, exaggeration, intolerance, simplistic reasoning etc (everything that is despicable happens in crow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 in mass can be ‘formed like clay’, there is no control lef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need and opportunity for leaders (crowds = material in need of 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lebon 1.jpg"/>
          <p:cNvPicPr/>
          <p:nvPr/>
        </p:nvPicPr>
        <p:blipFill>
          <a:blip r:embed="rId1"/>
          <a:stretch/>
        </p:blipFill>
        <p:spPr>
          <a:xfrm>
            <a:off x="7667640" y="260280"/>
            <a:ext cx="1305000" cy="1513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7674840" y="1844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841-1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784F-3F5B-4985-BB1C-7B729D6482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907920"/>
            <a:ext cx="81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ritiqu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iddle class panic over street politics (the shock of ‘Paris Commune’ of 1871); ‘fin de siecle’ pessimism on human nature; social factors pitted against rational judgement; assumes that imitation works without reasoning and judgements, the latter at most a special case; a theory of political populism; huge success as popular science; Taiwan edition 20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eo-stoic, modern ethos of a ‘rational individual’ (Taylor, 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ed against outside: others, demons, spirits, co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ed against inside: desire, pa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litist last stand against uncontrollable m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C5F-53E7-4F6F-8F9C-6D7BCF6D2AE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5574-5CC7-479C-A420-B1EF3CDC0F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49FD-0E6C-4672-A6E1-D851E232AD4D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Bauer 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1031-2323-438F-BC68-9A522454E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333360"/>
            <a:ext cx="830592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765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endulum of Managerial Control (cycles of 35-50 years; see Barley &amp; Kunda,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2743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ob) desig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876920" y="2743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Devot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85800" y="3505320"/>
            <a:ext cx="2085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352680" y="35053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desig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5053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Leadership;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‘Charism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85800" y="50292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rinsic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7672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insic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019920" y="5029200"/>
            <a:ext cx="229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Identification; Loy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2514600" y="198108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724280" y="198108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12952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39625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9343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3"/>
          <p:cNvSpPr/>
          <p:nvPr/>
        </p:nvSpPr>
        <p:spPr>
          <a:xfrm flipH="1">
            <a:off x="1447560" y="32004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590920" y="32004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6324480" y="3276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4572000" y="2895480"/>
            <a:ext cx="762120" cy="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 flipH="1">
            <a:off x="3809520" y="2895480"/>
            <a:ext cx="7621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4724280" y="1981080"/>
            <a:ext cx="304920" cy="68580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5:20:14Z</dcterms:created>
  <dc:creator>Martin Bauer</dc:creator>
  <dc:description/>
  <dc:language>en-US</dc:language>
  <cp:lastModifiedBy>Martin</cp:lastModifiedBy>
  <dcterms:modified xsi:type="dcterms:W3CDTF">2011-11-22T22:10:42Z</dcterms:modified>
  <cp:revision>148</cp:revision>
  <dc:subject/>
  <dc:title>Social Influence</dc:title>
</cp:coreProperties>
</file>