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  <p:sldId id="267" r:id="rId56"/>
    <p:sldId id="268" r:id="rId57"/>
    <p:sldId id="269" r:id="rId58"/>
    <p:sldId id="270" r:id="rId59"/>
    <p:sldId id="271" r:id="rId60"/>
    <p:sldId id="272" r:id="rId61"/>
    <p:sldId id="273" r:id="rId62"/>
    <p:sldId id="274" r:id="rId63"/>
    <p:sldId id="275" r:id="rId64"/>
    <p:sldId id="276" r:id="rId65"/>
    <p:sldId id="277" r:id="rId66"/>
    <p:sldId id="278" r:id="rId67"/>
    <p:sldId id="279" r:id="rId68"/>
    <p:sldId id="280" r:id="rId69"/>
    <p:sldId id="281" r:id="rId70"/>
    <p:sldId id="282" r:id="rId71"/>
    <p:sldId id="283" r:id="rId72"/>
    <p:sldId id="284" r:id="rId73"/>
    <p:sldId id="285" r:id="rId74"/>
    <p:sldId id="286" r:id="rId75"/>
    <p:sldId id="287" r:id="rId76"/>
    <p:sldId id="288" r:id="rId77"/>
    <p:sldId id="289" r:id="rId78"/>
    <p:sldId id="290" r:id="rId79"/>
    <p:sldId id="291" r:id="rId80"/>
    <p:sldId id="292" r:id="rId81"/>
    <p:sldId id="293" r:id="rId82"/>
    <p:sldId id="294" r:id="rId83"/>
    <p:sldId id="295" r:id="rId84"/>
    <p:sldId id="296" r:id="rId85"/>
    <p:sldId id="297" r:id="rId86"/>
    <p:sldId id="298" r:id="rId87"/>
    <p:sldId id="299" r:id="rId88"/>
    <p:sldId id="300" r:id="rId89"/>
    <p:sldId id="301" r:id="rId90"/>
    <p:sldId id="302" r:id="rId91"/>
    <p:sldId id="303" r:id="rId92"/>
    <p:sldId id="304" r:id="rId93"/>
    <p:sldId id="305" r:id="rId94"/>
    <p:sldId id="306" r:id="rId95"/>
    <p:sldId id="307" r:id="rId96"/>
    <p:sldId id="308" r:id="rId97"/>
    <p:sldId id="309" r:id="rId98"/>
    <p:sldId id="310" r:id="rId99"/>
    <p:sldId id="311" r:id="rId100"/>
    <p:sldId id="312" r:id="rId101"/>
    <p:sldId id="313" r:id="rId102"/>
    <p:sldId id="314" r:id="rId103"/>
    <p:sldId id="315" r:id="rId104"/>
    <p:sldId id="316" r:id="rId10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slide" Target="slides/slide12.xml"/><Relationship Id="rId57" Type="http://schemas.openxmlformats.org/officeDocument/2006/relationships/slide" Target="slides/slide13.xml"/><Relationship Id="rId58" Type="http://schemas.openxmlformats.org/officeDocument/2006/relationships/slide" Target="slides/slide14.xml"/><Relationship Id="rId59" Type="http://schemas.openxmlformats.org/officeDocument/2006/relationships/slide" Target="slides/slide15.xml"/><Relationship Id="rId60" Type="http://schemas.openxmlformats.org/officeDocument/2006/relationships/slide" Target="slides/slide16.xml"/><Relationship Id="rId61" Type="http://schemas.openxmlformats.org/officeDocument/2006/relationships/slide" Target="slides/slide17.xml"/><Relationship Id="rId62" Type="http://schemas.openxmlformats.org/officeDocument/2006/relationships/slide" Target="slides/slide18.xml"/><Relationship Id="rId63" Type="http://schemas.openxmlformats.org/officeDocument/2006/relationships/slide" Target="slides/slide19.xml"/><Relationship Id="rId64" Type="http://schemas.openxmlformats.org/officeDocument/2006/relationships/slide" Target="slides/slide20.xml"/><Relationship Id="rId65" Type="http://schemas.openxmlformats.org/officeDocument/2006/relationships/slide" Target="slides/slide21.xml"/><Relationship Id="rId66" Type="http://schemas.openxmlformats.org/officeDocument/2006/relationships/slide" Target="slides/slide22.xml"/><Relationship Id="rId67" Type="http://schemas.openxmlformats.org/officeDocument/2006/relationships/slide" Target="slides/slide23.xml"/><Relationship Id="rId68" Type="http://schemas.openxmlformats.org/officeDocument/2006/relationships/slide" Target="slides/slide24.xml"/><Relationship Id="rId69" Type="http://schemas.openxmlformats.org/officeDocument/2006/relationships/slide" Target="slides/slide25.xml"/><Relationship Id="rId70" Type="http://schemas.openxmlformats.org/officeDocument/2006/relationships/slide" Target="slides/slide26.xml"/><Relationship Id="rId71" Type="http://schemas.openxmlformats.org/officeDocument/2006/relationships/slide" Target="slides/slide27.xml"/><Relationship Id="rId72" Type="http://schemas.openxmlformats.org/officeDocument/2006/relationships/slide" Target="slides/slide28.xml"/><Relationship Id="rId73" Type="http://schemas.openxmlformats.org/officeDocument/2006/relationships/slide" Target="slides/slide29.xml"/><Relationship Id="rId74" Type="http://schemas.openxmlformats.org/officeDocument/2006/relationships/slide" Target="slides/slide30.xml"/><Relationship Id="rId75" Type="http://schemas.openxmlformats.org/officeDocument/2006/relationships/slide" Target="slides/slide31.xml"/><Relationship Id="rId76" Type="http://schemas.openxmlformats.org/officeDocument/2006/relationships/slide" Target="slides/slide32.xml"/><Relationship Id="rId77" Type="http://schemas.openxmlformats.org/officeDocument/2006/relationships/slide" Target="slides/slide33.xml"/><Relationship Id="rId78" Type="http://schemas.openxmlformats.org/officeDocument/2006/relationships/slide" Target="slides/slide34.xml"/><Relationship Id="rId79" Type="http://schemas.openxmlformats.org/officeDocument/2006/relationships/slide" Target="slides/slide35.xml"/><Relationship Id="rId80" Type="http://schemas.openxmlformats.org/officeDocument/2006/relationships/slide" Target="slides/slide36.xml"/><Relationship Id="rId81" Type="http://schemas.openxmlformats.org/officeDocument/2006/relationships/slide" Target="slides/slide37.xml"/><Relationship Id="rId82" Type="http://schemas.openxmlformats.org/officeDocument/2006/relationships/slide" Target="slides/slide38.xml"/><Relationship Id="rId83" Type="http://schemas.openxmlformats.org/officeDocument/2006/relationships/slide" Target="slides/slide39.xml"/><Relationship Id="rId84" Type="http://schemas.openxmlformats.org/officeDocument/2006/relationships/slide" Target="slides/slide40.xml"/><Relationship Id="rId85" Type="http://schemas.openxmlformats.org/officeDocument/2006/relationships/slide" Target="slides/slide41.xml"/><Relationship Id="rId86" Type="http://schemas.openxmlformats.org/officeDocument/2006/relationships/slide" Target="slides/slide42.xml"/><Relationship Id="rId87" Type="http://schemas.openxmlformats.org/officeDocument/2006/relationships/slide" Target="slides/slide43.xml"/><Relationship Id="rId88" Type="http://schemas.openxmlformats.org/officeDocument/2006/relationships/slide" Target="slides/slide44.xml"/><Relationship Id="rId89" Type="http://schemas.openxmlformats.org/officeDocument/2006/relationships/slide" Target="slides/slide45.xml"/><Relationship Id="rId90" Type="http://schemas.openxmlformats.org/officeDocument/2006/relationships/slide" Target="slides/slide46.xml"/><Relationship Id="rId91" Type="http://schemas.openxmlformats.org/officeDocument/2006/relationships/slide" Target="slides/slide47.xml"/><Relationship Id="rId92" Type="http://schemas.openxmlformats.org/officeDocument/2006/relationships/slide" Target="slides/slide48.xml"/><Relationship Id="rId93" Type="http://schemas.openxmlformats.org/officeDocument/2006/relationships/slide" Target="slides/slide49.xml"/><Relationship Id="rId94" Type="http://schemas.openxmlformats.org/officeDocument/2006/relationships/slide" Target="slides/slide50.xml"/><Relationship Id="rId95" Type="http://schemas.openxmlformats.org/officeDocument/2006/relationships/slide" Target="slides/slide51.xml"/><Relationship Id="rId96" Type="http://schemas.openxmlformats.org/officeDocument/2006/relationships/slide" Target="slides/slide52.xml"/><Relationship Id="rId97" Type="http://schemas.openxmlformats.org/officeDocument/2006/relationships/slide" Target="slides/slide53.xml"/><Relationship Id="rId98" Type="http://schemas.openxmlformats.org/officeDocument/2006/relationships/slide" Target="slides/slide54.xml"/><Relationship Id="rId99" Type="http://schemas.openxmlformats.org/officeDocument/2006/relationships/slide" Target="slides/slide55.xml"/><Relationship Id="rId100" Type="http://schemas.openxmlformats.org/officeDocument/2006/relationships/slide" Target="slides/slide56.xml"/><Relationship Id="rId101" Type="http://schemas.openxmlformats.org/officeDocument/2006/relationships/slide" Target="slides/slide57.xml"/><Relationship Id="rId102" Type="http://schemas.openxmlformats.org/officeDocument/2006/relationships/slide" Target="slides/slide58.xml"/><Relationship Id="rId103" Type="http://schemas.openxmlformats.org/officeDocument/2006/relationships/slide" Target="slides/slide59.xml"/><Relationship Id="rId104" Type="http://schemas.openxmlformats.org/officeDocument/2006/relationships/slide" Target="slides/slide60.xml"/><Relationship Id="rId105" Type="http://schemas.openxmlformats.org/officeDocument/2006/relationships/slide" Target="slides/slide61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775800" y="812520"/>
            <a:ext cx="599148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dt" idx="127"/>
          </p:nvPr>
        </p:nvSpPr>
        <p:spPr>
          <a:xfrm>
            <a:off x="4277880" y="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ftr" idx="128"/>
          </p:nvPr>
        </p:nvSpPr>
        <p:spPr>
          <a:xfrm>
            <a:off x="-36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 type="sldNum" idx="129"/>
          </p:nvPr>
        </p:nvSpPr>
        <p:spPr>
          <a:xfrm>
            <a:off x="427788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48B9D-10E8-4890-99FE-7DF06696CB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776160" y="812880"/>
            <a:ext cx="5991480" cy="39942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ltural change in organisations after a major 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s in health promotion and innovation struc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strategies for information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 ways of organising after a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es within multinational 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laboration among Voluntary Sector 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9C688-0727-4843-9D46-0A9152194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9012CDFD-311B-4C1A-B880-29E95A4C2B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F4683DA6-AACD-4458-9F1A-B70617AE0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7C9CB-F98C-422F-891D-2C941CA1D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58E7DF7F-8E42-40AF-9E9C-B720E215EA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EC100-007C-4EAB-B340-3EE83A27A9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E4DB4-BC33-407D-8C04-BE529E4059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49DE8B19-CB25-4296-B8CB-5E2016F5E0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E9C89-0EBB-48A1-8DF6-C896AFDFE8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4878F-6408-4242-A39C-1856B726B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2036C-5830-49BB-AE70-3EA5E319C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CA507-EC1F-47B7-8847-24395C57B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DD8763-656C-4FBE-BA0C-2B1F6185A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7A369-39B5-4199-9970-578D1C59E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4D977-9CE9-4F8B-9F94-CEF0EEDF5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32046DE8-434C-4C3C-B590-6B32F4E31B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0C915-850F-4B85-B612-776A90142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D7478-15A9-4448-9677-0C015E3A8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CA48-59DA-4A5C-BED2-B07D6772E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66F3B-E258-42A0-B873-009F66111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7EBFC-FB74-4EF3-97DF-E09BA3A47B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C30994-E562-4DA0-A278-44176C2E1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207CE-66BB-475E-AC7D-780BBBD999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0E82B-E73B-4B76-8058-30162C1BA2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037CD-F127-434E-BE7F-39489714A2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0B2A88-CEF9-4474-8A84-691636A91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C5069-F7D6-419C-94C4-A80A35041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8A691-CEB0-4807-94A6-387C349F57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C87B64-17BC-43B0-9A75-5F404120F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2E07E-2C67-4EDB-A0F6-0A9FC359B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7344F-D4F2-4EC5-B9C9-32E441C536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4495-C996-46C7-AD87-C05857D2C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7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BDCD7-45E2-4E4C-9EC6-73390BCF1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0D9B-B46A-450B-BEA8-C74CFC6E32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84476-CF87-4E2C-9084-45585AC5FB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1CDE6-D0AF-4834-9893-25DB67B3EF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Text Box 1"/>
          <p:cNvSpPr/>
          <p:nvPr/>
        </p:nvSpPr>
        <p:spPr>
          <a:xfrm>
            <a:off x="852480" y="75564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E50C9-C7ED-4BF7-9023-93A478C226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27EAD-9B8E-49C5-A730-863DA47F4F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E80C47-7E51-469A-A558-F47C71978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9C1E-39D6-4ED1-A82F-24EC9CBB2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35C0-2C48-4388-8F6D-EF0182D1D5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32660-16D1-406B-8116-20F37B251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747E8-B19B-4735-9C10-48D3D6333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E3BE7-FA10-4994-BE83-D5A35392AB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3247-6619-421B-9295-986BF50167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B69F8-B27E-4316-B96F-1588FD4A7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5E2F-F3ED-4552-86FA-2613258A1D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8C41-3989-48F7-9537-A8D534867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62F81-CBFA-4FD4-AF46-493BA40A4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3F0C4-97B5-4F8C-87AA-1024D09600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8ECACB-2C40-4371-89D8-02311CC28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2708E-E346-4297-9C2B-007B55D6ED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E4643-2B5F-4CF8-8711-B48A6E749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27233-31A8-4720-A7B3-B7003E2D04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75AF0-8B18-4DC1-8DDB-5038C3104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39356-DC68-4553-B2B4-EEC3F5AD6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6BD30-AF73-4327-B6F9-45CFC629E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A6C7-02E5-42F1-97B3-FEBE892CB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2FD34-B22F-43BF-A4E9-B2FC9045A1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5424A-85B6-415C-B37F-E7047F4E48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9CD65-3DAD-4A42-B388-C9D29AE6A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Text Box 1"/>
          <p:cNvSpPr/>
          <p:nvPr/>
        </p:nvSpPr>
        <p:spPr>
          <a:xfrm>
            <a:off x="774720" y="812880"/>
            <a:ext cx="601200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6BB7-2916-44A8-8611-53AE579765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310C-778E-49F2-AB5C-449A72CCC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4329-15A0-4C78-98C9-123965A61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ABD8-6305-483F-A794-7B8F34D020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C1372-FA58-4EAC-8CFB-FFBE05B47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D7612-285B-4DBC-BF77-E6BBA2D7DB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C52-4337-4C6E-9E1F-2ED19022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888-59DA-4967-A392-29AD5492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D99DF-1512-4F4C-88D5-10C2F7F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017F7-5E06-4EB6-A917-2F76DDD2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5C6A-15DA-4C8B-BF69-DE2E61D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393F2-46FC-43A6-AD08-14F038A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F8F19-67F6-4013-A759-05F98D1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FC5AB-54C9-43DB-A450-5EB1946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D213D-A104-431D-9089-25F44F89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22AE2-2D6E-475B-8904-813C63D2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F184-2747-40ED-915C-33574BD0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3469B-6926-4055-A96B-5954B6B4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E07-69D2-43DB-BDCF-104EC78F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40321-DE43-41ED-A5CC-3933EFDA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FE3AD-F738-4194-8F2F-CAD739F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EBF4-B891-4FEA-817F-65D5A948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67729-1AA9-4F1A-809C-71325668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D78B1-8326-4ACA-BD9F-3A4D5908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8D099-B140-46A6-B6DF-590681E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7A8A8-DAF0-4567-984F-FCCD8DB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5464C-947F-4837-81DC-5B8B686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84263-82A7-4DC0-9638-218D15C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D6251-3CF7-4712-B464-3798EF96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95A-4A4B-4F3B-B8E9-4304E5B9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DD5C3-575E-48A7-9832-6FAF5158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C4FB-BC8C-42C9-AACC-83EE1DD8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BB27-8C3D-4215-9FA4-792DD7D7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213B-C20C-4F6B-B276-D820BB8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A28AB-BB4F-453D-A76A-2282798D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60BC7-1016-4372-9EC2-372DD318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60405-056B-44E6-A610-94F02C33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40B77-79A4-44CC-B074-F07D28B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70CE5-FAE0-4CF9-AC69-312FC9D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1009-2374-4AFA-97FE-36376C8B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0626-DDB0-48FA-AF2D-8CEE20A5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04607-8135-43A7-B00C-38C1E191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2A871-2928-4BE7-963C-CD2EA77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64B0B-A3AF-4DBC-B1A6-F7FA129F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3EC21-0A74-411D-A7DD-23D65758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5F1B8-2685-4B2D-8A26-9E2D3D3E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5DAFF-D1AD-4CAE-B8CB-62458ED4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0E8BF-3506-46D6-B4AE-8049CD11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B0377-7BC5-48BF-8F35-BBF72084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2CC4D-18BA-40E2-BEF8-5F3320BF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77966-7A0A-490C-8D8D-CE99B55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023E-A551-44ED-8242-AEB057AE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3A5B-778D-4819-813E-769ABD5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9F94-E3E0-4299-9B23-C553C19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1E71F-C48C-43B3-943B-92341FA9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B4931-F2DE-4C57-8522-07BC4940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B3B23-2394-44E3-AAA4-D70185E1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3F28E-48DA-4CE4-BF5B-6CF49A86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20D52-9312-40F1-8140-630F5C8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2ECE2-2581-450B-9608-314E4185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A7BBE-6C0E-4EF4-8EDF-328B3D82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06486-0CC9-43A1-9351-956124F2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AA6-63B8-4553-884E-B6B3A0A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EE33E-2E00-418C-AE71-C8EF4A7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ECF35-8A6E-4F65-8E7B-2A9667F3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749E0-4F9E-4348-BF35-EF07B92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02613-A79B-47D9-9143-1002D196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FA399-B560-4D15-870E-9C52E25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DCA72-8AA9-458A-BB3A-12FFBFDA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09B42-CEE8-4174-B309-E77168C2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5E755-4E4A-4D97-81BB-6C78CE9A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A9D94-19E5-4489-A9AE-AF10866D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94381-8657-4D6B-A1B5-E7709E1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55D4-942B-4750-BA81-8C55F24E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A9500-CECC-47F2-82F9-C064BA00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8B163-E1FA-4541-A5DC-3E4C3C11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DE3C3-AEA8-4FA8-B227-A55F5056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A6A42-AF47-420C-BA41-AC46C12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5E117-5190-4B88-9314-206D2015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02E2E-C2FB-467D-8012-BF5B449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82E54-ACCD-4550-9B4D-2D18E15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AA738-BAC9-41A1-A980-5B394D90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54C3B-4EBD-4AAD-B095-5C67CF9D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93738-25C3-4813-BDDE-328BB972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CEA0-D490-4147-9CF9-57E69E54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FBDEE-BDD2-4EF3-9501-6037736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C662F-34C4-4DD3-AC39-EA0D47CD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F926C-089F-45FB-8570-49333EA5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F93CB-83D6-4E34-A2CE-8F66F3A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E6064-00AB-46FB-A98B-C92758BD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0364F-77CC-4747-8BAF-A5AFE2BC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D5120-918A-4369-A71F-5DC3D94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59982-09F9-4385-B177-7730D53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A2531-7817-40A7-AD80-55AD674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87319-F043-41A3-B9D1-96A4548B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E915-C81C-443F-B0E9-0C6D45B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89993-4F1F-4DD8-A17E-46577ADB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C7953-3944-4C86-A1B6-75C35331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033AE-0351-4E1F-AFF7-B3C7FA51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85097-8930-4A3B-BF3C-EF5D470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AF62E-D7AB-48EE-AE92-9EC4B79F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A6836-E1FE-4602-B656-878601D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6D943-45BB-43AE-BC1F-633B1B4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5EA2F-9B14-4424-BE1A-2F90AC8E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03870-D32A-494D-8639-937D380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BB7A7-A998-4A1F-B5BB-4B5718F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40AA-094D-4598-8B3C-EF33D85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6B194-659D-47DB-9C10-0F0BC003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BB5C0-4F7B-48E4-89AE-B23F97F8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4698B-3501-427B-B545-B4DAAB5D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42A97-A780-4FAA-84BD-AA63E0C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CD4C2-F180-47A5-A55D-029B1BB6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ACAB6-EA73-40FC-9E2E-AF95BB8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2CC97-78A9-4EDB-B7FA-039E27CA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BBEAC-4BEA-4CAC-A064-144C5D6E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AD07A-8A9E-4D20-9007-EC53B647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E6B2E-A532-4D27-AB3E-9BF3656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AF6-1D6A-4F41-9228-54D2EBED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6F7-C847-4A6E-AF98-5507F1E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35D1A-1239-4F91-A7A2-C5033F4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0BDFD-2078-419E-936C-8A6F352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07827-3ECF-4EE5-924C-33C45FE0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D758E-F973-4FD9-8D2D-9A824949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F06A3-BE46-4C6D-8E23-1DB56EDB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C0A77-D4EC-4218-974E-29AC038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2D2F4-BF61-48A9-BAE7-8E04A870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E0703-AC65-4991-8235-F92399C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96F64-6D88-4A14-AB8F-4522B2C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953EF-C227-4C17-9C07-3F18005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BD67-1DB5-4F90-B504-8924FA9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2C1C4-58BD-4570-96B8-EBF3106A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82830-6F04-4F22-805C-2701996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1F700-3228-4055-8789-9ABE29D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B87D9-92A7-4EF8-BFF4-91F2A619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BA185-4704-41E0-9609-E8ADA5D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94A84-14BB-461E-BE63-04613464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B8E6B-4B9C-4585-834E-F59968A3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A583D-BA63-406C-B936-6BE4763B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A6383-123E-4446-9F9A-8C7D5D9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CA341-F39F-4914-83F8-062C74B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6CB1-D6D7-4A1B-A42C-0C888CE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7838C-CC66-4323-B0DD-D80D9FC0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F4F6B-3F51-4771-B189-9EEC8DD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0BD1F-6B0B-4192-84D4-CDE3AFB0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89820-0BF4-486D-B397-E81AB37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7E332-1A9C-4221-ACFF-30ECD47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B9319-5019-4918-AE76-A7322A0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ECC81-BFBC-4FCF-A31B-97FA6E40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F02AD-AD9F-4AD8-9CA9-7D7FA096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3ADAD-B0F5-4A92-B4AC-2FE759A6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57E5A3-9BD9-4E35-A1B4-C5A0A357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6C6C-72F2-4F7D-A950-7FBC263D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0C1DF-DD34-4FDE-9C00-9ADB4F39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710C3-89B4-484F-AFB8-5ACDA5B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7C720-C98F-4C26-B74C-064843E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7B359-CEEA-42EA-90A1-D64DDA3D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8EE02-005E-402E-9A51-0AFA81F8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A4FA3-F4F7-475E-BF10-DCE216B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059A4-3719-4482-B4A8-7CDD369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F64B4-7071-4A8E-96E5-2DD84A40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51E11-A468-41A2-B31E-E95C2175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C025E-EE11-4409-A364-2A1FC29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5774-94AB-441E-BC23-A5AC9D61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8CFC8-CD18-465C-A358-E36B76EA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0E508-C9E4-4F8C-BFC1-1BFFAF3B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53AF5-1C2D-4EFB-94D5-FC132E62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AAD32-B2EE-4269-AC1D-C140C9B7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34ED5-7B17-4BD5-BCF2-27BB3A52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B9C22-F9F7-4C77-95E6-6BAD5322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AB45E-A6DF-42FB-8AA1-25CB0792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E165B-6D0E-4EBC-A9FB-18E07E1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43003-7C9B-441D-9646-E8479ACB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B8565-8BE2-4AF3-A96E-A37897A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D921-86AA-45CC-ACFF-07047D12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4F213-79E2-49E0-AB09-F27C4FF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7CC90-A5C6-4062-BFAB-B4FD4E47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D08D7-B12A-4004-9191-661D639F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BB186-3AC0-40A9-8FCB-9D75D1A2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C20CA1-9D30-423E-B5F8-4AD3E4A7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AA7873-AA46-4511-AC4F-594055C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A2CF25-F352-4710-9034-A045CC2F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160EA1-4451-4F21-8EDA-5C58F3F7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A67F51-9069-49B5-A8EA-BB6392C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76514A-F6C3-4483-B3EC-CC16877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F4A2-FE0F-476B-BF9E-F95D32E5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9C124-6A88-467D-A742-EB23738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37080-8065-445A-B08D-891B455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57ADE6-3BF5-4338-BCD3-FC712D9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E81BA-A99E-4A0F-B5F2-BAA013AC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8D29CF-471E-4EB8-89A9-3D4D6ADC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022A21-57A5-4DC0-A462-F17CC724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C6B857-C327-44E8-AFE4-37C50B0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DAEC5E-0196-410D-A633-E47C1A2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4B5DCE-B120-4C52-9D1B-AC242F9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B63F7-D39B-481E-9C5E-0B5B2CE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FE59-EE67-4EF1-8580-3FC6F4E7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B42A1-216A-4E11-AF7D-A1EFB63A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F5033-2B26-49D2-A1A7-CD637115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91D5CE-EF53-43BD-91F1-5B637C1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9B6E81-4F72-4B92-A28C-3B7DB9A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5C140-9BEE-4172-825B-5839801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24F67-9988-47BE-9806-046BBBB8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0E811-6F3A-40AB-961F-8C7F84A5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4880EB-CB40-4D22-8C28-F023879E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98746D-B33B-400B-8DFC-8C9DD08D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4D2E8-E45C-4AF6-950C-B3C84BF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B67F-D911-4597-B05E-0BD8D1D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F7E1C2-6414-421D-9B13-39CF457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8E78D8-C801-4E77-88CB-05BFB8D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AF315A-FC99-4F5A-A5D2-3B1900F7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09280C-497C-45DB-ACD5-0BEA859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EB4BC-3449-4D9B-9866-547F53F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13067-480F-48E4-A99B-1298FD9B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F13EE1-D1CC-4148-997D-7B01C97A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50B1E-7EF3-4D06-9EB6-5BA890A9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BBD191-49BE-4A13-885F-F71AD67E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E1C3C-9F5C-4477-AB49-5B9D330C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63A7-4319-40DA-935A-4AA39EA1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C2ABE9-B0A1-49B3-80E6-7A01029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0667B-DE8C-4445-BAE1-95EB65D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56284-B767-4F03-8C92-8059222E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AF5170-6B5A-4B36-BD0F-EFE0B08A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38CC8-DD5B-4621-9282-BF56D574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5D274D-EC22-4DE3-A934-16302378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0F99DF-563D-438B-A9F8-D58F20D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66C9E8-2068-4B21-ADF1-8DE1B373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C1BA8B-28FA-4A23-887C-9DBFC808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213C38-3C51-4A42-B7D5-37699A59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B21-1382-4011-AF3B-EA08150D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46E0-C26A-4E9D-B393-6723BC7D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1CE785-B29B-49C6-A7E8-187C349D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526874-EFA7-4979-AFC3-16F94125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DC91EE-9516-4233-B559-ECB1EDE9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FAD232-4F5A-4860-A5DE-DDE6BF51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64963C-DF90-484B-ABFC-27D87353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FD6C49-2617-4E5C-8BDB-BAC22098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CC74A6-FFC3-4833-8FDB-EFDA6A7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402FB7-8625-45AE-A71F-E90C230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607F15-E59C-4DD4-B4C4-5FF96D3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14E070-FAE6-44CE-B96B-86CC978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25EE-6B7B-44C7-839A-0AC37CD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613624-5CCD-41EC-8530-278465DF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CCD19-FC5D-48A1-A6FA-6862830B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7662CE-0B63-4E38-9AB3-E9CD9AE9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3F1504-0E9F-42AB-8D81-CAAF6D30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EC346B-91A3-4DDD-8B24-1985CBCD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F96D07-A78E-43FD-A489-B8CD1CDE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5759C0-A2DB-44AE-A600-7058518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662A1A-19CB-428F-BD76-378D861D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850ACE-75CA-4DF7-AA86-B6996019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8344DB-A1C5-4ABF-9A47-9D67795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FA14-A9F6-4431-8F3D-34741437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747C34-961F-4493-9812-4B3C0D60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B1DF65-6BDF-482E-B78A-3318E95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61B748-1113-44CF-9D6D-DA885A9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C94331-A18D-4158-9C07-0D91673B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2C0B2F-418C-4536-B0E2-BA85F1C2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816651-92A3-4024-84C0-2168506E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A38CB-AFF6-4ED1-92C8-4495F8A5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B83D56-EB52-44BC-AA08-6451678D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13CC7C-340C-4D62-83BF-E3022026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A99CD-DE6F-4578-870D-6C6AB7CC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1F9A-7298-4EFB-A9F4-7053BA7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69F148-D55E-406A-9062-BE10BF2F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17709F-1BF6-4FBC-8E15-09B475A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82457E-FC43-4EAD-A4CE-0AC6C7B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DC455D-24E0-4EDC-8B38-4AABEBC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3F95D6-6AAA-4CED-9909-54B2FD5B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F56049-63CA-4271-AD75-E69D653F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BFB32E-3B53-4253-9BA2-C4A5208C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2AEB7C-AB50-43FF-ADA3-560E411F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B383AF-CE7A-426E-8C06-2219A179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E26ED7-A5E1-4106-A2D7-0BE070D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2DCD-65DA-4DD0-A178-8B576FF5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E0BC10-D8F0-4329-8914-B172DF85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498DAE-8E04-4278-834B-CAA7942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20A66A-4F72-4B14-B591-7BE9D73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8347BC-94DA-4391-ADE5-424CE8D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2FC5F4-6206-45D2-9637-2A1FDCA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6B1B72-D5A0-481E-9845-C25A3AB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8C62DD-C246-4146-8FCD-F698A697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F07C64-9D3B-4561-B6F8-C2C053B6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A07361-1F45-46BA-A3E8-1182E6FE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E52511-C181-4585-BB18-5E8CF143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A560-798C-484C-A93F-4DA3271C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2E5647-7D97-43EC-8F62-FDBD45A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21A095-7809-4324-825C-EFEC8AE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E49B02-36AA-4B06-AAE4-E3ECCB5C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F52C2C-8966-4A1B-8DF0-77D78759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CE9BBF-10EB-43BA-97A4-E3EA17C4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C8ECB1-7FFC-49FC-AD9C-59B9C89B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1DACAC-AD44-4CF8-91C7-AA203CF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1CFD0E-6B5F-49FE-9CA7-24BA4D7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FA4B7C-8398-4D0E-8910-FD7F39F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E59A52-6073-45CF-A765-F4FD388B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EEA9-D97D-49FB-97DC-0C8AD725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C7D34-2C5B-4E63-AB0F-78849AAB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E3EB0D-DED7-48F5-B9D8-C12278A8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E725DC-E63D-4BDE-B4FC-BB15048E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617F8-7A07-4D10-9BB4-C19F7DF7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D5F44D-1A88-440C-A53B-3EE8889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1FC778-12F6-4905-95F4-54F4CDB5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896840-7EC0-40AB-85EF-10CF2C9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DFBB84-2376-46FD-8F51-31060550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B489FD-6925-4F70-ABEA-BBC2DC24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12DE2E-B018-4A49-B2C6-1505C41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52B2-BC46-4AE0-990E-39BAF543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FF9C0D-4FA3-4446-8953-738BFD1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423141-2975-4BB9-B9B4-435194F2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E916C3-1FD4-42B0-8ECF-A51AB018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BFBB11-4A68-491A-9DA5-076DB7EB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1EAE9C-6977-4607-A764-4C62A952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804D6D-2F48-48F2-85BE-EA1D60C5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DC3A2F-242E-44D2-A367-3713F649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3EAA43-65AD-4A08-86E1-33E29019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B4BD4D-4610-496A-82E4-1B6D7B4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CA29EA-22A9-4BD6-A9A2-C97ACF94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67BE-C8DF-41C6-8499-9145A2D4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992144-2129-42ED-B491-C4D3FA1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2CF088-10DA-439B-B0AA-6693F95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7696AB-3098-437B-A76F-AAA7CCA6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FD63DE-56B2-4632-9F14-16EE81D3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1982E7-824A-442B-93A4-B8FF614C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3CCBAA-4766-416B-8907-018E8B0A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B6C3AB-8085-40A6-B678-23A25117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6E51C6-CBE7-4814-ADFD-BE052F06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53F612-CEBD-4700-BF43-24DB08F4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862883-9926-46A5-B5E6-A9D7E855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DA4D-ED77-4E55-BFA3-2950C06D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459DB7-748F-4E0D-B83A-DE23B5D8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680654-7560-493F-8130-910C0FF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87C423-C2DE-4F40-9032-6B23A7F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0F26F2-16C9-4DBA-ADEF-3CBF8A0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AA0CEB-9360-48D1-8258-2D6709CA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0326C0-D76B-41AC-A557-23EB1E78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693B13-5AF4-46C8-AD0B-811625CD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BD2626-3DA9-4012-A26B-DD7529C8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0FA9E7-18C2-40E2-BC38-5E434124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1C6F16-5753-493A-A46E-75440C8A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1A8-47CF-446F-969C-E5C76BCA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8C7D-5EBE-4E11-83BB-7CFC73FB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97CC16-0EAF-4ECB-AC63-D25492D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A969EC-A923-445C-8C1E-04D562F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65E60-5129-4C8B-8CA7-1C852677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41A68E-2EE6-461F-9977-09313DD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3A2E5E-6673-4BFD-BE63-6747D1F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C160F5-21F6-45A5-AECE-51A3618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B15032-AFF2-4AB5-947A-F9E6AE1C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62C52B-F269-406C-917F-B04DDF19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5F4C32-A73F-4112-95BD-ED3CC457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08DAF0-B135-4D7E-BF4E-62B26470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39B0-A8F2-4B35-A5AB-C573452A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AC39FF-258C-4728-988D-808468BC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876789-ADAD-4E25-A9B9-7738F581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97FFE9-AF9B-41F3-A198-747FBD8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02C5B8-599F-4433-80F7-30179F0E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A36B1E-0D53-4BAF-AEFE-2890717B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7575A0-36B1-4C37-99C1-A088F4F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B0B3D1-72EF-430B-A262-9E125EF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93EF7C-B0CA-487F-B169-579579C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B788FD-286A-4B6F-802D-24B152A6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B20E36-5CD3-4B0B-BDB6-63657026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CAD7-C99B-4043-985C-1DC5B2B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15000A-D10C-4080-AA0E-E032F08E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D2A98F-A1DA-4611-AC1F-248C3804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18AB2A-A285-4535-87EF-080B2E4A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6220DD-E797-40B3-B3E2-48809BC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AF747E-B7CC-4E51-8C58-7B66A6E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6C3481-8D19-46B7-8B61-2F945481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B8DABE-6355-4660-B3AE-3D9E707E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7D7B69-8CC0-4FA4-A827-A7F3F50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137099-0B09-4FA8-A01D-B20F20C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5EF371-8CCC-4102-8498-0B2F747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0E6A-0B0D-4F93-A5B9-DDBAC08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180F6D-C6E0-4A1C-BBB8-4C0BD91E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801C33-F288-4734-9798-AF70B130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F298B6-9B91-4577-96FC-2B3B3C10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3A6ABF-FDB6-433E-A626-46D01A50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F271D8-3AB5-436C-B167-D80AD881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3A20B3-F815-4BE6-9782-619921A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52DBC8-2D7D-4069-924E-927C65E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152EB4-4E3C-4E15-84E7-802E0903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F725FA-EA0E-4BFE-B98C-51FCC62D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E081DE-25DE-42FB-B226-8C428CB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2A65-EA55-4144-AAC5-F553C36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AB23DC-1B7F-431A-9897-18AAFBE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369731-AC7E-4F4B-91A5-CE78DE8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70370B-EFE0-4127-AF1A-CFB3948C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9F00FE-C81C-4126-8F5F-44E921EF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C829A0-8EC7-444D-A3B9-C7D05DAB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0A4638-6E0D-4DC3-815D-9812F235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4311CF-C08B-411D-B97F-0307C9C3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A0F9CE-2649-41F6-AE7F-2C653612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8844CF-6AFE-41E0-9D99-9B91AC4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8527C1-C71E-4F01-B116-4BE5EF1F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B449-0616-4F8F-85C4-BEF4CCF8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292534-7747-49DA-AE83-C7F752C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ADA37D-12A2-4734-95AD-B81E563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D83AEF-28BD-48B8-AA5C-90DEC46C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999F97-41AA-4A44-814E-0123F51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02A3D3-08A0-48E9-89C1-C846EF9E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8609FA-69E9-4938-97D2-8E2D9930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88FFDB-3411-45FA-8370-F798FCD6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B8775A-7DCB-4F2F-A029-FBDE609B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3A35F0-715A-4474-83B7-40ECD199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962C74-785C-4BD0-92CD-3E8691D6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DC60-4119-4C3E-B132-60B2B72A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339EA6-48AE-41B5-96B1-06945D20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104C20-107B-48AB-959E-0B22147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BB47D7-D5D2-4BCB-BFE0-2ADF699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2BFFD8-B513-4FE3-967F-A98ABA7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236287-E844-4C63-BC9D-53411DD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A78981-8501-45C4-A3F9-5E36826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A00E41-533A-4D22-B5AB-D7974424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B895E2-EA48-4A89-98D8-EF30EE70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6BDE73-92B2-4FD2-B8DE-1CF76E08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425245-AE62-4EE5-A9F4-2EC0D997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9935-B5F5-4CB1-9D38-732E249B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DDF4C5-A67C-407F-8953-098DD3F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5BC543-14A8-43D1-AB07-8E0B80EF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C68696-4134-4C90-87B3-4D2285EB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B59B2A-44C5-478E-A75F-0B05556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D71DAC-B1AD-4D41-A009-25ED0B9A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177E13-250D-4EA7-ADED-16BDA3E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DECC02-E5DC-456E-9414-527755F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E5EDBA-5912-4EE5-9E38-80B8362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231EA4-E692-494D-9DBE-84BDB31D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98C0E6-BE9C-4B49-B67F-76E6F266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692C-F142-4A67-9305-AD8691BD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0C18FB-FA23-46F7-91F8-FD426BF9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839517-B815-411B-B28B-97CFC4CB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E1D27F-4FF1-4A2C-8813-048C924C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E774A8-7C5F-4505-82AB-12DF7A51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A49559-EB79-446D-821D-A2B5B09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666C89-4E8B-4747-88B5-06B6BB1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CE40A5-4096-4191-B356-E43FF60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19D111-2514-4377-89DA-6E1C9B1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15E93A-80AD-456B-9094-A6C0F34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DCFF4C-BACE-4505-AB62-BD74E32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B798-2793-441B-899C-A48CC281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53FB28-C537-4F9F-859D-8B43440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D16C9A-3697-479B-8024-9345454B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77B3D4-3C9B-4478-98EF-2BD45CEE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51DD46-9BFA-4D23-B9BC-B12C14AB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88DC09-8EC7-4454-BFA3-065D263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C99D34-507A-4212-A232-12B2EB8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7D7486-4D1B-41C7-8C6A-9A84593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64A9F3-B1F5-4013-9909-A4A1801B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570418-46B4-4C72-9D2C-6EF6ABB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E9C578-6151-43A8-9FC4-A3AF15D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810-242F-42C0-988E-2A388E7E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B76DD-5528-4621-A44E-0F821B4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31C50E-D2D1-4B0D-8BD1-7F92092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C37D16-4D3B-4489-962A-4B8851D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F412BF-B4F0-4824-A939-1C6FAB7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EB6F7B-D2C0-46AE-8F07-D9683C6E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BD0B8D-6002-4100-8F46-015F84E6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5241-5887-41A8-9772-B3D0B8B1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5517-FB45-4C40-B133-6F23DAA2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556E-9936-44D6-A81C-6B953F9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A460-8384-4C37-9BBD-1E632186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91C5-0480-4DD7-A660-98F28ED3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4A5A-5AE7-46CF-AB4D-DEB780B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EE37-CCDE-4187-948B-6A40DCC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9E466-6A33-4CA6-920E-C9F38DB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3B42-2CEC-4E17-B2EB-1B8F0D35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F4B-80EE-4E54-952D-BB25792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D058D-4F60-4E64-AD2A-77FFFAD9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734A-755A-4214-BC15-87476640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E050D-1B02-4200-997A-01F146C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264E8-CC43-4CAF-83D3-7594D770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C06A-79A5-4829-9E2D-BA208D0C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F38D3-3DC6-4FE6-A557-E3807226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326A-4C1B-40FD-830D-AAAD51AD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AF45-ABB3-4917-8AB0-9EB66EF6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D4EEF-B6FD-4C70-889A-9F7F5DF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AA87-0733-48B9-BC4E-77A133AB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0F3-4270-40CA-B830-6DF1EA7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75DBA-CF98-4FEA-B5BA-F305F6B9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F8940-D122-4432-B76E-AA6233AB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3C9B-1D56-42E4-8DA2-E87A6135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497F-C9C3-4168-BF8A-C2B131BD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1090F-9F8A-4285-8702-0B39288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36FB-082B-44D3-85D3-58BEB958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11844-4248-4A54-8174-80B72FE1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83C1-E02C-4FDF-8547-DA2CF38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1F8B0-BA87-4556-96E3-B949837D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DC9D2-D083-4926-A434-BE3DC7F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CE8-1388-4DBB-9AC6-B3EC333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2C68-1E77-4F6F-BE2F-24ED1A9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3AC6-6663-42B5-B2F9-12E52F14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57997-E7BF-4DC9-8428-A239396B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9E24-32F3-44BE-964F-8A9E56DB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0C41-72AF-4E8D-A691-3BB7B973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54C8-9558-4F85-B73C-12F36755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B04EF-75DD-4DD8-95BC-43E8620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9E964-3CFB-418F-B89B-57CBABB8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E93A-AAB1-46AF-A9BC-41CB0544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796B4-D182-4A4E-9EBC-D2D8C6EF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B57-D943-46D4-94A4-882FC2D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12E6-3B44-433A-B2C5-59D4B3AE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AD4C9-7DB6-4CFE-8B63-F5F66C0E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657A-2DB9-4B54-BC54-13AEF80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53A3-BD32-4E29-BF5D-EB32122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8EE4D-137C-43B5-9DE7-376F42F4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F35B3-1D2D-494E-8060-57B81D2C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3421-2D38-4876-BED4-F95D5C66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E37B9-1EBA-4952-B080-40B4BE3D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2747C-9014-4B57-BD65-3499D572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F5576-4415-484D-9C66-2572E6F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8520" y="6325920"/>
            <a:ext cx="2249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</a:rPr>
              <a:t>11/09/1005/1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800" y="6325920"/>
            <a:ext cx="3066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25920"/>
            <a:ext cx="2249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A764-BDCA-4C41-9CC7-E300A6A7BCE8}" type="slidenum">
              <a:rPr b="0" lang="en-GB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4E2054-5B7D-402B-8269-F9DBD46E1D0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FBF90B-D3E3-428D-BBDD-68A0AB0C3E66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24FB90-FA2D-4D33-982A-760C888C9BEB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BEDA48-FEC2-459B-B5D5-78C75D9DFAF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AA8D1A-D2AB-4881-A36F-597F20999696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ACBA8C-50CC-4708-9943-B174FE45688B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280AF8-72FD-4B95-93BF-11050CC1F887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438B9C-2B68-4CE6-B51E-98EE0C57581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F250FE-7FD9-4AF7-AC7A-A828B4BC1154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25D343-7552-4B8C-B983-37AE990E4F4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720" y="298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e3436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2280" y="6170400"/>
            <a:ext cx="2249640" cy="2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41520" y="6170400"/>
            <a:ext cx="3067200" cy="2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852040" y="6016320"/>
            <a:ext cx="5061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000" spc="-1" strike="noStrike">
                <a:solidFill>
                  <a:srgbClr val="2e343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2D0E42-8CFF-47D3-A072-0E872A6167D9}" type="slidenum">
              <a:rPr b="0" lang="en-GB" sz="2000" spc="-1" strike="noStrike">
                <a:solidFill>
                  <a:srgbClr val="2e343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EE719C-8722-42FD-AFED-40B73656C4A5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809A2E-7E3C-4AA5-893A-992C2CFCAF66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08A54A-539D-456C-A1EE-FED76586C1E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8DF16A-9B07-4D08-8789-31B6E2F5ACE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90771D-A5F7-4746-A062-D60ECFDC5D1E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1B77D8-FCF2-4CEB-B198-018BFD8A693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5D213C-2644-4EEF-AD96-B5EBF7BE3AED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8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23CEC5-5DB0-42E9-80B2-3B07C65C86F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C2460A-3049-47E6-A77F-7B8BCB4363F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A34C43-A69D-40A2-8075-2D3FE343EADE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F0306-0EA4-416A-B6FC-90FD128D1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9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0B54E0-191D-40B0-95F6-760982FD3D7F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DC0A93-6585-4634-A829-F0E96D81A63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2B0761-EE74-4292-B155-6AC4E2E3B816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7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8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9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919090-623C-45DE-9EA3-D51483EB527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100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1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2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C0145A-25F3-477D-B535-4E3FF5B3A3DE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3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4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5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F3DFCC-E5F8-4E16-8336-347AA9D7443F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6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7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8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D40558-6807-414E-AE71-163C8E28DF23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10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11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11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063A4B-8942-4D5A-90A6-AC15405EF29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dt" idx="11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ftr" idx="11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 type="sldNum" idx="11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6F4B9-4127-4324-AA92-B93D774F092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dt" idx="11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 type="ftr" idx="11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 type="sldNum" idx="11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8B7B26-5C6F-4385-A729-E4BF297E945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B133-45AF-45A8-A0E1-D8F9410D43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11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11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12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0140EE-2BEE-471D-BC5A-8625BBE2DEF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2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2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2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4AF586-AC5E-4E63-AF6B-25498D1F6D1B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2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2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2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FA6061-2F22-4BA5-8BCA-05761B54718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"/>
          <p:cNvSpPr/>
          <p:nvPr/>
        </p:nvSpPr>
        <p:spPr>
          <a:xfrm>
            <a:off x="0" y="0"/>
            <a:ext cx="9720360" cy="324000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35FB2-75A6-43DC-B982-7FF8B97957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0" y="0"/>
            <a:ext cx="9720360" cy="324000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5280" y="147240"/>
            <a:ext cx="87440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A8803-A487-425A-BC9F-4A3D1DF59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E3D7E-97A8-4163-BC15-225D3FF0460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8900F-A7DE-4DF5-9191-8781B8DA92BF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DB3FD-CEBE-424F-A176-AE5F0FF0991B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xRaUqgWPN0&amp;feature=PlayList&amp;p=D83AA0216AD6F393&amp;playnext=1&amp;playnext_from=PL&amp;index=1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rCeVwwu0Xcfeature=related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f57900"/>
                </a:solidFill>
                <a:latin typeface="Bitstream Vera Sans"/>
              </a:rPr>
              <a:t>Dr Lucia Garcia-Lorenzo</a:t>
            </a:r>
            <a:br>
              <a:rPr sz="4000"/>
            </a:br>
            <a:endParaRPr b="1" lang="en-US" sz="40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485640" y="1511280"/>
            <a:ext cx="87487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w people get organ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Picture 2" descr="http://images.travelpod.com/users/rebeccabrent/thumbnail.xlarge.4.1319001301.small-groups-at-work.jpg"/>
          <p:cNvPicPr/>
          <p:nvPr/>
        </p:nvPicPr>
        <p:blipFill>
          <a:blip r:embed="rId1"/>
          <a:stretch/>
        </p:blipFill>
        <p:spPr>
          <a:xfrm>
            <a:off x="0" y="2151000"/>
            <a:ext cx="3568680" cy="238140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4" descr="http://hesas.glam.ac.uk/media/files/photos/nurses-uniforms.jpg"/>
          <p:cNvPicPr/>
          <p:nvPr/>
        </p:nvPicPr>
        <p:blipFill>
          <a:blip r:embed="rId2"/>
          <a:stretch/>
        </p:blipFill>
        <p:spPr>
          <a:xfrm>
            <a:off x="3941640" y="3963960"/>
            <a:ext cx="2908440" cy="25542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8" descr="http://www.mobiletopsoft.com/images/news/chinatelecomm.jpg"/>
          <p:cNvPicPr/>
          <p:nvPr/>
        </p:nvPicPr>
        <p:blipFill>
          <a:blip r:embed="rId3"/>
          <a:stretch/>
        </p:blipFill>
        <p:spPr>
          <a:xfrm>
            <a:off x="3252960" y="2160720"/>
            <a:ext cx="3138480" cy="241128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10" descr="http://www.involvement.myzen.co.uk/crimages/people2.jpg"/>
          <p:cNvPicPr/>
          <p:nvPr/>
        </p:nvPicPr>
        <p:blipFill>
          <a:blip r:embed="rId4"/>
          <a:stretch/>
        </p:blipFill>
        <p:spPr>
          <a:xfrm>
            <a:off x="6773760" y="4184640"/>
            <a:ext cx="3138480" cy="232236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12" descr="http://www.romania-insider.com/wp-content/uploads/2010/07/corporate.sxchu_.jpg"/>
          <p:cNvPicPr/>
          <p:nvPr/>
        </p:nvPicPr>
        <p:blipFill>
          <a:blip r:embed="rId5"/>
          <a:stretch/>
        </p:blipFill>
        <p:spPr>
          <a:xfrm>
            <a:off x="-93600" y="3936960"/>
            <a:ext cx="4162320" cy="254304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14" descr="http://2.bp.blogspot.com/_5bwkxAXYLeI/SxkKg77H8rI/AAAAAAAAARk/1ezDXqaFiQY/s320/the+meeting.jpg"/>
          <p:cNvPicPr/>
          <p:nvPr/>
        </p:nvPicPr>
        <p:blipFill>
          <a:blip r:embed="rId6"/>
          <a:stretch/>
        </p:blipFill>
        <p:spPr>
          <a:xfrm>
            <a:off x="6353280" y="2151000"/>
            <a:ext cx="33670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Text Box 1"/>
          <p:cNvSpPr/>
          <p:nvPr/>
        </p:nvSpPr>
        <p:spPr>
          <a:xfrm>
            <a:off x="190440" y="258840"/>
            <a:ext cx="9043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e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5"/>
          <p:cNvSpPr/>
          <p:nvPr/>
        </p:nvSpPr>
        <p:spPr>
          <a:xfrm>
            <a:off x="455760" y="1130400"/>
            <a:ext cx="873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  <a:ea typeface="MS Gothic"/>
              </a:rPr>
              <a:t>Zajonc (1965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MS Gothic"/>
              </a:rPr>
              <a:t>Performance of simple and complex tasks alone and in the presence of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6" name="Picture 9" descr="C:\Users\Garcial1\Desktop\social_facilitation.jpg"/>
          <p:cNvPicPr/>
          <p:nvPr/>
        </p:nvPicPr>
        <p:blipFill>
          <a:blip r:embed="rId1"/>
          <a:stretch/>
        </p:blipFill>
        <p:spPr>
          <a:xfrm>
            <a:off x="155520" y="2287440"/>
            <a:ext cx="9333000" cy="40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Picture 2" descr="C:\Users\Garcial1\Desktop\girl_playing_a_violin_in_front_of_an_audience_1574r-09369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Text Box 1"/>
          <p:cNvSpPr/>
          <p:nvPr/>
        </p:nvSpPr>
        <p:spPr>
          <a:xfrm>
            <a:off x="173160" y="235080"/>
            <a:ext cx="9547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Text Box 2"/>
          <p:cNvSpPr/>
          <p:nvPr/>
        </p:nvSpPr>
        <p:spPr>
          <a:xfrm>
            <a:off x="468360" y="1079640"/>
            <a:ext cx="8783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ffects of the audi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 apprehension mode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ttrell, 1972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traction-conflict theor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aron, 198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lf-awareness theor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icklund, 1975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Picture 3" descr="C:\Users\Garcial1\Desktop\Social-Loafing1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Text Box 1"/>
          <p:cNvSpPr/>
          <p:nvPr/>
        </p:nvSpPr>
        <p:spPr>
          <a:xfrm>
            <a:off x="173160" y="235080"/>
            <a:ext cx="93661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Text Box 2"/>
          <p:cNvSpPr/>
          <p:nvPr/>
        </p:nvSpPr>
        <p:spPr>
          <a:xfrm>
            <a:off x="347760" y="1079640"/>
            <a:ext cx="901224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en tasks need interaction and inter-individual coordin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groups perform better than individua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iner (1976): Task taxonomy. Three Determinants of Group Performa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sk divisible or unitary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,  tasks where a division of labour is reasonable (e.g., production lines) versus those where it is better for everyone to work together (e.g.,  tug of war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ximising or optimising task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.g., where the task job requires people to do as much as possible, (e.g., tug-of-war), or where a particular quantity is to be achieved (e.g.,  pulling a rope maintaining a specified fixed force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Text Box 1"/>
          <p:cNvSpPr/>
          <p:nvPr/>
        </p:nvSpPr>
        <p:spPr>
          <a:xfrm>
            <a:off x="173160" y="235080"/>
            <a:ext cx="9366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Text Box 2"/>
          <p:cNvSpPr/>
          <p:nvPr/>
        </p:nvSpPr>
        <p:spPr>
          <a:xfrm>
            <a:off x="347760" y="900000"/>
            <a:ext cx="91915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iner (197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are individual’s efforts related to the total group outpu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dditi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group output is the sum of individual’s outpu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.g., tug of war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pensator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group output is the average of the individual output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 estimating number of pubs in Lond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isjuncti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hen the best individual performance is chosen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, a suggestion as to which restaurant to dine in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juncti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group’s performance is a function of the slowest memb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, an assembly line team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no task features or social conventions but group free to decide on its course of ac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 shovelling snow together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 algn="r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up performance worst than individu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 algn="r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on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 algn="r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ch tasks favour group performan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70000"/>
              </a:lnSpc>
              <a:spcBef>
                <a:spcPts val="363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Picture 2" descr="C:\Users\Garcial1\Desktop\social-loafing3.jpg"/>
          <p:cNvPicPr/>
          <p:nvPr/>
        </p:nvPicPr>
        <p:blipFill>
          <a:blip r:embed="rId1"/>
          <a:stretch/>
        </p:blipFill>
        <p:spPr>
          <a:xfrm>
            <a:off x="826920" y="503280"/>
            <a:ext cx="799308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Text Box 1"/>
          <p:cNvSpPr/>
          <p:nvPr/>
        </p:nvSpPr>
        <p:spPr>
          <a:xfrm>
            <a:off x="173160" y="61920"/>
            <a:ext cx="954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Inhib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ext Box 2"/>
          <p:cNvSpPr/>
          <p:nvPr/>
        </p:nvSpPr>
        <p:spPr>
          <a:xfrm>
            <a:off x="173160" y="539640"/>
            <a:ext cx="95472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otivation Loss/Social Loaf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illiams, Karau &amp; Bourgeois, 199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individual effort when working on collective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utput equity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valuation apprehen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tching to standard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ocial Loafing vs. Social Compens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Zaccaro, 1984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 Task natu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rrelevant or trivial task SL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 or possible to add to the partial solutions 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. Significance of group to its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mber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 ho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groups 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participants identify with, value their group membership 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. 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istic cultures SL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Hofstede, 1980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ectivist cultures 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Text Box 1"/>
          <p:cNvSpPr/>
          <p:nvPr/>
        </p:nvSpPr>
        <p:spPr>
          <a:xfrm>
            <a:off x="173160" y="235080"/>
            <a:ext cx="91868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2"/>
          <p:cNvSpPr/>
          <p:nvPr/>
        </p:nvSpPr>
        <p:spPr>
          <a:xfrm>
            <a:off x="179280" y="1081080"/>
            <a:ext cx="899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transforms an aggregation of individuals into a group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hesiveness  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sprit de cor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lidarity, team spirit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eld of forc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Festinger, Schachter and Back, 1950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ttractiveness of the group and its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tisfaction of individual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mbership continu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herence to group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Text Box 1"/>
          <p:cNvSpPr/>
          <p:nvPr/>
        </p:nvSpPr>
        <p:spPr>
          <a:xfrm>
            <a:off x="173160" y="235080"/>
            <a:ext cx="91868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2"/>
          <p:cNvSpPr/>
          <p:nvPr/>
        </p:nvSpPr>
        <p:spPr>
          <a:xfrm>
            <a:off x="539640" y="1079640"/>
            <a:ext cx="3419640" cy="46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group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tion of 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interactio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er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goals nee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depen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Rectangle 3"/>
          <p:cNvSpPr/>
          <p:nvPr/>
        </p:nvSpPr>
        <p:spPr>
          <a:xfrm>
            <a:off x="7020000" y="1260360"/>
            <a:ext cx="2340000" cy="41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Freeform 4"/>
          <p:cNvSpPr/>
          <p:nvPr/>
        </p:nvSpPr>
        <p:spPr>
          <a:xfrm>
            <a:off x="4140360" y="2160720"/>
            <a:ext cx="2700000" cy="25192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e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ext Box 5"/>
          <p:cNvSpPr/>
          <p:nvPr/>
        </p:nvSpPr>
        <p:spPr>
          <a:xfrm>
            <a:off x="7223040" y="1619280"/>
            <a:ext cx="195588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herence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6"/>
          <p:cNvSpPr/>
          <p:nvPr/>
        </p:nvSpPr>
        <p:spPr>
          <a:xfrm>
            <a:off x="3959280" y="341964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Line 7"/>
          <p:cNvSpPr/>
          <p:nvPr/>
        </p:nvSpPr>
        <p:spPr>
          <a:xfrm>
            <a:off x="6300720" y="341964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8"/>
          <p:cNvSpPr/>
          <p:nvPr/>
        </p:nvSpPr>
        <p:spPr>
          <a:xfrm>
            <a:off x="179280" y="6119640"/>
            <a:ext cx="741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Text Box 1"/>
          <p:cNvSpPr/>
          <p:nvPr/>
        </p:nvSpPr>
        <p:spPr>
          <a:xfrm>
            <a:off x="347760" y="1979640"/>
            <a:ext cx="88502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oup Dynamics and Leader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 Lucia Garcia Lorenz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ovember 201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Text Box 1"/>
          <p:cNvSpPr/>
          <p:nvPr/>
        </p:nvSpPr>
        <p:spPr>
          <a:xfrm>
            <a:off x="173160" y="235080"/>
            <a:ext cx="91868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 Box 2"/>
          <p:cNvSpPr/>
          <p:nvPr/>
        </p:nvSpPr>
        <p:spPr>
          <a:xfrm>
            <a:off x="179280" y="1081080"/>
            <a:ext cx="9361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gg (1993) personal vs social identity in group aggrega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ce betwee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-personal attrac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 attraction -the 'liking' component of group membership. Produced by self-categorisation (Turner et al 1987) part of the group processes that includes ethnocentrism, stereotyping, in-group solidarity, loyalty-rejection of disloyalty etc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Soci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 Box 2"/>
          <p:cNvSpPr/>
          <p:nvPr/>
        </p:nvSpPr>
        <p:spPr>
          <a:xfrm>
            <a:off x="179280" y="1081080"/>
            <a:ext cx="90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are dynamic structures that continuously change over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groups devel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Tuckman, 1965, Gersick, 1989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St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 N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. Perf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. Adjour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2" name="AutoShape 3"/>
          <p:cNvCxnSpPr/>
          <p:nvPr/>
        </p:nvCxnSpPr>
        <p:spPr>
          <a:xfrm>
            <a:off x="5435640" y="39974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2" descr="C:\Users\Garcial1\Desktop\tuckmangroupstagesmodel1.png"/>
          <p:cNvPicPr/>
          <p:nvPr/>
        </p:nvPicPr>
        <p:blipFill>
          <a:blip r:embed="rId1"/>
          <a:stretch/>
        </p:blipFill>
        <p:spPr>
          <a:xfrm>
            <a:off x="727200" y="1109520"/>
            <a:ext cx="826596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Soci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Text Box 2"/>
          <p:cNvSpPr/>
          <p:nvPr/>
        </p:nvSpPr>
        <p:spPr>
          <a:xfrm>
            <a:off x="68400" y="1081080"/>
            <a:ext cx="911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as dynamic structures that continuously change over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Line 3"/>
          <p:cNvSpPr/>
          <p:nvPr/>
        </p:nvSpPr>
        <p:spPr>
          <a:xfrm>
            <a:off x="1127160" y="2160720"/>
            <a:ext cx="144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7" name="AutoShape 4"/>
          <p:cNvCxnSpPr/>
          <p:nvPr/>
        </p:nvCxnSpPr>
        <p:spPr>
          <a:xfrm flipV="1">
            <a:off x="1126800" y="5698440"/>
            <a:ext cx="7615800" cy="59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8" name="Line 5"/>
          <p:cNvSpPr/>
          <p:nvPr/>
        </p:nvSpPr>
        <p:spPr>
          <a:xfrm>
            <a:off x="8640720" y="2160720"/>
            <a:ext cx="18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9" name="AutoShape 6"/>
          <p:cNvCxnSpPr/>
          <p:nvPr/>
        </p:nvCxnSpPr>
        <p:spPr>
          <a:xfrm>
            <a:off x="2339640" y="2192040"/>
            <a:ext cx="29160" cy="356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0" name="AutoShape 7"/>
          <p:cNvCxnSpPr/>
          <p:nvPr/>
        </p:nvCxnSpPr>
        <p:spPr>
          <a:xfrm>
            <a:off x="3780000" y="2177640"/>
            <a:ext cx="57600" cy="358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1" name="AutoShape 8"/>
          <p:cNvCxnSpPr/>
          <p:nvPr/>
        </p:nvCxnSpPr>
        <p:spPr>
          <a:xfrm>
            <a:off x="5400720" y="2235240"/>
            <a:ext cx="72000" cy="352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2" name="AutoShape 9"/>
          <p:cNvCxnSpPr/>
          <p:nvPr/>
        </p:nvCxnSpPr>
        <p:spPr>
          <a:xfrm>
            <a:off x="7019640" y="2160720"/>
            <a:ext cx="29160" cy="359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3" name="AutoShape 10"/>
          <p:cNvCxnSpPr/>
          <p:nvPr/>
        </p:nvCxnSpPr>
        <p:spPr>
          <a:xfrm>
            <a:off x="5435640" y="39974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4" name="Text Box 11"/>
          <p:cNvSpPr/>
          <p:nvPr/>
        </p:nvSpPr>
        <p:spPr>
          <a:xfrm>
            <a:off x="2022480" y="5726160"/>
            <a:ext cx="714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12"/>
          <p:cNvSpPr/>
          <p:nvPr/>
        </p:nvSpPr>
        <p:spPr>
          <a:xfrm>
            <a:off x="3240000" y="5775480"/>
            <a:ext cx="1440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Text Box 13"/>
          <p:cNvSpPr/>
          <p:nvPr/>
        </p:nvSpPr>
        <p:spPr>
          <a:xfrm>
            <a:off x="5040360" y="5797440"/>
            <a:ext cx="1333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erg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Text Box 14"/>
          <p:cNvSpPr/>
          <p:nvPr/>
        </p:nvSpPr>
        <p:spPr>
          <a:xfrm>
            <a:off x="6818400" y="5775480"/>
            <a:ext cx="9223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Line 15"/>
          <p:cNvSpPr/>
          <p:nvPr/>
        </p:nvSpPr>
        <p:spPr>
          <a:xfrm flipV="1">
            <a:off x="1079640" y="4492800"/>
            <a:ext cx="1260360" cy="12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Line 16"/>
          <p:cNvSpPr/>
          <p:nvPr/>
        </p:nvSpPr>
        <p:spPr>
          <a:xfrm flipV="1">
            <a:off x="2340000" y="3593880"/>
            <a:ext cx="144000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Line 17"/>
          <p:cNvSpPr/>
          <p:nvPr/>
        </p:nvSpPr>
        <p:spPr>
          <a:xfrm flipV="1">
            <a:off x="3780000" y="3053880"/>
            <a:ext cx="90000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Line 18"/>
          <p:cNvSpPr/>
          <p:nvPr/>
        </p:nvSpPr>
        <p:spPr>
          <a:xfrm>
            <a:off x="4680000" y="306072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Line 19"/>
          <p:cNvSpPr/>
          <p:nvPr/>
        </p:nvSpPr>
        <p:spPr>
          <a:xfrm>
            <a:off x="5400720" y="341964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Line 20"/>
          <p:cNvSpPr/>
          <p:nvPr/>
        </p:nvSpPr>
        <p:spPr>
          <a:xfrm>
            <a:off x="7020000" y="4140360"/>
            <a:ext cx="1619280" cy="16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Text Box 21"/>
          <p:cNvSpPr/>
          <p:nvPr/>
        </p:nvSpPr>
        <p:spPr>
          <a:xfrm>
            <a:off x="179280" y="234000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 Box 22"/>
          <p:cNvSpPr/>
          <p:nvPr/>
        </p:nvSpPr>
        <p:spPr>
          <a:xfrm>
            <a:off x="1079640" y="2160720"/>
            <a:ext cx="126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spec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Text Box 23"/>
          <p:cNvSpPr/>
          <p:nvPr/>
        </p:nvSpPr>
        <p:spPr>
          <a:xfrm>
            <a:off x="2519280" y="2212920"/>
            <a:ext cx="833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Text Box 24"/>
          <p:cNvSpPr/>
          <p:nvPr/>
        </p:nvSpPr>
        <p:spPr>
          <a:xfrm>
            <a:off x="1079640" y="2160720"/>
            <a:ext cx="126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spec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Text Box 25"/>
          <p:cNvSpPr/>
          <p:nvPr/>
        </p:nvSpPr>
        <p:spPr>
          <a:xfrm>
            <a:off x="3959280" y="2160720"/>
            <a:ext cx="1197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Text Box 26"/>
          <p:cNvSpPr/>
          <p:nvPr/>
        </p:nvSpPr>
        <p:spPr>
          <a:xfrm>
            <a:off x="5580000" y="1979640"/>
            <a:ext cx="1233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Text Box 27"/>
          <p:cNvSpPr/>
          <p:nvPr/>
        </p:nvSpPr>
        <p:spPr>
          <a:xfrm>
            <a:off x="7199280" y="2160720"/>
            <a:ext cx="12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-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Text Box 28"/>
          <p:cNvSpPr/>
          <p:nvPr/>
        </p:nvSpPr>
        <p:spPr>
          <a:xfrm>
            <a:off x="179280" y="2879640"/>
            <a:ext cx="90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 Box 29"/>
          <p:cNvSpPr/>
          <p:nvPr/>
        </p:nvSpPr>
        <p:spPr>
          <a:xfrm>
            <a:off x="1079640" y="3060720"/>
            <a:ext cx="1258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 Box 30"/>
          <p:cNvSpPr/>
          <p:nvPr/>
        </p:nvSpPr>
        <p:spPr>
          <a:xfrm>
            <a:off x="2519280" y="3060720"/>
            <a:ext cx="1257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ciali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Text Box 31"/>
          <p:cNvSpPr/>
          <p:nvPr/>
        </p:nvSpPr>
        <p:spPr>
          <a:xfrm>
            <a:off x="3780000" y="2879640"/>
            <a:ext cx="1618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Text Box 32"/>
          <p:cNvSpPr/>
          <p:nvPr/>
        </p:nvSpPr>
        <p:spPr>
          <a:xfrm>
            <a:off x="5400720" y="2700360"/>
            <a:ext cx="161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-sociali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 Box 33"/>
          <p:cNvSpPr/>
          <p:nvPr/>
        </p:nvSpPr>
        <p:spPr>
          <a:xfrm>
            <a:off x="7020000" y="270036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embra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Text Box 34"/>
          <p:cNvSpPr/>
          <p:nvPr/>
        </p:nvSpPr>
        <p:spPr>
          <a:xfrm>
            <a:off x="0" y="3780000"/>
            <a:ext cx="107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Text Box 35"/>
          <p:cNvSpPr/>
          <p:nvPr/>
        </p:nvSpPr>
        <p:spPr>
          <a:xfrm>
            <a:off x="1079640" y="3654360"/>
            <a:ext cx="150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nnaiss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Text Box 36"/>
          <p:cNvSpPr/>
          <p:nvPr/>
        </p:nvSpPr>
        <p:spPr>
          <a:xfrm>
            <a:off x="2340000" y="4140360"/>
            <a:ext cx="1619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Text Box 37"/>
          <p:cNvSpPr/>
          <p:nvPr/>
        </p:nvSpPr>
        <p:spPr>
          <a:xfrm>
            <a:off x="3905280" y="3419640"/>
            <a:ext cx="131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le  negoti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Text Box 38"/>
          <p:cNvSpPr/>
          <p:nvPr/>
        </p:nvSpPr>
        <p:spPr>
          <a:xfrm>
            <a:off x="5400720" y="3419640"/>
            <a:ext cx="16192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Text Box 39"/>
          <p:cNvSpPr/>
          <p:nvPr/>
        </p:nvSpPr>
        <p:spPr>
          <a:xfrm>
            <a:off x="7020000" y="3419640"/>
            <a:ext cx="161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minisc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Text Box 40"/>
          <p:cNvSpPr/>
          <p:nvPr/>
        </p:nvSpPr>
        <p:spPr>
          <a:xfrm>
            <a:off x="179280" y="6119640"/>
            <a:ext cx="2774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reland and Levine, 1982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Text Box 1"/>
          <p:cNvSpPr/>
          <p:nvPr/>
        </p:nvSpPr>
        <p:spPr>
          <a:xfrm>
            <a:off x="173160" y="235080"/>
            <a:ext cx="8504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N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5" name="Picture 3" descr=""/>
          <p:cNvPicPr/>
          <p:nvPr/>
        </p:nvPicPr>
        <p:blipFill>
          <a:blip r:embed="rId1"/>
          <a:stretch/>
        </p:blipFill>
        <p:spPr>
          <a:xfrm>
            <a:off x="1908000" y="1008000"/>
            <a:ext cx="55436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 Box 1"/>
          <p:cNvSpPr/>
          <p:nvPr/>
        </p:nvSpPr>
        <p:spPr>
          <a:xfrm>
            <a:off x="173160" y="235080"/>
            <a:ext cx="8504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n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Picture 2" descr=""/>
          <p:cNvPicPr/>
          <p:nvPr/>
        </p:nvPicPr>
        <p:blipFill>
          <a:blip r:embed="rId1"/>
          <a:stretch/>
        </p:blipFill>
        <p:spPr>
          <a:xfrm>
            <a:off x="684360" y="1079640"/>
            <a:ext cx="2879640" cy="2016000"/>
          </a:xfrm>
          <a:prstGeom prst="rect">
            <a:avLst/>
          </a:prstGeom>
          <a:ln w="0">
            <a:noFill/>
          </a:ln>
        </p:spPr>
      </p:pic>
      <p:pic>
        <p:nvPicPr>
          <p:cNvPr id="1838" name="Picture 3" descr=""/>
          <p:cNvPicPr/>
          <p:nvPr/>
        </p:nvPicPr>
        <p:blipFill>
          <a:blip r:embed="rId2"/>
          <a:stretch/>
        </p:blipFill>
        <p:spPr>
          <a:xfrm>
            <a:off x="3564000" y="1008000"/>
            <a:ext cx="2305080" cy="302436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4" descr=""/>
          <p:cNvPicPr/>
          <p:nvPr/>
        </p:nvPicPr>
        <p:blipFill>
          <a:blip r:embed="rId3"/>
          <a:stretch/>
        </p:blipFill>
        <p:spPr>
          <a:xfrm>
            <a:off x="755640" y="3095640"/>
            <a:ext cx="2808360" cy="244944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5" descr=""/>
          <p:cNvPicPr/>
          <p:nvPr/>
        </p:nvPicPr>
        <p:blipFill>
          <a:blip r:embed="rId4"/>
          <a:stretch/>
        </p:blipFill>
        <p:spPr>
          <a:xfrm>
            <a:off x="5869080" y="1008000"/>
            <a:ext cx="3000240" cy="302436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6" descr=""/>
          <p:cNvPicPr/>
          <p:nvPr/>
        </p:nvPicPr>
        <p:blipFill>
          <a:blip r:embed="rId5"/>
          <a:stretch/>
        </p:blipFill>
        <p:spPr>
          <a:xfrm>
            <a:off x="3564000" y="3024360"/>
            <a:ext cx="5616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n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Text Box 2"/>
          <p:cNvSpPr/>
          <p:nvPr/>
        </p:nvSpPr>
        <p:spPr>
          <a:xfrm>
            <a:off x="324000" y="1079640"/>
            <a:ext cx="90010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d beliefs about appropriate behaviour for all group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ve (is) and prescriptive (ought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norms enforced by la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implic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taken-for-gran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ly: Provide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ame of refer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ithin which individual behaviour can be locat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Sherif, 1936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up level: Coordinate the actions of group members to accomplish group go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stability and continuity therefore resistant to 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of group behaviour used in social influence process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1"/>
          <p:cNvSpPr/>
          <p:nvPr/>
        </p:nvSpPr>
        <p:spPr>
          <a:xfrm>
            <a:off x="1403280" y="2448000"/>
            <a:ext cx="6481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orms in my group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173160" y="235080"/>
            <a:ext cx="8504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6" name="Picture 2" descr=""/>
          <p:cNvPicPr/>
          <p:nvPr/>
        </p:nvPicPr>
        <p:blipFill>
          <a:blip r:embed="rId1"/>
          <a:stretch/>
        </p:blipFill>
        <p:spPr>
          <a:xfrm>
            <a:off x="3708360" y="863640"/>
            <a:ext cx="5797440" cy="511344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3" descr=""/>
          <p:cNvPicPr/>
          <p:nvPr/>
        </p:nvPicPr>
        <p:blipFill>
          <a:blip r:embed="rId2"/>
          <a:stretch/>
        </p:blipFill>
        <p:spPr>
          <a:xfrm>
            <a:off x="252360" y="863640"/>
            <a:ext cx="431964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Text Box 2"/>
          <p:cNvSpPr/>
          <p:nvPr/>
        </p:nvSpPr>
        <p:spPr>
          <a:xfrm>
            <a:off x="395280" y="1079640"/>
            <a:ext cx="8640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be and prescribe behaviour of particular group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people but behavioural prescriptions assigned to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group of friend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xplic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CU team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merge to facilitate group functioning but inflexibility can be detrimen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tend to 'act or assume' rol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Zimbardo and Movahedi, 1975) simulated prison experiment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Avoid low status roles in group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luence who we are: identity and self-concept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Haslam and Reicher, 2005) . Role identity theo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Text Box 1"/>
          <p:cNvSpPr/>
          <p:nvPr/>
        </p:nvSpPr>
        <p:spPr>
          <a:xfrm>
            <a:off x="1403280" y="2448000"/>
            <a:ext cx="6481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ho is in a group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Sta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Text Box 2"/>
          <p:cNvSpPr/>
          <p:nvPr/>
        </p:nvSpPr>
        <p:spPr>
          <a:xfrm>
            <a:off x="179280" y="1079640"/>
            <a:ext cx="9180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all roles are equ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status role is the L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ies of higher status ro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50800" indent="-528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ly agreed prestig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50800" indent="-528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y of creativity and innovation adopted by the group. Able to break and/or extend n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 hierarchies can develop and vary over time and situation despite tendency to institutionalis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 hierarchies emerge readily in new groups through intra-group comparison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Festinger's social categorisation theory, 1954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1"/>
          <p:cNvSpPr/>
          <p:nvPr/>
        </p:nvSpPr>
        <p:spPr>
          <a:xfrm>
            <a:off x="971640" y="2448000"/>
            <a:ext cx="78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oles/status in my group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4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oretical elaboration of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Text Box 2"/>
          <p:cNvSpPr/>
          <p:nvPr/>
        </p:nvSpPr>
        <p:spPr>
          <a:xfrm>
            <a:off x="179280" y="771480"/>
            <a:ext cx="95410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rdepend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Lewin, 1947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just sum of members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construction of meaning among group members sharing a particular experi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develops structure with positions and shared ai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happens to a member affects the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als achieved through members inte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isfaction of affiliation, reality management and instrumental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interaction, a stable pattern of relationships is established  organizing social rela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orms, status and values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 Box 1"/>
          <p:cNvSpPr/>
          <p:nvPr/>
        </p:nvSpPr>
        <p:spPr>
          <a:xfrm>
            <a:off x="173160" y="154080"/>
            <a:ext cx="85042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4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oretical elaboration of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Text Box 2"/>
          <p:cNvSpPr/>
          <p:nvPr/>
        </p:nvSpPr>
        <p:spPr>
          <a:xfrm>
            <a:off x="179280" y="771480"/>
            <a:ext cx="93600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58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cio-cognitive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58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oup perceives itself/is perceived by others as a tot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awareness: 'us', 'group mentality' (Bion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yond pertence =&gt; Group as reference: individual actively engages in formulating social norms and values that shape thought and 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eation of endo-groups (positive relationship) and exogroups (negative relationshi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3" marL="19033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Group Paradigm, SIT, Social Categor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Text Box 1"/>
          <p:cNvSpPr/>
          <p:nvPr/>
        </p:nvSpPr>
        <p:spPr>
          <a:xfrm>
            <a:off x="173160" y="154080"/>
            <a:ext cx="8504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oretical elaboration of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Text Box 2"/>
          <p:cNvSpPr/>
          <p:nvPr/>
        </p:nvSpPr>
        <p:spPr>
          <a:xfrm>
            <a:off x="179280" y="771480"/>
            <a:ext cx="93600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rities that emerge among group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rders and controls conflicts and ten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uences individuals behaviour and members' social positions in the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es interactions, communication, efficiency, roles, status and nor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s: Shape expected behaviours and needed tasks for the group to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: Provides information regarding members behaviour and individuals' position in the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2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Picture 2" descr="C:\Users\Garcial1\Desktop\15-break.jpg"/>
          <p:cNvPicPr/>
          <p:nvPr/>
        </p:nvPicPr>
        <p:blipFill>
          <a:blip r:embed="rId1"/>
          <a:stretch/>
        </p:blipFill>
        <p:spPr>
          <a:xfrm>
            <a:off x="-108000" y="0"/>
            <a:ext cx="9828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Picture 1" descr=""/>
          <p:cNvPicPr/>
          <p:nvPr/>
        </p:nvPicPr>
        <p:blipFill>
          <a:blip r:embed="rId1"/>
          <a:stretch/>
        </p:blipFill>
        <p:spPr>
          <a:xfrm>
            <a:off x="1763640" y="576360"/>
            <a:ext cx="56991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2" name="Picture 1" descr=""/>
          <p:cNvPicPr/>
          <p:nvPr/>
        </p:nvPicPr>
        <p:blipFill>
          <a:blip r:embed="rId1"/>
          <a:stretch/>
        </p:blipFill>
        <p:spPr>
          <a:xfrm>
            <a:off x="3203640" y="216000"/>
            <a:ext cx="2881080" cy="3024000"/>
          </a:xfrm>
          <a:prstGeom prst="rect">
            <a:avLst/>
          </a:prstGeom>
          <a:ln w="0">
            <a:noFill/>
          </a:ln>
        </p:spPr>
      </p:pic>
      <p:pic>
        <p:nvPicPr>
          <p:cNvPr id="1863" name="Picture 2" descr=""/>
          <p:cNvPicPr/>
          <p:nvPr/>
        </p:nvPicPr>
        <p:blipFill>
          <a:blip r:embed="rId2"/>
          <a:stretch/>
        </p:blipFill>
        <p:spPr>
          <a:xfrm>
            <a:off x="6300720" y="3311640"/>
            <a:ext cx="3040200" cy="302400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3" descr=""/>
          <p:cNvPicPr/>
          <p:nvPr/>
        </p:nvPicPr>
        <p:blipFill>
          <a:blip r:embed="rId3"/>
          <a:stretch/>
        </p:blipFill>
        <p:spPr>
          <a:xfrm>
            <a:off x="179280" y="3311640"/>
            <a:ext cx="2708280" cy="287172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4" descr=""/>
          <p:cNvPicPr/>
          <p:nvPr/>
        </p:nvPicPr>
        <p:blipFill>
          <a:blip r:embed="rId4"/>
          <a:stretch/>
        </p:blipFill>
        <p:spPr>
          <a:xfrm>
            <a:off x="6300720" y="216000"/>
            <a:ext cx="3040200" cy="295884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5" descr=""/>
          <p:cNvPicPr/>
          <p:nvPr/>
        </p:nvPicPr>
        <p:blipFill>
          <a:blip r:embed="rId5"/>
          <a:stretch/>
        </p:blipFill>
        <p:spPr>
          <a:xfrm>
            <a:off x="250920" y="144360"/>
            <a:ext cx="25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867" name="Picture 6" descr=""/>
          <p:cNvPicPr/>
          <p:nvPr/>
        </p:nvPicPr>
        <p:blipFill>
          <a:blip r:embed="rId6"/>
          <a:stretch/>
        </p:blipFill>
        <p:spPr>
          <a:xfrm>
            <a:off x="2987640" y="3311640"/>
            <a:ext cx="309708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1. Leadership: The trait appro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Text Box 2"/>
          <p:cNvSpPr/>
          <p:nvPr/>
        </p:nvSpPr>
        <p:spPr>
          <a:xfrm>
            <a:off x="347760" y="771480"/>
            <a:ext cx="88326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e “Great Person” The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ffective leadership is based on individual personality characteristics – in the past, often thought to be innate (“born leaders”); more recently such qualities assumed to be acquire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opular theo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offers ways to measure the strength of leadership qualities and so to evaluate  candidates for leadership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reflects much of our thinking regarding the world – using person attributions regarding political and historical events (e.g., locating the causes of the war in Iraq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Text Box 1"/>
          <p:cNvSpPr/>
          <p:nvPr/>
        </p:nvSpPr>
        <p:spPr>
          <a:xfrm>
            <a:off x="179280" y="792000"/>
            <a:ext cx="9217080" cy="53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0. What is a group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Group dynam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1. Inter-dependance: Social Facilitation and inhib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, socialis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3. Structure: Norms, roles and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4. Theoretical elaboration of group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Who leads the group ? Leadership theo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1. The trait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2. Contingency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3. Styles of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4. Transactional and transformational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5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Post-Heroic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2.6. Culture, gender and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 Box 2"/>
          <p:cNvSpPr/>
          <p:nvPr/>
        </p:nvSpPr>
        <p:spPr>
          <a:xfrm>
            <a:off x="662040" y="179280"/>
            <a:ext cx="7494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ecture P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Picture 1" descr=""/>
          <p:cNvPicPr/>
          <p:nvPr/>
        </p:nvPicPr>
        <p:blipFill>
          <a:blip r:embed="rId1"/>
          <a:stretch/>
        </p:blipFill>
        <p:spPr>
          <a:xfrm>
            <a:off x="971640" y="576360"/>
            <a:ext cx="74167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1. Leadership: The trait appro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2"/>
          <p:cNvSpPr/>
          <p:nvPr/>
        </p:nvSpPr>
        <p:spPr>
          <a:xfrm>
            <a:off x="347760" y="617400"/>
            <a:ext cx="83311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Leader Tra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irkpatrick and Locke (1991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r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adership 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nesty and integ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f-confidence/self-esteem/domi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tra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gnitive ability/intelligence/problem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Knowledge of the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ervat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/>
          </p:nvPr>
        </p:nvSpPr>
        <p:spPr>
          <a:xfrm>
            <a:off x="324000" y="863280"/>
            <a:ext cx="915336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‘great person’ to ‘strong me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8xRaUqgWPN0&amp;feature=PlayList&amp;p=D83AA0216AD6F393&amp;playnext=1&amp;playnext_from=PL&amp;index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title"/>
          </p:nvPr>
        </p:nvSpPr>
        <p:spPr>
          <a:xfrm>
            <a:off x="485640" y="173160"/>
            <a:ext cx="8739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"/>
              </a:rPr>
              <a:t>2.1. Leadership: The trait approach.</a:t>
            </a:r>
            <a:br>
              <a:rPr sz="3200"/>
            </a:br>
            <a:endParaRPr b="1" lang="en-US" sz="32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2519280"/>
            <a:ext cx="8739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itstream Vera Sans"/>
                <a:ea typeface="Arial"/>
              </a:rPr>
              <a:t>Would you like to work for him? </a:t>
            </a:r>
            <a:br>
              <a:rPr sz="4000"/>
            </a:br>
            <a:endParaRPr b="1" lang="en-US" sz="40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1. Leadership: The trait appro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Text Box 2"/>
          <p:cNvSpPr/>
          <p:nvPr/>
        </p:nvSpPr>
        <p:spPr>
          <a:xfrm>
            <a:off x="347760" y="617400"/>
            <a:ext cx="883260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ttle evidence of there being consistent and specific personality traits possessed by all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evidence is fro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 ho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groups’ ratings of lead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clear the same kinds of people become leaders in real organis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 that they will mak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o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traits to personality dimensions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Judge, Bono, Ilies and Gerhardt ; 2002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ig fiv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sonality dimen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traversion/ assur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greeableness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cientiousnes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otional stabilit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/ openess to experie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Picture 2" descr="C:\Users\Garcial1\Desktop\leader.bmp"/>
          <p:cNvPicPr/>
          <p:nvPr/>
        </p:nvPicPr>
        <p:blipFill>
          <a:blip r:embed="rId1"/>
          <a:stretch/>
        </p:blipFill>
        <p:spPr>
          <a:xfrm>
            <a:off x="252360" y="709560"/>
            <a:ext cx="4535640" cy="505152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3" descr="C:\Users\Garcial1\Desktop\participative.jpg"/>
          <p:cNvPicPr/>
          <p:nvPr/>
        </p:nvPicPr>
        <p:blipFill>
          <a:blip r:embed="rId2"/>
          <a:stretch/>
        </p:blipFill>
        <p:spPr>
          <a:xfrm>
            <a:off x="4932360" y="709560"/>
            <a:ext cx="4464000" cy="50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2. Leadership: Leadership sty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Text Box 2"/>
          <p:cNvSpPr/>
          <p:nvPr/>
        </p:nvSpPr>
        <p:spPr>
          <a:xfrm>
            <a:off x="347760" y="617400"/>
            <a:ext cx="91915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win, Lippit &amp; White (1939)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ed styles of leadership over 7 weeks in an after-school club for 11 year-old bo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tocr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re aggression, greater dependence on leader, more contr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ked hardest, but only when leader pres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ocr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iendlier atmosphere, group-centred, reasonably task-orie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ader absence made no difference to work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issez-fai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aders faced considerable demands for information. Spent more time playing than wor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ked harder when leader abs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2" name="Picture 2" descr="C:\Users\Garcial1\Desktop\servant-leadership-570x378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3. Leadership: The contingency approach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Text Box 2"/>
          <p:cNvSpPr/>
          <p:nvPr/>
        </p:nvSpPr>
        <p:spPr>
          <a:xfrm>
            <a:off x="347760" y="617400"/>
            <a:ext cx="865188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n relatively few characteristics are common across leaders, focus 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s a major variable in lead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gency Theory of leadership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Fiedler, 1967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hip style develops from a person’s personality, and leads to one of two styles of leadershi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ask-focused leadersh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-focused leadersh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 were asked to describe their co-workers on various dimensions, thus arriving at a description of their “least preferred co-worker” (LPC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f LPC described negatively, then leader task focus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f LPC described positively, then leader person focus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3. Leadership: The contingency approach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2"/>
          <p:cNvSpPr/>
          <p:nvPr/>
        </p:nvSpPr>
        <p:spPr>
          <a:xfrm>
            <a:off x="347760" y="617400"/>
            <a:ext cx="91915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ropriateness of a person-focused or a task-focused leader depends on the situ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-group relation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the extent to which the leader has suppo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sk structur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well specified or unclear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’s power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the extent to which they control rewards and punishments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-a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sk-focus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eadership works better when conditions are very favourable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positive leader-group relations, clear task, high authority)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o group is doing just fin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very unfavourabl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poor leader-group relations, unclear task, low authority)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needs a directive leader to get things do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all other conditions, a person-centred style may get be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Text Box 1"/>
          <p:cNvSpPr/>
          <p:nvPr/>
        </p:nvSpPr>
        <p:spPr>
          <a:xfrm>
            <a:off x="468360" y="2178000"/>
            <a:ext cx="885024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ts val="3336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 mental life is essential to the full life of the individual... the satisfaction of this need has to be sought through membership of a group.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ion, 1961/2010:54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3. Leadership: The contingency approach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Text Box 2"/>
          <p:cNvSpPr/>
          <p:nvPr/>
        </p:nvSpPr>
        <p:spPr>
          <a:xfrm>
            <a:off x="347760" y="617400"/>
            <a:ext cx="83311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edler’s view has some empirical support – matching leader needed to the situation and task also makes intuitive s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view has been controversial (e.g., the assumption that leaders cannot vary their style of leadership to suit the situation because style is fixed by personality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: Fail to capture the 'dance' between leaders and follo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Text Box 1"/>
          <p:cNvSpPr/>
          <p:nvPr/>
        </p:nvSpPr>
        <p:spPr>
          <a:xfrm>
            <a:off x="173160" y="154080"/>
            <a:ext cx="9547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4. Leadership: Transactional and transformational lead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47760" y="720720"/>
            <a:ext cx="919152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actional Leaders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t, 2004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 ‘transact’ with followers to get thing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hip as a process of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sk-focuse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e a system of contingent rew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by excep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 attempt to change subordinates’ working methods as long as the performance goals are m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tional Leaders (Burns, 1978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ised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ectual stimul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ismatic/inspirational motiv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im is to achie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tion and performance above and beyond the call of du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lingly giv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apparent expectation of additional economic rewa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79280" y="-96840"/>
            <a:ext cx="918072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2.5. Leadership: Post-heroic leadership</a:t>
            </a:r>
            <a:br>
              <a:rPr sz="3200"/>
            </a:br>
            <a:endParaRPr b="1" lang="en-US" sz="32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4360" y="1260360"/>
            <a:ext cx="82087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rCeVwwu0Xcfeature=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Text Box 1"/>
          <p:cNvSpPr/>
          <p:nvPr/>
        </p:nvSpPr>
        <p:spPr>
          <a:xfrm>
            <a:off x="173160" y="154080"/>
            <a:ext cx="9372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5. Leadership: Post-heroic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Text Box 2"/>
          <p:cNvSpPr/>
          <p:nvPr/>
        </p:nvSpPr>
        <p:spPr>
          <a:xfrm>
            <a:off x="347760" y="925560"/>
            <a:ext cx="901224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adford and Cohen (1984); (Heifetz and Laurie, 1997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990’s/2000’s: associated with transformational leadership but focus on managers developing their subordinat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 as developer”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ared responsibility with employ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owerment of employees: sharing the power around as a “captain of industr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constant opportunities to learn – “the learning organisa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ey factors in development of Post-Heroic Leadership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ly changing business environment: leadership as ensuring that the organisation adapts successfu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tent with the image of managers (Enron, Northern Rock, etc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and d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539640" y="2519280"/>
            <a:ext cx="8739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itstream Vera Sans"/>
                <a:ea typeface="Arial"/>
              </a:rPr>
              <a:t>What kind of leader would you prefer to follow? Why? </a:t>
            </a:r>
            <a:br>
              <a:rPr sz="4000"/>
            </a:br>
            <a:endParaRPr b="1" lang="en-US" sz="40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Picture 2" descr="C:\Users\Garcial1\Desktop\che_guevara_fidel_castro.jpg"/>
          <p:cNvPicPr/>
          <p:nvPr/>
        </p:nvPicPr>
        <p:blipFill>
          <a:blip r:embed="rId1"/>
          <a:stretch/>
        </p:blipFill>
        <p:spPr>
          <a:xfrm>
            <a:off x="31680" y="2994120"/>
            <a:ext cx="3245040" cy="349704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3" descr="C:\Users\Garcial1\Desktop\African_leaders6.jpg"/>
          <p:cNvPicPr/>
          <p:nvPr/>
        </p:nvPicPr>
        <p:blipFill>
          <a:blip r:embed="rId2"/>
          <a:stretch/>
        </p:blipFill>
        <p:spPr>
          <a:xfrm>
            <a:off x="3132000" y="2674800"/>
            <a:ext cx="6588360" cy="381636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4" descr="C:\Users\Garcial1\Desktop\eng_summit_GB_BM_Ba_758942p.jpg"/>
          <p:cNvPicPr/>
          <p:nvPr/>
        </p:nvPicPr>
        <p:blipFill>
          <a:blip r:embed="rId3"/>
          <a:stretch/>
        </p:blipFill>
        <p:spPr>
          <a:xfrm>
            <a:off x="31680" y="0"/>
            <a:ext cx="4343400" cy="298440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5" descr="C:\Users\Garcial1\Desktop\MaobyDandotdotonFlickr.jpg"/>
          <p:cNvPicPr/>
          <p:nvPr/>
        </p:nvPicPr>
        <p:blipFill>
          <a:blip r:embed="rId4"/>
          <a:stretch/>
        </p:blipFill>
        <p:spPr>
          <a:xfrm>
            <a:off x="8197920" y="23760"/>
            <a:ext cx="15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6" descr="C:\Users\Garcial1\Desktop\untitled.bmp"/>
          <p:cNvPicPr/>
          <p:nvPr/>
        </p:nvPicPr>
        <p:blipFill>
          <a:blip r:embed="rId5"/>
          <a:stretch/>
        </p:blipFill>
        <p:spPr>
          <a:xfrm>
            <a:off x="976320" y="48798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7" descr="C:\Users\Garcial1\Desktop\_45792043_jex_362975_de27-1.jpg"/>
          <p:cNvPicPr/>
          <p:nvPr/>
        </p:nvPicPr>
        <p:blipFill>
          <a:blip r:embed="rId6"/>
          <a:stretch/>
        </p:blipFill>
        <p:spPr>
          <a:xfrm>
            <a:off x="5578560" y="-1440"/>
            <a:ext cx="2619360" cy="269064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8" descr="C:\Users\Garcial1\Desktop\imagesCAMRN337.jpg"/>
          <p:cNvPicPr/>
          <p:nvPr/>
        </p:nvPicPr>
        <p:blipFill>
          <a:blip r:embed="rId7"/>
          <a:stretch/>
        </p:blipFill>
        <p:spPr>
          <a:xfrm>
            <a:off x="4087800" y="-1440"/>
            <a:ext cx="257184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Text Box 1"/>
          <p:cNvSpPr/>
          <p:nvPr/>
        </p:nvSpPr>
        <p:spPr>
          <a:xfrm>
            <a:off x="173160" y="154080"/>
            <a:ext cx="9372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6. Leadership: Culture and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Text Box 2"/>
          <p:cNvSpPr/>
          <p:nvPr/>
        </p:nvSpPr>
        <p:spPr>
          <a:xfrm>
            <a:off x="179280" y="925560"/>
            <a:ext cx="9180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ltural differences in both the definition of leadership and in specific leadership behaviours according with broad differences between collectivist (Eastern Asian) and individualistic (Western) cul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eadership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istic cul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Leader is expected to have vision, authority and be a decision-m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vist cult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ader is expected to combine being participative, supportive and nurturing with being deci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eadership rol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istic cult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ader’s role is largely confined to overseeing the subordinates’ activities whilst in the work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vist cul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Leader may have a wider role, being concerned with subordinates’ private lives and well-being outside the work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2" descr="C:\Users\Garcial1\Desktop\men-vs-women.jpg"/>
          <p:cNvPicPr/>
          <p:nvPr/>
        </p:nvPicPr>
        <p:blipFill>
          <a:blip r:embed="rId1"/>
          <a:stretch/>
        </p:blipFill>
        <p:spPr>
          <a:xfrm>
            <a:off x="684360" y="380880"/>
            <a:ext cx="8351640" cy="57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Text Box 1"/>
          <p:cNvSpPr/>
          <p:nvPr/>
        </p:nvSpPr>
        <p:spPr>
          <a:xfrm>
            <a:off x="173160" y="154080"/>
            <a:ext cx="9372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6. Leadership: Gender and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Text Box 2"/>
          <p:cNvSpPr/>
          <p:nvPr/>
        </p:nvSpPr>
        <p:spPr>
          <a:xfrm>
            <a:off x="347760" y="925560"/>
            <a:ext cx="93726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der differences regarding leadership tendencies, and their assessed effe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gly, Karu,Makhijani (1995): group behaviour in informal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males: tend to be more democratic, person-focused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les : tend to be more autocratic, task-focused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eta-analysis re. Effect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erall – no difference in evidence regarding perceived effe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t differences re. of gender-stereotyped appropriateness of ro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39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n more effective when role defined in task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39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men more effective when defined in interpersonal ability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effects of organisational leve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n are more effective in first-level (line-management)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men more effective in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l (middle-management)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Text Box 1"/>
          <p:cNvSpPr/>
          <p:nvPr/>
        </p:nvSpPr>
        <p:spPr>
          <a:xfrm>
            <a:off x="179280" y="216000"/>
            <a:ext cx="881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2.7. Current trends on leadership resear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2"/>
          <p:cNvSpPr/>
          <p:nvPr/>
        </p:nvSpPr>
        <p:spPr>
          <a:xfrm>
            <a:off x="179280" y="1079640"/>
            <a:ext cx="93157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re holistic view of leadership e.g. including followers, the context, the levels, dynamic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7040" indent="-525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ining how the 'process' of leadership actually takes plac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e.g. how the leader and followers process information and how they affect each other, the group and organization in doing so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riving alternatives to examine leadershi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e.g. mixed methods of research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me further/unresolved ques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e leaders born or ma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do followers affect successful lead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y some charismatic leaders generate and others destro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impact of technology in leadershi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2" name="Picture 1" descr=""/>
          <p:cNvPicPr/>
          <p:nvPr/>
        </p:nvPicPr>
        <p:blipFill>
          <a:blip r:embed="rId1"/>
          <a:stretch/>
        </p:blipFill>
        <p:spPr>
          <a:xfrm>
            <a:off x="0" y="3024360"/>
            <a:ext cx="2987640" cy="345564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2" descr=""/>
          <p:cNvPicPr/>
          <p:nvPr/>
        </p:nvPicPr>
        <p:blipFill>
          <a:blip r:embed="rId2"/>
          <a:stretch/>
        </p:blipFill>
        <p:spPr>
          <a:xfrm>
            <a:off x="6300720" y="0"/>
            <a:ext cx="3417840" cy="316872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4" descr=""/>
          <p:cNvPicPr/>
          <p:nvPr/>
        </p:nvPicPr>
        <p:blipFill>
          <a:blip r:embed="rId4"/>
          <a:stretch/>
        </p:blipFill>
        <p:spPr>
          <a:xfrm>
            <a:off x="2879640" y="0"/>
            <a:ext cx="3421080" cy="287964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5" descr=""/>
          <p:cNvPicPr/>
          <p:nvPr/>
        </p:nvPicPr>
        <p:blipFill>
          <a:blip r:embed="rId5"/>
          <a:stretch/>
        </p:blipFill>
        <p:spPr>
          <a:xfrm>
            <a:off x="2987640" y="2879640"/>
            <a:ext cx="3311640" cy="360036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6" descr=""/>
          <p:cNvPicPr/>
          <p:nvPr/>
        </p:nvPicPr>
        <p:blipFill>
          <a:blip r:embed="rId6"/>
          <a:stretch/>
        </p:blipFill>
        <p:spPr>
          <a:xfrm>
            <a:off x="6300720" y="3060720"/>
            <a:ext cx="34178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728280" y="216000"/>
            <a:ext cx="826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ome further references</a:t>
            </a:r>
            <a:endParaRPr b="1" lang="en-US" sz="2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11" name="Text Box 2"/>
          <p:cNvSpPr/>
          <p:nvPr/>
        </p:nvSpPr>
        <p:spPr>
          <a:xfrm>
            <a:off x="252360" y="720720"/>
            <a:ext cx="9144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son, D.W. and Johnson, F.P. (1987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oining together: Group theory and group skills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nglewood Cliffs, NJ: Prentice Hal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ion, W.R. (1961/2010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periences in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London: Routled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ud, S. (1921/2009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roup psychology and the analysis of the eg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W.W. Norton and Co: Lond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port, F.H. (1920) The influence of the group upon association and thought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ournal of Experimental Psycholo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3 159-1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ajonc, R.B. (1965) Social facilitation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19, 269-27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ttrell, N. B. (1972) Social facilitation. In C. McClintock (Ed) Experimental social psychology (185-236) New York: Holt, Rinehart and Wil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ron, R.S. (1986) Distraction-conflict theory: Progress and problems. In L. Berkowitz (Ed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dvances in Experimental Social Psycholog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ol. 20:1-40) New York: Academic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cklund, R.A. (1975) Objective self-awareness. In:  In L. Berkowitz (Ed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dvances in Experimental Social Psycholog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ol. 8:233-275) New York: Academic Pres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einer, I.D. (1976) Task-performing groups. In J.W. Thibaut and J. T. Spence (Eds.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temporary topics in social psychology. (pp:393-422) NJ: General learning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iams, K.D. Karau, S.J. And Bourgeois, M. (1993): working on collective tasks: Social loafing and social compensation. In: M.A. Hogg and Abrams, D. (eds.) Group motivation: Social Psychological perspectives (130-148) London: Harvester Wheatsheaf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au, S.J. and Williams, K.D. (1993) Social loafing: A meta-analytical review and theoretical investigation Journal of personality and social psychology, 65, 681-706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Text Box 1"/>
          <p:cNvSpPr/>
          <p:nvPr/>
        </p:nvSpPr>
        <p:spPr>
          <a:xfrm>
            <a:off x="468360" y="360360"/>
            <a:ext cx="8928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accaro, S.J. (1984) Social loafing: The role of task attractiveness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ersonality and social Psychology bulleti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10 99-106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stinger,L. Schachter, S. and Back, K. (1950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ocial pressures in informal groups : a study of human factors in hous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ew York: Harp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fstede, G. (1980)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Culture's consequences: International differences in work related valu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Beverly hills, CA: Sag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gg, M.A and Vaughan, G.M. (2008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London: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gg, M. A. (1993) Group cohesiveness: A critical review and some new directions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uropean review of social psychology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4, 85-1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urner, J.C, Hogg, M.A. Oakes, P.J. Reicher, S.D. And Weatherell, M . S. (1987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discovering the social group: A self- categorisation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xford: Blackwe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uckman, B.W. (1965) developmental sequence in small groups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sychological bulletin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63, 384039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land, RL. And Levine, JM (1982) Socialisation in small groups: Temporal chnages in individual-group relation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L. Berkowitz (Ed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dvances in Experimental Social Psycholog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ol. 15:137-192) New York: Academic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win, K. (1947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Group decision and social chan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In T.M. Newcomb and E.L. Harley (Eds.) Readings in Social Psychology. New York: Holt, Rinehart and Wins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herif, M. and Sherif, C.W. (1964)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eference groups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New York: Harper and Row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jfel, H. (1978) Social categorization, social identity, and social comparisons . In Tajfel, H. (Ed.)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Differentiation between social group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 London: Academic Pres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wn, R. (2000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Group Proces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xford: Blackwell Pub.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Text Box 1"/>
          <p:cNvSpPr/>
          <p:nvPr/>
        </p:nvSpPr>
        <p:spPr>
          <a:xfrm>
            <a:off x="441360" y="235080"/>
            <a:ext cx="79344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0.  What is a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Text Box 2"/>
          <p:cNvSpPr/>
          <p:nvPr/>
        </p:nvSpPr>
        <p:spPr>
          <a:xfrm>
            <a:off x="539640" y="1081080"/>
            <a:ext cx="86407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4" marL="23670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dependence of relationships among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oup not static entity but in continuous trans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erates individual, interpersonal and collective process: socio-cognitive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s a 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Text Box 1"/>
          <p:cNvSpPr/>
          <p:nvPr/>
        </p:nvSpPr>
        <p:spPr>
          <a:xfrm>
            <a:off x="290520" y="195120"/>
            <a:ext cx="823608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0.  What is a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Text Box 2"/>
          <p:cNvSpPr/>
          <p:nvPr/>
        </p:nvSpPr>
        <p:spPr>
          <a:xfrm>
            <a:off x="611280" y="1079640"/>
            <a:ext cx="842472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son and Johnson (1987:8)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‘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group 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wo or more individuals in (face-to-face) interactio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ware of her membership in the group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ware of the others who belong to the group,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ware of their positive interdependence as they strive to achieve mutual goal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, (face-to-face), interactive, task-oriented groups, S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1"/>
          <p:cNvSpPr/>
          <p:nvPr/>
        </p:nvSpPr>
        <p:spPr>
          <a:xfrm>
            <a:off x="173160" y="235080"/>
            <a:ext cx="9547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e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Text Box 2"/>
          <p:cNvSpPr/>
          <p:nvPr/>
        </p:nvSpPr>
        <p:spPr>
          <a:xfrm>
            <a:off x="206280" y="863640"/>
            <a:ext cx="9045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ffects of the audie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 Facilit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Allport, 1920)</a:t>
            </a:r>
            <a:r>
              <a:rPr b="0" lang="ar-SA" sz="15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ople perform better on a task when other people are present (not competing) – so the mere presence of others can enhance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et, only in simple tasks: on more complex tasks performance is impaired by the presence of other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ive The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Zajonc, 1965): Social facilitation has two dimens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arousing presence of oth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ffects of task complex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 Lorenzo</dc:creator>
  <dc:description/>
  <dc:language>en-US</dc:language>
  <cp:lastModifiedBy>Administrator</cp:lastModifiedBy>
  <dcterms:modified xsi:type="dcterms:W3CDTF">2011-11-08T15:55:42Z</dcterms:modified>
  <cp:revision>99</cp:revision>
  <dc:subject/>
  <dc:title>Slide 1</dc:title>
</cp:coreProperties>
</file>