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notesMasterIdLst>
    <p:notesMasterId r:id="rId44"/>
  </p:notes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  <p:sldId id="263" r:id="rId52"/>
    <p:sldId id="264" r:id="rId53"/>
    <p:sldId id="265" r:id="rId54"/>
    <p:sldId id="266" r:id="rId55"/>
    <p:sldId id="267" r:id="rId56"/>
    <p:sldId id="268" r:id="rId57"/>
    <p:sldId id="269" r:id="rId58"/>
    <p:sldId id="270" r:id="rId59"/>
    <p:sldId id="271" r:id="rId60"/>
    <p:sldId id="272" r:id="rId61"/>
    <p:sldId id="273" r:id="rId62"/>
    <p:sldId id="274" r:id="rId63"/>
    <p:sldId id="275" r:id="rId64"/>
    <p:sldId id="276" r:id="rId65"/>
    <p:sldId id="277" r:id="rId66"/>
    <p:sldId id="278" r:id="rId67"/>
    <p:sldId id="279" r:id="rId68"/>
    <p:sldId id="280" r:id="rId69"/>
    <p:sldId id="281" r:id="rId70"/>
    <p:sldId id="282" r:id="rId71"/>
    <p:sldId id="283" r:id="rId72"/>
    <p:sldId id="284" r:id="rId73"/>
    <p:sldId id="285" r:id="rId74"/>
    <p:sldId id="286" r:id="rId75"/>
    <p:sldId id="287" r:id="rId76"/>
    <p:sldId id="288" r:id="rId77"/>
    <p:sldId id="289" r:id="rId78"/>
    <p:sldId id="290" r:id="rId79"/>
    <p:sldId id="291" r:id="rId80"/>
    <p:sldId id="292" r:id="rId81"/>
    <p:sldId id="293" r:id="rId82"/>
    <p:sldId id="294" r:id="rId83"/>
    <p:sldId id="295" r:id="rId84"/>
    <p:sldId id="296" r:id="rId85"/>
    <p:sldId id="297" r:id="rId86"/>
    <p:sldId id="298" r:id="rId87"/>
    <p:sldId id="299" r:id="rId88"/>
    <p:sldId id="300" r:id="rId89"/>
    <p:sldId id="301" r:id="rId90"/>
    <p:sldId id="302" r:id="rId91"/>
    <p:sldId id="303" r:id="rId92"/>
    <p:sldId id="304" r:id="rId93"/>
    <p:sldId id="305" r:id="rId94"/>
    <p:sldId id="306" r:id="rId95"/>
    <p:sldId id="307" r:id="rId96"/>
    <p:sldId id="308" r:id="rId97"/>
    <p:sldId id="309" r:id="rId98"/>
    <p:sldId id="310" r:id="rId99"/>
    <p:sldId id="311" r:id="rId100"/>
    <p:sldId id="312" r:id="rId101"/>
    <p:sldId id="313" r:id="rId102"/>
    <p:sldId id="314" r:id="rId103"/>
    <p:sldId id="315" r:id="rId104"/>
    <p:sldId id="316" r:id="rId10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notesMaster" Target="notesMasters/notesMaster1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slide" Target="slides/slide8.xml"/><Relationship Id="rId53" Type="http://schemas.openxmlformats.org/officeDocument/2006/relationships/slide" Target="slides/slide9.xml"/><Relationship Id="rId54" Type="http://schemas.openxmlformats.org/officeDocument/2006/relationships/slide" Target="slides/slide10.xml"/><Relationship Id="rId55" Type="http://schemas.openxmlformats.org/officeDocument/2006/relationships/slide" Target="slides/slide11.xml"/><Relationship Id="rId56" Type="http://schemas.openxmlformats.org/officeDocument/2006/relationships/slide" Target="slides/slide12.xml"/><Relationship Id="rId57" Type="http://schemas.openxmlformats.org/officeDocument/2006/relationships/slide" Target="slides/slide13.xml"/><Relationship Id="rId58" Type="http://schemas.openxmlformats.org/officeDocument/2006/relationships/slide" Target="slides/slide14.xml"/><Relationship Id="rId59" Type="http://schemas.openxmlformats.org/officeDocument/2006/relationships/slide" Target="slides/slide15.xml"/><Relationship Id="rId60" Type="http://schemas.openxmlformats.org/officeDocument/2006/relationships/slide" Target="slides/slide16.xml"/><Relationship Id="rId61" Type="http://schemas.openxmlformats.org/officeDocument/2006/relationships/slide" Target="slides/slide17.xml"/><Relationship Id="rId62" Type="http://schemas.openxmlformats.org/officeDocument/2006/relationships/slide" Target="slides/slide18.xml"/><Relationship Id="rId63" Type="http://schemas.openxmlformats.org/officeDocument/2006/relationships/slide" Target="slides/slide19.xml"/><Relationship Id="rId64" Type="http://schemas.openxmlformats.org/officeDocument/2006/relationships/slide" Target="slides/slide20.xml"/><Relationship Id="rId65" Type="http://schemas.openxmlformats.org/officeDocument/2006/relationships/slide" Target="slides/slide21.xml"/><Relationship Id="rId66" Type="http://schemas.openxmlformats.org/officeDocument/2006/relationships/slide" Target="slides/slide22.xml"/><Relationship Id="rId67" Type="http://schemas.openxmlformats.org/officeDocument/2006/relationships/slide" Target="slides/slide23.xml"/><Relationship Id="rId68" Type="http://schemas.openxmlformats.org/officeDocument/2006/relationships/slide" Target="slides/slide24.xml"/><Relationship Id="rId69" Type="http://schemas.openxmlformats.org/officeDocument/2006/relationships/slide" Target="slides/slide25.xml"/><Relationship Id="rId70" Type="http://schemas.openxmlformats.org/officeDocument/2006/relationships/slide" Target="slides/slide26.xml"/><Relationship Id="rId71" Type="http://schemas.openxmlformats.org/officeDocument/2006/relationships/slide" Target="slides/slide27.xml"/><Relationship Id="rId72" Type="http://schemas.openxmlformats.org/officeDocument/2006/relationships/slide" Target="slides/slide28.xml"/><Relationship Id="rId73" Type="http://schemas.openxmlformats.org/officeDocument/2006/relationships/slide" Target="slides/slide29.xml"/><Relationship Id="rId74" Type="http://schemas.openxmlformats.org/officeDocument/2006/relationships/slide" Target="slides/slide30.xml"/><Relationship Id="rId75" Type="http://schemas.openxmlformats.org/officeDocument/2006/relationships/slide" Target="slides/slide31.xml"/><Relationship Id="rId76" Type="http://schemas.openxmlformats.org/officeDocument/2006/relationships/slide" Target="slides/slide32.xml"/><Relationship Id="rId77" Type="http://schemas.openxmlformats.org/officeDocument/2006/relationships/slide" Target="slides/slide33.xml"/><Relationship Id="rId78" Type="http://schemas.openxmlformats.org/officeDocument/2006/relationships/slide" Target="slides/slide34.xml"/><Relationship Id="rId79" Type="http://schemas.openxmlformats.org/officeDocument/2006/relationships/slide" Target="slides/slide35.xml"/><Relationship Id="rId80" Type="http://schemas.openxmlformats.org/officeDocument/2006/relationships/slide" Target="slides/slide36.xml"/><Relationship Id="rId81" Type="http://schemas.openxmlformats.org/officeDocument/2006/relationships/slide" Target="slides/slide37.xml"/><Relationship Id="rId82" Type="http://schemas.openxmlformats.org/officeDocument/2006/relationships/slide" Target="slides/slide38.xml"/><Relationship Id="rId83" Type="http://schemas.openxmlformats.org/officeDocument/2006/relationships/slide" Target="slides/slide39.xml"/><Relationship Id="rId84" Type="http://schemas.openxmlformats.org/officeDocument/2006/relationships/slide" Target="slides/slide40.xml"/><Relationship Id="rId85" Type="http://schemas.openxmlformats.org/officeDocument/2006/relationships/slide" Target="slides/slide41.xml"/><Relationship Id="rId86" Type="http://schemas.openxmlformats.org/officeDocument/2006/relationships/slide" Target="slides/slide42.xml"/><Relationship Id="rId87" Type="http://schemas.openxmlformats.org/officeDocument/2006/relationships/slide" Target="slides/slide43.xml"/><Relationship Id="rId88" Type="http://schemas.openxmlformats.org/officeDocument/2006/relationships/slide" Target="slides/slide44.xml"/><Relationship Id="rId89" Type="http://schemas.openxmlformats.org/officeDocument/2006/relationships/slide" Target="slides/slide45.xml"/><Relationship Id="rId90" Type="http://schemas.openxmlformats.org/officeDocument/2006/relationships/slide" Target="slides/slide46.xml"/><Relationship Id="rId91" Type="http://schemas.openxmlformats.org/officeDocument/2006/relationships/slide" Target="slides/slide47.xml"/><Relationship Id="rId92" Type="http://schemas.openxmlformats.org/officeDocument/2006/relationships/slide" Target="slides/slide48.xml"/><Relationship Id="rId93" Type="http://schemas.openxmlformats.org/officeDocument/2006/relationships/slide" Target="slides/slide49.xml"/><Relationship Id="rId94" Type="http://schemas.openxmlformats.org/officeDocument/2006/relationships/slide" Target="slides/slide50.xml"/><Relationship Id="rId95" Type="http://schemas.openxmlformats.org/officeDocument/2006/relationships/slide" Target="slides/slide51.xml"/><Relationship Id="rId96" Type="http://schemas.openxmlformats.org/officeDocument/2006/relationships/slide" Target="slides/slide52.xml"/><Relationship Id="rId97" Type="http://schemas.openxmlformats.org/officeDocument/2006/relationships/slide" Target="slides/slide53.xml"/><Relationship Id="rId98" Type="http://schemas.openxmlformats.org/officeDocument/2006/relationships/slide" Target="slides/slide54.xml"/><Relationship Id="rId99" Type="http://schemas.openxmlformats.org/officeDocument/2006/relationships/slide" Target="slides/slide55.xml"/><Relationship Id="rId100" Type="http://schemas.openxmlformats.org/officeDocument/2006/relationships/slide" Target="slides/slide56.xml"/><Relationship Id="rId101" Type="http://schemas.openxmlformats.org/officeDocument/2006/relationships/slide" Target="slides/slide57.xml"/><Relationship Id="rId102" Type="http://schemas.openxmlformats.org/officeDocument/2006/relationships/slide" Target="slides/slide58.xml"/><Relationship Id="rId103" Type="http://schemas.openxmlformats.org/officeDocument/2006/relationships/slide" Target="slides/slide59.xml"/><Relationship Id="rId104" Type="http://schemas.openxmlformats.org/officeDocument/2006/relationships/slide" Target="slides/slide60.xml"/><Relationship Id="rId105" Type="http://schemas.openxmlformats.org/officeDocument/2006/relationships/slide" Target="slides/slide61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775800" y="812520"/>
            <a:ext cx="599148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dt" idx="127"/>
          </p:nvPr>
        </p:nvSpPr>
        <p:spPr>
          <a:xfrm>
            <a:off x="4277880" y="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ftr" idx="128"/>
          </p:nvPr>
        </p:nvSpPr>
        <p:spPr>
          <a:xfrm>
            <a:off x="-36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 type="sldNum" idx="129"/>
          </p:nvPr>
        </p:nvSpPr>
        <p:spPr>
          <a:xfrm>
            <a:off x="427788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9CF79-32EC-460F-BCF8-74E165E3B6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776160" y="812880"/>
            <a:ext cx="5991480" cy="39942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ltural change in organisations after a major 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s in health promotion and innovation struc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strategies for information sha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 ways of organising after a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cesses within multinational organ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laboration among Voluntary Sector Organ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77D69-F665-4951-AE40-6A57B84642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D3CF92CA-63B2-4824-9F4B-B8E171AA7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28C40F3B-9CE5-48D4-BEDF-DA33B05D4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1BF8C-2AE6-41F9-BF83-0AF984B6E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D909A42A-1CEA-40F0-B054-D41E1EB679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5DD01-43B0-477E-AA0B-E64B63EE85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A12E-6903-4A8C-A912-11CA7B9B9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2398088C-F3DC-4343-B3D7-93E76FDBD3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7A9FF-6923-4EA2-9AAA-AFAE09E255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CE21A-309A-4AEC-8A9B-6A3CD78297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F2DDF-EE07-40DA-BAB3-C99DD5E89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26686-8365-4082-8185-A6B99EA062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5D58E4-DB7C-42A9-BF24-BDEF43145E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C7359-5F3F-4DCA-831B-8F5E29FF9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6BEBE-937E-4A7B-8C83-D618DE6509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11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88880"/>
                <a:tab algn="l" pos="981000"/>
                <a:tab algn="l" pos="1473120"/>
                <a:tab algn="l" pos="1965240"/>
                <a:tab algn="l" pos="2455920"/>
                <a:tab algn="l" pos="2948040"/>
                <a:tab algn="l" pos="3440160"/>
                <a:tab algn="l" pos="3932280"/>
                <a:tab algn="l" pos="4424400"/>
                <a:tab algn="l" pos="4915080"/>
                <a:tab algn="l" pos="5407200"/>
                <a:tab algn="l" pos="5899320"/>
                <a:tab algn="l" pos="6391440"/>
                <a:tab algn="l" pos="6883560"/>
                <a:tab algn="l" pos="7373880"/>
                <a:tab algn="l" pos="7866000"/>
                <a:tab algn="l" pos="8358120"/>
                <a:tab algn="l" pos="8850240"/>
                <a:tab algn="l" pos="9342360"/>
                <a:tab algn="l" pos="9833040"/>
                <a:tab algn="l" pos="9883800"/>
                <a:tab algn="l" pos="10333080"/>
                <a:tab algn="l" pos="10782360"/>
              </a:tabLst>
            </a:pPr>
            <a:fld id="{791F754B-54D4-4AAA-A4A8-6C6A50F9B7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Text Box 1"/>
          <p:cNvSpPr/>
          <p:nvPr/>
        </p:nvSpPr>
        <p:spPr>
          <a:xfrm>
            <a:off x="1271520" y="743040"/>
            <a:ext cx="5086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body"/>
          </p:nvPr>
        </p:nvSpPr>
        <p:spPr>
          <a:xfrm>
            <a:off x="1017720" y="5087880"/>
            <a:ext cx="55022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DC20D-9D4A-4722-AF41-589256404A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911D3-4DDC-4002-975C-BAB30E5B29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08F2B-AD89-4FDF-B1B6-71EFDBA012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EE337-FBBF-493B-8331-594124E8C2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3495E-664B-4542-98DD-1DA035F50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EB8C14-D8C5-471E-AE88-03CAB0FB8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56DFA-47E5-4090-B309-B2F72BA1E3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BEBFB-0AAB-4129-A3C4-0B4B8BF359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4FB9A-B113-4F89-811F-6FF1ED67B7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046334-33AF-4540-AEAE-FB0AAF3B0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5EB16-5E9E-42FB-A244-BD6A7B4717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D8488-B80A-498B-8174-5B68355B0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718A8B-318A-4E5A-9F3E-C60963791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3DE52-11E9-4DD0-A754-D00213771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8BEEF-1060-47F3-96FE-E75E1BA59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F82BD-1A75-4FDC-A248-551036925F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7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C4C40-AF9D-4FC0-A1FD-6E9D11B79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DAC23-D5DA-49BA-9575-80C6A92FDB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A9B9D-D0E9-4108-B76A-2AD4E36EF3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2EF90-1B84-41F6-9D5E-5515618362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Text Box 1"/>
          <p:cNvSpPr/>
          <p:nvPr/>
        </p:nvSpPr>
        <p:spPr>
          <a:xfrm>
            <a:off x="852480" y="75564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77CAC-D533-4AB6-826D-5EAAC687C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0F3B5-AB75-4467-8BFC-7180005D9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F11F5C-2C71-42B2-8D4D-113D4878F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D4270-3C44-4413-B5BD-50090F866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F64BA-71C8-4DDA-8CBC-77DF8ADEA7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B43E1-3773-478F-833D-9012D9465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D989-7318-404C-B5B9-FDBE7E3B5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25308-19DF-45EF-A727-FCF6A45ED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EC371-7E26-46F4-BE28-09C0C7358A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92424-E851-4876-A0B2-BB044A64DD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F4B03-740C-4F9D-819F-B6D7356F8C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3AAE2-2EFD-4F84-A842-9638CCD65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FCBBC-ADA8-463B-B1B9-903C6DE69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F55B4-0E82-4332-883D-0C3903C5F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0BB17E-063A-4A51-905E-2B96BD116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13A9A-BAED-423F-B76B-026B63A7E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6AEA7-7335-4B27-A8EA-FB92B0C34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26520-C88E-45AC-BE91-ED13CD2842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FF9EB-B0D7-457E-B3CB-992F486D94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4262F-E2D2-4C38-A719-108F37534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A5D8F-4414-40A8-8AB4-81CE2B43A0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7C09D-4B0C-44BD-8F06-E2FC230CFD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A66A1-40D9-48F6-BA81-D010EECC6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Text Box 1"/>
          <p:cNvSpPr/>
          <p:nvPr/>
        </p:nvSpPr>
        <p:spPr>
          <a:xfrm>
            <a:off x="1281240" y="760320"/>
            <a:ext cx="51037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6FC40-58DB-4CA5-807B-BE917700F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12D0C-6D9E-49C6-927A-57827C8388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Text Box 1"/>
          <p:cNvSpPr/>
          <p:nvPr/>
        </p:nvSpPr>
        <p:spPr>
          <a:xfrm>
            <a:off x="774720" y="812880"/>
            <a:ext cx="601200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6CA2D-411F-426C-9A22-C5C6ECEE24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C3E12-86D2-4062-A557-0B0381D23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3481A-353C-48B6-A82A-05F0848360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1"/>
          <p:cNvSpPr/>
          <p:nvPr/>
        </p:nvSpPr>
        <p:spPr>
          <a:xfrm>
            <a:off x="1104840" y="812880"/>
            <a:ext cx="534024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03E1A-38A1-4DD3-A114-B9043FCC4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B4E95-053B-459B-BAD5-9EB01B453A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14"/>
          <p:cNvSpPr/>
          <p:nvPr/>
        </p:nvSpPr>
        <p:spPr>
          <a:xfrm>
            <a:off x="427824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CDF27-4FB3-41C2-9DD2-762EF95B6E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329-1D59-4B7C-B6BC-702EF163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E30-7EB2-4E83-BFFE-D1B5F73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CCD17-A535-4F40-B9E3-44AEC4D7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608FA-0BF1-4080-A118-F73C529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02AB7-4AB7-44E3-A992-0105629C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5DCE-6A75-4117-9751-7E90F64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DFDD8-3549-4347-B7F8-B970B189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9BFBD-1188-46D6-9D53-2166222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D9C4-FF76-4774-9C52-CDC59A67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469B0-396A-4209-B0FD-00B9942A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2D756-B9B4-4B10-B697-D1BC60B1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E0106-3F53-441C-9CB8-B996954F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FC9-E9DD-4929-8050-D8463A03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20BA1-818C-4872-8479-5570A00A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25A1F-6184-4E4E-8299-3230A95F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041C0-310E-472B-9C8B-9DDE064C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FB6A4-254A-4B45-9871-7BF11D94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E61BD-FD3F-4363-A547-81601805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9127A-D7FF-4B67-A3EA-6FEB481D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F3829-95FF-4356-9A2C-C76B5AC9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94D1E-A5B2-4701-8E5D-10F4AA7E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3A225-4AAD-4614-A3B0-A5695721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DCF32-0FCB-4070-AF09-33497C35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067-AC63-426C-A8C5-914F72FA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225D1-8BD2-4ADA-9729-E5D0FDEA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AE9F6-D143-4C52-8E5B-0E698066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4FAA-90B8-4B76-BF05-C446A125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68443-64EB-4315-B935-98A82CBA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9DF9F-3BF0-4444-82D2-713C2FB8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27D49-8B52-4C7D-A6C0-D333E25D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05092-DF53-4817-B3D4-6BD2ADF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55588-AC68-4AAC-9D35-C53B3A33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14D0D-431A-45C8-AA2B-3E23159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35FA3-122C-4F8F-82F1-A1C7B2F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A90F-47B8-489E-9404-D911584D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6805E-1764-4033-A33F-A9086E6E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27ED0-6E2B-4AE7-BE80-C47D5BD5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8A3FB-94E6-4963-92D8-122F065D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495C8-0CC1-405B-A1AE-D940CA18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344D8-3FCF-46C9-BF04-C6C0826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D6776-636B-4147-A337-6497FDB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6222E-5E7C-4662-BC36-C61802D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992E4-6902-4BA7-8B32-6CC751D9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15F3C-E556-470F-8A5F-CDC1482F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40FE9-6D0D-49DB-B676-F5B35CB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583-87F9-4A82-8442-69078C3A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BA9C5-143E-4033-849A-4F3CCD2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B2E49-63F1-4E18-8EA9-94FABB3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F62AF-E069-4C9A-AE79-777CD71A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CBDE0-46D0-4D58-9672-CEAB6258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A3979-6855-4865-BDD4-543E602B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52F75-EEF3-4842-AE6A-9261518A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F729F-4993-49F0-9ADC-A6E9E9E5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C0E5B-063A-4CC1-82D2-30B800A1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54A49-7D02-4839-A0FD-01F3789C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30388-076D-420B-B46D-D4A099F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001A-3E77-4C70-97A4-C3E61CAB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F6E94-98CA-46DE-956E-4FE91661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5C525-CC71-486D-836A-F8B1389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DF07F-7876-4D3C-BC53-FE5DB3E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9EF23-5DF1-4CA0-B533-214E283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10630-491C-4ACA-A90A-AE6EC93F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89BB2-ABF0-4801-B13D-F3BE11D4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3EB13-62B6-4358-9773-1886BBF8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E08AC-2E94-45A9-AB37-9571A177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B5AE1-2E4E-476B-A78D-8B9C7FA0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1A282-4685-4035-9F9E-57861900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F44-330A-4882-A256-68CA4B7B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1B368-7AB1-4BF8-A07F-44AD357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7990B-D6D4-4C57-83C1-D8F602D9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CFE19-7754-4818-9C8F-60147445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D8E9B-6A7B-4768-A417-B315AA11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A28E4-727E-41DC-A533-D265323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279DE-1CDE-43CA-BD49-96D0951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BF244-9077-4001-A387-7B56603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4C9AD-9786-489F-B872-EA0066B1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31EBB-FBC2-4557-98A6-24C2D6BF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D4388-7336-4024-9169-507BAF26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4FFA-B43C-4409-9322-26ED68F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D40E9-9B0A-4431-8D8D-466190AE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9AC2D-5DEA-4805-9877-C3244060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A8EE9-1F30-4098-A179-3DB65F88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CE9C3-D594-4DBD-B101-736C95F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4BD73-5BC2-40A1-9A7E-A03F505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917F9-423B-4C6C-A670-F04B6F5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DB475-F642-4580-98D4-9CD0044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2E663-FE67-46F6-8147-453BDDC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DC706-6F2A-4AD1-8A0B-E612402A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D1249-EDDD-40ED-859D-3A9AC403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7C18-BD2A-483C-A212-27A7FC9A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DA706-F306-4BDD-B4EA-6EA2E05F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4398F-8236-497F-B49C-D57EAE6D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30CCD-237F-4F4B-81A2-02A2E9ED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BB873-85B7-4B78-A4A8-8A43622D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E02DE-5BF6-40FB-ADE3-CEFCD386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4D8F1-DA5D-4D43-BBD0-58D63BB8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B028A-D38B-4CF6-AACB-46C37AB7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E993F-B981-4584-9A55-7357384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B71A5-171B-4F41-BC0C-15B8967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BC707-3402-4BAD-A3DA-F2AD1F55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C172-8A6A-4C8A-8B45-0771E05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A1F9F-F96D-444E-B896-827F7A7E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BD92F-BE1A-42C5-921A-B3AC5405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0E481-07D4-4775-BCCF-8005935E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7DA40-4920-4E47-9150-685F3E0C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4026C-2D71-4DC0-B1FC-FDCC04F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84A14-42B0-480A-9BD5-497FE0C3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C80DB-921D-45BE-8F53-21285E7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78CDF-A4BB-4B05-8425-BDB67202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CCA2F-4441-4B68-87A0-A29F1AD8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2E065-333E-4B56-819B-58291AAA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D92-7A0A-4620-8846-CDFB4AF4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314F-0D09-4016-B292-11CEEA20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D158F-97DE-4095-BC19-926FBAF0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17E6D-4D9E-48F6-A5CE-8FF933B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732C0-6E15-4981-A671-DD465CA5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A0AC2-3E58-4B23-B9E1-A9E4BE75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7505C-5AD5-4DCE-903D-8B26C215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09DB9-C498-4B58-84EA-7BBD3843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91FA9-E81B-4FA9-80AE-CA0F86E5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AC664-4C7F-4DBC-B103-E1385A3A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B8EE5-1198-466C-AC9D-959E103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30FBA4-4AE9-4D41-B839-CE8415C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F5D8-5BA2-440F-927B-BFC8E90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F1267-D282-4961-95DD-DB3A3EDE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D0092-7C97-4138-B3A9-C3E4C9D8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1E18E-30EC-4675-AA9D-58CC4DFC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C8AA7-4FAF-4881-948D-1E1F280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A882D-BD46-43B0-B1ED-DACD249C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52E24-B42C-47BA-A2D6-54125919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B4172-EFCE-46E3-9576-4BB81ACF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9E90F-3150-43F9-A594-3B2C5380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74B176-27E1-4646-B4EA-88E39EE1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4A0A7-3D71-4FFF-B2CE-74433DA1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EC74-90C0-431D-887A-46ECC3D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21BAF-8059-45B8-98EC-6872C5B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59A41-9F2A-4319-9AF0-194717F4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84619-1519-41B1-A3CD-623E99C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DF440-5269-43FE-BCCD-1200CC7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16682-3129-426D-86F7-E5C517E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4CDBE-AB18-442F-A01E-971D710D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C2805-4EAA-4452-95CC-A92DC692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BC807-5AF7-402B-B9B3-795E8625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FBE38-D525-4345-B988-87B80158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7F4CC-C92E-4B75-BA30-EC9DB569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BD69-738B-4CFF-A2CF-C7CCDB72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2582F-EB91-441E-B8B2-DF1DBEC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95B15-4CDE-4767-AE94-8D148525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6E15A-67DA-4DC0-81EF-B67605E6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5B00D-ADE3-4804-BE4E-AF21256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60AEF0-C188-4CCB-AF53-A5ACAE3E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BAC1DF-5263-4841-A4E2-B566B5B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67E13-F12D-494E-9707-2836A4B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035CC-C146-4D26-BF53-78AD212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0E96B0-5A94-4F0E-B24D-117907BC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565FC-3075-48B6-9897-BC2CF37D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BC01-8492-465E-AC1B-4337FA7C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3C2C7-CD68-4A17-BF4D-15945F43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EDC85-E830-48C6-A87B-0AE709FC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CFEFF-12DA-4FF9-ACD4-D2C39306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31378D-1D7E-490A-B82C-8E7AB213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867B6-5473-4FD3-9E6F-674F64A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83450-729A-405A-92D6-DA52CE5F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AC814-CB9B-4786-B63F-A3ECDA8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E98D8-4594-48E6-83CC-25853E3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FD1EE-B197-48F0-BFEB-06A945DC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019A5-9897-4609-931A-47585F2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DBA7-10EE-4195-8A96-C70EC41A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7308BC-146B-4D22-AD1F-33E28DA3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C279C-EFDC-4D8A-A731-88B878E1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49DB4-924F-4EFA-920B-8B189E8C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CD7FC1-8E53-4176-B551-FB5D697C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B7F611-BF86-493F-BCF5-E98E9E8C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C23B2E-9C5B-4303-8C3E-92DBA0DA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73188D-890D-41AC-8775-0C30BE5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09D2C-3575-4D5F-9007-11FA6ED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180E1-8EE9-45F9-A631-A4ED255A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4A798D-52E0-4536-92CB-B3F129F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D7E7-A9A9-450D-B7D0-2E9636C7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5155F5-20B9-475A-9E95-AF8580A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4DA6A0-DBAB-4B12-BD9F-C7E9871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FBEEC7-26B6-4031-B3BF-5890174A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8EFC1-F85C-4ADC-BAFA-C4A8E3B7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AF3EF-F285-4751-A448-D0189CCE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ECE7EA-9C0E-4421-9224-F9B7C6E3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C2EE1B-782F-4E8A-B0C4-D260502D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BD3841-E09E-4FF5-90AC-281A835D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BDFCD4-22FA-4DB0-9E0B-C1B11080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E8AD72-6221-4D7B-AC21-FA99F9A9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F90B-3084-4ADA-BAD3-1C0FFEF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4F9CD7-585B-4E85-B131-E50E199A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B6D56-DB3E-4429-B289-D13D519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06AE3-C77B-4FB5-9255-7976090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1943E9-C00C-4835-8CAE-0BDC4F4C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37F674-662F-429D-8488-4B42EF5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2CC67-DD6C-459B-8168-7499EC89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EDC48-02C5-48C0-89E0-A1EB2E11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4A2F4F-7CF6-4E37-AE3F-E05D216D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3B74D2-9F56-4A27-95F1-DA4E130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E94F2D-E97F-467E-B947-2E76E96E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37A2-9D89-4951-A4F0-B545CDE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0B6646-F390-4B05-97CB-E1A85E0E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C2299D-73A2-4E53-A3C5-90CF8FC4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7AB80A-1B03-4A65-A1E3-6D758225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4BF75E-C80D-4C75-9C41-8BA2077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4F5A3C-3961-4907-A4FC-4A204E9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BDB7CD-FF0F-4714-89CE-CD41D09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6BC1F8-B233-4329-9FBF-E6194778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AA4062-A4BD-4390-9931-D791AA10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1EABC0-81D8-4F60-90C7-29C65FA3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973A60-CFDE-4676-B6C2-4452A0F1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CD19-1376-44BC-95E6-3E0F8CFD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17EC1E-D632-4AB2-A87B-B358BA9B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36BE7E-6B54-4D9B-8EA4-E593C3C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486E98-93DD-4B5A-B042-0895717D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35E4C5-4B90-4581-A1D3-EC929FC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0655A3-A2C3-40C9-A70C-26DB0CB2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2FA72B-A410-40FE-A21D-21D6385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E7EE58-3CD3-4E86-82A9-A9A8B8C0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CB274E-6083-4F14-AD0C-755EFCC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216D38-6B5F-4362-A975-FF246F5B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650B8D-0564-4D0E-AB39-A60511B5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457-DC8C-4EE0-8B9C-539BE967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3A7B-1A4D-4EDE-A027-CCF40EC7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2CFF83-DD26-43D1-83B2-76447B38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0650D-C2B2-4F93-BB0A-C7970A1A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B841F7-8B89-4CDE-90C6-5FB4B3F1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3F8F56-6451-414F-B80B-2565B085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4A469B-BC77-4A19-A7EB-91179FFB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DF6360-FC58-41A7-82BE-56AE4D24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A4C2D3-F4AF-4B46-9520-6A0E9BC3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9E192D-1732-44E6-8CE3-D8D065F9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63041B-9188-4A72-979D-D7B10BF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F29012-4A08-47C8-8BB0-8508B026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A644-9F8F-4D41-8C5C-E6C88F47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FD7D75-2BB5-49E2-BDA5-9F50B335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EE5612-3F1C-4CBD-9745-AC7A7C7D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110012-E166-4697-956A-FCE30331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7CFF52-537E-4BB0-8278-3592F650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139A3F-CD11-45BA-A85E-52EB3EF8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D5CB56-16E5-4882-AEA7-8DE61B6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9D03DA-0ECA-40EE-9FB7-2112EB4E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E9BE6F-CF56-4F9A-B230-0D46D9E5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60C1DE-F8C7-4DAB-91D1-BFFF3DB6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F5E37B-418C-4CF2-AB37-1DA4560E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E21A-FFBB-494E-84AC-EA2DD051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F07725-D38F-4362-9DA4-E043DBF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A668FE-A4E4-4164-BF8F-7B995AF8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F5E140-246A-41A9-B6B7-44CDEA2A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B1E1D3-087D-44B1-97EA-001022D5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1AB040-264A-40E0-8360-A7ABA0D0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7AFB77-1E21-4BB9-9609-C6434F88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9CA535-DCF8-4364-AAB7-31D94EB6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362243-5ACB-4824-A6A4-A9DC390C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16D441-1361-46CA-B65B-C5847861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550126-A928-464B-94CF-16236C4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CFEF-116F-405F-8C9D-27686AA7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692EDB-B155-406D-BD60-0A34A652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813302-737C-41AB-B430-18B04D9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5378C8-2CBB-4A1B-AEAB-8ECE0FA5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54A024-71EE-4FF2-B474-37A57EC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A70350-9694-413C-8D99-1E705604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4D1107-6746-4550-A54C-705BF1E3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852D71-574C-4E52-9ADC-C569F8B9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0D7E3-77A7-4279-8EED-A681F3FB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109350-F1C6-4BD5-ACA1-A105180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F50164-4E20-4573-8681-F54655F3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B8D8-501A-4367-9FF2-A11C7D6A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44287D-7EAE-4A66-8A99-A1EE096B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2CF4F8-1F7E-40DC-87E9-D69320DF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7B72AF-26AB-416D-ACFD-4F403661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A0CD1C-D691-4AAE-BFAC-5FD2660F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1845B6-D359-4A34-8F7A-093665C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D85E7C-E557-4C3C-A6A6-ECCE753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EAEE03-6672-4E38-AF33-B0E8381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9ABAEB-244E-420B-B879-5E9C70F4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665B31-F371-4E26-AF0F-878A137B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67A5F6-21B5-4BC5-938D-A43B1C3D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33F3-D71C-466B-83C1-344A0E96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6A4F7C-6764-47E8-A8DB-01601BB8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F926BA-FA1F-4255-9A71-CA246AB5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03E45A-FD75-4FB8-A484-B6A9BFE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2F70CD-2EA4-47BA-929A-450DF49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C9DC72-CC8B-4AF4-9739-A987903E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10E5D0-5DFA-4124-8275-BD618580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1F19B5-3CFE-4843-898C-EBC69B6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99BF88-5DB0-44D7-8AF8-F4C1A32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A85917-E735-4B99-BB26-14ECF942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8EBA44-DB1F-42C2-90E2-8646BD0C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EDC5-5A46-4FA8-A6A7-E295E863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3A3D51-5F96-4121-9B67-A0A148AB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FAAABE-BD12-4B92-AE03-DBF9E7FC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A37392-162F-4329-8CBF-85364B2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95E433-C89D-4F97-BC2A-381ECEF3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26C080-333C-4084-8904-A3D4AE8B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C482EE-3F23-4E71-99E1-5237EA22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540AEC-F0C4-4984-A80C-732A6FD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EC50AE-B91E-4242-97F1-ABFB090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48A650-90C5-4692-86DA-A11E1905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B547ED-41A8-4CE5-83F7-A069237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1B17-2AD0-47B1-9AF0-41D70A25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F34861-DF0D-436B-B9C0-BF7980BE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A80670-D7CA-4D3B-8E62-A35E6777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458E16-41F5-447E-B1D6-EBA7CBE1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DF2F41-6B5B-4AFD-94BE-E32C3873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B6DCF6-4D51-4A37-9C50-F3A1F402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CEBA9C-52D3-42D3-BE52-F032067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29EBC9-D0E2-4166-BBB7-B109652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9C8585-0947-4B0E-B901-0CC2A3E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3B14B7-534D-4406-9CA7-379CC935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89F211-8CD2-4E83-A2AD-F9E4423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A213-1733-464A-81FE-2690F3D9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59AF21-2D8E-4B1B-A934-6B3BA42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F1252C-B01C-4F23-B369-69B6FC7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8506DD-B9BA-414A-BEB3-5FD947A8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D34048-5029-4E69-ACF6-693DDB93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712624-2E48-455E-8ACA-A7884258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55FD1F-106F-44A2-8D3B-6908905E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05DFE6-9613-4534-9293-11D4EF3C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572013-7F94-4C12-A27A-A170E088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FBE167-D7E9-44CF-BFCE-C6E03B92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87813A-A0B5-4C0C-89F1-CF6B9035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832C-2B3A-4B9A-85CD-8E013459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43289A-2A31-4DF2-A4A9-942EB8D3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6D84CE-DFFA-4C41-90A8-A93C9964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39580E-4186-4BDD-9C01-0FBCE64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9817E1-0523-4456-8CC3-8E55463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0EBCC5-2F09-422C-A237-02BC1319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A4447B-80C4-4F42-8BEA-7F4FC7E7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AE1C05-B60A-4D29-B4AA-FF904CA7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7FD43B-7E91-4EF0-88E8-3963FDD4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15FE31-E8D0-4C14-9D0E-58F7026F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38210C-A156-4DFD-8BFA-C2427FA3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C9D-C30D-401B-A5BF-AD287161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3D20-BDD3-41CA-B961-A6DAE4AF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080DB1-B848-4A07-9966-765E4B0E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6F5C35-63CF-4672-88DE-57A3A44C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C20EBF-FDAF-4D97-99EE-E2E9C6E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E5AB9D-DF3B-42FB-AED1-5405761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9EC730-FC83-4FAA-BD94-21F1208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2C07BA-DFE4-4D91-A946-9D9A3EA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62E253-E826-4264-BF53-CE042398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F46BFD-1327-4EFA-8B8D-AD751107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EB5224-95D5-4236-97CC-3D7384F9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4E09D6-FEB9-4CE1-877C-76225B8D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C035-7C54-4E0E-9FC3-E1A5510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AD4AB9-ABF2-422D-979B-D7AE7962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2A574E-6346-479F-B36B-BFE038FE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82F0AB-FEF8-4F72-A132-95709CC4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547787-45CB-4163-A37F-7652E1FF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055FC7-7452-465E-80CF-F67793F9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00065C-F0D8-4380-95FC-BA7BBF8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AB02BB-DC38-4E02-8BB7-CD137CE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43B092-9540-4789-9E3A-85D77AA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1973E9-E06E-44B6-89CB-06F0515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07482C-25D1-4F9D-BCAB-9B8910F5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3F86F-C212-4D05-B7D4-1DA5C4B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DD5D6B-37DB-474F-B0BD-CA789FEB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CD263E-B24C-4120-8522-2B677EEC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5E58B2-DAEF-41A8-A8AB-6911261C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AF168D-3A27-4CFD-B7B8-83C6117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480DD4-6966-479C-9ABE-A5DAB4B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0C69C0-E62D-4C4C-BCE1-4258D8F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502910-D3A9-4F3B-991A-0A428D30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6145D6-AA3B-43CB-BD6A-E51CF8C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B6D5F5-2321-42A3-9A04-EC8BF6B7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ACB1D7-023A-4844-AC57-3E3B39B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50CF-B32F-40FD-BD55-AF9D63BA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D416E1-C387-4369-9E72-D71E3122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12AB4F-1AB7-4584-B278-EB7AC4ED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D9D72B-2116-467B-ACA8-30F986B7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8AC11E-472A-41A9-A31B-B69B304A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E10342-DD94-4FA2-94A5-2AF4566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F8A229-CA0C-41F8-9B28-BFF430EB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3DF298-FBD3-47C8-BF32-130A5B9F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F7271D-3294-4765-BF5C-8D88FBD5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EB0CA7-96D0-4477-8341-472BD48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710114-59C5-4BAE-A2C0-FEF8986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7378A-F67D-45BC-9571-D9E0D0E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CEFE74-479D-46C7-BA4D-FA13F23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F138A9-2F24-4121-A0B9-933CFDA5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7285BD-AECE-4BE0-B9F4-5E2E5955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286009-A476-4380-8E37-793E6B7F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8C50E0-C0C2-4F67-92B2-4998CEE9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0247EE-6351-436D-95CE-A363FFB7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38F6C1-C2CE-48DF-BAA2-B87014B6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B22503-4ED3-4E43-82E1-C937D514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125C18-33BF-4F0A-9172-285E467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1F7617-61A0-4AED-A821-6D94169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1A45-ABE7-4C5D-9270-3F3D9EB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00B658-2FBF-4335-96C8-90BF787A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C9AB87-7E05-400E-93D1-DE78299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2109AE-23A5-41A1-99D7-8B6ECB7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AE43B6-4EEF-4A29-84B9-F157876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6BE08E-39FF-41FB-B499-A79970A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E7EF96-094C-4B1B-B1E5-0C519233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54249A-9ECC-4559-B35A-5077C756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37E46D-117A-4AD8-B939-ED2F4F22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700A2D-2CD3-4F95-B4D6-C259D95C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B39DFC9-999F-4B7A-9542-4F8409FE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21489-6551-4DE9-B703-6654F393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E71115-E9E9-4565-B314-C0D58E2C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4D9BDC-728B-4ADD-BCE5-F3890678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A0F5A9-F94B-4236-A0F1-EC6268E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68D160-9967-468B-89E1-40E41D7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333860-8BA2-4B86-A570-6536C35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B8D90E-85FA-49AE-9BD6-69932093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87E54C-D935-400E-9A7C-36BDC0CA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E0F753-092A-4120-8008-276F4282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7BA2EF-A252-426B-A191-09DB4B67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43F447-97F0-40B9-AF24-090BB8DA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6CD6-06C7-455D-AC0D-0D3B6177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FEF680-E4EC-4B2C-8855-09BB3DD7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399DD9-8493-431A-8AF5-08BD0D7C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DF3ECF-9462-40AD-809D-F68A29E0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7CABEC-2F87-4DE1-B77A-6379B63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9A23F38-A6D6-4418-9DEA-9ABF26FE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D711D8-5AF6-4266-9A14-DBD1BD65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A2386B-EB13-498C-BA94-E46A2A77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AAC755-8D42-4ACC-8125-220541B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9BA4F8-E3C4-44A2-A396-FC2EC008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983C8F-84C3-425D-B11E-1EB78A1B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C87A-BA0D-40DB-BCD4-F63CD891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873452-B398-4DD9-81C3-DE19179A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03AA59-AD57-4ACB-93EC-7FAC0ADF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BB6E8C-53EB-4D33-9213-22807A01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F8A65E-13F9-4548-A4F2-AFEF5FE5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41359B-9C1F-4AFE-8872-FDCAEB18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E1917A-66DE-4B90-B6CC-B9B88F98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7C82AFA-800B-4C82-8168-745AADBA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CBCABE-419A-4C46-B564-D0A95244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95739D-8CA5-4F40-A0FA-F9E904C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0BCC9F-3E8C-44BE-8A5B-75585F5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2C5A-8061-4B7F-B950-49C60F26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E6DFD0-8D14-4CDC-99F1-ADA1C9E5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6DE7B0-AB61-4682-9E2A-F19834CF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708577-0BD9-4896-A408-DEEC2160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8CCCFD-FEE3-430F-96AF-8BA19DA8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00CB9E-599C-4F52-8DF0-61D4364A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65464F-AAE9-4677-812A-8D64F35B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6F1C54-8BF4-453D-97D0-EBD01105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91AD4F-0472-481D-8E61-A81AA21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4CC2F5-D29D-4F9D-8715-D4EDB08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F7AA34-CDE2-4CD2-B1F2-FB89B35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636-CB56-404F-B991-300D05B2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4DD24-5DBB-4312-B368-433A243D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467E18-9BEA-48BB-9593-16D57D8E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4DDA41-E30D-4222-86DE-49DBBCD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D8DB87-B636-4483-9109-042EBEFA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2D48EC-9293-407E-9805-694DE7E7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8FA2C3-14A3-42FA-A9AE-BEF0D6AE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3014-98A1-4B60-903D-9B674A8B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F566-B0EA-4F08-BD53-6524D463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438E-6BD3-4D75-81EC-F61A3EC6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5B69E-062E-443F-B533-36E5A891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2D28A-CC98-4AD9-83F2-271613D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9FD6-1BAA-4478-902E-9C8F00E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19178-1A57-484C-8E9B-BDD341C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9CD5-A439-494D-9170-AD3902E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E52A-5714-4053-8ACC-0268E5E5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1AD-C3B9-49F4-BA5F-355A8AA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30F0-AFB5-4EAC-838A-CCFB2B5F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D2BF0-B6E3-4F82-8D8C-5AE1A8E4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E5E57-6E2B-4B50-B89E-56441C95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C7C6-9245-4B54-AC29-EE6509AC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4A9A0-D7AF-4934-A1B9-5431BA4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7306E-75CB-4972-BDB5-1766E48B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8856-A746-49D0-94CA-D7820C76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5AFC-B490-4235-AF33-CDC50C9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E068-09DA-416B-ADF4-82A42FE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66CF-D0DC-4902-902A-70D4DA7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6DA-B96B-4BAB-9240-6A85D0F3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7032-060E-4018-BB71-0D869B14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0BAC-CB01-4BEA-913C-4C20CDE8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4BE09-2DF2-4FAF-9D55-20163591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CFFB-8FDF-42F0-900B-B893A3FC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026D-78EA-4843-94F5-13A730DD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A0415-99C3-449C-91A7-B775848D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7E55-07FF-42B7-9462-FB8179FB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98AAA-4AFB-4C72-95B7-D7D862CE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A31B-1743-4E7A-A83D-87AAFB28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520D-7855-40A0-A6FA-3E3D6FF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5EB-B528-4EFA-84B3-B2318EC8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A5A7-B9D0-4A36-AA01-4177F06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200FD-F3F5-47DB-ADCC-C3225176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C08CC-39FB-435D-A6E0-9180EB6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91908-6B19-4D1E-AA60-8BBA2ED3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A70F-258A-4C00-82C0-F87CCA43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D7FC-265F-45B9-A1AB-C43EA3F0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F99F2-ABA2-4A0F-883E-2E85E7BE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FED6-D991-4C80-AAB4-59E1872E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EB340-754D-4D6E-B423-9F965894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7857-75BB-4ABF-A596-217CA1E0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84B-FB37-4863-AF3E-007A44AA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85640" y="136080"/>
            <a:ext cx="87328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62CA-C6ED-41BC-B160-1E2F8A7C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AEF65-11A1-4529-902F-726FA92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95577-DBAA-4497-A3AD-C0DAE3E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78A86-0CAB-40DA-AFFD-FF6A6EA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5640" y="3745800"/>
            <a:ext cx="873288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B8914-DC20-4B5B-8860-EF4AC212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60440" y="151596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56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60440" y="3745800"/>
            <a:ext cx="426132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6FA6-A1E4-43EA-8766-9576D795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43836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390720" y="151596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8564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43836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390720" y="3745800"/>
            <a:ext cx="2811600" cy="203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40625-899E-4412-87BB-9444F43D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13F90-8A18-44C9-ACFC-A43DA618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A7E46-F08F-4635-B7BC-32908207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9B49B-3133-435F-AEDD-A409FFF4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8520" y="6325920"/>
            <a:ext cx="2249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</a:rPr>
              <a:t>11/09/1005/1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800" y="6325920"/>
            <a:ext cx="3066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25920"/>
            <a:ext cx="22492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700F0-59E9-4B32-A003-FABFC725702F}" type="slidenum">
              <a:rPr b="0" lang="en-GB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8506B4-2FB7-44C6-9F03-39790656AE9E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316159-3710-4986-AEB5-2CE04D2705F0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A41499-DB12-42C4-BD55-BFF9A85F755C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6541B4-205F-4955-A044-F5993B1486F0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254F77-6BA7-4F6E-8E42-2D1A3064A4AE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FBEEA4-9B11-4F0B-B728-6B3A818F653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5457B0-D54E-42CE-B9A9-1910ABF4DE4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4BEDC2-1A04-4E16-B875-795EADE0F97C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53BB5D-DD31-4E5B-97D3-C0EE146B061D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4B12A3-20D4-4420-925F-AF511579718C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720" y="298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e3436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2280" y="6170400"/>
            <a:ext cx="2249640" cy="2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41520" y="6170400"/>
            <a:ext cx="3067200" cy="2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852040" y="6016320"/>
            <a:ext cx="5061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000" spc="-1" strike="noStrike">
                <a:solidFill>
                  <a:srgbClr val="2e3436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F3C239-E6BE-4208-8690-73FF0C469755}" type="slidenum">
              <a:rPr b="0" lang="en-GB" sz="2000" spc="-1" strike="noStrike">
                <a:solidFill>
                  <a:srgbClr val="2e3436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CB45C3-E0FE-4867-A75E-871DA54F1FC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4A76CC-A3D0-4A5E-B697-C258EEBC5B43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1B9E42-D1C9-4A0B-8D17-5439ED08020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C59F0D-E61B-4190-B287-AFD6C63835A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E3C676-959E-44BB-B939-C563B3DBF052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01F3EE-B426-4006-8261-960046C96FBF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DCF35E-7DF5-4665-802B-38092714525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8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A66DD8-CBA2-46F5-93F7-30A9864E95B6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A36B38-C49A-4429-A931-26608E42B883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45D50F-AF48-49AB-87DF-4142DBF962C2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85280" y="5903640"/>
            <a:ext cx="2249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24240" y="5903640"/>
            <a:ext cx="30672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69240" y="5903640"/>
            <a:ext cx="224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2F85D-1A68-4984-B8C3-6CE209A5C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9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438F02-CCD7-4A5A-A22A-6FAF16B2BF8C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D54D72-C221-4041-A403-F147577FCB76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E5B738-DD28-48DD-8835-C110D8768442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7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8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9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8D3AA0-4511-4B61-BB09-9652D3F6F880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100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1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2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0969B6-DF84-44CB-A8DC-02CD92F128D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3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4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5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8D5C9A-3777-450D-AF22-F9914DAE39B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6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7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8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EF0545-308F-47D3-9364-55042C4460C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10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11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11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E75CC4-3462-47A4-860F-0D2503AD020D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dt" idx="11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ftr" idx="11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 type="sldNum" idx="11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155596-6D34-4C79-91FB-717877189911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dt" idx="11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 type="ftr" idx="11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 type="sldNum" idx="11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7E3060-49E2-4A71-9D19-E2007CBAD60F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-360"/>
            <a:ext cx="873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85280" y="5903640"/>
            <a:ext cx="2249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24240" y="5903640"/>
            <a:ext cx="30672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69240" y="5903640"/>
            <a:ext cx="224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206F5-80C0-4A44-ABCD-678B14255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118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119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120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1CEF48-EEC4-4251-B0A9-049A4E0712C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121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 type="ftr" idx="122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 type="sldNum" idx="123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A1D076-1889-4494-BFA3-ABFBD1F6309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24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25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26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80A5E1-A9FE-4230-8568-A0AE8627B1DC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"/>
          <p:cNvSpPr/>
          <p:nvPr/>
        </p:nvSpPr>
        <p:spPr>
          <a:xfrm>
            <a:off x="0" y="0"/>
            <a:ext cx="9720360" cy="3240000"/>
          </a:xfrm>
          <a:prstGeom prst="roundRect">
            <a:avLst>
              <a:gd name="adj" fmla="val 46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3288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85280" y="5903640"/>
            <a:ext cx="2249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1/09/1005/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324240" y="5903640"/>
            <a:ext cx="30672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969240" y="5903640"/>
            <a:ext cx="2249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B6335-2E0B-477A-9F8A-938A2C9F0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"/>
          <p:cNvSpPr/>
          <p:nvPr/>
        </p:nvSpPr>
        <p:spPr>
          <a:xfrm>
            <a:off x="0" y="0"/>
            <a:ext cx="9720360" cy="3240000"/>
          </a:xfrm>
          <a:prstGeom prst="roundRect">
            <a:avLst>
              <a:gd name="adj" fmla="val 46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5280" y="147240"/>
            <a:ext cx="87440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0B033-9994-41DA-942B-ABF02F003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F6FEB-09A9-4B98-88CE-F2207504A067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DAF34-7D4B-4B05-890A-05CC58E65C8D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85640" y="6005160"/>
            <a:ext cx="2268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320640" y="6005160"/>
            <a:ext cx="307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965640" y="6005160"/>
            <a:ext cx="2268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1314D-1624-45DC-B68D-4F9AA68D2630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xRaUqgWPN0&amp;feature=PlayList&amp;p=D83AA0216AD6F393&amp;playnext=1&amp;playnext_from=PL&amp;index=1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rCeVwwu0Xcfeature=related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85640" y="136080"/>
            <a:ext cx="87328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f57900"/>
                </a:solidFill>
                <a:latin typeface="Bitstream Vera Sans"/>
              </a:rPr>
              <a:t>Dr Lucia Garcia-Lorenzo</a:t>
            </a:r>
            <a:br>
              <a:rPr sz="4000"/>
            </a:br>
            <a:endParaRPr b="1" lang="en-US" sz="40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485640" y="1511280"/>
            <a:ext cx="874872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w people get organ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Picture 2" descr="http://images.travelpod.com/users/rebeccabrent/thumbnail.xlarge.4.1319001301.small-groups-at-work.jpg"/>
          <p:cNvPicPr/>
          <p:nvPr/>
        </p:nvPicPr>
        <p:blipFill>
          <a:blip r:embed="rId1"/>
          <a:stretch/>
        </p:blipFill>
        <p:spPr>
          <a:xfrm>
            <a:off x="0" y="2151000"/>
            <a:ext cx="3568680" cy="238140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4" descr="http://hesas.glam.ac.uk/media/files/photos/nurses-uniforms.jpg"/>
          <p:cNvPicPr/>
          <p:nvPr/>
        </p:nvPicPr>
        <p:blipFill>
          <a:blip r:embed="rId2"/>
          <a:stretch/>
        </p:blipFill>
        <p:spPr>
          <a:xfrm>
            <a:off x="3941640" y="3963960"/>
            <a:ext cx="2908440" cy="255420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8" descr="http://www.mobiletopsoft.com/images/news/chinatelecomm.jpg"/>
          <p:cNvPicPr/>
          <p:nvPr/>
        </p:nvPicPr>
        <p:blipFill>
          <a:blip r:embed="rId3"/>
          <a:stretch/>
        </p:blipFill>
        <p:spPr>
          <a:xfrm>
            <a:off x="3252960" y="2160720"/>
            <a:ext cx="3138480" cy="241128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10" descr="http://www.involvement.myzen.co.uk/crimages/people2.jpg"/>
          <p:cNvPicPr/>
          <p:nvPr/>
        </p:nvPicPr>
        <p:blipFill>
          <a:blip r:embed="rId4"/>
          <a:stretch/>
        </p:blipFill>
        <p:spPr>
          <a:xfrm>
            <a:off x="6773760" y="4184640"/>
            <a:ext cx="3138480" cy="232236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12" descr="http://www.romania-insider.com/wp-content/uploads/2010/07/corporate.sxchu_.jpg"/>
          <p:cNvPicPr/>
          <p:nvPr/>
        </p:nvPicPr>
        <p:blipFill>
          <a:blip r:embed="rId5"/>
          <a:stretch/>
        </p:blipFill>
        <p:spPr>
          <a:xfrm>
            <a:off x="-93600" y="3936960"/>
            <a:ext cx="4162320" cy="254304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14" descr="http://2.bp.blogspot.com/_5bwkxAXYLeI/SxkKg77H8rI/AAAAAAAAARk/1ezDXqaFiQY/s320/the+meeting.jpg"/>
          <p:cNvPicPr/>
          <p:nvPr/>
        </p:nvPicPr>
        <p:blipFill>
          <a:blip r:embed="rId6"/>
          <a:stretch/>
        </p:blipFill>
        <p:spPr>
          <a:xfrm>
            <a:off x="6353280" y="2151000"/>
            <a:ext cx="33670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Text Box 1"/>
          <p:cNvSpPr/>
          <p:nvPr/>
        </p:nvSpPr>
        <p:spPr>
          <a:xfrm>
            <a:off x="190440" y="258840"/>
            <a:ext cx="9043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e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5"/>
          <p:cNvSpPr/>
          <p:nvPr/>
        </p:nvSpPr>
        <p:spPr>
          <a:xfrm>
            <a:off x="455760" y="1130400"/>
            <a:ext cx="8732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  <a:ea typeface="MS Gothic"/>
              </a:rPr>
              <a:t>Zajonc (1965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MS Gothic"/>
              </a:rPr>
              <a:t>Performance of simple and complex tasks alone and in the presence of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6" name="Picture 9" descr="C:\Users\Garcial1\Desktop\social_facilitation.jpg"/>
          <p:cNvPicPr/>
          <p:nvPr/>
        </p:nvPicPr>
        <p:blipFill>
          <a:blip r:embed="rId1"/>
          <a:stretch/>
        </p:blipFill>
        <p:spPr>
          <a:xfrm>
            <a:off x="155520" y="2287440"/>
            <a:ext cx="9333000" cy="40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Picture 2" descr="C:\Users\Garcial1\Desktop\girl_playing_a_violin_in_front_of_an_audience_1574r-09369.jpg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Text Box 1"/>
          <p:cNvSpPr/>
          <p:nvPr/>
        </p:nvSpPr>
        <p:spPr>
          <a:xfrm>
            <a:off x="173160" y="235080"/>
            <a:ext cx="9547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Text Box 2"/>
          <p:cNvSpPr/>
          <p:nvPr/>
        </p:nvSpPr>
        <p:spPr>
          <a:xfrm>
            <a:off x="468360" y="1079640"/>
            <a:ext cx="8783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ffects of the audi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aluation apprehension model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ttrell, 1972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straction-conflict theor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aron, 198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lf-awareness theor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icklund, 1975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Picture 3" descr="C:\Users\Garcial1\Desktop\Social-Loafing1.jpg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Text Box 1"/>
          <p:cNvSpPr/>
          <p:nvPr/>
        </p:nvSpPr>
        <p:spPr>
          <a:xfrm>
            <a:off x="173160" y="235080"/>
            <a:ext cx="93661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Text Box 2"/>
          <p:cNvSpPr/>
          <p:nvPr/>
        </p:nvSpPr>
        <p:spPr>
          <a:xfrm>
            <a:off x="347760" y="1079640"/>
            <a:ext cx="901224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hen tasks need interaction and inter-individual coordin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groups perform better than individua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iner (1976): Task taxonomy. Three Determinants of Group Performa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sk divisible or unitary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,  tasks where a division of labour is reasonable (e.g., production lines) versus those where it is better for everyone to work together (e.g.,  tug of war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ximising or optimising task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.g., where the task job requires people to do as much as possible, (e.g., tug-of-war), or where a particular quantity is to be achieved (e.g.,  pulling a rope maintaining a specified fixed force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Text Box 1"/>
          <p:cNvSpPr/>
          <p:nvPr/>
        </p:nvSpPr>
        <p:spPr>
          <a:xfrm>
            <a:off x="173160" y="235080"/>
            <a:ext cx="9366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Text Box 2"/>
          <p:cNvSpPr/>
          <p:nvPr/>
        </p:nvSpPr>
        <p:spPr>
          <a:xfrm>
            <a:off x="347760" y="900000"/>
            <a:ext cx="91915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iner (1976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 are individual’s efforts related to the total group outpu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dditi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group output is the sum of individual’s outpu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e.g., tug of war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pensator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group output is the average of the individual output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 estimating number of pubs in Lond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isjuncti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hen the best individual performance is chosen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, a suggestion as to which restaurant to dine in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junctiv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group’s performance is a function of the slowest membe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, an assembly line team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no task features or social conventions but group free to decide on its course of ac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e.g. shovelling snow together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 algn="r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up performance worst than individu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 algn="r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on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160" indent="-253800" algn="r">
              <a:lnSpc>
                <a:spcPct val="80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ch tasks favour group performan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70000"/>
              </a:lnSpc>
              <a:spcBef>
                <a:spcPts val="363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Picture 2" descr="C:\Users\Garcial1\Desktop\social-loafing3.jpg"/>
          <p:cNvPicPr/>
          <p:nvPr/>
        </p:nvPicPr>
        <p:blipFill>
          <a:blip r:embed="rId1"/>
          <a:stretch/>
        </p:blipFill>
        <p:spPr>
          <a:xfrm>
            <a:off x="826920" y="503280"/>
            <a:ext cx="799308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Text Box 1"/>
          <p:cNvSpPr/>
          <p:nvPr/>
        </p:nvSpPr>
        <p:spPr>
          <a:xfrm>
            <a:off x="173160" y="61920"/>
            <a:ext cx="954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ance: Social Inhib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Text Box 2"/>
          <p:cNvSpPr/>
          <p:nvPr/>
        </p:nvSpPr>
        <p:spPr>
          <a:xfrm>
            <a:off x="173160" y="539640"/>
            <a:ext cx="95472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otivation Loss/Social Loaf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Williams, Karau &amp; Bourgeois, 1993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individual effort when working on collective t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utput equity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valuation apprehen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atching to standard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ocial Loafing vs. Social Compensa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Zaccaro, 1984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 Task natur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rrelevant or trivial task SL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mportant or possible to add to the partial solutions 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. Significance of group to its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mbers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 ho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groups 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participants identify with, value their group membership 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. 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istic cultures SL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Hofstede, 1980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ectivist cultures 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Text Box 1"/>
          <p:cNvSpPr/>
          <p:nvPr/>
        </p:nvSpPr>
        <p:spPr>
          <a:xfrm>
            <a:off x="173160" y="235080"/>
            <a:ext cx="91868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2"/>
          <p:cNvSpPr/>
          <p:nvPr/>
        </p:nvSpPr>
        <p:spPr>
          <a:xfrm>
            <a:off x="179280" y="1081080"/>
            <a:ext cx="899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transforms an aggregation of individuals into a group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hesiveness  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sprit de cor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lidarity, team spirit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eld of forc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Festinger, Schachter and Back, 1950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ttractiveness of the group and its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tisfaction of individual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mbership continu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herence to group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527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Text Box 1"/>
          <p:cNvSpPr/>
          <p:nvPr/>
        </p:nvSpPr>
        <p:spPr>
          <a:xfrm>
            <a:off x="173160" y="235080"/>
            <a:ext cx="91868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Rectangle 2"/>
          <p:cNvSpPr/>
          <p:nvPr/>
        </p:nvSpPr>
        <p:spPr>
          <a:xfrm>
            <a:off x="539640" y="1079640"/>
            <a:ext cx="3419640" cy="46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FO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group me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tion of go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interactio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er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goals nee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depen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Rectangle 3"/>
          <p:cNvSpPr/>
          <p:nvPr/>
        </p:nvSpPr>
        <p:spPr>
          <a:xfrm>
            <a:off x="7020000" y="1260360"/>
            <a:ext cx="2340000" cy="41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Freeform 4"/>
          <p:cNvSpPr/>
          <p:nvPr/>
        </p:nvSpPr>
        <p:spPr>
          <a:xfrm>
            <a:off x="4140360" y="2160720"/>
            <a:ext cx="2700000" cy="25192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e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Text Box 5"/>
          <p:cNvSpPr/>
          <p:nvPr/>
        </p:nvSpPr>
        <p:spPr>
          <a:xfrm>
            <a:off x="7223040" y="1619280"/>
            <a:ext cx="195588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hi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herence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6"/>
          <p:cNvSpPr/>
          <p:nvPr/>
        </p:nvSpPr>
        <p:spPr>
          <a:xfrm>
            <a:off x="3959280" y="341964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Line 7"/>
          <p:cNvSpPr/>
          <p:nvPr/>
        </p:nvSpPr>
        <p:spPr>
          <a:xfrm>
            <a:off x="6300720" y="341964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8"/>
          <p:cNvSpPr/>
          <p:nvPr/>
        </p:nvSpPr>
        <p:spPr>
          <a:xfrm>
            <a:off x="179280" y="6119640"/>
            <a:ext cx="741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Text Box 1"/>
          <p:cNvSpPr/>
          <p:nvPr/>
        </p:nvSpPr>
        <p:spPr>
          <a:xfrm>
            <a:off x="347760" y="1979640"/>
            <a:ext cx="88502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oup Dynamics and Leader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r Lucia Garcia Lorenz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ovember 201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Text Box 1"/>
          <p:cNvSpPr/>
          <p:nvPr/>
        </p:nvSpPr>
        <p:spPr>
          <a:xfrm>
            <a:off x="173160" y="235080"/>
            <a:ext cx="91868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Text Box 2"/>
          <p:cNvSpPr/>
          <p:nvPr/>
        </p:nvSpPr>
        <p:spPr>
          <a:xfrm>
            <a:off x="179280" y="1081080"/>
            <a:ext cx="9361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gg (1993) personal vs social identity in group aggrega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ce betwee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-personal attrac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49400" indent="-584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 attraction -the 'liking' component of group membership. Produced by self-categorisation (Turner et al 1987) part of the group processes that includes ethnocentrism, stereotyping, in-group solidarity, loyalty-rejection of disloyalty etc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Social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 Box 2"/>
          <p:cNvSpPr/>
          <p:nvPr/>
        </p:nvSpPr>
        <p:spPr>
          <a:xfrm>
            <a:off x="179280" y="1081080"/>
            <a:ext cx="90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s are dynamic structures that continuously change over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groups develo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Tuckman, 1965, Gersick, 1989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St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. N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4. Perfo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52600" indent="-528840">
              <a:lnSpc>
                <a:spcPct val="100000"/>
              </a:lnSpc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. Adjour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2" name="AutoShape 3"/>
          <p:cNvCxnSpPr/>
          <p:nvPr/>
        </p:nvCxnSpPr>
        <p:spPr>
          <a:xfrm>
            <a:off x="5435640" y="39974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2" descr="C:\Users\Garcial1\Desktop\tuckmangroupstagesmodel1.png"/>
          <p:cNvPicPr/>
          <p:nvPr/>
        </p:nvPicPr>
        <p:blipFill>
          <a:blip r:embed="rId1"/>
          <a:stretch/>
        </p:blipFill>
        <p:spPr>
          <a:xfrm>
            <a:off x="727200" y="1109520"/>
            <a:ext cx="826596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2. Socio-cognitive processes:  Social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Text Box 2"/>
          <p:cNvSpPr/>
          <p:nvPr/>
        </p:nvSpPr>
        <p:spPr>
          <a:xfrm>
            <a:off x="68400" y="1081080"/>
            <a:ext cx="9111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1" marL="1052640" indent="-58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s as dynamic structures that continuously change over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739440"/>
                <a:tab algn="l" pos="10196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Line 3"/>
          <p:cNvSpPr/>
          <p:nvPr/>
        </p:nvSpPr>
        <p:spPr>
          <a:xfrm>
            <a:off x="1127160" y="2160720"/>
            <a:ext cx="144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7" name="AutoShape 4"/>
          <p:cNvCxnSpPr/>
          <p:nvPr/>
        </p:nvCxnSpPr>
        <p:spPr>
          <a:xfrm flipV="1">
            <a:off x="1126800" y="5698440"/>
            <a:ext cx="7615800" cy="59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98" name="Line 5"/>
          <p:cNvSpPr/>
          <p:nvPr/>
        </p:nvSpPr>
        <p:spPr>
          <a:xfrm>
            <a:off x="8640720" y="2160720"/>
            <a:ext cx="18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9" name="AutoShape 6"/>
          <p:cNvCxnSpPr/>
          <p:nvPr/>
        </p:nvCxnSpPr>
        <p:spPr>
          <a:xfrm>
            <a:off x="2339640" y="2192040"/>
            <a:ext cx="29160" cy="356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0" name="AutoShape 7"/>
          <p:cNvCxnSpPr/>
          <p:nvPr/>
        </p:nvCxnSpPr>
        <p:spPr>
          <a:xfrm>
            <a:off x="3780000" y="2177640"/>
            <a:ext cx="57600" cy="358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1" name="AutoShape 8"/>
          <p:cNvCxnSpPr/>
          <p:nvPr/>
        </p:nvCxnSpPr>
        <p:spPr>
          <a:xfrm>
            <a:off x="5400720" y="2235240"/>
            <a:ext cx="72000" cy="352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2" name="AutoShape 9"/>
          <p:cNvCxnSpPr/>
          <p:nvPr/>
        </p:nvCxnSpPr>
        <p:spPr>
          <a:xfrm>
            <a:off x="7019640" y="2160720"/>
            <a:ext cx="29160" cy="359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3" name="AutoShape 10"/>
          <p:cNvCxnSpPr/>
          <p:nvPr/>
        </p:nvCxnSpPr>
        <p:spPr>
          <a:xfrm>
            <a:off x="5435640" y="399744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4" name="Text Box 11"/>
          <p:cNvSpPr/>
          <p:nvPr/>
        </p:nvSpPr>
        <p:spPr>
          <a:xfrm>
            <a:off x="2022480" y="5726160"/>
            <a:ext cx="714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12"/>
          <p:cNvSpPr/>
          <p:nvPr/>
        </p:nvSpPr>
        <p:spPr>
          <a:xfrm>
            <a:off x="3240000" y="5775480"/>
            <a:ext cx="1440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Text Box 13"/>
          <p:cNvSpPr/>
          <p:nvPr/>
        </p:nvSpPr>
        <p:spPr>
          <a:xfrm>
            <a:off x="5040360" y="5797440"/>
            <a:ext cx="1333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erg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Text Box 14"/>
          <p:cNvSpPr/>
          <p:nvPr/>
        </p:nvSpPr>
        <p:spPr>
          <a:xfrm>
            <a:off x="6818400" y="5775480"/>
            <a:ext cx="9223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Line 15"/>
          <p:cNvSpPr/>
          <p:nvPr/>
        </p:nvSpPr>
        <p:spPr>
          <a:xfrm flipV="1">
            <a:off x="1079640" y="4492800"/>
            <a:ext cx="1260360" cy="12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Line 16"/>
          <p:cNvSpPr/>
          <p:nvPr/>
        </p:nvSpPr>
        <p:spPr>
          <a:xfrm flipV="1">
            <a:off x="2340000" y="3593880"/>
            <a:ext cx="1440000" cy="9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Line 17"/>
          <p:cNvSpPr/>
          <p:nvPr/>
        </p:nvSpPr>
        <p:spPr>
          <a:xfrm flipV="1">
            <a:off x="3780000" y="3053880"/>
            <a:ext cx="90000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Line 18"/>
          <p:cNvSpPr/>
          <p:nvPr/>
        </p:nvSpPr>
        <p:spPr>
          <a:xfrm>
            <a:off x="4680000" y="306072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Line 19"/>
          <p:cNvSpPr/>
          <p:nvPr/>
        </p:nvSpPr>
        <p:spPr>
          <a:xfrm>
            <a:off x="5400720" y="3419640"/>
            <a:ext cx="16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Line 20"/>
          <p:cNvSpPr/>
          <p:nvPr/>
        </p:nvSpPr>
        <p:spPr>
          <a:xfrm>
            <a:off x="7020000" y="4140360"/>
            <a:ext cx="1619280" cy="16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Text Box 21"/>
          <p:cNvSpPr/>
          <p:nvPr/>
        </p:nvSpPr>
        <p:spPr>
          <a:xfrm>
            <a:off x="179280" y="234000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 Box 22"/>
          <p:cNvSpPr/>
          <p:nvPr/>
        </p:nvSpPr>
        <p:spPr>
          <a:xfrm>
            <a:off x="1079640" y="2160720"/>
            <a:ext cx="126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spec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Text Box 23"/>
          <p:cNvSpPr/>
          <p:nvPr/>
        </p:nvSpPr>
        <p:spPr>
          <a:xfrm>
            <a:off x="2519280" y="2212920"/>
            <a:ext cx="8334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w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Text Box 24"/>
          <p:cNvSpPr/>
          <p:nvPr/>
        </p:nvSpPr>
        <p:spPr>
          <a:xfrm>
            <a:off x="1079640" y="2160720"/>
            <a:ext cx="126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spec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Text Box 25"/>
          <p:cNvSpPr/>
          <p:nvPr/>
        </p:nvSpPr>
        <p:spPr>
          <a:xfrm>
            <a:off x="3959280" y="2160720"/>
            <a:ext cx="1197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Text Box 26"/>
          <p:cNvSpPr/>
          <p:nvPr/>
        </p:nvSpPr>
        <p:spPr>
          <a:xfrm>
            <a:off x="5580000" y="1979640"/>
            <a:ext cx="1233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Text Box 27"/>
          <p:cNvSpPr/>
          <p:nvPr/>
        </p:nvSpPr>
        <p:spPr>
          <a:xfrm>
            <a:off x="7199280" y="2160720"/>
            <a:ext cx="12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-me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Text Box 28"/>
          <p:cNvSpPr/>
          <p:nvPr/>
        </p:nvSpPr>
        <p:spPr>
          <a:xfrm>
            <a:off x="179280" y="2879640"/>
            <a:ext cx="90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Text Box 29"/>
          <p:cNvSpPr/>
          <p:nvPr/>
        </p:nvSpPr>
        <p:spPr>
          <a:xfrm>
            <a:off x="1079640" y="3060720"/>
            <a:ext cx="1258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Text Box 30"/>
          <p:cNvSpPr/>
          <p:nvPr/>
        </p:nvSpPr>
        <p:spPr>
          <a:xfrm>
            <a:off x="2519280" y="3060720"/>
            <a:ext cx="1257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cialis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Text Box 31"/>
          <p:cNvSpPr/>
          <p:nvPr/>
        </p:nvSpPr>
        <p:spPr>
          <a:xfrm>
            <a:off x="3780000" y="2879640"/>
            <a:ext cx="1618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Text Box 32"/>
          <p:cNvSpPr/>
          <p:nvPr/>
        </p:nvSpPr>
        <p:spPr>
          <a:xfrm>
            <a:off x="5400720" y="2700360"/>
            <a:ext cx="161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-socialis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 Box 33"/>
          <p:cNvSpPr/>
          <p:nvPr/>
        </p:nvSpPr>
        <p:spPr>
          <a:xfrm>
            <a:off x="7020000" y="270036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embran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Text Box 34"/>
          <p:cNvSpPr/>
          <p:nvPr/>
        </p:nvSpPr>
        <p:spPr>
          <a:xfrm>
            <a:off x="0" y="3780000"/>
            <a:ext cx="107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Text Box 35"/>
          <p:cNvSpPr/>
          <p:nvPr/>
        </p:nvSpPr>
        <p:spPr>
          <a:xfrm>
            <a:off x="1079640" y="3654360"/>
            <a:ext cx="150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nnaiss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Text Box 36"/>
          <p:cNvSpPr/>
          <p:nvPr/>
        </p:nvSpPr>
        <p:spPr>
          <a:xfrm>
            <a:off x="2340000" y="4140360"/>
            <a:ext cx="1619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Text Box 37"/>
          <p:cNvSpPr/>
          <p:nvPr/>
        </p:nvSpPr>
        <p:spPr>
          <a:xfrm>
            <a:off x="3905280" y="3419640"/>
            <a:ext cx="131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le  negoti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Text Box 38"/>
          <p:cNvSpPr/>
          <p:nvPr/>
        </p:nvSpPr>
        <p:spPr>
          <a:xfrm>
            <a:off x="5400720" y="3419640"/>
            <a:ext cx="16192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Text Box 39"/>
          <p:cNvSpPr/>
          <p:nvPr/>
        </p:nvSpPr>
        <p:spPr>
          <a:xfrm>
            <a:off x="7020000" y="3419640"/>
            <a:ext cx="161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minisc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Text Box 40"/>
          <p:cNvSpPr/>
          <p:nvPr/>
        </p:nvSpPr>
        <p:spPr>
          <a:xfrm>
            <a:off x="179280" y="6119640"/>
            <a:ext cx="2774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reland and Levine, 1982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Text Box 1"/>
          <p:cNvSpPr/>
          <p:nvPr/>
        </p:nvSpPr>
        <p:spPr>
          <a:xfrm>
            <a:off x="173160" y="235080"/>
            <a:ext cx="8504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No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5" name="Picture 3" descr=""/>
          <p:cNvPicPr/>
          <p:nvPr/>
        </p:nvPicPr>
        <p:blipFill>
          <a:blip r:embed="rId1"/>
          <a:stretch/>
        </p:blipFill>
        <p:spPr>
          <a:xfrm>
            <a:off x="1908000" y="1008000"/>
            <a:ext cx="55436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Text Box 1"/>
          <p:cNvSpPr/>
          <p:nvPr/>
        </p:nvSpPr>
        <p:spPr>
          <a:xfrm>
            <a:off x="173160" y="235080"/>
            <a:ext cx="8504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no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Picture 2" descr=""/>
          <p:cNvPicPr/>
          <p:nvPr/>
        </p:nvPicPr>
        <p:blipFill>
          <a:blip r:embed="rId1"/>
          <a:stretch/>
        </p:blipFill>
        <p:spPr>
          <a:xfrm>
            <a:off x="684360" y="1079640"/>
            <a:ext cx="2879640" cy="2016000"/>
          </a:xfrm>
          <a:prstGeom prst="rect">
            <a:avLst/>
          </a:prstGeom>
          <a:ln w="0">
            <a:noFill/>
          </a:ln>
        </p:spPr>
      </p:pic>
      <p:pic>
        <p:nvPicPr>
          <p:cNvPr id="1838" name="Picture 3" descr=""/>
          <p:cNvPicPr/>
          <p:nvPr/>
        </p:nvPicPr>
        <p:blipFill>
          <a:blip r:embed="rId2"/>
          <a:stretch/>
        </p:blipFill>
        <p:spPr>
          <a:xfrm>
            <a:off x="3564000" y="1008000"/>
            <a:ext cx="2305080" cy="302436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4" descr=""/>
          <p:cNvPicPr/>
          <p:nvPr/>
        </p:nvPicPr>
        <p:blipFill>
          <a:blip r:embed="rId3"/>
          <a:stretch/>
        </p:blipFill>
        <p:spPr>
          <a:xfrm>
            <a:off x="755640" y="3095640"/>
            <a:ext cx="2808360" cy="244944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5" descr=""/>
          <p:cNvPicPr/>
          <p:nvPr/>
        </p:nvPicPr>
        <p:blipFill>
          <a:blip r:embed="rId4"/>
          <a:stretch/>
        </p:blipFill>
        <p:spPr>
          <a:xfrm>
            <a:off x="5869080" y="1008000"/>
            <a:ext cx="3000240" cy="302436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6" descr=""/>
          <p:cNvPicPr/>
          <p:nvPr/>
        </p:nvPicPr>
        <p:blipFill>
          <a:blip r:embed="rId5"/>
          <a:stretch/>
        </p:blipFill>
        <p:spPr>
          <a:xfrm>
            <a:off x="3564000" y="3024360"/>
            <a:ext cx="5616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no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Text Box 2"/>
          <p:cNvSpPr/>
          <p:nvPr/>
        </p:nvSpPr>
        <p:spPr>
          <a:xfrm>
            <a:off x="324000" y="1079640"/>
            <a:ext cx="90010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d beliefs about appropriate behaviour for all group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ve (is) and prescriptive (ought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norms enforced by law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implic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taken-for-gran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ly: Provide a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ame of refer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ithin which individual behaviour can be locat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Sherif, 1936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up level: Coordinate the actions of group members to accomplish group go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stability and continuity therefore resistant to 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of group behaviour used in social influence process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Text Box 1"/>
          <p:cNvSpPr/>
          <p:nvPr/>
        </p:nvSpPr>
        <p:spPr>
          <a:xfrm>
            <a:off x="1403280" y="2448000"/>
            <a:ext cx="6481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orms in my group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173160" y="235080"/>
            <a:ext cx="8504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6" name="Picture 2" descr=""/>
          <p:cNvPicPr/>
          <p:nvPr/>
        </p:nvPicPr>
        <p:blipFill>
          <a:blip r:embed="rId1"/>
          <a:stretch/>
        </p:blipFill>
        <p:spPr>
          <a:xfrm>
            <a:off x="3708360" y="863640"/>
            <a:ext cx="5797440" cy="5113440"/>
          </a:xfrm>
          <a:prstGeom prst="rect">
            <a:avLst/>
          </a:prstGeom>
          <a:ln w="0">
            <a:noFill/>
          </a:ln>
        </p:spPr>
      </p:pic>
      <p:pic>
        <p:nvPicPr>
          <p:cNvPr id="1847" name="Picture 3" descr=""/>
          <p:cNvPicPr/>
          <p:nvPr/>
        </p:nvPicPr>
        <p:blipFill>
          <a:blip r:embed="rId2"/>
          <a:stretch/>
        </p:blipFill>
        <p:spPr>
          <a:xfrm>
            <a:off x="252360" y="863640"/>
            <a:ext cx="431964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Text Box 2"/>
          <p:cNvSpPr/>
          <p:nvPr/>
        </p:nvSpPr>
        <p:spPr>
          <a:xfrm>
            <a:off x="395280" y="1079640"/>
            <a:ext cx="8640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be and prescribe behaviour of particular group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people but behavioural prescriptions assigned to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group of friend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explic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CU team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merge to facilitate group functioning but inflexibility can be detrimen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tend to 'act or assume' rol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Zimbardo and Movahedi, 1975) simulated prison experiment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Avoid low status roles in groups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luence who we are: identity and self-concept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Haslam and Reicher, 2005) . Role identity theo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Text Box 1"/>
          <p:cNvSpPr/>
          <p:nvPr/>
        </p:nvSpPr>
        <p:spPr>
          <a:xfrm>
            <a:off x="1403280" y="2448000"/>
            <a:ext cx="6481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ho is in a group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Text Box 1"/>
          <p:cNvSpPr/>
          <p:nvPr/>
        </p:nvSpPr>
        <p:spPr>
          <a:xfrm>
            <a:off x="173160" y="235080"/>
            <a:ext cx="8504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3. Structure: Sta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Text Box 2"/>
          <p:cNvSpPr/>
          <p:nvPr/>
        </p:nvSpPr>
        <p:spPr>
          <a:xfrm>
            <a:off x="179280" y="1079640"/>
            <a:ext cx="9180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all roles are equ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st status role is the LE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ies of higher status ro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50800" indent="-528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ly agreed prestig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50800" indent="-528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ility of creativity and innovation adopted by the group. Able to break and/or extend no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 hierarchies can develop and vary over time and situation despite tendency to institutionalis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 hierarchies emerge readily in new groups through intra-group comparison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Festinger's social categorisation theory, 1954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50840" indent="-585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1"/>
          <p:cNvSpPr/>
          <p:nvPr/>
        </p:nvSpPr>
        <p:spPr>
          <a:xfrm>
            <a:off x="971640" y="2448000"/>
            <a:ext cx="78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oles/status in my group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4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oretical elaboration of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Text Box 2"/>
          <p:cNvSpPr/>
          <p:nvPr/>
        </p:nvSpPr>
        <p:spPr>
          <a:xfrm>
            <a:off x="179280" y="771480"/>
            <a:ext cx="954108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erdepend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Lewin, 1947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han just sum of members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construction of meaning among group members sharing a particular experi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develops structure with positions and shared ai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happens to a member affects the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als achieved through members inte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tisfaction of affiliation, reality management and instrumental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interaction, a stable pattern of relationships is established  organizing social rela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orms, status and values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Text Box 1"/>
          <p:cNvSpPr/>
          <p:nvPr/>
        </p:nvSpPr>
        <p:spPr>
          <a:xfrm>
            <a:off x="173160" y="154080"/>
            <a:ext cx="85042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4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oretical elaboration of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Text Box 2"/>
          <p:cNvSpPr/>
          <p:nvPr/>
        </p:nvSpPr>
        <p:spPr>
          <a:xfrm>
            <a:off x="179280" y="771480"/>
            <a:ext cx="93600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58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cio-cognitive 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588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oup perceives itself/is perceived by others as a tot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awareness: 'us', 'group mentality' (Bion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yond pertence =&gt; Group as reference: individual actively engages in formulating social norms and values that shape thought and 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eation of endo-groups (positive relationship) and exogroups (negative relationship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6120" indent="-530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3" marL="1903320" indent="-5302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Group Paradigm, SIT, Social Categor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Text Box 1"/>
          <p:cNvSpPr/>
          <p:nvPr/>
        </p:nvSpPr>
        <p:spPr>
          <a:xfrm>
            <a:off x="173160" y="154080"/>
            <a:ext cx="8504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1.4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oretical elaboration of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Text Box 2"/>
          <p:cNvSpPr/>
          <p:nvPr/>
        </p:nvSpPr>
        <p:spPr>
          <a:xfrm>
            <a:off x="179280" y="771480"/>
            <a:ext cx="93600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rities that emerge among group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rders and controls conflicts and ten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luences individuals behaviour and members' social positions in the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es interactions, communication, efficiency, roles, status and nor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es: Shape expected behaviours and needed tasks for the group to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: Provides information regarding members behaviour and individuals' position in the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49480" indent="-220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2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70060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928836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0" name="Picture 2" descr="C:\Users\Garcial1\Desktop\15-break.jpg"/>
          <p:cNvPicPr/>
          <p:nvPr/>
        </p:nvPicPr>
        <p:blipFill>
          <a:blip r:embed="rId1"/>
          <a:stretch/>
        </p:blipFill>
        <p:spPr>
          <a:xfrm>
            <a:off x="-108000" y="0"/>
            <a:ext cx="9828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Picture 1" descr=""/>
          <p:cNvPicPr/>
          <p:nvPr/>
        </p:nvPicPr>
        <p:blipFill>
          <a:blip r:embed="rId1"/>
          <a:stretch/>
        </p:blipFill>
        <p:spPr>
          <a:xfrm>
            <a:off x="1763640" y="576360"/>
            <a:ext cx="56991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2" name="Picture 1" descr=""/>
          <p:cNvPicPr/>
          <p:nvPr/>
        </p:nvPicPr>
        <p:blipFill>
          <a:blip r:embed="rId1"/>
          <a:stretch/>
        </p:blipFill>
        <p:spPr>
          <a:xfrm>
            <a:off x="3203640" y="216000"/>
            <a:ext cx="2881080" cy="3024000"/>
          </a:xfrm>
          <a:prstGeom prst="rect">
            <a:avLst/>
          </a:prstGeom>
          <a:ln w="0">
            <a:noFill/>
          </a:ln>
        </p:spPr>
      </p:pic>
      <p:pic>
        <p:nvPicPr>
          <p:cNvPr id="1863" name="Picture 2" descr=""/>
          <p:cNvPicPr/>
          <p:nvPr/>
        </p:nvPicPr>
        <p:blipFill>
          <a:blip r:embed="rId2"/>
          <a:stretch/>
        </p:blipFill>
        <p:spPr>
          <a:xfrm>
            <a:off x="6300720" y="3311640"/>
            <a:ext cx="3040200" cy="3024000"/>
          </a:xfrm>
          <a:prstGeom prst="rect">
            <a:avLst/>
          </a:prstGeom>
          <a:ln w="0">
            <a:noFill/>
          </a:ln>
        </p:spPr>
      </p:pic>
      <p:pic>
        <p:nvPicPr>
          <p:cNvPr id="1864" name="Picture 3" descr=""/>
          <p:cNvPicPr/>
          <p:nvPr/>
        </p:nvPicPr>
        <p:blipFill>
          <a:blip r:embed="rId3"/>
          <a:stretch/>
        </p:blipFill>
        <p:spPr>
          <a:xfrm>
            <a:off x="179280" y="3311640"/>
            <a:ext cx="2708280" cy="287172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4" descr=""/>
          <p:cNvPicPr/>
          <p:nvPr/>
        </p:nvPicPr>
        <p:blipFill>
          <a:blip r:embed="rId4"/>
          <a:stretch/>
        </p:blipFill>
        <p:spPr>
          <a:xfrm>
            <a:off x="6300720" y="216000"/>
            <a:ext cx="3040200" cy="295884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5" descr=""/>
          <p:cNvPicPr/>
          <p:nvPr/>
        </p:nvPicPr>
        <p:blipFill>
          <a:blip r:embed="rId5"/>
          <a:stretch/>
        </p:blipFill>
        <p:spPr>
          <a:xfrm>
            <a:off x="250920" y="144360"/>
            <a:ext cx="2592360" cy="3095640"/>
          </a:xfrm>
          <a:prstGeom prst="rect">
            <a:avLst/>
          </a:prstGeom>
          <a:ln w="0">
            <a:noFill/>
          </a:ln>
        </p:spPr>
      </p:pic>
      <p:pic>
        <p:nvPicPr>
          <p:cNvPr id="1867" name="Picture 6" descr=""/>
          <p:cNvPicPr/>
          <p:nvPr/>
        </p:nvPicPr>
        <p:blipFill>
          <a:blip r:embed="rId6"/>
          <a:stretch/>
        </p:blipFill>
        <p:spPr>
          <a:xfrm>
            <a:off x="2987640" y="3311640"/>
            <a:ext cx="309708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1. Leadership: The trait appro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Text Box 2"/>
          <p:cNvSpPr/>
          <p:nvPr/>
        </p:nvSpPr>
        <p:spPr>
          <a:xfrm>
            <a:off x="347760" y="771480"/>
            <a:ext cx="88326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he “Great Person” The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ffective leadership is based on individual personality characteristics – in the past, often thought to be innate (“born leaders”); more recently such qualities assumed to be acquire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opular theor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offers ways to measure the strength of leadership qualities and so to evaluate  candidates for leadership 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reflects much of our thinking regarding the world – using person attributions regarding political and historical events (e.g., locating the causes of the war in Iraq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Text Box 1"/>
          <p:cNvSpPr/>
          <p:nvPr/>
        </p:nvSpPr>
        <p:spPr>
          <a:xfrm>
            <a:off x="179280" y="792000"/>
            <a:ext cx="9217080" cy="53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0. What is a group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 Group dynam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1. Inter-dependance: Social Facilitation and inhib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2. Socio-cognitive processes:  Cohesiveness, socialis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3. Structure: Norms, roles and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4. Theoretical elaboration of group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Who leads the group ? Leadership theor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1. The trait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2. Contingency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3. Styles of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4. Transactional and transformational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5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Post-Heroic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2.6. Culture, gender and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Text Box 2"/>
          <p:cNvSpPr/>
          <p:nvPr/>
        </p:nvSpPr>
        <p:spPr>
          <a:xfrm>
            <a:off x="662040" y="179280"/>
            <a:ext cx="7494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ecture Pl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Picture 1" descr=""/>
          <p:cNvPicPr/>
          <p:nvPr/>
        </p:nvPicPr>
        <p:blipFill>
          <a:blip r:embed="rId1"/>
          <a:stretch/>
        </p:blipFill>
        <p:spPr>
          <a:xfrm>
            <a:off x="971640" y="576360"/>
            <a:ext cx="741672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1. Leadership: The trait appro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2"/>
          <p:cNvSpPr/>
          <p:nvPr/>
        </p:nvSpPr>
        <p:spPr>
          <a:xfrm>
            <a:off x="347760" y="617400"/>
            <a:ext cx="83311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mon Leader Tra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irkpatrick and Locke (1991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r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adership moti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nesty and integ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f-confidence/self-esteem/domi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tra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gnitive ability/intelligence/problem so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Knowledge of the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ervat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/>
          </p:nvPr>
        </p:nvSpPr>
        <p:spPr>
          <a:xfrm>
            <a:off x="324000" y="863280"/>
            <a:ext cx="915336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‘great person’ to ‘strong me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8xRaUqgWPN0&amp;feature=PlayList&amp;p=D83AA0216AD6F393&amp;playnext=1&amp;playnext_from=PL&amp;index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title"/>
          </p:nvPr>
        </p:nvSpPr>
        <p:spPr>
          <a:xfrm>
            <a:off x="485640" y="173160"/>
            <a:ext cx="8739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"/>
              </a:rPr>
              <a:t>2.1. Leadership: The trait approach.</a:t>
            </a:r>
            <a:br>
              <a:rPr sz="3200"/>
            </a:br>
            <a:endParaRPr b="1" lang="en-US" sz="32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2519280"/>
            <a:ext cx="8739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itstream Vera Sans"/>
                <a:ea typeface="Arial"/>
              </a:rPr>
              <a:t>Would you like to work for him? </a:t>
            </a:r>
            <a:br>
              <a:rPr sz="4000"/>
            </a:br>
            <a:endParaRPr b="1" lang="en-US" sz="40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1. Leadership: The trait appro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Text Box 2"/>
          <p:cNvSpPr/>
          <p:nvPr/>
        </p:nvSpPr>
        <p:spPr>
          <a:xfrm>
            <a:off x="347760" y="617400"/>
            <a:ext cx="883260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ttle evidence of there being consistent and specific personality traits possessed by all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evidence is from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 ho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groups’ ratings of lead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 clear the same kinds of people become leaders in real organis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 that they will mak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o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traits to personality dimensions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Judge, Bono, Ilies and Gerhardt ; 2002)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ig fiv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sonality dimen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traversion/ assur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greeableness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cientiousnes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otional stabilit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93840" indent="-82872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/ openess to experie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Picture 2" descr="C:\Users\Garcial1\Desktop\leader.bmp"/>
          <p:cNvPicPr/>
          <p:nvPr/>
        </p:nvPicPr>
        <p:blipFill>
          <a:blip r:embed="rId1"/>
          <a:stretch/>
        </p:blipFill>
        <p:spPr>
          <a:xfrm>
            <a:off x="252360" y="709560"/>
            <a:ext cx="4535640" cy="505152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3" descr="C:\Users\Garcial1\Desktop\participative.jpg"/>
          <p:cNvPicPr/>
          <p:nvPr/>
        </p:nvPicPr>
        <p:blipFill>
          <a:blip r:embed="rId2"/>
          <a:stretch/>
        </p:blipFill>
        <p:spPr>
          <a:xfrm>
            <a:off x="4932360" y="709560"/>
            <a:ext cx="4464000" cy="50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2. Leadership: Leadership sty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Text Box 2"/>
          <p:cNvSpPr/>
          <p:nvPr/>
        </p:nvSpPr>
        <p:spPr>
          <a:xfrm>
            <a:off x="347760" y="617400"/>
            <a:ext cx="91915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win, Lippit &amp; White (1939)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ed styles of leadership over 7 weeks in an after-school club for 11 year-old bo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tocr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re aggression, greater dependence on leader, more contr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ked hardest, but only when leader pres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mocr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iendlier atmosphere, group-centred, reasonably task-orie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ader absence made no difference to work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issez-fai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aders faced considerable demands for information. Spent more time playing than wor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9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ked harder when leader abs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2" name="Picture 2" descr="C:\Users\Garcial1\Desktop\servant-leadership-570x378.jpg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3. Leadership: The contingency approach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Text Box 2"/>
          <p:cNvSpPr/>
          <p:nvPr/>
        </p:nvSpPr>
        <p:spPr>
          <a:xfrm>
            <a:off x="347760" y="617400"/>
            <a:ext cx="865188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n relatively few characteristics are common across leaders, focus 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s a major variable in lead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gency Theory of leadership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Fiedler, 1967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hip style develops from a person’s personality, and leads to one of two styles of leadershi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ask-focused leadersh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-focused leadershi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 were asked to describe their co-workers on various dimensions, thus arriving at a description of their “least preferred co-worker” (LPC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f LPC described negatively, then leader task focus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693800" indent="-77148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f LPC described positively, then leader person focus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3. Leadership: The contingency approach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2"/>
          <p:cNvSpPr/>
          <p:nvPr/>
        </p:nvSpPr>
        <p:spPr>
          <a:xfrm>
            <a:off x="347760" y="617400"/>
            <a:ext cx="91915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ropriateness of a person-focused or a task-focused leader depends on the situ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-group relation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the extent to which the leader has suppo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sk structure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well specified or unclear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’s power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the extent to which they control rewards and punishments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-a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sk-focus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eadership works better when conditions are very favourable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positive leader-group relations, clear task, high authority) 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o group is doing just fin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 very unfavourable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(poor leader-group relations, unclear task, low authority) </a:t>
            </a:r>
            <a:r>
              <a:rPr b="1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needs a directive leader to get things do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all other conditions, a person-centred style may get be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Text Box 1"/>
          <p:cNvSpPr/>
          <p:nvPr/>
        </p:nvSpPr>
        <p:spPr>
          <a:xfrm>
            <a:off x="468360" y="2178000"/>
            <a:ext cx="885024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ts val="3336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 mental life is essential to the full life of the individual... the satisfaction of this need has to be sought through membership of a group.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ion, 1961/2010:54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Text Box 1"/>
          <p:cNvSpPr/>
          <p:nvPr/>
        </p:nvSpPr>
        <p:spPr>
          <a:xfrm>
            <a:off x="173160" y="154080"/>
            <a:ext cx="8504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3. Leadership: The contingency approach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Text Box 2"/>
          <p:cNvSpPr/>
          <p:nvPr/>
        </p:nvSpPr>
        <p:spPr>
          <a:xfrm>
            <a:off x="347760" y="617400"/>
            <a:ext cx="83311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edler’s view has some empirical support – matching leader needed to the situation and task also makes intuitive s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040" indent="-54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view has been controversial (e.g., the assumption that leaders cannot vary their style of leadership to suit the situation because style is fixed by personality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2408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: Fail to capture the 'dance' between leaders and follo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Text Box 1"/>
          <p:cNvSpPr/>
          <p:nvPr/>
        </p:nvSpPr>
        <p:spPr>
          <a:xfrm>
            <a:off x="173160" y="154080"/>
            <a:ext cx="95472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4. Leadership: Transactional and transformational lead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Text Box 2"/>
          <p:cNvSpPr/>
          <p:nvPr/>
        </p:nvSpPr>
        <p:spPr>
          <a:xfrm>
            <a:off x="347760" y="720720"/>
            <a:ext cx="919152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actional Leaders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t, 2004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 ‘transact’ with followers to get thing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hip as a process of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sk-focuse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e a system of contingent rew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by excep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 attempt to change subordinates’ working methods as long as the performance goals are m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tional Leaders (Burns, 1978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ised consid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ectual stimul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ismatic/inspirational motiv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im is to achie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tion and performance above and beyond the call of du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llingly giv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95520" indent="-22392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apparent expectation of additional economic rewa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79280" y="-96840"/>
            <a:ext cx="918072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2.5. Leadership: Post-heroic leadership</a:t>
            </a:r>
            <a:br>
              <a:rPr sz="3200"/>
            </a:br>
            <a:endParaRPr b="1" lang="en-US" sz="32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4360" y="1260360"/>
            <a:ext cx="82087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rCeVwwu0Xcfeature=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08040"/>
                <a:tab algn="l" pos="722160"/>
                <a:tab algn="l" pos="1179360"/>
                <a:tab algn="l" pos="1636560"/>
                <a:tab algn="l" pos="2093760"/>
                <a:tab algn="l" pos="2550960"/>
                <a:tab algn="l" pos="3008160"/>
                <a:tab algn="l" pos="3465360"/>
                <a:tab algn="l" pos="3922560"/>
                <a:tab algn="l" pos="4379760"/>
                <a:tab algn="l" pos="4836960"/>
                <a:tab algn="l" pos="5294160"/>
                <a:tab algn="l" pos="5751360"/>
                <a:tab algn="l" pos="6208560"/>
                <a:tab algn="l" pos="6665760"/>
                <a:tab algn="l" pos="7122960"/>
                <a:tab algn="l" pos="7580160"/>
                <a:tab algn="l" pos="8037360"/>
                <a:tab algn="l" pos="8494560"/>
                <a:tab algn="l" pos="895176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Text Box 1"/>
          <p:cNvSpPr/>
          <p:nvPr/>
        </p:nvSpPr>
        <p:spPr>
          <a:xfrm>
            <a:off x="173160" y="154080"/>
            <a:ext cx="9372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5. Leadership: Post-heroic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Text Box 2"/>
          <p:cNvSpPr/>
          <p:nvPr/>
        </p:nvSpPr>
        <p:spPr>
          <a:xfrm>
            <a:off x="347760" y="925560"/>
            <a:ext cx="901224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adford and Cohen (1984); (Heifetz and Laurie, 1997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990’s/2000’s: associated with transformational leadership but focus on managers developing their subordinat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 as developer”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ared responsibility with employ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powerment of employees: sharing the power around as a “captain of industr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constant opportunities to learn – “the learning organisa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ey factors in development of Post-Heroic Leadership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ly changing business environment: leadership as ensuring that the organisation adapts successfu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tent with the image of managers (Enron, Northern Rock, etc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55404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and d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539640" y="2519280"/>
            <a:ext cx="8739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itstream Vera Sans"/>
                <a:ea typeface="Arial"/>
              </a:rPr>
              <a:t>What kind of leader would you prefer to follow? Why? </a:t>
            </a:r>
            <a:br>
              <a:rPr sz="4000"/>
            </a:br>
            <a:endParaRPr b="1" lang="en-US" sz="40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Picture 2" descr="C:\Users\Garcial1\Desktop\che_guevara_fidel_castro.jpg"/>
          <p:cNvPicPr/>
          <p:nvPr/>
        </p:nvPicPr>
        <p:blipFill>
          <a:blip r:embed="rId1"/>
          <a:stretch/>
        </p:blipFill>
        <p:spPr>
          <a:xfrm>
            <a:off x="31680" y="2994120"/>
            <a:ext cx="3245040" cy="3497040"/>
          </a:xfrm>
          <a:prstGeom prst="rect">
            <a:avLst/>
          </a:prstGeom>
          <a:ln w="0">
            <a:noFill/>
          </a:ln>
        </p:spPr>
      </p:pic>
      <p:pic>
        <p:nvPicPr>
          <p:cNvPr id="1897" name="Picture 3" descr="C:\Users\Garcial1\Desktop\African_leaders6.jpg"/>
          <p:cNvPicPr/>
          <p:nvPr/>
        </p:nvPicPr>
        <p:blipFill>
          <a:blip r:embed="rId2"/>
          <a:stretch/>
        </p:blipFill>
        <p:spPr>
          <a:xfrm>
            <a:off x="3132000" y="2674800"/>
            <a:ext cx="6588360" cy="381636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4" descr="C:\Users\Garcial1\Desktop\eng_summit_GB_BM_Ba_758942p.jpg"/>
          <p:cNvPicPr/>
          <p:nvPr/>
        </p:nvPicPr>
        <p:blipFill>
          <a:blip r:embed="rId3"/>
          <a:stretch/>
        </p:blipFill>
        <p:spPr>
          <a:xfrm>
            <a:off x="31680" y="0"/>
            <a:ext cx="4343400" cy="298440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5" descr="C:\Users\Garcial1\Desktop\MaobyDandotdotonFlickr.jpg"/>
          <p:cNvPicPr/>
          <p:nvPr/>
        </p:nvPicPr>
        <p:blipFill>
          <a:blip r:embed="rId4"/>
          <a:stretch/>
        </p:blipFill>
        <p:spPr>
          <a:xfrm>
            <a:off x="8197920" y="23760"/>
            <a:ext cx="15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6" descr="C:\Users\Garcial1\Desktop\untitled.bmp"/>
          <p:cNvPicPr/>
          <p:nvPr/>
        </p:nvPicPr>
        <p:blipFill>
          <a:blip r:embed="rId5"/>
          <a:stretch/>
        </p:blipFill>
        <p:spPr>
          <a:xfrm>
            <a:off x="976320" y="48798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7" descr="C:\Users\Garcial1\Desktop\_45792043_jex_362975_de27-1.jpg"/>
          <p:cNvPicPr/>
          <p:nvPr/>
        </p:nvPicPr>
        <p:blipFill>
          <a:blip r:embed="rId6"/>
          <a:stretch/>
        </p:blipFill>
        <p:spPr>
          <a:xfrm>
            <a:off x="5578560" y="-1440"/>
            <a:ext cx="2619360" cy="269064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8" descr="C:\Users\Garcial1\Desktop\imagesCAMRN337.jpg"/>
          <p:cNvPicPr/>
          <p:nvPr/>
        </p:nvPicPr>
        <p:blipFill>
          <a:blip r:embed="rId7"/>
          <a:stretch/>
        </p:blipFill>
        <p:spPr>
          <a:xfrm>
            <a:off x="4087800" y="-1440"/>
            <a:ext cx="2571840" cy="26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Text Box 1"/>
          <p:cNvSpPr/>
          <p:nvPr/>
        </p:nvSpPr>
        <p:spPr>
          <a:xfrm>
            <a:off x="173160" y="154080"/>
            <a:ext cx="9372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6. Leadership: Culture and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Text Box 2"/>
          <p:cNvSpPr/>
          <p:nvPr/>
        </p:nvSpPr>
        <p:spPr>
          <a:xfrm>
            <a:off x="179280" y="925560"/>
            <a:ext cx="91807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ltural differences in both the definition of leadership and in specific leadership behaviours according with broad differences between collectivist (Eastern Asian) and individualistic (Western) cul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eadership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istic cul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Leader is expected to have vision, authority and be a decision-m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vist cultur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ader is expected to combine being participative, supportive and nurturing with being deci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eadership rol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istic cultur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ader’s role is largely confined to overseeing the subordinates’ activities whilst in the work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5560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vist cultur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 Leader may have a wider role, being concerned with subordinates’ private lives and well-being outside the work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Picture 2" descr="C:\Users\Garcial1\Desktop\men-vs-women.jpg"/>
          <p:cNvPicPr/>
          <p:nvPr/>
        </p:nvPicPr>
        <p:blipFill>
          <a:blip r:embed="rId1"/>
          <a:stretch/>
        </p:blipFill>
        <p:spPr>
          <a:xfrm>
            <a:off x="684360" y="380880"/>
            <a:ext cx="8351640" cy="57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Text Box 1"/>
          <p:cNvSpPr/>
          <p:nvPr/>
        </p:nvSpPr>
        <p:spPr>
          <a:xfrm>
            <a:off x="173160" y="154080"/>
            <a:ext cx="9372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.6. Leadership: Gender and leadersh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Text Box 2"/>
          <p:cNvSpPr/>
          <p:nvPr/>
        </p:nvSpPr>
        <p:spPr>
          <a:xfrm>
            <a:off x="347760" y="925560"/>
            <a:ext cx="937260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der differences regarding leadership tendencies, and their assessed effectiv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gly, Karu,Makhijani (1995): group behaviour in informal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males: tend to be more democratic, person-focused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9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les : tend to be more autocratic, task-focused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eta-analysis re. Effective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verall – no difference in evidence regarding perceived effe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t differences re. of gender-stereotyped appropriateness of ro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39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n more effective when role defined in task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9760" indent="-2239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men more effective when defined in interpersonal ability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effects of organisational leve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n are more effective in first-level (line-management) 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96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men more effective in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l (middle-management) 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Text Box 1"/>
          <p:cNvSpPr/>
          <p:nvPr/>
        </p:nvSpPr>
        <p:spPr>
          <a:xfrm>
            <a:off x="179280" y="216000"/>
            <a:ext cx="8812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2.7. Current trends on leadership resear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2"/>
          <p:cNvSpPr/>
          <p:nvPr/>
        </p:nvSpPr>
        <p:spPr>
          <a:xfrm>
            <a:off x="179280" y="1079640"/>
            <a:ext cx="93157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re holistic view of leadership e.g. including followers, the context, the levels, dynamic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7040" indent="-525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amining how the 'process' of leadership actually takes plac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e.g. how the leader and followers process information and how they affect each other, the group and organization in doing so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riving alternatives to examine leadershi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e.g. mixed methods of research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me further/unresolved ques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e leaders born or ma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do followers affect successful lead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y some charismatic leaders generate and others destro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impact of technology in leadershi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2" name="Picture 1" descr=""/>
          <p:cNvPicPr/>
          <p:nvPr/>
        </p:nvPicPr>
        <p:blipFill>
          <a:blip r:embed="rId1"/>
          <a:stretch/>
        </p:blipFill>
        <p:spPr>
          <a:xfrm>
            <a:off x="0" y="3024360"/>
            <a:ext cx="2987640" cy="345564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2" descr=""/>
          <p:cNvPicPr/>
          <p:nvPr/>
        </p:nvPicPr>
        <p:blipFill>
          <a:blip r:embed="rId2"/>
          <a:stretch/>
        </p:blipFill>
        <p:spPr>
          <a:xfrm>
            <a:off x="6300720" y="0"/>
            <a:ext cx="3417840" cy="316872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4" descr=""/>
          <p:cNvPicPr/>
          <p:nvPr/>
        </p:nvPicPr>
        <p:blipFill>
          <a:blip r:embed="rId4"/>
          <a:stretch/>
        </p:blipFill>
        <p:spPr>
          <a:xfrm>
            <a:off x="2879640" y="0"/>
            <a:ext cx="3421080" cy="287964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5" descr=""/>
          <p:cNvPicPr/>
          <p:nvPr/>
        </p:nvPicPr>
        <p:blipFill>
          <a:blip r:embed="rId5"/>
          <a:stretch/>
        </p:blipFill>
        <p:spPr>
          <a:xfrm>
            <a:off x="2987640" y="2879640"/>
            <a:ext cx="3311640" cy="360036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6" descr=""/>
          <p:cNvPicPr/>
          <p:nvPr/>
        </p:nvPicPr>
        <p:blipFill>
          <a:blip r:embed="rId6"/>
          <a:stretch/>
        </p:blipFill>
        <p:spPr>
          <a:xfrm>
            <a:off x="6300720" y="3060720"/>
            <a:ext cx="341784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728280" y="216000"/>
            <a:ext cx="826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ome further references</a:t>
            </a:r>
            <a:endParaRPr b="1" lang="en-US" sz="2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11" name="Text Box 2"/>
          <p:cNvSpPr/>
          <p:nvPr/>
        </p:nvSpPr>
        <p:spPr>
          <a:xfrm>
            <a:off x="252360" y="720720"/>
            <a:ext cx="9144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son, D.W. and Johnson, F.P. (1987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Joining together: Group theory and group skills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nglewood Cliffs, NJ: Prentice Hal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ion, W.R. (1961/2010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periences in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London: Routled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eud, S. (1921/2009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roup psychology and the analysis of the eg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W.W. Norton and Co: Lond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port, F.H. (1920) The influence of the group upon association and thought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Journal of Experimental Psycholo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3 159-1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ajonc, R.B. (1965) Social facilitation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19, 269-27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ttrell, N. B. (1972) Social facilitation. In C. McClintock (Ed) Experimental social psychology (185-236) New York: Holt, Rinehart and Wil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ron, R.S. (1986) Distraction-conflict theory: Progress and problems. In L. Berkowitz (Ed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dvances in Experimental Social Psychology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ol. 20:1-40) New York: Academic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cklund, R.A. (1975) Objective self-awareness. In:  In L. Berkowitz (Ed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dvances in Experimental Social Psychology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ol. 8:233-275) New York: Academic Pres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einer, I.D. (1976) Task-performing groups. In J.W. Thibaut and J. T. Spence (Eds.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temporary topics in social psychology. (pp:393-422) NJ: General learning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iams, K.D. Karau, S.J. And Bourgeois, M. (1993): working on collective tasks: Social loafing and social compensation. In: M.A. Hogg and Abrams, D. (eds.) Group motivation: Social Psychological perspectives (130-148) London: Harvester Wheatsheaf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au, S.J. and Williams, K.D. (1993) Social loafing: A meta-analytical review and theoretical investigation Journal of personality and social psychology, 65, 681-706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Text Box 1"/>
          <p:cNvSpPr/>
          <p:nvPr/>
        </p:nvSpPr>
        <p:spPr>
          <a:xfrm>
            <a:off x="468360" y="360360"/>
            <a:ext cx="8928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accaro, S.J. (1984) Social loafing: The role of task attractiveness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ersonality and social Psychology bulleti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10 99-106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stinger,L. Schachter, S. and Back, K. (1950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ocial pressures in informal groups : a study of human factors in housin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New York: Harp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fstede, G. (1980)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Culture's consequences: International differences in work related valu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Beverly hills, CA: Sag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gg, M.A and Vaughan, G.M. (2008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ocial Psych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London: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gg, M. A. (1993) Group cohesiveness: A critical review and some new directions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uropean review of social psychology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4, 85-11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urner, J.C, Hogg, M.A. Oakes, P.J. Reicher, S.D. And Weatherell, M . S. (1987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discovering the social group: A self- categorisation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xford: Blackwe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uckman, B.W. (1965) developmental sequence in small groups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sychological bulletin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63, 384039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land, RL. And Levine, JM (1982) Socialisation in small groups: Temporal chnages in individual-group relations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L. Berkowitz (Ed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dvances in Experimental Social Psychology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Vol. 15:137-192) New York: Academic Pr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win, K. (1947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Group decision and social chan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In T.M. Newcomb and E.L. Harley (Eds.) Readings in Social Psychology. New York: Holt, Rinehart and Wins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herif, M. and Sherif, C.W. (1964)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eference groups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New York: Harper and Row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jfel, H. (1978) Social categorization, social identity, and social comparisons . In Tajfel, H. (Ed.)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Differentiation between social group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. London: Academic Pres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wn, R. (2000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Group Proces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xford: Blackwell Pub.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Text Box 1"/>
          <p:cNvSpPr/>
          <p:nvPr/>
        </p:nvSpPr>
        <p:spPr>
          <a:xfrm>
            <a:off x="441360" y="235080"/>
            <a:ext cx="79344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0.  What is a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Text Box 2"/>
          <p:cNvSpPr/>
          <p:nvPr/>
        </p:nvSpPr>
        <p:spPr>
          <a:xfrm>
            <a:off x="539640" y="1081080"/>
            <a:ext cx="86407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lvl="4" marL="2367000" indent="-52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dependence of relationships among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oup not static entity but in continuous trans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nerates individual, interpersonal and collective process: socio-cognitive proces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s a 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82200"/>
                <a:tab algn="l" pos="10139400"/>
                <a:tab algn="l" pos="10596600"/>
                <a:tab algn="l" pos="11053800"/>
                <a:tab algn="l" pos="115110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Text Box 1"/>
          <p:cNvSpPr/>
          <p:nvPr/>
        </p:nvSpPr>
        <p:spPr>
          <a:xfrm>
            <a:off x="290520" y="195120"/>
            <a:ext cx="823608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0.  What is a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Text Box 2"/>
          <p:cNvSpPr/>
          <p:nvPr/>
        </p:nvSpPr>
        <p:spPr>
          <a:xfrm>
            <a:off x="611280" y="1079640"/>
            <a:ext cx="842472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son and Johnson (1987:8)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‘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group 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wo or more individuals in (face-to-face) interactio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aware of her membership in the group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aware of the others who belong to the group,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aware of their positive interdependence as they strive to achieve mutual goal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all, (face-to-face), interactive, task-oriented groups, S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Text Box 1"/>
          <p:cNvSpPr/>
          <p:nvPr/>
        </p:nvSpPr>
        <p:spPr>
          <a:xfrm>
            <a:off x="173160" y="235080"/>
            <a:ext cx="9547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1.1. Interdependence: Social Facilit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Text Box 2"/>
          <p:cNvSpPr/>
          <p:nvPr/>
        </p:nvSpPr>
        <p:spPr>
          <a:xfrm>
            <a:off x="206280" y="863640"/>
            <a:ext cx="9045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noAutofit/>
          </a:bodyPr>
          <a:p>
            <a:pPr marL="311040" indent="-299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ffects of the audie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cial Facilitat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Allport, 1920)</a:t>
            </a:r>
            <a:r>
              <a:rPr b="0" lang="ar-SA" sz="15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ople perform better on a task when other people are present (not competing) – so the mere presence of others can enhance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et, only in simple tasks: on more complex tasks performance is impaired by the presence of other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ive The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Zajonc, 1965): Social facilitation has two dimens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arousing presence of oth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•"/>
              <a:tabLst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ffects of task complex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1040" indent="-29988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311040"/>
                <a:tab algn="l" pos="768240"/>
                <a:tab algn="l" pos="1225440"/>
                <a:tab algn="l" pos="1682640"/>
                <a:tab algn="l" pos="2139840"/>
                <a:tab algn="l" pos="2597040"/>
                <a:tab algn="l" pos="3054240"/>
                <a:tab algn="l" pos="3511440"/>
                <a:tab algn="l" pos="3968640"/>
                <a:tab algn="l" pos="4425840"/>
                <a:tab algn="l" pos="4883040"/>
                <a:tab algn="l" pos="5340240"/>
                <a:tab algn="l" pos="5797440"/>
                <a:tab algn="l" pos="6254640"/>
                <a:tab algn="l" pos="6711840"/>
                <a:tab algn="l" pos="7169040"/>
                <a:tab algn="l" pos="7626240"/>
                <a:tab algn="l" pos="8083440"/>
                <a:tab algn="l" pos="8540640"/>
                <a:tab algn="l" pos="8997840"/>
                <a:tab algn="l" pos="945504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 Lorenzo</dc:creator>
  <dc:description/>
  <dc:language>en-US</dc:language>
  <cp:lastModifiedBy>Administrator</cp:lastModifiedBy>
  <dcterms:modified xsi:type="dcterms:W3CDTF">2011-11-08T15:55:42Z</dcterms:modified>
  <cp:revision>99</cp:revision>
  <dc:subject/>
  <dc:title>Slide 1</dc:title>
</cp:coreProperties>
</file>