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A39-C492-4CBC-9648-5BD59E7F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67E-781C-44FF-B42E-C8EEB8AE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9AC-C878-4696-8997-F5E7ABD8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8A7-F381-431A-B9DA-1C0C8BAA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069-E829-409A-811D-5A9573E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4A0-E462-4FC0-B740-4184D4A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99D-CCD1-4C89-BA9B-881B94EC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AC8-A407-46E5-93F5-F1AF453D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2C3-2081-493F-846D-A5DFD7E6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58E-38A1-4469-A5F2-D82061F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34F-98DD-43B0-B732-D0A00DA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3E0-0672-45F5-8816-DDC95D1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302B-C803-4674-878E-E62DE6BE4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e Responsibility and Judgment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“Weapon exists”, Q = “We can take them”, R = “If P and Q then S”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“Attack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example: Assume P, Q and not 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: not P, Q and no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3573360"/>
          <a:ext cx="8229600" cy="2808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,Q,R and S as before, T = “Successful attack will help the economy”, W = “ If Q and T then 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: If P and Q and R or if Q and T and W then S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: P, Q, T, not R and not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3789360"/>
          <a:ext cx="8229600" cy="2855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6:15Z</dcterms:created>
  <dc:creator>hallas</dc:creator>
  <dc:description/>
  <dc:language>en-US</dc:language>
  <cp:lastModifiedBy>hallas</cp:lastModifiedBy>
  <dcterms:modified xsi:type="dcterms:W3CDTF">2009-02-11T16:43:28Z</dcterms:modified>
  <cp:revision>2</cp:revision>
  <dc:subject/>
  <dc:title>Slide 1</dc:title>
</cp:coreProperties>
</file>