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DA0-AA5E-4F77-B47C-A87E9B58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4D9-2089-4E7E-8052-52590C49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12E-0075-43D0-90EC-FC34FA60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588-3B49-4262-8B02-AFCF9B44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F4D-12AB-4599-9831-C67C035C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634-4DD3-4C5B-9ED2-ADBBF5D3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C63-8B4F-4FFB-A45F-EAE411E8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611-51F3-455E-9295-3D2BAC00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285-4623-46D3-AB4B-9A89E680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684-784D-4CB4-8E63-41F62F43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F1C-D5FA-4441-81A8-37F68BD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67C-0FBC-49FB-94BB-D838B07B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95B8-EC76-43FB-B16A-C7569B1B3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te Responsibility and Judgment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= “Weapon exists”, Q = “We can take them”, R = “If P and Q then S”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“Attack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example: Assume P, Q and not 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: not P, Q and no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3573360"/>
          <a:ext cx="8229600" cy="2808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,Q,R and S as before, T = “Successful attack will help the economy”, W = “ If Q and T then 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: If P and Q and R or if Q and T and W then S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: P, Q, T, not R and not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3789360"/>
          <a:ext cx="8229600" cy="2855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6:26:15Z</dcterms:created>
  <dc:creator>hallas</dc:creator>
  <dc:description/>
  <dc:language>en-US</dc:language>
  <cp:lastModifiedBy>hallas</cp:lastModifiedBy>
  <dcterms:modified xsi:type="dcterms:W3CDTF">2009-02-11T16:43:28Z</dcterms:modified>
  <cp:revision>2</cp:revision>
  <dc:subject/>
  <dc:title>Slide 1</dc:title>
</cp:coreProperties>
</file>