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2D3A-E531-420F-AE76-6818B8069C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9E98-87BA-476D-833C-BAFF3CFD938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C864-29FE-4513-888E-82F97F6E1DE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83C8-76AB-4576-8348-178C633D3F0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36F0-EA1B-4AA2-8540-8EB279DB373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2F27-2F85-433C-8E39-2CFDA312267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9EC8-1B36-4D9C-8F5F-0966DA61FD5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337-E83A-45D7-8C05-EBC6FA6153C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A2AA-70A5-49B5-902E-121AF7E0C0A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4F78-EB8D-4C88-980F-CF293A575DB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FCED-9876-4E25-BF87-B63B51AFFB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03D6-FD39-4FD4-8587-13F6167381F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4CB6-91D8-4325-990A-677838CB8C4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? Check what Christian means by “collective rationa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C47E-41DA-4E64-BB96-9EE92DD78B6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024D-733A-4DAB-839C-6346F151EE8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E402-327C-4146-A3D0-8CD406A8AC7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08B3-F279-45A5-9B25-4E8973F0334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7A02-DF80-4004-B46C-13D4E32C8D9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E046-7D33-4E72-8408-84048EBF135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475-FA85-4E29-8562-D9CE852B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3D8-406B-4995-B144-0AE9A23F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0F6-4F8E-412A-926D-FB78528D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12B-57B4-414E-B1A8-3CB3DA2C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40B-AC17-4E37-BB17-5CEFC20F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2C1-493C-4E6E-9131-D997E340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937-2589-43E6-9825-56107F8A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BC2-B38E-464B-8A88-A942C7E6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674-C88F-4E29-A4EA-C5A18A31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E2B-1B5E-4197-AB71-550E1992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821-1A16-45DE-AD7D-2A25628F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E7E-5C12-4DCF-A986-47E28F8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C8E9-02C2-4924-8B98-E31A5B814A6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3804-F8A3-4BB9-BCDB-4391FCCDA88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2b2b2"/>
                </a:solidFill>
                <a:latin typeface="Arial"/>
              </a:rPr>
              <a:t>Judgment Aggregation</a:t>
            </a:r>
            <a:br>
              <a:rPr sz="4000"/>
            </a:br>
            <a:r>
              <a:rPr b="0" lang="nl-NL" sz="4000" spc="-1" strike="noStrike">
                <a:solidFill>
                  <a:srgbClr val="b2b2b2"/>
                </a:solidFill>
                <a:latin typeface="Arial"/>
              </a:rPr>
              <a:t>and</a:t>
            </a:r>
            <a:br>
              <a:rPr sz="4000"/>
            </a:br>
            <a:r>
              <a:rPr b="0" lang="nl-NL" sz="4000" spc="-1" strike="noStrike">
                <a:solidFill>
                  <a:srgbClr val="b2b2b2"/>
                </a:solidFill>
                <a:latin typeface="Arial"/>
              </a:rPr>
              <a:t>Moral Responsibility</a:t>
            </a: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Frank Hindri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University of Gro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404640"/>
            <a:ext cx="6624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LSE-Groningen Workshop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Models of Value and Opin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February 12-14,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3. A Critique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ason-sensitiv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ulpable quality of will, faulty self-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rmative rea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42D-0DBE-48CF-BF86-1A04C86DBC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3. A Critique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iend in distress 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s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put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hool pla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ation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om the individual to the collectiv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5FF-0163-4E15-82AB-D15E4A6C7FFD}" type="slidenum">
              <a:t>11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ctat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Preemptive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362320"/>
          <a:ext cx="7543800" cy="189864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)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M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ufficient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we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ust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emptive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39F-17E0-4428-9207-9EE3FD71811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ctat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Preemptive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2362320"/>
          <a:ext cx="7543800" cy="193356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)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M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ufficient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we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ust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emptive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0AF-05A4-4337-8E05-84805E92682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ctat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Preemptive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362320"/>
          <a:ext cx="7543800" cy="185580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)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M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ufficient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we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ust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emptive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AE6-544A-4E3D-A495-072D959A818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ligarc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Preemptive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2362320"/>
          <a:ext cx="7543800" cy="316224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)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M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ufficient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we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ust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emptive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C69-DB3E-46F8-A2F5-568BB1D9A85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3. A Critique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ecipe for distributing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eck the fault(s) of the corporate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ace them to individu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93B-4385-4CC4-A5F0-1C9AFC140B5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3. A Critique *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llectivizing r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mber and role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rporate Responsibility (C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r)reduc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false di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CC9-7E83-4A4F-8424-32F0FDE5C8D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formation about normative reasons and faulty self-governance can be used for “tracing back” CR to 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bottom-up approach to C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872-1533-4987-B0A1-FCFFAD4F182C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ctrinal Paradox &amp; the Discursive Di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Employee 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120" y="2362320"/>
          <a:ext cx="7543800" cy="279720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rious danger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ffective Measur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arable Los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ay Sacrific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3D2-31D4-4B8C-826E-34447B31D8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orem (List and Pettit 200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t the agenda contain at least two distinct atomic propositions and their conjunction, or their disjunction, or their material implication. Then </a:t>
            </a:r>
            <a:r>
              <a:rPr b="0" lang="nl-NL" sz="2800" spc="-1" strike="noStrike">
                <a:solidFill>
                  <a:srgbClr val="3333cc"/>
                </a:solidFill>
                <a:latin typeface="Arial"/>
              </a:rPr>
              <a:t>there exists no aggregation rule satisfying the condition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of ‘universal domain’, ‘collective rationality’, ‘systematicity’ and ‘anonymity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CAE-1CE5-49FE-AD72-DCCC59703E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ett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ups have minds of their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rporate responsibility (CR) cannot be reduced to individual responsibility (I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CC7-47C2-4545-8189-488EA617C9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2b2b2"/>
                </a:solidFill>
                <a:latin typeface="Arial"/>
              </a:rPr>
              <a:t>Corporate Responsibility. Myth or Reality?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ettit’s Arg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n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Cri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owards an Altern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07D-97D0-4283-9B52-F9836525A3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1. Pettit’s Argument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2. An Observation</a:t>
            </a:r>
            <a:br>
              <a:rPr sz="2000"/>
            </a:b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3. A Critique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rreducible Corporate Responsibility The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ICRT]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sometimes impossible to fully distribute the responsibility of a corporate agent to the individual members of that ag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24D-A327-4260-93F3-4C3B8204D2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1. Pettit’s Argument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2. An Observation</a:t>
            </a:r>
            <a:br>
              <a:rPr sz="2000"/>
            </a:b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3. A Critique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cuse Condi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E] An individual member of an organization cannot be blamed for a decision made by that organization if s/he disagrees with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5DC-4EA6-4286-9CF9-5E104BE123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2. An Observation</a:t>
            </a:r>
            <a:br>
              <a:rPr sz="2000"/>
            </a:b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3. A Critique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premise-based and conclusion-based procedures are strategically equival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ettit’s argument fails for the case of outcome-oriented p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7F4-104C-44CB-9CFA-787F26090145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3. A Critique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asons for dis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E*] An individual’s disagreement with the decision the organization of which s/he is a member affects the extent to which s/he can be blamed for that decisio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only if s/he disagrees with it for the right rea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015-8D99-4698-8225-0BC67E5ECF5F}" type="slidenum">
              <a:t>9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8:36Z</dcterms:created>
  <dc:creator>FAH</dc:creator>
  <dc:description/>
  <dc:language>en-US</dc:language>
  <cp:lastModifiedBy>DS-CIT</cp:lastModifiedBy>
  <dcterms:modified xsi:type="dcterms:W3CDTF">2009-02-10T13:50:56Z</dcterms:modified>
  <cp:revision>69</cp:revision>
  <dc:subject/>
  <dc:title>The Philosophy of Society</dc:title>
</cp:coreProperties>
</file>