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E310-560B-44AA-84A8-0BB7E665DF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1C55-D3DF-45EB-9340-D2F6918A4A7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2989-BAAE-43F0-A88F-516E950BBA5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A3A0-440B-40D1-A75B-142489EE60F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8676-F4E8-4614-92C4-C3A5148D4C0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28D5-6C6A-4C1E-8A37-BD8097EE6B4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27D5-8359-4F03-BE49-96C2E5FFD78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9326-007B-4C3F-8ADE-4EE6897C368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4253-998C-450E-832A-6F217AEB630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555C-EB99-417A-A595-B5D7AA2742A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8560-E2BC-4E5D-8628-3A6F81C973D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06A6-387C-4FE1-B2BA-47BA021933F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5F0C-CC66-49F7-8FA8-2018A7108D4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? Check what Christian means by “collective rationalit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2F15-4C43-48EB-A0EF-9FCAF5C968C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AA72-CA8F-4CEC-8BB9-35FD2CFA333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2CB6-A64A-4C7E-82E5-C01A2688B94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6663-8B9E-4164-9711-0F8A6FE1A4E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9E74-74C9-49E8-B3BF-3B0E28F07E6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8063-9F43-4910-8599-030BAED669D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F319-E801-49DF-9EB4-91BE3AD3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8CBA-D3EC-422E-A1CF-88B066BC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239E-3D12-426D-8DC5-E4871AE59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9CFF-ABE2-4FAC-BE1D-BC8A5244B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345A-13E3-475E-A737-7757A145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E79B-3C1A-4BE9-B88D-569859E8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991A-CE54-4FF8-9062-A4DA6C8D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D75B-A27E-4907-9753-095827D5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AF64-288E-43D7-88FC-A6181364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616C-60EB-4C42-B74C-E57DC6BE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D2AD-726A-454B-9E52-2D7031C6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C5FC-FE93-4AE2-A9F7-34313275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8BC7-5568-4424-9750-BAC683F114B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56A6-2D54-48A9-BC4C-838C9921AD9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b2b2b2"/>
                </a:solidFill>
                <a:latin typeface="Arial"/>
              </a:rPr>
              <a:t>Judgment Aggregation</a:t>
            </a:r>
            <a:br>
              <a:rPr sz="4000"/>
            </a:br>
            <a:r>
              <a:rPr b="0" lang="nl-NL" sz="4000" spc="-1" strike="noStrike">
                <a:solidFill>
                  <a:srgbClr val="b2b2b2"/>
                </a:solidFill>
                <a:latin typeface="Arial"/>
              </a:rPr>
              <a:t>and</a:t>
            </a:r>
            <a:br>
              <a:rPr sz="4000"/>
            </a:br>
            <a:r>
              <a:rPr b="0" lang="nl-NL" sz="4000" spc="-1" strike="noStrike">
                <a:solidFill>
                  <a:srgbClr val="b2b2b2"/>
                </a:solidFill>
                <a:latin typeface="Arial"/>
              </a:rPr>
              <a:t>Moral Responsibility</a:t>
            </a:r>
            <a:endParaRPr b="0" lang="en-US" sz="4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Frank Hindri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University of Gronin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332000" y="404640"/>
            <a:ext cx="66247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SimSun"/>
              </a:rPr>
              <a:t>LSE-Groningen Workshop 200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SimSun"/>
              </a:rPr>
              <a:t>Models of Value and Opin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SimSun"/>
              </a:rPr>
              <a:t>February 12-14, 200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b2b2b2"/>
                </a:solidFill>
                <a:latin typeface="Arial"/>
              </a:rPr>
              <a:t>1. Pettit’s Argument * 2. An Observation</a:t>
            </a:r>
            <a:br>
              <a:rPr sz="2000"/>
            </a:br>
            <a:r>
              <a:rPr b="0" lang="nl-NL" sz="2000" spc="-1" strike="noStrike">
                <a:solidFill>
                  <a:srgbClr val="3333cc"/>
                </a:solidFill>
                <a:latin typeface="Arial"/>
              </a:rPr>
              <a:t>3. A Critique</a:t>
            </a:r>
            <a:r>
              <a:rPr b="0" lang="nl-NL" sz="2000" spc="-1" strike="noStrike">
                <a:solidFill>
                  <a:srgbClr val="b2b2b2"/>
                </a:solidFill>
                <a:latin typeface="Arial"/>
              </a:rPr>
              <a:t> * 4. Towards an Alternative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ason-sensitive c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ulpable quality of will, faulty self-govern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ormative reas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B863-808A-4966-A885-8A7911DD9BC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b2b2b2"/>
                </a:solidFill>
                <a:latin typeface="Arial"/>
              </a:rPr>
              <a:t>1. Pettit’s Argument * 2. An Observation</a:t>
            </a:r>
            <a:br>
              <a:rPr sz="2000"/>
            </a:br>
            <a:r>
              <a:rPr b="0" lang="nl-NL" sz="2000" spc="-1" strike="noStrike">
                <a:solidFill>
                  <a:srgbClr val="3333cc"/>
                </a:solidFill>
                <a:latin typeface="Arial"/>
              </a:rPr>
              <a:t>3. A Critique</a:t>
            </a:r>
            <a:r>
              <a:rPr b="0" lang="nl-NL" sz="2000" spc="-1" strike="noStrike">
                <a:solidFill>
                  <a:srgbClr val="b2b2b2"/>
                </a:solidFill>
                <a:latin typeface="Arial"/>
              </a:rPr>
              <a:t> * 4. Towards an Alternative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riend in distress examp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usy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putatio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hool play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formation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rom the individual to the collectiv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6B37-7CA5-436B-857D-6227D7606EC9}" type="slidenum">
              <a:t>11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ictator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2b2b2"/>
                </a:solidFill>
                <a:latin typeface="Arial"/>
              </a:rPr>
              <a:t>Preemptive W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2362320"/>
          <a:ext cx="7543800" cy="1898640"/>
        </p:xfrm>
        <a:graphic>
          <a:graphicData uri="http://schemas.openxmlformats.org/drawingml/2006/table">
            <a:tbl>
              <a:tblPr/>
              <a:tblGrid>
                <a:gridCol w="1225440"/>
                <a:gridCol w="1441440"/>
                <a:gridCol w="1523880"/>
                <a:gridCol w="1524240"/>
                <a:gridCol w="1828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p </a:t>
                      </a: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q) </a:t>
                      </a: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WMDs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ufficient</a:t>
                      </a:r>
                      <a:r>
                        <a:rPr b="0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ower</a:t>
                      </a:r>
                      <a:r>
                        <a:rPr b="0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Just War</a:t>
                      </a:r>
                      <a:r>
                        <a:rPr b="0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reemptive War</a:t>
                      </a:r>
                      <a:r>
                        <a:rPr b="0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3132-FDCB-4F6E-812B-DA1BE41C96B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ictator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2b2b2"/>
                </a:solidFill>
                <a:latin typeface="Arial"/>
              </a:rPr>
              <a:t>Preemptive W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62120" y="2362320"/>
          <a:ext cx="7543800" cy="1933560"/>
        </p:xfrm>
        <a:graphic>
          <a:graphicData uri="http://schemas.openxmlformats.org/drawingml/2006/table">
            <a:tbl>
              <a:tblPr/>
              <a:tblGrid>
                <a:gridCol w="1225440"/>
                <a:gridCol w="1441440"/>
                <a:gridCol w="1523880"/>
                <a:gridCol w="1524240"/>
                <a:gridCol w="1828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p </a:t>
                      </a: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q) </a:t>
                      </a: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WMDs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ufficient</a:t>
                      </a:r>
                      <a:r>
                        <a:rPr b="0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ower</a:t>
                      </a:r>
                      <a:r>
                        <a:rPr b="0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Just War</a:t>
                      </a:r>
                      <a:r>
                        <a:rPr b="0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reemptive War</a:t>
                      </a:r>
                      <a:r>
                        <a:rPr b="0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E9C7-298A-41C5-9CEF-B4340DB6CA8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ictator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2b2b2"/>
                </a:solidFill>
                <a:latin typeface="Arial"/>
              </a:rPr>
              <a:t>Preemptive W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62120" y="2362320"/>
          <a:ext cx="7543800" cy="1855800"/>
        </p:xfrm>
        <a:graphic>
          <a:graphicData uri="http://schemas.openxmlformats.org/drawingml/2006/table">
            <a:tbl>
              <a:tblPr/>
              <a:tblGrid>
                <a:gridCol w="1225440"/>
                <a:gridCol w="1441440"/>
                <a:gridCol w="1523880"/>
                <a:gridCol w="1524240"/>
                <a:gridCol w="1828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p </a:t>
                      </a: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q) </a:t>
                      </a: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WMDs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ufficient</a:t>
                      </a:r>
                      <a:r>
                        <a:rPr b="0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ower</a:t>
                      </a:r>
                      <a:r>
                        <a:rPr b="0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Just War</a:t>
                      </a:r>
                      <a:r>
                        <a:rPr b="0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reemptive War</a:t>
                      </a:r>
                      <a:r>
                        <a:rPr b="0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33AD-8363-4278-8457-C77A40186BD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ligarc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2b2b2"/>
                </a:solidFill>
                <a:latin typeface="Arial"/>
              </a:rPr>
              <a:t>Preemptive W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762120" y="2362320"/>
          <a:ext cx="7543800" cy="3162240"/>
        </p:xfrm>
        <a:graphic>
          <a:graphicData uri="http://schemas.openxmlformats.org/drawingml/2006/table">
            <a:tbl>
              <a:tblPr/>
              <a:tblGrid>
                <a:gridCol w="1225440"/>
                <a:gridCol w="1441440"/>
                <a:gridCol w="1523880"/>
                <a:gridCol w="1524240"/>
                <a:gridCol w="1828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p </a:t>
                      </a: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q) </a:t>
                      </a: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WMDs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ufficient</a:t>
                      </a:r>
                      <a:r>
                        <a:rPr b="0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ower</a:t>
                      </a:r>
                      <a:r>
                        <a:rPr b="0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Just War</a:t>
                      </a:r>
                      <a:r>
                        <a:rPr b="0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reemptive War</a:t>
                      </a:r>
                      <a:r>
                        <a:rPr b="0" lang="en-GB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jor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975A-E072-4757-B2C0-AF4223273C4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b2b2b2"/>
                </a:solidFill>
                <a:latin typeface="Arial"/>
              </a:rPr>
              <a:t>1. Pettit’s Argument * 2. An Observation</a:t>
            </a:r>
            <a:br>
              <a:rPr sz="2000"/>
            </a:br>
            <a:r>
              <a:rPr b="0" lang="nl-NL" sz="2000" spc="-1" strike="noStrike">
                <a:solidFill>
                  <a:srgbClr val="3333cc"/>
                </a:solidFill>
                <a:latin typeface="Arial"/>
              </a:rPr>
              <a:t>3. A Critique</a:t>
            </a:r>
            <a:r>
              <a:rPr b="0" lang="nl-NL" sz="2000" spc="-1" strike="noStrike">
                <a:solidFill>
                  <a:srgbClr val="b2b2b2"/>
                </a:solidFill>
                <a:latin typeface="Arial"/>
              </a:rPr>
              <a:t> * 4. Towards an Alternative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recipe for distributing responsi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heck the fault(s) of the corporate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race them to individu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94B9-1916-4CDF-A444-204A9595562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b2b2b2"/>
                </a:solidFill>
                <a:latin typeface="Arial"/>
              </a:rPr>
              <a:t>1. Pettit’s Argument * 2. An Observation</a:t>
            </a:r>
            <a:br>
              <a:rPr sz="2000"/>
            </a:br>
            <a:r>
              <a:rPr b="0" lang="nl-NL" sz="2000" spc="-1" strike="noStrike">
                <a:solidFill>
                  <a:srgbClr val="b2b2b2"/>
                </a:solidFill>
                <a:latin typeface="Arial"/>
              </a:rPr>
              <a:t>3. A Critique *</a:t>
            </a:r>
            <a:r>
              <a:rPr b="0" lang="nl-NL" sz="2000" spc="-1" strike="noStrike">
                <a:solidFill>
                  <a:srgbClr val="3333cc"/>
                </a:solidFill>
                <a:latin typeface="Arial"/>
              </a:rPr>
              <a:t> 4. Towards an Alternative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ollectivizing rea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ember and role responsi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orporate Responsibility (C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(ir)reduci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 false dilem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82A6-A218-4171-936A-E8011B8397D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b2b2b2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nformation about normative reasons and faulty self-governance can be used for “tracing back” CR to I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 bottom-up approach to C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1102-E780-4EB9-B3BC-10B9ED74B18D}" type="slidenum">
              <a:t>18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D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ctrinal Paradox &amp; the Discursive Dilem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2b2b2"/>
                </a:solidFill>
                <a:latin typeface="Arial"/>
              </a:rPr>
              <a:t>Employee Safe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62120" y="2362320"/>
          <a:ext cx="7543800" cy="2797200"/>
        </p:xfrm>
        <a:graphic>
          <a:graphicData uri="http://schemas.openxmlformats.org/drawingml/2006/table">
            <a:tbl>
              <a:tblPr/>
              <a:tblGrid>
                <a:gridCol w="1225440"/>
                <a:gridCol w="1441440"/>
                <a:gridCol w="1523880"/>
                <a:gridCol w="1524240"/>
                <a:gridCol w="1828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q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erious danger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ffective Measure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earable Loss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ay Sacrifice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jor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B63E-FA89-4EC7-A2C7-8B0F97A33F1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heorem (List and Pettit 200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et the agenda contain at least two distinct atomic propositions and their conjunction, or their disjunction, or their material implication. Then </a:t>
            </a:r>
            <a:r>
              <a:rPr b="0" lang="nl-NL" sz="2800" spc="-1" strike="noStrike">
                <a:solidFill>
                  <a:srgbClr val="3333cc"/>
                </a:solidFill>
                <a:latin typeface="Arial"/>
              </a:rPr>
              <a:t>there exists no aggregation rule satisfying the conditions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of ‘universal domain’, ‘collective rationality’, ‘systematicity’ and ‘anonymity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20AB-9CF6-439B-B289-8C36B334C82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ett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roups have minds of their 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orporate responsibility (CR) cannot be reduced to individual responsibility (I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13EF-317B-4423-8209-DF365029AC1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b2b2b2"/>
                </a:solidFill>
                <a:latin typeface="Arial"/>
              </a:rPr>
              <a:t>Corporate Responsibility. Myth or Reality?</a:t>
            </a:r>
            <a:endParaRPr b="0" lang="en-US" sz="2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ettit’s Argu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n Obser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 Crit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owards an Altern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5834-6F04-4E27-850A-23E3DEFAE79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33cc"/>
                </a:solidFill>
                <a:latin typeface="Arial"/>
              </a:rPr>
              <a:t>1. Pettit’s Argument</a:t>
            </a:r>
            <a:r>
              <a:rPr b="0" lang="nl-NL" sz="2000" spc="-1" strike="noStrike">
                <a:solidFill>
                  <a:srgbClr val="b2b2b2"/>
                </a:solidFill>
                <a:latin typeface="Arial"/>
              </a:rPr>
              <a:t> * 2. An Observation</a:t>
            </a:r>
            <a:br>
              <a:rPr sz="2000"/>
            </a:br>
            <a:r>
              <a:rPr b="0" lang="nl-NL" sz="2000" spc="-1" strike="noStrike">
                <a:solidFill>
                  <a:srgbClr val="b2b2b2"/>
                </a:solidFill>
                <a:latin typeface="Arial"/>
              </a:rPr>
              <a:t>3. A Critique * 4. Towards an Alternative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rreducible Corporate Responsibility Thes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ICRT]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t is sometimes impossible to fully distribute the responsibility of a corporate agent to the individual members of that ag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36C7-8439-4BE3-A5C2-433233C13C9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33cc"/>
                </a:solidFill>
                <a:latin typeface="Arial"/>
              </a:rPr>
              <a:t>1. Pettit’s Argument</a:t>
            </a:r>
            <a:r>
              <a:rPr b="0" lang="nl-NL" sz="2000" spc="-1" strike="noStrike">
                <a:solidFill>
                  <a:srgbClr val="b2b2b2"/>
                </a:solidFill>
                <a:latin typeface="Arial"/>
              </a:rPr>
              <a:t> * 2. An Observation</a:t>
            </a:r>
            <a:br>
              <a:rPr sz="2000"/>
            </a:br>
            <a:r>
              <a:rPr b="0" lang="nl-NL" sz="2000" spc="-1" strike="noStrike">
                <a:solidFill>
                  <a:srgbClr val="b2b2b2"/>
                </a:solidFill>
                <a:latin typeface="Arial"/>
              </a:rPr>
              <a:t>3. A Critique * 4. Towards an Alternative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xcuse Condi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E] An individual member of an organization cannot be blamed for a decision made by that organization if s/he disagrees with i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1D9A-2917-40EA-8BA9-D6AB28D1086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b2b2b2"/>
                </a:solidFill>
                <a:latin typeface="Arial"/>
              </a:rPr>
              <a:t>1. Pettit’s Argument * </a:t>
            </a:r>
            <a:r>
              <a:rPr b="0" lang="nl-NL" sz="2000" spc="-1" strike="noStrike">
                <a:solidFill>
                  <a:srgbClr val="3333cc"/>
                </a:solidFill>
                <a:latin typeface="Arial"/>
              </a:rPr>
              <a:t>2. An Observation</a:t>
            </a:r>
            <a:br>
              <a:rPr sz="2000"/>
            </a:br>
            <a:r>
              <a:rPr b="0" lang="nl-NL" sz="2000" spc="-1" strike="noStrike">
                <a:solidFill>
                  <a:srgbClr val="b2b2b2"/>
                </a:solidFill>
                <a:latin typeface="Arial"/>
              </a:rPr>
              <a:t>3. A Critique * 4. Towards an Alternative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 premise-based and conclusion-based procedures are strategically equival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ettit’s argument fails for the case of outcome-oriented prefer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2D65-5E2A-4430-BAE6-DDDA9A1C98CD}" type="slidenum">
              <a:t>8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b2b2b2"/>
                </a:solidFill>
                <a:latin typeface="Arial"/>
              </a:rPr>
              <a:t>1. Pettit’s Argument * 2. An Observation</a:t>
            </a:r>
            <a:br>
              <a:rPr sz="2000"/>
            </a:br>
            <a:r>
              <a:rPr b="0" lang="nl-NL" sz="2000" spc="-1" strike="noStrike">
                <a:solidFill>
                  <a:srgbClr val="3333cc"/>
                </a:solidFill>
                <a:latin typeface="Arial"/>
              </a:rPr>
              <a:t>3. A Critique</a:t>
            </a:r>
            <a:r>
              <a:rPr b="0" lang="nl-NL" sz="2000" spc="-1" strike="noStrike">
                <a:solidFill>
                  <a:srgbClr val="b2b2b2"/>
                </a:solidFill>
                <a:latin typeface="Arial"/>
              </a:rPr>
              <a:t> * 4. Towards an Alternative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asons for disagre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E*] An individual’s disagreement with the decision the organization of which s/he is a member affects the extent to which s/he can be blamed for that decision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only if s/he disagrees with it for the right reas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4F10-24AC-4151-B109-F574093777A2}" type="slidenum">
              <a:t>9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14:08:36Z</dcterms:created>
  <dc:creator>FAH</dc:creator>
  <dc:description/>
  <dc:language>en-US</dc:language>
  <cp:lastModifiedBy>DS-CIT</cp:lastModifiedBy>
  <dcterms:modified xsi:type="dcterms:W3CDTF">2009-02-10T13:50:56Z</dcterms:modified>
  <cp:revision>69</cp:revision>
  <dc:subject/>
  <dc:title>The Philosophy of Society</dc:title>
</cp:coreProperties>
</file>